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2CE-E16C-480E-B0B5-FE61EEA8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12D-E6BD-4498-BD5F-8CB04FFD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6EE-4459-4A47-BB41-94E79015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F4A-1547-4E06-AE1F-402B5488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5EB-B37A-489C-A29F-AC8F1CD8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596-F5FF-403F-A719-62F4F1F7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557E-D386-41B9-9669-7CCD95A0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2115-C8EA-45AC-8BE8-539DAA09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C6F-6CC2-4738-B026-66F11AD7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4ED7-1F8D-4D74-8C71-74D89FDF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E683-8B1E-410E-ABFC-781BD07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923-BD2D-4205-92D7-6821C747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3BFE-3170-42F2-A404-1EE3CB3D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sp>
          <p:nvSpPr>
            <p:cNvPr id="42" name=""/>
            <p:cNvSpPr/>
            <p:nvPr/>
          </p:nvSpPr>
          <p:spPr>
            <a:xfrm>
              <a:off x="652320" y="681120"/>
              <a:ext cx="7761600" cy="5852880"/>
            </a:xfrm>
            <a:custGeom>
              <a:avLst/>
              <a:gdLst/>
              <a:ahLst/>
              <a:rect l="l" t="t" r="r" b="b"/>
              <a:pathLst>
                <a:path w="4889" h="3687">
                  <a:moveTo>
                    <a:pt x="305" y="1696"/>
                  </a:moveTo>
                  <a:lnTo>
                    <a:pt x="296" y="1878"/>
                  </a:lnTo>
                  <a:lnTo>
                    <a:pt x="287" y="2058"/>
                  </a:lnTo>
                  <a:lnTo>
                    <a:pt x="269" y="2236"/>
                  </a:lnTo>
                  <a:lnTo>
                    <a:pt x="250" y="2405"/>
                  </a:lnTo>
                  <a:lnTo>
                    <a:pt x="229" y="2570"/>
                  </a:lnTo>
                  <a:lnTo>
                    <a:pt x="202" y="2729"/>
                  </a:lnTo>
                  <a:lnTo>
                    <a:pt x="171" y="2880"/>
                  </a:lnTo>
                  <a:lnTo>
                    <a:pt x="141" y="3021"/>
                  </a:lnTo>
                  <a:lnTo>
                    <a:pt x="125" y="3095"/>
                  </a:lnTo>
                  <a:lnTo>
                    <a:pt x="110" y="3169"/>
                  </a:lnTo>
                  <a:lnTo>
                    <a:pt x="92" y="3238"/>
                  </a:lnTo>
                  <a:lnTo>
                    <a:pt x="77" y="3305"/>
                  </a:lnTo>
                  <a:lnTo>
                    <a:pt x="58" y="3371"/>
                  </a:lnTo>
                  <a:lnTo>
                    <a:pt x="40" y="3433"/>
                  </a:lnTo>
                  <a:lnTo>
                    <a:pt x="22" y="3494"/>
                  </a:lnTo>
                  <a:lnTo>
                    <a:pt x="0" y="3551"/>
                  </a:lnTo>
                  <a:lnTo>
                    <a:pt x="46" y="3542"/>
                  </a:lnTo>
                  <a:lnTo>
                    <a:pt x="95" y="3535"/>
                  </a:lnTo>
                  <a:lnTo>
                    <a:pt x="147" y="3529"/>
                  </a:lnTo>
                  <a:lnTo>
                    <a:pt x="202" y="3522"/>
                  </a:lnTo>
                  <a:lnTo>
                    <a:pt x="256" y="3516"/>
                  </a:lnTo>
                  <a:lnTo>
                    <a:pt x="314" y="3509"/>
                  </a:lnTo>
                  <a:lnTo>
                    <a:pt x="372" y="3505"/>
                  </a:lnTo>
                  <a:lnTo>
                    <a:pt x="433" y="3501"/>
                  </a:lnTo>
                  <a:lnTo>
                    <a:pt x="497" y="3498"/>
                  </a:lnTo>
                  <a:lnTo>
                    <a:pt x="561" y="3494"/>
                  </a:lnTo>
                  <a:lnTo>
                    <a:pt x="628" y="3492"/>
                  </a:lnTo>
                  <a:lnTo>
                    <a:pt x="698" y="3490"/>
                  </a:lnTo>
                  <a:lnTo>
                    <a:pt x="765" y="3488"/>
                  </a:lnTo>
                  <a:lnTo>
                    <a:pt x="839" y="3488"/>
                  </a:lnTo>
                  <a:lnTo>
                    <a:pt x="912" y="3488"/>
                  </a:lnTo>
                  <a:lnTo>
                    <a:pt x="985" y="3488"/>
                  </a:lnTo>
                  <a:lnTo>
                    <a:pt x="1061" y="3488"/>
                  </a:lnTo>
                  <a:lnTo>
                    <a:pt x="1137" y="3490"/>
                  </a:lnTo>
                  <a:lnTo>
                    <a:pt x="1216" y="3490"/>
                  </a:lnTo>
                  <a:lnTo>
                    <a:pt x="1296" y="3494"/>
                  </a:lnTo>
                  <a:lnTo>
                    <a:pt x="1378" y="3496"/>
                  </a:lnTo>
                  <a:lnTo>
                    <a:pt x="1460" y="3498"/>
                  </a:lnTo>
                  <a:lnTo>
                    <a:pt x="1543" y="3503"/>
                  </a:lnTo>
                  <a:lnTo>
                    <a:pt x="1628" y="3507"/>
                  </a:lnTo>
                  <a:lnTo>
                    <a:pt x="1713" y="3514"/>
                  </a:lnTo>
                  <a:lnTo>
                    <a:pt x="1799" y="3518"/>
                  </a:lnTo>
                  <a:lnTo>
                    <a:pt x="1887" y="3524"/>
                  </a:lnTo>
                  <a:lnTo>
                    <a:pt x="1972" y="3531"/>
                  </a:lnTo>
                  <a:lnTo>
                    <a:pt x="2061" y="3538"/>
                  </a:lnTo>
                  <a:lnTo>
                    <a:pt x="2152" y="3546"/>
                  </a:lnTo>
                  <a:lnTo>
                    <a:pt x="2240" y="3555"/>
                  </a:lnTo>
                  <a:lnTo>
                    <a:pt x="2332" y="3564"/>
                  </a:lnTo>
                  <a:lnTo>
                    <a:pt x="2335" y="3564"/>
                  </a:lnTo>
                  <a:lnTo>
                    <a:pt x="2335" y="3564"/>
                  </a:lnTo>
                  <a:lnTo>
                    <a:pt x="2335" y="3564"/>
                  </a:lnTo>
                  <a:lnTo>
                    <a:pt x="2335" y="3564"/>
                  </a:lnTo>
                  <a:lnTo>
                    <a:pt x="2362" y="3564"/>
                  </a:lnTo>
                  <a:lnTo>
                    <a:pt x="2393" y="3564"/>
                  </a:lnTo>
                  <a:lnTo>
                    <a:pt x="2420" y="3564"/>
                  </a:lnTo>
                  <a:lnTo>
                    <a:pt x="2451" y="3564"/>
                  </a:lnTo>
                  <a:lnTo>
                    <a:pt x="2481" y="3564"/>
                  </a:lnTo>
                  <a:lnTo>
                    <a:pt x="2509" y="3564"/>
                  </a:lnTo>
                  <a:lnTo>
                    <a:pt x="2539" y="3564"/>
                  </a:lnTo>
                  <a:lnTo>
                    <a:pt x="2567" y="3564"/>
                  </a:lnTo>
                  <a:lnTo>
                    <a:pt x="2643" y="3564"/>
                  </a:lnTo>
                  <a:lnTo>
                    <a:pt x="2716" y="3564"/>
                  </a:lnTo>
                  <a:lnTo>
                    <a:pt x="2789" y="3566"/>
                  </a:lnTo>
                  <a:lnTo>
                    <a:pt x="2862" y="3566"/>
                  </a:lnTo>
                  <a:lnTo>
                    <a:pt x="2935" y="3568"/>
                  </a:lnTo>
                  <a:lnTo>
                    <a:pt x="3008" y="3568"/>
                  </a:lnTo>
                  <a:lnTo>
                    <a:pt x="3082" y="3570"/>
                  </a:lnTo>
                  <a:lnTo>
                    <a:pt x="3152" y="3572"/>
                  </a:lnTo>
                  <a:lnTo>
                    <a:pt x="3222" y="3574"/>
                  </a:lnTo>
                  <a:lnTo>
                    <a:pt x="3292" y="3577"/>
                  </a:lnTo>
                  <a:lnTo>
                    <a:pt x="3362" y="3579"/>
                  </a:lnTo>
                  <a:lnTo>
                    <a:pt x="3432" y="3583"/>
                  </a:lnTo>
                  <a:lnTo>
                    <a:pt x="3499" y="3585"/>
                  </a:lnTo>
                  <a:lnTo>
                    <a:pt x="3566" y="3590"/>
                  </a:lnTo>
                  <a:lnTo>
                    <a:pt x="3633" y="3594"/>
                  </a:lnTo>
                  <a:lnTo>
                    <a:pt x="3700" y="3596"/>
                  </a:lnTo>
                  <a:lnTo>
                    <a:pt x="3764" y="3600"/>
                  </a:lnTo>
                  <a:lnTo>
                    <a:pt x="3828" y="3605"/>
                  </a:lnTo>
                  <a:lnTo>
                    <a:pt x="3892" y="3609"/>
                  </a:lnTo>
                  <a:lnTo>
                    <a:pt x="3953" y="3616"/>
                  </a:lnTo>
                  <a:lnTo>
                    <a:pt x="4017" y="3620"/>
                  </a:lnTo>
                  <a:lnTo>
                    <a:pt x="4078" y="3624"/>
                  </a:lnTo>
                  <a:lnTo>
                    <a:pt x="4136" y="3631"/>
                  </a:lnTo>
                  <a:lnTo>
                    <a:pt x="4197" y="3635"/>
                  </a:lnTo>
                  <a:lnTo>
                    <a:pt x="4255" y="3642"/>
                  </a:lnTo>
                  <a:lnTo>
                    <a:pt x="4313" y="3648"/>
                  </a:lnTo>
                  <a:lnTo>
                    <a:pt x="4368" y="3655"/>
                  </a:lnTo>
                  <a:lnTo>
                    <a:pt x="4423" y="3661"/>
                  </a:lnTo>
                  <a:lnTo>
                    <a:pt x="4477" y="3668"/>
                  </a:lnTo>
                  <a:lnTo>
                    <a:pt x="4529" y="3674"/>
                  </a:lnTo>
                  <a:lnTo>
                    <a:pt x="4581" y="3681"/>
                  </a:lnTo>
                  <a:lnTo>
                    <a:pt x="4633" y="3687"/>
                  </a:lnTo>
                  <a:lnTo>
                    <a:pt x="4596" y="3527"/>
                  </a:lnTo>
                  <a:lnTo>
                    <a:pt x="4569" y="3355"/>
                  </a:lnTo>
                  <a:lnTo>
                    <a:pt x="4541" y="3169"/>
                  </a:lnTo>
                  <a:lnTo>
                    <a:pt x="4523" y="2976"/>
                  </a:lnTo>
                  <a:lnTo>
                    <a:pt x="4508" y="2772"/>
                  </a:lnTo>
                  <a:lnTo>
                    <a:pt x="4502" y="2559"/>
                  </a:lnTo>
                  <a:lnTo>
                    <a:pt x="4499" y="2343"/>
                  </a:lnTo>
                  <a:lnTo>
                    <a:pt x="4502" y="2121"/>
                  </a:lnTo>
                  <a:lnTo>
                    <a:pt x="4517" y="1809"/>
                  </a:lnTo>
                  <a:lnTo>
                    <a:pt x="4541" y="1512"/>
                  </a:lnTo>
                  <a:lnTo>
                    <a:pt x="4578" y="1230"/>
                  </a:lnTo>
                  <a:lnTo>
                    <a:pt x="4624" y="970"/>
                  </a:lnTo>
                  <a:lnTo>
                    <a:pt x="4679" y="736"/>
                  </a:lnTo>
                  <a:lnTo>
                    <a:pt x="4743" y="527"/>
                  </a:lnTo>
                  <a:lnTo>
                    <a:pt x="4813" y="352"/>
                  </a:lnTo>
                  <a:lnTo>
                    <a:pt x="4889" y="211"/>
                  </a:lnTo>
                  <a:lnTo>
                    <a:pt x="4846" y="222"/>
                  </a:lnTo>
                  <a:lnTo>
                    <a:pt x="4800" y="230"/>
                  </a:lnTo>
                  <a:lnTo>
                    <a:pt x="4749" y="239"/>
                  </a:lnTo>
                  <a:lnTo>
                    <a:pt x="4697" y="248"/>
                  </a:lnTo>
                  <a:lnTo>
                    <a:pt x="4645" y="256"/>
                  </a:lnTo>
                  <a:lnTo>
                    <a:pt x="4587" y="263"/>
                  </a:lnTo>
                  <a:lnTo>
                    <a:pt x="4526" y="269"/>
                  </a:lnTo>
                  <a:lnTo>
                    <a:pt x="4465" y="276"/>
                  </a:lnTo>
                  <a:lnTo>
                    <a:pt x="4401" y="280"/>
                  </a:lnTo>
                  <a:lnTo>
                    <a:pt x="4334" y="284"/>
                  </a:lnTo>
                  <a:lnTo>
                    <a:pt x="4267" y="289"/>
                  </a:lnTo>
                  <a:lnTo>
                    <a:pt x="4194" y="291"/>
                  </a:lnTo>
                  <a:lnTo>
                    <a:pt x="4121" y="295"/>
                  </a:lnTo>
                  <a:lnTo>
                    <a:pt x="4048" y="295"/>
                  </a:lnTo>
                  <a:lnTo>
                    <a:pt x="3971" y="298"/>
                  </a:lnTo>
                  <a:lnTo>
                    <a:pt x="3892" y="298"/>
                  </a:lnTo>
                  <a:lnTo>
                    <a:pt x="3810" y="298"/>
                  </a:lnTo>
                  <a:lnTo>
                    <a:pt x="3728" y="298"/>
                  </a:lnTo>
                  <a:lnTo>
                    <a:pt x="3645" y="298"/>
                  </a:lnTo>
                  <a:lnTo>
                    <a:pt x="3560" y="295"/>
                  </a:lnTo>
                  <a:lnTo>
                    <a:pt x="3472" y="291"/>
                  </a:lnTo>
                  <a:lnTo>
                    <a:pt x="3386" y="289"/>
                  </a:lnTo>
                  <a:lnTo>
                    <a:pt x="3295" y="284"/>
                  </a:lnTo>
                  <a:lnTo>
                    <a:pt x="3203" y="280"/>
                  </a:lnTo>
                  <a:lnTo>
                    <a:pt x="3112" y="276"/>
                  </a:lnTo>
                  <a:lnTo>
                    <a:pt x="3021" y="269"/>
                  </a:lnTo>
                  <a:lnTo>
                    <a:pt x="2926" y="263"/>
                  </a:lnTo>
                  <a:lnTo>
                    <a:pt x="2832" y="256"/>
                  </a:lnTo>
                  <a:lnTo>
                    <a:pt x="2734" y="248"/>
                  </a:lnTo>
                  <a:lnTo>
                    <a:pt x="2637" y="241"/>
                  </a:lnTo>
                  <a:lnTo>
                    <a:pt x="2539" y="230"/>
                  </a:lnTo>
                  <a:lnTo>
                    <a:pt x="2442" y="222"/>
                  </a:lnTo>
                  <a:lnTo>
                    <a:pt x="2402" y="217"/>
                  </a:lnTo>
                  <a:lnTo>
                    <a:pt x="2359" y="213"/>
                  </a:lnTo>
                  <a:lnTo>
                    <a:pt x="2320" y="209"/>
                  </a:lnTo>
                  <a:lnTo>
                    <a:pt x="2277" y="204"/>
                  </a:lnTo>
                  <a:lnTo>
                    <a:pt x="2237" y="200"/>
                  </a:lnTo>
                  <a:lnTo>
                    <a:pt x="2195" y="193"/>
                  </a:lnTo>
                  <a:lnTo>
                    <a:pt x="2155" y="189"/>
                  </a:lnTo>
                  <a:lnTo>
                    <a:pt x="2112" y="185"/>
                  </a:lnTo>
                  <a:lnTo>
                    <a:pt x="1960" y="180"/>
                  </a:lnTo>
                  <a:lnTo>
                    <a:pt x="1811" y="176"/>
                  </a:lnTo>
                  <a:lnTo>
                    <a:pt x="1664" y="170"/>
                  </a:lnTo>
                  <a:lnTo>
                    <a:pt x="1524" y="161"/>
                  </a:lnTo>
                  <a:lnTo>
                    <a:pt x="1384" y="152"/>
                  </a:lnTo>
                  <a:lnTo>
                    <a:pt x="1247" y="144"/>
                  </a:lnTo>
                  <a:lnTo>
                    <a:pt x="1116" y="133"/>
                  </a:lnTo>
                  <a:lnTo>
                    <a:pt x="988" y="122"/>
                  </a:lnTo>
                  <a:lnTo>
                    <a:pt x="866" y="109"/>
                  </a:lnTo>
                  <a:lnTo>
                    <a:pt x="747" y="96"/>
                  </a:lnTo>
                  <a:lnTo>
                    <a:pt x="631" y="83"/>
                  </a:lnTo>
                  <a:lnTo>
                    <a:pt x="522" y="68"/>
                  </a:lnTo>
                  <a:lnTo>
                    <a:pt x="418" y="52"/>
                  </a:lnTo>
                  <a:lnTo>
                    <a:pt x="320" y="35"/>
                  </a:lnTo>
                  <a:lnTo>
                    <a:pt x="226" y="18"/>
                  </a:lnTo>
                  <a:lnTo>
                    <a:pt x="138" y="0"/>
                  </a:lnTo>
                  <a:lnTo>
                    <a:pt x="180" y="165"/>
                  </a:lnTo>
                  <a:lnTo>
                    <a:pt x="217" y="345"/>
                  </a:lnTo>
                  <a:lnTo>
                    <a:pt x="250" y="543"/>
                  </a:lnTo>
                  <a:lnTo>
                    <a:pt x="275" y="753"/>
                  </a:lnTo>
                  <a:lnTo>
                    <a:pt x="293" y="976"/>
                  </a:lnTo>
                  <a:lnTo>
                    <a:pt x="305" y="1208"/>
                  </a:lnTo>
                  <a:lnTo>
                    <a:pt x="308" y="1449"/>
                  </a:lnTo>
                  <a:lnTo>
                    <a:pt x="305" y="1696"/>
                  </a:lnTo>
                  <a:close/>
                </a:path>
              </a:pathLst>
            </a:custGeom>
            <a:solidFill>
              <a:srgbClr val="f0d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06440" y="557280"/>
              <a:ext cx="663480" cy="3587760"/>
            </a:xfrm>
            <a:custGeom>
              <a:avLst/>
              <a:gdLst/>
              <a:ahLst/>
              <a:rect l="l" t="t" r="r" b="b"/>
              <a:pathLst>
                <a:path w="418" h="2260">
                  <a:moveTo>
                    <a:pt x="384" y="2260"/>
                  </a:moveTo>
                  <a:lnTo>
                    <a:pt x="393" y="2141"/>
                  </a:lnTo>
                  <a:lnTo>
                    <a:pt x="402" y="2019"/>
                  </a:lnTo>
                  <a:lnTo>
                    <a:pt x="408" y="1898"/>
                  </a:lnTo>
                  <a:lnTo>
                    <a:pt x="414" y="1772"/>
                  </a:lnTo>
                  <a:lnTo>
                    <a:pt x="418" y="1523"/>
                  </a:lnTo>
                  <a:lnTo>
                    <a:pt x="414" y="1280"/>
                  </a:lnTo>
                  <a:lnTo>
                    <a:pt x="402" y="1046"/>
                  </a:lnTo>
                  <a:lnTo>
                    <a:pt x="384" y="820"/>
                  </a:lnTo>
                  <a:lnTo>
                    <a:pt x="357" y="610"/>
                  </a:lnTo>
                  <a:lnTo>
                    <a:pt x="326" y="412"/>
                  </a:lnTo>
                  <a:lnTo>
                    <a:pt x="286" y="230"/>
                  </a:lnTo>
                  <a:lnTo>
                    <a:pt x="244" y="68"/>
                  </a:lnTo>
                  <a:lnTo>
                    <a:pt x="210" y="61"/>
                  </a:lnTo>
                  <a:lnTo>
                    <a:pt x="177" y="52"/>
                  </a:lnTo>
                  <a:lnTo>
                    <a:pt x="146" y="44"/>
                  </a:lnTo>
                  <a:lnTo>
                    <a:pt x="113" y="35"/>
                  </a:lnTo>
                  <a:lnTo>
                    <a:pt x="85" y="26"/>
                  </a:lnTo>
                  <a:lnTo>
                    <a:pt x="55" y="18"/>
                  </a:lnTo>
                  <a:lnTo>
                    <a:pt x="27" y="9"/>
                  </a:lnTo>
                  <a:lnTo>
                    <a:pt x="0" y="0"/>
                  </a:lnTo>
                  <a:lnTo>
                    <a:pt x="82" y="139"/>
                  </a:lnTo>
                  <a:lnTo>
                    <a:pt x="158" y="317"/>
                  </a:lnTo>
                  <a:lnTo>
                    <a:pt x="222" y="527"/>
                  </a:lnTo>
                  <a:lnTo>
                    <a:pt x="280" y="770"/>
                  </a:lnTo>
                  <a:lnTo>
                    <a:pt x="326" y="1039"/>
                  </a:lnTo>
                  <a:lnTo>
                    <a:pt x="363" y="1332"/>
                  </a:lnTo>
                  <a:lnTo>
                    <a:pt x="384" y="1642"/>
                  </a:lnTo>
                  <a:lnTo>
                    <a:pt x="390" y="1969"/>
                  </a:lnTo>
                  <a:lnTo>
                    <a:pt x="390" y="2043"/>
                  </a:lnTo>
                  <a:lnTo>
                    <a:pt x="387" y="2117"/>
                  </a:lnTo>
                  <a:lnTo>
                    <a:pt x="387" y="2189"/>
                  </a:lnTo>
                  <a:lnTo>
                    <a:pt x="384" y="2260"/>
                  </a:lnTo>
                  <a:close/>
                </a:path>
              </a:pathLst>
            </a:custGeom>
            <a:solidFill>
              <a:srgbClr val="ce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3960" y="6269040"/>
              <a:ext cx="3444840" cy="468360"/>
            </a:xfrm>
            <a:custGeom>
              <a:avLst/>
              <a:gdLst/>
              <a:ahLst/>
              <a:rect l="l" t="t" r="r" b="b"/>
              <a:pathLst>
                <a:path w="2170" h="295">
                  <a:moveTo>
                    <a:pt x="113" y="65"/>
                  </a:moveTo>
                  <a:lnTo>
                    <a:pt x="98" y="98"/>
                  </a:lnTo>
                  <a:lnTo>
                    <a:pt x="86" y="130"/>
                  </a:lnTo>
                  <a:lnTo>
                    <a:pt x="71" y="161"/>
                  </a:lnTo>
                  <a:lnTo>
                    <a:pt x="58" y="189"/>
                  </a:lnTo>
                  <a:lnTo>
                    <a:pt x="43" y="219"/>
                  </a:lnTo>
                  <a:lnTo>
                    <a:pt x="31" y="245"/>
                  </a:lnTo>
                  <a:lnTo>
                    <a:pt x="16" y="271"/>
                  </a:lnTo>
                  <a:lnTo>
                    <a:pt x="0" y="295"/>
                  </a:lnTo>
                  <a:lnTo>
                    <a:pt x="40" y="284"/>
                  </a:lnTo>
                  <a:lnTo>
                    <a:pt x="83" y="271"/>
                  </a:lnTo>
                  <a:lnTo>
                    <a:pt x="125" y="260"/>
                  </a:lnTo>
                  <a:lnTo>
                    <a:pt x="171" y="250"/>
                  </a:lnTo>
                  <a:lnTo>
                    <a:pt x="220" y="239"/>
                  </a:lnTo>
                  <a:lnTo>
                    <a:pt x="272" y="228"/>
                  </a:lnTo>
                  <a:lnTo>
                    <a:pt x="324" y="217"/>
                  </a:lnTo>
                  <a:lnTo>
                    <a:pt x="378" y="206"/>
                  </a:lnTo>
                  <a:lnTo>
                    <a:pt x="436" y="198"/>
                  </a:lnTo>
                  <a:lnTo>
                    <a:pt x="494" y="187"/>
                  </a:lnTo>
                  <a:lnTo>
                    <a:pt x="552" y="178"/>
                  </a:lnTo>
                  <a:lnTo>
                    <a:pt x="616" y="167"/>
                  </a:lnTo>
                  <a:lnTo>
                    <a:pt x="680" y="158"/>
                  </a:lnTo>
                  <a:lnTo>
                    <a:pt x="744" y="150"/>
                  </a:lnTo>
                  <a:lnTo>
                    <a:pt x="811" y="143"/>
                  </a:lnTo>
                  <a:lnTo>
                    <a:pt x="881" y="135"/>
                  </a:lnTo>
                  <a:lnTo>
                    <a:pt x="951" y="126"/>
                  </a:lnTo>
                  <a:lnTo>
                    <a:pt x="1024" y="119"/>
                  </a:lnTo>
                  <a:lnTo>
                    <a:pt x="1098" y="113"/>
                  </a:lnTo>
                  <a:lnTo>
                    <a:pt x="1171" y="104"/>
                  </a:lnTo>
                  <a:lnTo>
                    <a:pt x="1247" y="98"/>
                  </a:lnTo>
                  <a:lnTo>
                    <a:pt x="1326" y="93"/>
                  </a:lnTo>
                  <a:lnTo>
                    <a:pt x="1405" y="87"/>
                  </a:lnTo>
                  <a:lnTo>
                    <a:pt x="1485" y="80"/>
                  </a:lnTo>
                  <a:lnTo>
                    <a:pt x="1567" y="76"/>
                  </a:lnTo>
                  <a:lnTo>
                    <a:pt x="1649" y="72"/>
                  </a:lnTo>
                  <a:lnTo>
                    <a:pt x="1735" y="67"/>
                  </a:lnTo>
                  <a:lnTo>
                    <a:pt x="1820" y="63"/>
                  </a:lnTo>
                  <a:lnTo>
                    <a:pt x="1905" y="59"/>
                  </a:lnTo>
                  <a:lnTo>
                    <a:pt x="1994" y="57"/>
                  </a:lnTo>
                  <a:lnTo>
                    <a:pt x="2082" y="52"/>
                  </a:lnTo>
                  <a:lnTo>
                    <a:pt x="2170" y="50"/>
                  </a:lnTo>
                  <a:lnTo>
                    <a:pt x="2091" y="44"/>
                  </a:lnTo>
                  <a:lnTo>
                    <a:pt x="2012" y="37"/>
                  </a:lnTo>
                  <a:lnTo>
                    <a:pt x="1933" y="33"/>
                  </a:lnTo>
                  <a:lnTo>
                    <a:pt x="1853" y="26"/>
                  </a:lnTo>
                  <a:lnTo>
                    <a:pt x="1777" y="22"/>
                  </a:lnTo>
                  <a:lnTo>
                    <a:pt x="1698" y="18"/>
                  </a:lnTo>
                  <a:lnTo>
                    <a:pt x="1622" y="13"/>
                  </a:lnTo>
                  <a:lnTo>
                    <a:pt x="1549" y="11"/>
                  </a:lnTo>
                  <a:lnTo>
                    <a:pt x="1472" y="9"/>
                  </a:lnTo>
                  <a:lnTo>
                    <a:pt x="1399" y="7"/>
                  </a:lnTo>
                  <a:lnTo>
                    <a:pt x="1326" y="4"/>
                  </a:lnTo>
                  <a:lnTo>
                    <a:pt x="1256" y="2"/>
                  </a:lnTo>
                  <a:lnTo>
                    <a:pt x="1186" y="0"/>
                  </a:lnTo>
                  <a:lnTo>
                    <a:pt x="1116" y="0"/>
                  </a:lnTo>
                  <a:lnTo>
                    <a:pt x="1049" y="0"/>
                  </a:lnTo>
                  <a:lnTo>
                    <a:pt x="982" y="0"/>
                  </a:lnTo>
                  <a:lnTo>
                    <a:pt x="915" y="2"/>
                  </a:lnTo>
                  <a:lnTo>
                    <a:pt x="851" y="2"/>
                  </a:lnTo>
                  <a:lnTo>
                    <a:pt x="787" y="4"/>
                  </a:lnTo>
                  <a:lnTo>
                    <a:pt x="726" y="7"/>
                  </a:lnTo>
                  <a:lnTo>
                    <a:pt x="665" y="9"/>
                  </a:lnTo>
                  <a:lnTo>
                    <a:pt x="607" y="11"/>
                  </a:lnTo>
                  <a:lnTo>
                    <a:pt x="549" y="15"/>
                  </a:lnTo>
                  <a:lnTo>
                    <a:pt x="494" y="20"/>
                  </a:lnTo>
                  <a:lnTo>
                    <a:pt x="439" y="24"/>
                  </a:lnTo>
                  <a:lnTo>
                    <a:pt x="388" y="28"/>
                  </a:lnTo>
                  <a:lnTo>
                    <a:pt x="339" y="33"/>
                  </a:lnTo>
                  <a:lnTo>
                    <a:pt x="290" y="39"/>
                  </a:lnTo>
                  <a:lnTo>
                    <a:pt x="241" y="44"/>
                  </a:lnTo>
                  <a:lnTo>
                    <a:pt x="199" y="50"/>
                  </a:lnTo>
                  <a:lnTo>
                    <a:pt x="153" y="59"/>
                  </a:lnTo>
                  <a:lnTo>
                    <a:pt x="113" y="65"/>
                  </a:lnTo>
                  <a:close/>
                </a:path>
              </a:pathLst>
            </a:custGeom>
            <a:solidFill>
              <a:srgbClr val="ce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43560" y="547560"/>
              <a:ext cx="4600440" cy="6228000"/>
            </a:xfrm>
            <a:custGeom>
              <a:avLst/>
              <a:gdLst/>
              <a:ahLst/>
              <a:rect l="l" t="t" r="r" b="b"/>
              <a:pathLst>
                <a:path w="2898" h="3923">
                  <a:moveTo>
                    <a:pt x="2898" y="0"/>
                  </a:moveTo>
                  <a:lnTo>
                    <a:pt x="2855" y="15"/>
                  </a:lnTo>
                  <a:lnTo>
                    <a:pt x="2807" y="30"/>
                  </a:lnTo>
                  <a:lnTo>
                    <a:pt x="2758" y="43"/>
                  </a:lnTo>
                  <a:lnTo>
                    <a:pt x="2703" y="58"/>
                  </a:lnTo>
                  <a:lnTo>
                    <a:pt x="2645" y="71"/>
                  </a:lnTo>
                  <a:lnTo>
                    <a:pt x="2584" y="84"/>
                  </a:lnTo>
                  <a:lnTo>
                    <a:pt x="2520" y="97"/>
                  </a:lnTo>
                  <a:lnTo>
                    <a:pt x="2453" y="110"/>
                  </a:lnTo>
                  <a:lnTo>
                    <a:pt x="2383" y="123"/>
                  </a:lnTo>
                  <a:lnTo>
                    <a:pt x="2313" y="134"/>
                  </a:lnTo>
                  <a:lnTo>
                    <a:pt x="2237" y="147"/>
                  </a:lnTo>
                  <a:lnTo>
                    <a:pt x="2157" y="158"/>
                  </a:lnTo>
                  <a:lnTo>
                    <a:pt x="2075" y="169"/>
                  </a:lnTo>
                  <a:lnTo>
                    <a:pt x="1993" y="178"/>
                  </a:lnTo>
                  <a:lnTo>
                    <a:pt x="1908" y="188"/>
                  </a:lnTo>
                  <a:lnTo>
                    <a:pt x="1819" y="197"/>
                  </a:lnTo>
                  <a:lnTo>
                    <a:pt x="1728" y="206"/>
                  </a:lnTo>
                  <a:lnTo>
                    <a:pt x="1633" y="215"/>
                  </a:lnTo>
                  <a:lnTo>
                    <a:pt x="1539" y="223"/>
                  </a:lnTo>
                  <a:lnTo>
                    <a:pt x="1441" y="230"/>
                  </a:lnTo>
                  <a:lnTo>
                    <a:pt x="1341" y="238"/>
                  </a:lnTo>
                  <a:lnTo>
                    <a:pt x="1240" y="243"/>
                  </a:lnTo>
                  <a:lnTo>
                    <a:pt x="1136" y="249"/>
                  </a:lnTo>
                  <a:lnTo>
                    <a:pt x="1033" y="256"/>
                  </a:lnTo>
                  <a:lnTo>
                    <a:pt x="926" y="260"/>
                  </a:lnTo>
                  <a:lnTo>
                    <a:pt x="816" y="264"/>
                  </a:lnTo>
                  <a:lnTo>
                    <a:pt x="707" y="267"/>
                  </a:lnTo>
                  <a:lnTo>
                    <a:pt x="594" y="271"/>
                  </a:lnTo>
                  <a:lnTo>
                    <a:pt x="481" y="273"/>
                  </a:lnTo>
                  <a:lnTo>
                    <a:pt x="368" y="273"/>
                  </a:lnTo>
                  <a:lnTo>
                    <a:pt x="253" y="275"/>
                  </a:lnTo>
                  <a:lnTo>
                    <a:pt x="137" y="275"/>
                  </a:lnTo>
                  <a:lnTo>
                    <a:pt x="119" y="275"/>
                  </a:lnTo>
                  <a:lnTo>
                    <a:pt x="103" y="275"/>
                  </a:lnTo>
                  <a:lnTo>
                    <a:pt x="85" y="275"/>
                  </a:lnTo>
                  <a:lnTo>
                    <a:pt x="70" y="275"/>
                  </a:lnTo>
                  <a:lnTo>
                    <a:pt x="52" y="275"/>
                  </a:lnTo>
                  <a:lnTo>
                    <a:pt x="33" y="275"/>
                  </a:lnTo>
                  <a:lnTo>
                    <a:pt x="18" y="275"/>
                  </a:lnTo>
                  <a:lnTo>
                    <a:pt x="0" y="275"/>
                  </a:lnTo>
                  <a:lnTo>
                    <a:pt x="100" y="286"/>
                  </a:lnTo>
                  <a:lnTo>
                    <a:pt x="201" y="295"/>
                  </a:lnTo>
                  <a:lnTo>
                    <a:pt x="301" y="303"/>
                  </a:lnTo>
                  <a:lnTo>
                    <a:pt x="402" y="310"/>
                  </a:lnTo>
                  <a:lnTo>
                    <a:pt x="500" y="316"/>
                  </a:lnTo>
                  <a:lnTo>
                    <a:pt x="594" y="323"/>
                  </a:lnTo>
                  <a:lnTo>
                    <a:pt x="692" y="329"/>
                  </a:lnTo>
                  <a:lnTo>
                    <a:pt x="786" y="334"/>
                  </a:lnTo>
                  <a:lnTo>
                    <a:pt x="880" y="338"/>
                  </a:lnTo>
                  <a:lnTo>
                    <a:pt x="972" y="342"/>
                  </a:lnTo>
                  <a:lnTo>
                    <a:pt x="1060" y="345"/>
                  </a:lnTo>
                  <a:lnTo>
                    <a:pt x="1152" y="347"/>
                  </a:lnTo>
                  <a:lnTo>
                    <a:pt x="1237" y="349"/>
                  </a:lnTo>
                  <a:lnTo>
                    <a:pt x="1322" y="351"/>
                  </a:lnTo>
                  <a:lnTo>
                    <a:pt x="1408" y="351"/>
                  </a:lnTo>
                  <a:lnTo>
                    <a:pt x="1490" y="349"/>
                  </a:lnTo>
                  <a:lnTo>
                    <a:pt x="1569" y="349"/>
                  </a:lnTo>
                  <a:lnTo>
                    <a:pt x="1645" y="347"/>
                  </a:lnTo>
                  <a:lnTo>
                    <a:pt x="1722" y="345"/>
                  </a:lnTo>
                  <a:lnTo>
                    <a:pt x="1795" y="340"/>
                  </a:lnTo>
                  <a:lnTo>
                    <a:pt x="1868" y="338"/>
                  </a:lnTo>
                  <a:lnTo>
                    <a:pt x="1935" y="334"/>
                  </a:lnTo>
                  <a:lnTo>
                    <a:pt x="2002" y="327"/>
                  </a:lnTo>
                  <a:lnTo>
                    <a:pt x="2066" y="321"/>
                  </a:lnTo>
                  <a:lnTo>
                    <a:pt x="2127" y="314"/>
                  </a:lnTo>
                  <a:lnTo>
                    <a:pt x="2185" y="308"/>
                  </a:lnTo>
                  <a:lnTo>
                    <a:pt x="2240" y="299"/>
                  </a:lnTo>
                  <a:lnTo>
                    <a:pt x="2295" y="290"/>
                  </a:lnTo>
                  <a:lnTo>
                    <a:pt x="2343" y="282"/>
                  </a:lnTo>
                  <a:lnTo>
                    <a:pt x="2389" y="271"/>
                  </a:lnTo>
                  <a:lnTo>
                    <a:pt x="2435" y="260"/>
                  </a:lnTo>
                  <a:lnTo>
                    <a:pt x="2474" y="249"/>
                  </a:lnTo>
                  <a:lnTo>
                    <a:pt x="2480" y="247"/>
                  </a:lnTo>
                  <a:lnTo>
                    <a:pt x="2493" y="245"/>
                  </a:lnTo>
                  <a:lnTo>
                    <a:pt x="2502" y="243"/>
                  </a:lnTo>
                  <a:lnTo>
                    <a:pt x="2508" y="243"/>
                  </a:lnTo>
                  <a:lnTo>
                    <a:pt x="2505" y="267"/>
                  </a:lnTo>
                  <a:lnTo>
                    <a:pt x="2505" y="271"/>
                  </a:lnTo>
                  <a:lnTo>
                    <a:pt x="2502" y="273"/>
                  </a:lnTo>
                  <a:lnTo>
                    <a:pt x="2423" y="408"/>
                  </a:lnTo>
                  <a:lnTo>
                    <a:pt x="2349" y="579"/>
                  </a:lnTo>
                  <a:lnTo>
                    <a:pt x="2282" y="787"/>
                  </a:lnTo>
                  <a:lnTo>
                    <a:pt x="2224" y="1026"/>
                  </a:lnTo>
                  <a:lnTo>
                    <a:pt x="2176" y="1290"/>
                  </a:lnTo>
                  <a:lnTo>
                    <a:pt x="2136" y="1579"/>
                  </a:lnTo>
                  <a:lnTo>
                    <a:pt x="2109" y="1884"/>
                  </a:lnTo>
                  <a:lnTo>
                    <a:pt x="2093" y="2205"/>
                  </a:lnTo>
                  <a:lnTo>
                    <a:pt x="2090" y="2429"/>
                  </a:lnTo>
                  <a:lnTo>
                    <a:pt x="2093" y="2648"/>
                  </a:lnTo>
                  <a:lnTo>
                    <a:pt x="2103" y="2860"/>
                  </a:lnTo>
                  <a:lnTo>
                    <a:pt x="2118" y="3064"/>
                  </a:lnTo>
                  <a:lnTo>
                    <a:pt x="2136" y="3259"/>
                  </a:lnTo>
                  <a:lnTo>
                    <a:pt x="2164" y="3446"/>
                  </a:lnTo>
                  <a:lnTo>
                    <a:pt x="2191" y="3619"/>
                  </a:lnTo>
                  <a:lnTo>
                    <a:pt x="2228" y="3778"/>
                  </a:lnTo>
                  <a:lnTo>
                    <a:pt x="2279" y="3786"/>
                  </a:lnTo>
                  <a:lnTo>
                    <a:pt x="2328" y="3793"/>
                  </a:lnTo>
                  <a:lnTo>
                    <a:pt x="2377" y="3802"/>
                  </a:lnTo>
                  <a:lnTo>
                    <a:pt x="2426" y="3810"/>
                  </a:lnTo>
                  <a:lnTo>
                    <a:pt x="2471" y="3819"/>
                  </a:lnTo>
                  <a:lnTo>
                    <a:pt x="2517" y="3828"/>
                  </a:lnTo>
                  <a:lnTo>
                    <a:pt x="2560" y="3836"/>
                  </a:lnTo>
                  <a:lnTo>
                    <a:pt x="2599" y="3845"/>
                  </a:lnTo>
                  <a:lnTo>
                    <a:pt x="2642" y="3856"/>
                  </a:lnTo>
                  <a:lnTo>
                    <a:pt x="2679" y="3864"/>
                  </a:lnTo>
                  <a:lnTo>
                    <a:pt x="2718" y="3873"/>
                  </a:lnTo>
                  <a:lnTo>
                    <a:pt x="2752" y="3884"/>
                  </a:lnTo>
                  <a:lnTo>
                    <a:pt x="2785" y="3893"/>
                  </a:lnTo>
                  <a:lnTo>
                    <a:pt x="2819" y="3903"/>
                  </a:lnTo>
                  <a:lnTo>
                    <a:pt x="2849" y="3912"/>
                  </a:lnTo>
                  <a:lnTo>
                    <a:pt x="2880" y="3923"/>
                  </a:lnTo>
                  <a:lnTo>
                    <a:pt x="2800" y="3782"/>
                  </a:lnTo>
                  <a:lnTo>
                    <a:pt x="2727" y="3604"/>
                  </a:lnTo>
                  <a:lnTo>
                    <a:pt x="2663" y="3394"/>
                  </a:lnTo>
                  <a:lnTo>
                    <a:pt x="2608" y="3153"/>
                  </a:lnTo>
                  <a:lnTo>
                    <a:pt x="2566" y="2888"/>
                  </a:lnTo>
                  <a:lnTo>
                    <a:pt x="2532" y="2602"/>
                  </a:lnTo>
                  <a:lnTo>
                    <a:pt x="2511" y="2296"/>
                  </a:lnTo>
                  <a:lnTo>
                    <a:pt x="2505" y="1975"/>
                  </a:lnTo>
                  <a:lnTo>
                    <a:pt x="2511" y="1646"/>
                  </a:lnTo>
                  <a:lnTo>
                    <a:pt x="2532" y="1334"/>
                  </a:lnTo>
                  <a:lnTo>
                    <a:pt x="2569" y="1039"/>
                  </a:lnTo>
                  <a:lnTo>
                    <a:pt x="2615" y="770"/>
                  </a:lnTo>
                  <a:lnTo>
                    <a:pt x="2672" y="527"/>
                  </a:lnTo>
                  <a:lnTo>
                    <a:pt x="2740" y="314"/>
                  </a:lnTo>
                  <a:lnTo>
                    <a:pt x="2816" y="139"/>
                  </a:lnTo>
                  <a:lnTo>
                    <a:pt x="2898" y="0"/>
                  </a:lnTo>
                  <a:lnTo>
                    <a:pt x="2898" y="0"/>
                  </a:lnTo>
                  <a:close/>
                </a:path>
              </a:pathLst>
            </a:custGeom>
            <a:solidFill>
              <a:srgbClr val="cef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240"/>
              <a:ext cx="8732880" cy="6854760"/>
            </a:xfrm>
            <a:custGeom>
              <a:avLst/>
              <a:gdLst/>
              <a:ahLst/>
              <a:rect l="l" t="t" r="r" b="b"/>
              <a:pathLst>
                <a:path w="5501" h="4318">
                  <a:moveTo>
                    <a:pt x="5464" y="13"/>
                  </a:moveTo>
                  <a:lnTo>
                    <a:pt x="5422" y="31"/>
                  </a:lnTo>
                  <a:lnTo>
                    <a:pt x="5373" y="50"/>
                  </a:lnTo>
                  <a:lnTo>
                    <a:pt x="5321" y="67"/>
                  </a:lnTo>
                  <a:lnTo>
                    <a:pt x="5269" y="85"/>
                  </a:lnTo>
                  <a:lnTo>
                    <a:pt x="5211" y="100"/>
                  </a:lnTo>
                  <a:lnTo>
                    <a:pt x="5150" y="117"/>
                  </a:lnTo>
                  <a:lnTo>
                    <a:pt x="5086" y="135"/>
                  </a:lnTo>
                  <a:lnTo>
                    <a:pt x="5019" y="150"/>
                  </a:lnTo>
                  <a:lnTo>
                    <a:pt x="4952" y="167"/>
                  </a:lnTo>
                  <a:lnTo>
                    <a:pt x="4879" y="182"/>
                  </a:lnTo>
                  <a:lnTo>
                    <a:pt x="4806" y="198"/>
                  </a:lnTo>
                  <a:lnTo>
                    <a:pt x="4727" y="213"/>
                  </a:lnTo>
                  <a:lnTo>
                    <a:pt x="4648" y="228"/>
                  </a:lnTo>
                  <a:lnTo>
                    <a:pt x="4565" y="241"/>
                  </a:lnTo>
                  <a:lnTo>
                    <a:pt x="4480" y="256"/>
                  </a:lnTo>
                  <a:lnTo>
                    <a:pt x="4395" y="269"/>
                  </a:lnTo>
                  <a:lnTo>
                    <a:pt x="4306" y="282"/>
                  </a:lnTo>
                  <a:lnTo>
                    <a:pt x="4215" y="295"/>
                  </a:lnTo>
                  <a:lnTo>
                    <a:pt x="4123" y="308"/>
                  </a:lnTo>
                  <a:lnTo>
                    <a:pt x="4029" y="319"/>
                  </a:lnTo>
                  <a:lnTo>
                    <a:pt x="3931" y="330"/>
                  </a:lnTo>
                  <a:lnTo>
                    <a:pt x="3834" y="341"/>
                  </a:lnTo>
                  <a:lnTo>
                    <a:pt x="3733" y="351"/>
                  </a:lnTo>
                  <a:lnTo>
                    <a:pt x="3633" y="362"/>
                  </a:lnTo>
                  <a:lnTo>
                    <a:pt x="3529" y="371"/>
                  </a:lnTo>
                  <a:lnTo>
                    <a:pt x="3426" y="380"/>
                  </a:lnTo>
                  <a:lnTo>
                    <a:pt x="3319" y="388"/>
                  </a:lnTo>
                  <a:lnTo>
                    <a:pt x="3212" y="395"/>
                  </a:lnTo>
                  <a:lnTo>
                    <a:pt x="3106" y="404"/>
                  </a:lnTo>
                  <a:lnTo>
                    <a:pt x="2996" y="410"/>
                  </a:lnTo>
                  <a:lnTo>
                    <a:pt x="2886" y="417"/>
                  </a:lnTo>
                  <a:lnTo>
                    <a:pt x="2776" y="421"/>
                  </a:lnTo>
                  <a:lnTo>
                    <a:pt x="2670" y="425"/>
                  </a:lnTo>
                  <a:lnTo>
                    <a:pt x="2560" y="430"/>
                  </a:lnTo>
                  <a:lnTo>
                    <a:pt x="2456" y="434"/>
                  </a:lnTo>
                  <a:lnTo>
                    <a:pt x="2350" y="436"/>
                  </a:lnTo>
                  <a:lnTo>
                    <a:pt x="2246" y="438"/>
                  </a:lnTo>
                  <a:lnTo>
                    <a:pt x="2142" y="440"/>
                  </a:lnTo>
                  <a:lnTo>
                    <a:pt x="2039" y="440"/>
                  </a:lnTo>
                  <a:lnTo>
                    <a:pt x="1938" y="440"/>
                  </a:lnTo>
                  <a:lnTo>
                    <a:pt x="1838" y="440"/>
                  </a:lnTo>
                  <a:lnTo>
                    <a:pt x="1740" y="440"/>
                  </a:lnTo>
                  <a:lnTo>
                    <a:pt x="1646" y="438"/>
                  </a:lnTo>
                  <a:lnTo>
                    <a:pt x="1548" y="436"/>
                  </a:lnTo>
                  <a:lnTo>
                    <a:pt x="1457" y="434"/>
                  </a:lnTo>
                  <a:lnTo>
                    <a:pt x="1365" y="430"/>
                  </a:lnTo>
                  <a:lnTo>
                    <a:pt x="1274" y="427"/>
                  </a:lnTo>
                  <a:lnTo>
                    <a:pt x="1189" y="421"/>
                  </a:lnTo>
                  <a:lnTo>
                    <a:pt x="1103" y="417"/>
                  </a:lnTo>
                  <a:lnTo>
                    <a:pt x="1018" y="412"/>
                  </a:lnTo>
                  <a:lnTo>
                    <a:pt x="936" y="406"/>
                  </a:lnTo>
                  <a:lnTo>
                    <a:pt x="859" y="399"/>
                  </a:lnTo>
                  <a:lnTo>
                    <a:pt x="780" y="391"/>
                  </a:lnTo>
                  <a:lnTo>
                    <a:pt x="707" y="382"/>
                  </a:lnTo>
                  <a:lnTo>
                    <a:pt x="637" y="375"/>
                  </a:lnTo>
                  <a:lnTo>
                    <a:pt x="567" y="365"/>
                  </a:lnTo>
                  <a:lnTo>
                    <a:pt x="500" y="356"/>
                  </a:lnTo>
                  <a:lnTo>
                    <a:pt x="439" y="345"/>
                  </a:lnTo>
                  <a:lnTo>
                    <a:pt x="378" y="334"/>
                  </a:lnTo>
                  <a:lnTo>
                    <a:pt x="320" y="323"/>
                  </a:lnTo>
                  <a:lnTo>
                    <a:pt x="265" y="312"/>
                  </a:lnTo>
                  <a:lnTo>
                    <a:pt x="213" y="299"/>
                  </a:lnTo>
                  <a:lnTo>
                    <a:pt x="168" y="286"/>
                  </a:lnTo>
                  <a:lnTo>
                    <a:pt x="122" y="273"/>
                  </a:lnTo>
                  <a:lnTo>
                    <a:pt x="67" y="256"/>
                  </a:lnTo>
                  <a:lnTo>
                    <a:pt x="94" y="295"/>
                  </a:lnTo>
                  <a:lnTo>
                    <a:pt x="174" y="438"/>
                  </a:lnTo>
                  <a:lnTo>
                    <a:pt x="241" y="618"/>
                  </a:lnTo>
                  <a:lnTo>
                    <a:pt x="302" y="835"/>
                  </a:lnTo>
                  <a:lnTo>
                    <a:pt x="350" y="1082"/>
                  </a:lnTo>
                  <a:lnTo>
                    <a:pt x="387" y="1356"/>
                  </a:lnTo>
                  <a:lnTo>
                    <a:pt x="411" y="1651"/>
                  </a:lnTo>
                  <a:lnTo>
                    <a:pt x="424" y="1965"/>
                  </a:lnTo>
                  <a:lnTo>
                    <a:pt x="421" y="2292"/>
                  </a:lnTo>
                  <a:lnTo>
                    <a:pt x="418" y="2423"/>
                  </a:lnTo>
                  <a:lnTo>
                    <a:pt x="411" y="2553"/>
                  </a:lnTo>
                  <a:lnTo>
                    <a:pt x="402" y="2681"/>
                  </a:lnTo>
                  <a:lnTo>
                    <a:pt x="393" y="2809"/>
                  </a:lnTo>
                  <a:lnTo>
                    <a:pt x="436" y="2809"/>
                  </a:lnTo>
                  <a:lnTo>
                    <a:pt x="448" y="2681"/>
                  </a:lnTo>
                  <a:lnTo>
                    <a:pt x="457" y="2553"/>
                  </a:lnTo>
                  <a:lnTo>
                    <a:pt x="463" y="2423"/>
                  </a:lnTo>
                  <a:lnTo>
                    <a:pt x="466" y="2292"/>
                  </a:lnTo>
                  <a:lnTo>
                    <a:pt x="466" y="1974"/>
                  </a:lnTo>
                  <a:lnTo>
                    <a:pt x="457" y="1670"/>
                  </a:lnTo>
                  <a:lnTo>
                    <a:pt x="433" y="1382"/>
                  </a:lnTo>
                  <a:lnTo>
                    <a:pt x="399" y="1113"/>
                  </a:lnTo>
                  <a:lnTo>
                    <a:pt x="354" y="870"/>
                  </a:lnTo>
                  <a:lnTo>
                    <a:pt x="296" y="653"/>
                  </a:lnTo>
                  <a:lnTo>
                    <a:pt x="232" y="469"/>
                  </a:lnTo>
                  <a:lnTo>
                    <a:pt x="158" y="319"/>
                  </a:lnTo>
                  <a:lnTo>
                    <a:pt x="204" y="332"/>
                  </a:lnTo>
                  <a:lnTo>
                    <a:pt x="256" y="343"/>
                  </a:lnTo>
                  <a:lnTo>
                    <a:pt x="308" y="354"/>
                  </a:lnTo>
                  <a:lnTo>
                    <a:pt x="366" y="365"/>
                  </a:lnTo>
                  <a:lnTo>
                    <a:pt x="424" y="375"/>
                  </a:lnTo>
                  <a:lnTo>
                    <a:pt x="485" y="386"/>
                  </a:lnTo>
                  <a:lnTo>
                    <a:pt x="549" y="395"/>
                  </a:lnTo>
                  <a:lnTo>
                    <a:pt x="616" y="404"/>
                  </a:lnTo>
                  <a:lnTo>
                    <a:pt x="683" y="412"/>
                  </a:lnTo>
                  <a:lnTo>
                    <a:pt x="756" y="421"/>
                  </a:lnTo>
                  <a:lnTo>
                    <a:pt x="829" y="427"/>
                  </a:lnTo>
                  <a:lnTo>
                    <a:pt x="905" y="434"/>
                  </a:lnTo>
                  <a:lnTo>
                    <a:pt x="984" y="440"/>
                  </a:lnTo>
                  <a:lnTo>
                    <a:pt x="1064" y="447"/>
                  </a:lnTo>
                  <a:lnTo>
                    <a:pt x="1146" y="451"/>
                  </a:lnTo>
                  <a:lnTo>
                    <a:pt x="1231" y="456"/>
                  </a:lnTo>
                  <a:lnTo>
                    <a:pt x="1317" y="460"/>
                  </a:lnTo>
                  <a:lnTo>
                    <a:pt x="1405" y="464"/>
                  </a:lnTo>
                  <a:lnTo>
                    <a:pt x="1493" y="466"/>
                  </a:lnTo>
                  <a:lnTo>
                    <a:pt x="1585" y="469"/>
                  </a:lnTo>
                  <a:lnTo>
                    <a:pt x="1679" y="471"/>
                  </a:lnTo>
                  <a:lnTo>
                    <a:pt x="1771" y="473"/>
                  </a:lnTo>
                  <a:lnTo>
                    <a:pt x="1868" y="473"/>
                  </a:lnTo>
                  <a:lnTo>
                    <a:pt x="1966" y="473"/>
                  </a:lnTo>
                  <a:lnTo>
                    <a:pt x="2063" y="473"/>
                  </a:lnTo>
                  <a:lnTo>
                    <a:pt x="2164" y="473"/>
                  </a:lnTo>
                  <a:lnTo>
                    <a:pt x="2264" y="471"/>
                  </a:lnTo>
                  <a:lnTo>
                    <a:pt x="2365" y="469"/>
                  </a:lnTo>
                  <a:lnTo>
                    <a:pt x="2469" y="464"/>
                  </a:lnTo>
                  <a:lnTo>
                    <a:pt x="2569" y="462"/>
                  </a:lnTo>
                  <a:lnTo>
                    <a:pt x="2676" y="458"/>
                  </a:lnTo>
                  <a:lnTo>
                    <a:pt x="2779" y="453"/>
                  </a:lnTo>
                  <a:lnTo>
                    <a:pt x="2886" y="449"/>
                  </a:lnTo>
                  <a:lnTo>
                    <a:pt x="2993" y="443"/>
                  </a:lnTo>
                  <a:lnTo>
                    <a:pt x="3096" y="436"/>
                  </a:lnTo>
                  <a:lnTo>
                    <a:pt x="3200" y="430"/>
                  </a:lnTo>
                  <a:lnTo>
                    <a:pt x="3304" y="421"/>
                  </a:lnTo>
                  <a:lnTo>
                    <a:pt x="3404" y="412"/>
                  </a:lnTo>
                  <a:lnTo>
                    <a:pt x="3508" y="406"/>
                  </a:lnTo>
                  <a:lnTo>
                    <a:pt x="3605" y="395"/>
                  </a:lnTo>
                  <a:lnTo>
                    <a:pt x="3703" y="386"/>
                  </a:lnTo>
                  <a:lnTo>
                    <a:pt x="3800" y="378"/>
                  </a:lnTo>
                  <a:lnTo>
                    <a:pt x="3898" y="367"/>
                  </a:lnTo>
                  <a:lnTo>
                    <a:pt x="3989" y="356"/>
                  </a:lnTo>
                  <a:lnTo>
                    <a:pt x="4084" y="345"/>
                  </a:lnTo>
                  <a:lnTo>
                    <a:pt x="4172" y="332"/>
                  </a:lnTo>
                  <a:lnTo>
                    <a:pt x="4264" y="321"/>
                  </a:lnTo>
                  <a:lnTo>
                    <a:pt x="4349" y="308"/>
                  </a:lnTo>
                  <a:lnTo>
                    <a:pt x="4434" y="295"/>
                  </a:lnTo>
                  <a:lnTo>
                    <a:pt x="4517" y="282"/>
                  </a:lnTo>
                  <a:lnTo>
                    <a:pt x="4599" y="269"/>
                  </a:lnTo>
                  <a:lnTo>
                    <a:pt x="4678" y="254"/>
                  </a:lnTo>
                  <a:lnTo>
                    <a:pt x="4754" y="241"/>
                  </a:lnTo>
                  <a:lnTo>
                    <a:pt x="4827" y="226"/>
                  </a:lnTo>
                  <a:lnTo>
                    <a:pt x="4901" y="211"/>
                  </a:lnTo>
                  <a:lnTo>
                    <a:pt x="4971" y="195"/>
                  </a:lnTo>
                  <a:lnTo>
                    <a:pt x="5038" y="180"/>
                  </a:lnTo>
                  <a:lnTo>
                    <a:pt x="5102" y="165"/>
                  </a:lnTo>
                  <a:lnTo>
                    <a:pt x="5163" y="150"/>
                  </a:lnTo>
                  <a:lnTo>
                    <a:pt x="5221" y="132"/>
                  </a:lnTo>
                  <a:lnTo>
                    <a:pt x="5278" y="115"/>
                  </a:lnTo>
                  <a:lnTo>
                    <a:pt x="5330" y="100"/>
                  </a:lnTo>
                  <a:lnTo>
                    <a:pt x="5382" y="83"/>
                  </a:lnTo>
                  <a:lnTo>
                    <a:pt x="5428" y="65"/>
                  </a:lnTo>
                  <a:lnTo>
                    <a:pt x="5346" y="221"/>
                  </a:lnTo>
                  <a:lnTo>
                    <a:pt x="5272" y="412"/>
                  </a:lnTo>
                  <a:lnTo>
                    <a:pt x="5205" y="633"/>
                  </a:lnTo>
                  <a:lnTo>
                    <a:pt x="5147" y="883"/>
                  </a:lnTo>
                  <a:lnTo>
                    <a:pt x="5102" y="1154"/>
                  </a:lnTo>
                  <a:lnTo>
                    <a:pt x="5062" y="1447"/>
                  </a:lnTo>
                  <a:lnTo>
                    <a:pt x="5038" y="1755"/>
                  </a:lnTo>
                  <a:lnTo>
                    <a:pt x="5022" y="2076"/>
                  </a:lnTo>
                  <a:lnTo>
                    <a:pt x="5019" y="2386"/>
                  </a:lnTo>
                  <a:lnTo>
                    <a:pt x="5032" y="2685"/>
                  </a:lnTo>
                  <a:lnTo>
                    <a:pt x="5053" y="2969"/>
                  </a:lnTo>
                  <a:lnTo>
                    <a:pt x="5086" y="3234"/>
                  </a:lnTo>
                  <a:lnTo>
                    <a:pt x="5129" y="3474"/>
                  </a:lnTo>
                  <a:lnTo>
                    <a:pt x="5184" y="3691"/>
                  </a:lnTo>
                  <a:lnTo>
                    <a:pt x="5248" y="3878"/>
                  </a:lnTo>
                  <a:lnTo>
                    <a:pt x="5318" y="4030"/>
                  </a:lnTo>
                  <a:lnTo>
                    <a:pt x="5272" y="4017"/>
                  </a:lnTo>
                  <a:lnTo>
                    <a:pt x="5224" y="4004"/>
                  </a:lnTo>
                  <a:lnTo>
                    <a:pt x="5169" y="3993"/>
                  </a:lnTo>
                  <a:lnTo>
                    <a:pt x="5114" y="3980"/>
                  </a:lnTo>
                  <a:lnTo>
                    <a:pt x="5056" y="3969"/>
                  </a:lnTo>
                  <a:lnTo>
                    <a:pt x="4995" y="3960"/>
                  </a:lnTo>
                  <a:lnTo>
                    <a:pt x="4931" y="3949"/>
                  </a:lnTo>
                  <a:lnTo>
                    <a:pt x="4864" y="3941"/>
                  </a:lnTo>
                  <a:lnTo>
                    <a:pt x="4797" y="3932"/>
                  </a:lnTo>
                  <a:lnTo>
                    <a:pt x="4724" y="3923"/>
                  </a:lnTo>
                  <a:lnTo>
                    <a:pt x="4651" y="3915"/>
                  </a:lnTo>
                  <a:lnTo>
                    <a:pt x="4574" y="3908"/>
                  </a:lnTo>
                  <a:lnTo>
                    <a:pt x="4495" y="3902"/>
                  </a:lnTo>
                  <a:lnTo>
                    <a:pt x="4416" y="3895"/>
                  </a:lnTo>
                  <a:lnTo>
                    <a:pt x="4331" y="3891"/>
                  </a:lnTo>
                  <a:lnTo>
                    <a:pt x="4248" y="3884"/>
                  </a:lnTo>
                  <a:lnTo>
                    <a:pt x="4160" y="3880"/>
                  </a:lnTo>
                  <a:lnTo>
                    <a:pt x="4072" y="3876"/>
                  </a:lnTo>
                  <a:lnTo>
                    <a:pt x="3980" y="3873"/>
                  </a:lnTo>
                  <a:lnTo>
                    <a:pt x="3889" y="3871"/>
                  </a:lnTo>
                  <a:lnTo>
                    <a:pt x="3794" y="3869"/>
                  </a:lnTo>
                  <a:lnTo>
                    <a:pt x="3700" y="3867"/>
                  </a:lnTo>
                  <a:lnTo>
                    <a:pt x="3602" y="3867"/>
                  </a:lnTo>
                  <a:lnTo>
                    <a:pt x="3505" y="3867"/>
                  </a:lnTo>
                  <a:lnTo>
                    <a:pt x="3404" y="3867"/>
                  </a:lnTo>
                  <a:lnTo>
                    <a:pt x="3304" y="3867"/>
                  </a:lnTo>
                  <a:lnTo>
                    <a:pt x="3200" y="3869"/>
                  </a:lnTo>
                  <a:lnTo>
                    <a:pt x="3099" y="3871"/>
                  </a:lnTo>
                  <a:lnTo>
                    <a:pt x="2993" y="3873"/>
                  </a:lnTo>
                  <a:lnTo>
                    <a:pt x="2889" y="3878"/>
                  </a:lnTo>
                  <a:lnTo>
                    <a:pt x="2782" y="3882"/>
                  </a:lnTo>
                  <a:lnTo>
                    <a:pt x="2676" y="3886"/>
                  </a:lnTo>
                  <a:lnTo>
                    <a:pt x="2572" y="3891"/>
                  </a:lnTo>
                  <a:lnTo>
                    <a:pt x="2472" y="3897"/>
                  </a:lnTo>
                  <a:lnTo>
                    <a:pt x="2371" y="3904"/>
                  </a:lnTo>
                  <a:lnTo>
                    <a:pt x="2270" y="3908"/>
                  </a:lnTo>
                  <a:lnTo>
                    <a:pt x="2173" y="3917"/>
                  </a:lnTo>
                  <a:lnTo>
                    <a:pt x="2075" y="3923"/>
                  </a:lnTo>
                  <a:lnTo>
                    <a:pt x="1978" y="3932"/>
                  </a:lnTo>
                  <a:lnTo>
                    <a:pt x="1883" y="3941"/>
                  </a:lnTo>
                  <a:lnTo>
                    <a:pt x="1789" y="3949"/>
                  </a:lnTo>
                  <a:lnTo>
                    <a:pt x="1694" y="3958"/>
                  </a:lnTo>
                  <a:lnTo>
                    <a:pt x="1603" y="3967"/>
                  </a:lnTo>
                  <a:lnTo>
                    <a:pt x="1512" y="3978"/>
                  </a:lnTo>
                  <a:lnTo>
                    <a:pt x="1423" y="3988"/>
                  </a:lnTo>
                  <a:lnTo>
                    <a:pt x="1335" y="3999"/>
                  </a:lnTo>
                  <a:lnTo>
                    <a:pt x="1250" y="4010"/>
                  </a:lnTo>
                  <a:lnTo>
                    <a:pt x="1164" y="4021"/>
                  </a:lnTo>
                  <a:lnTo>
                    <a:pt x="1082" y="4034"/>
                  </a:lnTo>
                  <a:lnTo>
                    <a:pt x="1003" y="4045"/>
                  </a:lnTo>
                  <a:lnTo>
                    <a:pt x="923" y="4058"/>
                  </a:lnTo>
                  <a:lnTo>
                    <a:pt x="844" y="4071"/>
                  </a:lnTo>
                  <a:lnTo>
                    <a:pt x="771" y="4084"/>
                  </a:lnTo>
                  <a:lnTo>
                    <a:pt x="695" y="4099"/>
                  </a:lnTo>
                  <a:lnTo>
                    <a:pt x="625" y="4112"/>
                  </a:lnTo>
                  <a:lnTo>
                    <a:pt x="555" y="4127"/>
                  </a:lnTo>
                  <a:lnTo>
                    <a:pt x="491" y="4142"/>
                  </a:lnTo>
                  <a:lnTo>
                    <a:pt x="424" y="4155"/>
                  </a:lnTo>
                  <a:lnTo>
                    <a:pt x="363" y="4171"/>
                  </a:lnTo>
                  <a:lnTo>
                    <a:pt x="302" y="4186"/>
                  </a:lnTo>
                  <a:lnTo>
                    <a:pt x="244" y="4203"/>
                  </a:lnTo>
                  <a:lnTo>
                    <a:pt x="189" y="4218"/>
                  </a:lnTo>
                  <a:lnTo>
                    <a:pt x="137" y="4233"/>
                  </a:lnTo>
                  <a:lnTo>
                    <a:pt x="88" y="4251"/>
                  </a:lnTo>
                  <a:lnTo>
                    <a:pt x="149" y="4127"/>
                  </a:lnTo>
                  <a:lnTo>
                    <a:pt x="204" y="3984"/>
                  </a:lnTo>
                  <a:lnTo>
                    <a:pt x="256" y="3821"/>
                  </a:lnTo>
                  <a:lnTo>
                    <a:pt x="302" y="3641"/>
                  </a:lnTo>
                  <a:lnTo>
                    <a:pt x="344" y="3448"/>
                  </a:lnTo>
                  <a:lnTo>
                    <a:pt x="381" y="3245"/>
                  </a:lnTo>
                  <a:lnTo>
                    <a:pt x="411" y="3030"/>
                  </a:lnTo>
                  <a:lnTo>
                    <a:pt x="436" y="2809"/>
                  </a:lnTo>
                  <a:lnTo>
                    <a:pt x="393" y="2809"/>
                  </a:lnTo>
                  <a:lnTo>
                    <a:pt x="366" y="3038"/>
                  </a:lnTo>
                  <a:lnTo>
                    <a:pt x="335" y="3260"/>
                  </a:lnTo>
                  <a:lnTo>
                    <a:pt x="296" y="3470"/>
                  </a:lnTo>
                  <a:lnTo>
                    <a:pt x="250" y="3667"/>
                  </a:lnTo>
                  <a:lnTo>
                    <a:pt x="201" y="3850"/>
                  </a:lnTo>
                  <a:lnTo>
                    <a:pt x="146" y="4014"/>
                  </a:lnTo>
                  <a:lnTo>
                    <a:pt x="88" y="4158"/>
                  </a:lnTo>
                  <a:lnTo>
                    <a:pt x="24" y="4277"/>
                  </a:lnTo>
                  <a:lnTo>
                    <a:pt x="0" y="4318"/>
                  </a:lnTo>
                  <a:lnTo>
                    <a:pt x="55" y="4298"/>
                  </a:lnTo>
                  <a:lnTo>
                    <a:pt x="101" y="4281"/>
                  </a:lnTo>
                  <a:lnTo>
                    <a:pt x="152" y="4266"/>
                  </a:lnTo>
                  <a:lnTo>
                    <a:pt x="204" y="4249"/>
                  </a:lnTo>
                  <a:lnTo>
                    <a:pt x="262" y="4233"/>
                  </a:lnTo>
                  <a:lnTo>
                    <a:pt x="320" y="4216"/>
                  </a:lnTo>
                  <a:lnTo>
                    <a:pt x="381" y="4201"/>
                  </a:lnTo>
                  <a:lnTo>
                    <a:pt x="445" y="4186"/>
                  </a:lnTo>
                  <a:lnTo>
                    <a:pt x="512" y="4171"/>
                  </a:lnTo>
                  <a:lnTo>
                    <a:pt x="582" y="4155"/>
                  </a:lnTo>
                  <a:lnTo>
                    <a:pt x="655" y="4140"/>
                  </a:lnTo>
                  <a:lnTo>
                    <a:pt x="728" y="4127"/>
                  </a:lnTo>
                  <a:lnTo>
                    <a:pt x="805" y="4112"/>
                  </a:lnTo>
                  <a:lnTo>
                    <a:pt x="884" y="4099"/>
                  </a:lnTo>
                  <a:lnTo>
                    <a:pt x="966" y="4086"/>
                  </a:lnTo>
                  <a:lnTo>
                    <a:pt x="1048" y="4073"/>
                  </a:lnTo>
                  <a:lnTo>
                    <a:pt x="1134" y="4060"/>
                  </a:lnTo>
                  <a:lnTo>
                    <a:pt x="1219" y="4049"/>
                  </a:lnTo>
                  <a:lnTo>
                    <a:pt x="1307" y="4036"/>
                  </a:lnTo>
                  <a:lnTo>
                    <a:pt x="1396" y="4025"/>
                  </a:lnTo>
                  <a:lnTo>
                    <a:pt x="1487" y="4014"/>
                  </a:lnTo>
                  <a:lnTo>
                    <a:pt x="1582" y="4004"/>
                  </a:lnTo>
                  <a:lnTo>
                    <a:pt x="1676" y="3995"/>
                  </a:lnTo>
                  <a:lnTo>
                    <a:pt x="1771" y="3984"/>
                  </a:lnTo>
                  <a:lnTo>
                    <a:pt x="1868" y="3975"/>
                  </a:lnTo>
                  <a:lnTo>
                    <a:pt x="1966" y="3967"/>
                  </a:lnTo>
                  <a:lnTo>
                    <a:pt x="2063" y="3958"/>
                  </a:lnTo>
                  <a:lnTo>
                    <a:pt x="2164" y="3949"/>
                  </a:lnTo>
                  <a:lnTo>
                    <a:pt x="2264" y="3943"/>
                  </a:lnTo>
                  <a:lnTo>
                    <a:pt x="2368" y="3936"/>
                  </a:lnTo>
                  <a:lnTo>
                    <a:pt x="2469" y="3930"/>
                  </a:lnTo>
                  <a:lnTo>
                    <a:pt x="2572" y="3923"/>
                  </a:lnTo>
                  <a:lnTo>
                    <a:pt x="2676" y="3919"/>
                  </a:lnTo>
                  <a:lnTo>
                    <a:pt x="2786" y="3915"/>
                  </a:lnTo>
                  <a:lnTo>
                    <a:pt x="2895" y="3910"/>
                  </a:lnTo>
                  <a:lnTo>
                    <a:pt x="3005" y="3906"/>
                  </a:lnTo>
                  <a:lnTo>
                    <a:pt x="3112" y="3904"/>
                  </a:lnTo>
                  <a:lnTo>
                    <a:pt x="3218" y="3902"/>
                  </a:lnTo>
                  <a:lnTo>
                    <a:pt x="3325" y="3899"/>
                  </a:lnTo>
                  <a:lnTo>
                    <a:pt x="3429" y="3899"/>
                  </a:lnTo>
                  <a:lnTo>
                    <a:pt x="3529" y="3897"/>
                  </a:lnTo>
                  <a:lnTo>
                    <a:pt x="3633" y="3899"/>
                  </a:lnTo>
                  <a:lnTo>
                    <a:pt x="3730" y="3899"/>
                  </a:lnTo>
                  <a:lnTo>
                    <a:pt x="3831" y="3902"/>
                  </a:lnTo>
                  <a:lnTo>
                    <a:pt x="3925" y="3904"/>
                  </a:lnTo>
                  <a:lnTo>
                    <a:pt x="4020" y="3906"/>
                  </a:lnTo>
                  <a:lnTo>
                    <a:pt x="4111" y="3910"/>
                  </a:lnTo>
                  <a:lnTo>
                    <a:pt x="4203" y="3915"/>
                  </a:lnTo>
                  <a:lnTo>
                    <a:pt x="4291" y="3919"/>
                  </a:lnTo>
                  <a:lnTo>
                    <a:pt x="4376" y="3923"/>
                  </a:lnTo>
                  <a:lnTo>
                    <a:pt x="4462" y="3930"/>
                  </a:lnTo>
                  <a:lnTo>
                    <a:pt x="4544" y="3936"/>
                  </a:lnTo>
                  <a:lnTo>
                    <a:pt x="4623" y="3943"/>
                  </a:lnTo>
                  <a:lnTo>
                    <a:pt x="4699" y="3951"/>
                  </a:lnTo>
                  <a:lnTo>
                    <a:pt x="4773" y="3960"/>
                  </a:lnTo>
                  <a:lnTo>
                    <a:pt x="4846" y="3969"/>
                  </a:lnTo>
                  <a:lnTo>
                    <a:pt x="4913" y="3978"/>
                  </a:lnTo>
                  <a:lnTo>
                    <a:pt x="4980" y="3988"/>
                  </a:lnTo>
                  <a:lnTo>
                    <a:pt x="5041" y="3999"/>
                  </a:lnTo>
                  <a:lnTo>
                    <a:pt x="5102" y="4010"/>
                  </a:lnTo>
                  <a:lnTo>
                    <a:pt x="5160" y="4021"/>
                  </a:lnTo>
                  <a:lnTo>
                    <a:pt x="5211" y="4034"/>
                  </a:lnTo>
                  <a:lnTo>
                    <a:pt x="5263" y="4047"/>
                  </a:lnTo>
                  <a:lnTo>
                    <a:pt x="5309" y="4060"/>
                  </a:lnTo>
                  <a:lnTo>
                    <a:pt x="5352" y="4073"/>
                  </a:lnTo>
                  <a:lnTo>
                    <a:pt x="5406" y="4092"/>
                  </a:lnTo>
                  <a:lnTo>
                    <a:pt x="5382" y="4053"/>
                  </a:lnTo>
                  <a:lnTo>
                    <a:pt x="5306" y="3908"/>
                  </a:lnTo>
                  <a:lnTo>
                    <a:pt x="5239" y="3726"/>
                  </a:lnTo>
                  <a:lnTo>
                    <a:pt x="5181" y="3509"/>
                  </a:lnTo>
                  <a:lnTo>
                    <a:pt x="5135" y="3264"/>
                  </a:lnTo>
                  <a:lnTo>
                    <a:pt x="5099" y="2993"/>
                  </a:lnTo>
                  <a:lnTo>
                    <a:pt x="5074" y="2702"/>
                  </a:lnTo>
                  <a:lnTo>
                    <a:pt x="5065" y="2394"/>
                  </a:lnTo>
                  <a:lnTo>
                    <a:pt x="5065" y="2076"/>
                  </a:lnTo>
                  <a:lnTo>
                    <a:pt x="5080" y="1744"/>
                  </a:lnTo>
                  <a:lnTo>
                    <a:pt x="5108" y="1427"/>
                  </a:lnTo>
                  <a:lnTo>
                    <a:pt x="5147" y="1126"/>
                  </a:lnTo>
                  <a:lnTo>
                    <a:pt x="5199" y="846"/>
                  </a:lnTo>
                  <a:lnTo>
                    <a:pt x="5260" y="594"/>
                  </a:lnTo>
                  <a:lnTo>
                    <a:pt x="5330" y="371"/>
                  </a:lnTo>
                  <a:lnTo>
                    <a:pt x="5413" y="185"/>
                  </a:lnTo>
                  <a:lnTo>
                    <a:pt x="5498" y="35"/>
                  </a:lnTo>
                  <a:lnTo>
                    <a:pt x="5498" y="33"/>
                  </a:lnTo>
                  <a:lnTo>
                    <a:pt x="5501" y="28"/>
                  </a:lnTo>
                  <a:lnTo>
                    <a:pt x="5501" y="0"/>
                  </a:lnTo>
                  <a:lnTo>
                    <a:pt x="5495" y="2"/>
                  </a:lnTo>
                  <a:lnTo>
                    <a:pt x="5483" y="7"/>
                  </a:lnTo>
                  <a:lnTo>
                    <a:pt x="5470" y="11"/>
                  </a:lnTo>
                  <a:lnTo>
                    <a:pt x="5464" y="13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23880" y="1211400"/>
              <a:ext cx="1920960" cy="1657080"/>
            </a:xfrm>
            <a:custGeom>
              <a:avLst/>
              <a:gdLst/>
              <a:ahLst/>
              <a:rect l="l" t="t" r="r" b="b"/>
              <a:pathLst>
                <a:path w="1210" h="1044">
                  <a:moveTo>
                    <a:pt x="1210" y="473"/>
                  </a:moveTo>
                  <a:lnTo>
                    <a:pt x="625" y="473"/>
                  </a:lnTo>
                  <a:lnTo>
                    <a:pt x="893" y="282"/>
                  </a:lnTo>
                  <a:lnTo>
                    <a:pt x="875" y="269"/>
                  </a:lnTo>
                  <a:lnTo>
                    <a:pt x="600" y="464"/>
                  </a:lnTo>
                  <a:lnTo>
                    <a:pt x="600" y="0"/>
                  </a:lnTo>
                  <a:lnTo>
                    <a:pt x="573" y="0"/>
                  </a:lnTo>
                  <a:lnTo>
                    <a:pt x="573" y="460"/>
                  </a:lnTo>
                  <a:lnTo>
                    <a:pt x="338" y="291"/>
                  </a:lnTo>
                  <a:lnTo>
                    <a:pt x="320" y="304"/>
                  </a:lnTo>
                  <a:lnTo>
                    <a:pt x="555" y="473"/>
                  </a:lnTo>
                  <a:lnTo>
                    <a:pt x="0" y="473"/>
                  </a:lnTo>
                  <a:lnTo>
                    <a:pt x="0" y="493"/>
                  </a:lnTo>
                  <a:lnTo>
                    <a:pt x="564" y="493"/>
                  </a:lnTo>
                  <a:lnTo>
                    <a:pt x="332" y="655"/>
                  </a:lnTo>
                  <a:lnTo>
                    <a:pt x="350" y="668"/>
                  </a:lnTo>
                  <a:lnTo>
                    <a:pt x="573" y="510"/>
                  </a:lnTo>
                  <a:lnTo>
                    <a:pt x="573" y="1044"/>
                  </a:lnTo>
                  <a:lnTo>
                    <a:pt x="600" y="1044"/>
                  </a:lnTo>
                  <a:lnTo>
                    <a:pt x="600" y="506"/>
                  </a:lnTo>
                  <a:lnTo>
                    <a:pt x="859" y="690"/>
                  </a:lnTo>
                  <a:lnTo>
                    <a:pt x="878" y="677"/>
                  </a:lnTo>
                  <a:lnTo>
                    <a:pt x="619" y="493"/>
                  </a:lnTo>
                  <a:lnTo>
                    <a:pt x="1210" y="493"/>
                  </a:lnTo>
                  <a:lnTo>
                    <a:pt x="1210" y="4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49880" y="4802040"/>
              <a:ext cx="1349640" cy="1163880"/>
            </a:xfrm>
            <a:custGeom>
              <a:avLst/>
              <a:gdLst/>
              <a:ahLst/>
              <a:rect l="l" t="t" r="r" b="b"/>
              <a:pathLst>
                <a:path w="850" h="733">
                  <a:moveTo>
                    <a:pt x="850" y="332"/>
                  </a:moveTo>
                  <a:lnTo>
                    <a:pt x="438" y="332"/>
                  </a:lnTo>
                  <a:lnTo>
                    <a:pt x="627" y="200"/>
                  </a:lnTo>
                  <a:lnTo>
                    <a:pt x="612" y="191"/>
                  </a:lnTo>
                  <a:lnTo>
                    <a:pt x="420" y="328"/>
                  </a:lnTo>
                  <a:lnTo>
                    <a:pt x="420" y="0"/>
                  </a:lnTo>
                  <a:lnTo>
                    <a:pt x="402" y="0"/>
                  </a:lnTo>
                  <a:lnTo>
                    <a:pt x="402" y="323"/>
                  </a:lnTo>
                  <a:lnTo>
                    <a:pt x="237" y="206"/>
                  </a:lnTo>
                  <a:lnTo>
                    <a:pt x="225" y="215"/>
                  </a:lnTo>
                  <a:lnTo>
                    <a:pt x="390" y="332"/>
                  </a:lnTo>
                  <a:lnTo>
                    <a:pt x="0" y="332"/>
                  </a:lnTo>
                  <a:lnTo>
                    <a:pt x="0" y="345"/>
                  </a:lnTo>
                  <a:lnTo>
                    <a:pt x="396" y="345"/>
                  </a:lnTo>
                  <a:lnTo>
                    <a:pt x="234" y="460"/>
                  </a:lnTo>
                  <a:lnTo>
                    <a:pt x="246" y="469"/>
                  </a:lnTo>
                  <a:lnTo>
                    <a:pt x="402" y="358"/>
                  </a:lnTo>
                  <a:lnTo>
                    <a:pt x="402" y="733"/>
                  </a:lnTo>
                  <a:lnTo>
                    <a:pt x="420" y="733"/>
                  </a:lnTo>
                  <a:lnTo>
                    <a:pt x="420" y="356"/>
                  </a:lnTo>
                  <a:lnTo>
                    <a:pt x="603" y="484"/>
                  </a:lnTo>
                  <a:lnTo>
                    <a:pt x="615" y="475"/>
                  </a:lnTo>
                  <a:lnTo>
                    <a:pt x="435" y="345"/>
                  </a:lnTo>
                  <a:lnTo>
                    <a:pt x="850" y="345"/>
                  </a:lnTo>
                  <a:lnTo>
                    <a:pt x="850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84360" y="1268280"/>
            <a:ext cx="788508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/الصدق الداخلي:ه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دقة الدراسة أي كم الفروق في المتغيرالتابع تعود فقط للمتغير المستقل او المعالج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ليست لأية عوامل اخرى داخلية وله علاقة بالتوزيع ال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/الصدق الخارجي:مدى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تعميم  النتائج على المجتمع من خلال العينة او الاداة المستخدمة وله علاقة بالاختي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اختيار العشوائ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 هو اختيار الافراد بحيث يكون لكل فرد فرصة للظهور بالعين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وزيع العشوائي:هو التوزيع المتكافىء للأفرداخل المجموعات بعد اختيارهم بشكل 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نواع التصامي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التصاميم ماقبل التجريبية:وه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صميم الذي لايتضمن أي معالجه للمتغيرات المستقلة او تعيين عشوائ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للمعالجات،حيث يترك المفحوصين على حاله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 التصاميم شبه التجريبية:وه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صاميم التي يدرس الباحث اثر متغير مستقل فيها على تابع ويتحكم البا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لى الاقل بمستوى المتغيرالمستقل ولكن لا يوجد بها توزيع 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/التصاميم الحقيقية التجريبيه:ه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لتصاميم التي يدرس الباحث فيها أثر متغير مستقل على تابع وكذلك يعال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حد المتغيرات المستقله على الاقل وفيها تعيين او توزيع عشوائ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عشوائ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،،(تجريبيه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ضابط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معالج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قبل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،،(بعدي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76360" y="260280"/>
            <a:ext cx="5904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للتصم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التاريخ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هو ظهور احداث غير متوقعه تؤثر على سير التجر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ثل الزلازل او طول الفترة الزمنية للبرنامج مما يؤدي الي التأثير على الدراسة ويضبط عن طريق  اخذ مجموع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ضابطه  الي جانب مجموعه تجريب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النض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هو ظهور تحسن او نمو في المجالات البيولوجية او النفسية مما يؤثر على سير التجربة وتدخ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كعامل دخيل ويضبط عن طريق اخذ مجموعه ضابطه الي جانب تجريب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7993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اختبار: هو نقل اثر التعلم في الاختبار القبلي مما يؤدي الي التأثير على النتائج  ويضبط عن طريق اخذ مجموعه ضابط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وهو الاكثر شيوعا الضبط الاحصائي عن طريق تحليل التباين المشتر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اختيار: هو تحيز الباحث باختيار العينه وعدم اختيارها بشكل عشوائي او توزيعها بشكل متكافئ مما يؤدي الي التأثير عل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النتائج ويضبط عن طريق الاختيار والتوزيع العشوائ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انحدار الاحصائي : هو ميل القيم نحو الوسط نتيجة اختيار مجموعات متطرفة من البداية ويضبط عن طريق التوزيع السو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</a:rPr>
              <a:t>للأفراد ( اخذ مجموعات متقاربة في السمات حسب جدول التوزيع السوي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داة القياس: هو استخدام اداة مختلفة مما يؤدي الي التأثير واختلاف النتائج ويكون الحل عن طريق توحيد اداة القيا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تسرب ( الاهدار) :فقدان او خسران المفحوصين من العينة الاصلية يضبط عن طريق زيادة حجم العينة من الاسا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التفاعل مابين الاختبار والنضج: ويضبط عن طريق ضبط كل عامل لوحد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480" y="260280"/>
            <a:ext cx="317520" cy="6597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826480" y="260280"/>
            <a:ext cx="317520" cy="659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-316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خار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فاعل الاختبار مع المعالج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فاعل الاختيار مع المعالج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فاعل الظروف التجريبية مع المعالج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تداخل المواقف التجريب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تضبط معظم هذه العوامل عن طريق الاختيار العشوائ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842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- التصاميم ما قبل التجريبيه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انوا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- تصميم دراسة الحال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st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رمز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ختيار مجموعة من الافرا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مجموع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(التاريخ والنضج والاختيار والتسرب غير مضبوطة) معظم عوامل الصدق الداخلي غير مضبو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دق الخارجي : جميع عوامل الصدق الخارجي غير مضبوطة وخامته تفاعل الاختيار مع ا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حسينه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x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حليل الاحصائي المستخدم : ت  لعينة واح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476280"/>
            <a:ext cx="7559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- تصميم المجموعة الواحدة ذو الاختبار القبلي والبعدي رمزه 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x o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حديد المجمو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قبلي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عينه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:نجد ان التسرب والاختيار مضبوطة وباقي العوامل غير مضبوطة، يحسن عن طريق أخذ مجموعة ضابط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صدق الخارجي جميع العوامل غير مضبوطة وخاصة التفاعل بين الاختيار والمعالج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صاميم غيرالتجريبية  من أنواعها ايضا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 أ- تصميم السلاسل الزم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مزه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ooxoo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:  اختيار مجموعه واحده , وإجراء اربعة اختبارات قبلية ثم تعريض المجموعه للمعالجة , وبعد المعالجة إجراء اربعة اختبارات بعد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50864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ه على الصدق الداخلي : نجد ان جميع عوامل الصدق الداخلي مضبوطة ما عدا التاري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( وأداة القياس التي هي موضع تساؤ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بالنسبة للصدق الخارجي : جميع العوامل غير مضبوطة وخاصة التفاعل ما بين الاختبار وا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حسين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ooxoo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oo - ooo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حصاء المستخدم : هو ت لعينات مستقله او القياسات المتكر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4360" y="692280"/>
            <a:ext cx="748800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التصاميم شبه التجريبية مثل- تصميم المجموعات غير المتكافئ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مزه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 x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  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إجراء اختبار  قبلي للمجموعتين التجريبية والضابط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مجموعه التجريبي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إجراء اختبار بعدي للمجموع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: جميع عوامل الصدق الداخلي مضبوطة ما عدا التفاعل فهو غير مضبوط وكذ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نحدار موضع تساؤ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بالنسبة للصدق الخارجي : جميع العوامل غير مضبوطة وخاصة التفاعل مابين الاختبار وا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* تحسينه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o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o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حليل الاحصائي المستخدم : ت لعينتين مستقل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/ تصاميم تجريبية حقيقية . انواع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- تصميم المجموعه الضابطة ذات الاختبار الب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 * التوزيع العشوائي للمجموعتين التجريبية والضابط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*تعريض المجموعة التجريبي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*إجراء اختبار بعدي للمجموعت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X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   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7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80" y="260280"/>
            <a:ext cx="317520" cy="659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826480" y="260280"/>
            <a:ext cx="317520" cy="6597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260280"/>
            <a:ext cx="896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عوامل المؤثرة على الصدق الداخلي : جميع عوامل الصدق الداخلي مضبوطة وبالنسبة للخارجي فالتفاعل مابين الاختبا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المعالجة مضبوط وباقي العوامل موضع تساؤ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حصاء المستخدم : ت لعينتين مستقلتين  ويمكن اجراء تحليل التباين ال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/ تصميم المجموعات المتكافئة رمزه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-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لتوزيع العشوائي للمجموعتين التجريبية والضاب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لاختبار القبلي للمجموع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تعريض المجموعة التجريبية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للمجموعت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# العوامل المؤثرة على الصدق الداخلي : جميع عوامل الصدق الداخلي مضبوطة وبالنسبة للخارجي نجد ان التفاعل ب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ختبار والمعالجة غير مضبو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تحليل الاحصائي المستخدم: هو تحليل التباين المشترك , لعينتين مستقلت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3716280"/>
            <a:ext cx="849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/ تصميم سلمون للمجموعات الاربع : ويعتبر من افضل انواع التصاميم لكنه مكلف ويحتاج الي جه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 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   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خطواته:*التوزيع العشوائي للمجموعات الارب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قبلي للمجموعة الاولى التجريبية والمجموعة الضاب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*اجراء اختبار بعدي للمجموعات الاربع – تعريض المجموعتين التجريبيتين للمعالج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# العوامل المؤثرة على الصدق الداخلي :جميع عوامل الصدق الداخلي والخارجي مضبوط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# التحليل الاحصائي المستخدم :هوتحليل التباين الثنائي ،تحليل التباين الثنائي المشتر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4280" y="40989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3373" y="11385"/>
                </a:moveTo>
                <a:lnTo>
                  <a:pt x="3373" y="11385"/>
                </a:ln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8320" y="5180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662" y="14387"/>
                </a:moveTo>
                <a:lnTo>
                  <a:pt x="1662" y="14387"/>
                </a:lnTo>
              </a:path>
            </a:pathLst>
          </a:custGeom>
          <a:noFill/>
          <a:ln cap="rnd" w="34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9:34:43Z</dcterms:created>
  <dc:creator>user</dc:creator>
  <dc:description/>
  <dc:language>en-US</dc:language>
  <cp:lastModifiedBy>PC_Station</cp:lastModifiedBy>
  <dcterms:modified xsi:type="dcterms:W3CDTF">2011-05-07T12:15:31Z</dcterms:modified>
  <cp:revision>8</cp:revision>
  <dc:subject/>
  <dc:title>الشريحة 1</dc:title>
</cp:coreProperties>
</file>