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FE3-3CB3-4E5C-8BD1-A498D412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35D-7EE6-4E0A-AB38-0273FE91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3EF-86DC-4BD7-9ECE-F7BE2D50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A5A-7DC0-477D-A1E7-6ED488C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37C-B3FB-48AE-BD53-219DA0BA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A66-7291-4F78-BC6F-4C20B92A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473-E6EA-4D6A-B34D-B70A5B82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2F8-681F-4769-94F1-EF26D79F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414-2A8D-4802-AFAA-214E5BF7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700-462C-43E7-AFB5-608A107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369-0C37-4754-B20F-5A5B8C2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D73-72CE-42D2-A70F-0F3637EE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9884-CBD1-4266-BBBA-6760E3EB1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Administrator</cp:lastModifiedBy>
  <dcterms:modified xsi:type="dcterms:W3CDTF">2011-04-16T05:30:16Z</dcterms:modified>
  <cp:revision>64</cp:revision>
  <dc:subject/>
  <dc:title>مبادئ إدارة الأعمال</dc:title>
</cp:coreProperties>
</file>