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A32-DAFA-4C19-BEDE-BC1DF2AF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A80-CAA7-473F-A012-0A2B0B28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A87-7806-4506-BEE3-C54208B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E67-D6BD-4F74-8EDD-45CE0D04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622-BC23-4285-875B-24E688F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5FE-7472-4D7E-A3D0-6A9C9508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FBB-BD5C-4790-A972-E241D56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F0A-A94D-4FA5-80F9-2B58789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F71-5888-409D-BC4E-B8A3442A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0B1-7E06-4608-969C-6496190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EE2-14C5-4110-BA8D-9821A3A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73F-5CEF-4801-A5C6-6156A78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967-2CEA-41F7-AFC8-93C4318C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dministrator</cp:lastModifiedBy>
  <dcterms:modified xsi:type="dcterms:W3CDTF">2011-04-16T05:30:16Z</dcterms:modified>
  <cp:revision>64</cp:revision>
  <dc:subject/>
  <dc:title>مبادئ إدارة الأعمال</dc:title>
</cp:coreProperties>
</file>