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8C2-09A6-457D-BBE3-C15A6703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31A-6AC0-4BB5-9AC0-964795EB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A17-7CC7-4935-A8DA-8D272222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DC9-8318-4C25-BBB1-9D579FE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BFB-7F49-4A52-80AF-9BB974B4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71C-5FE7-495A-AE4F-F17E490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F33-13F2-436E-967C-1B602B5A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079-0897-4F6C-9ACC-0953A7E9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757-83B5-4FB0-B530-F673E6D1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0B5-0C41-4508-BDCA-FCE169A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CCA-5752-45A9-818E-ED0E2F9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22D-2069-4F61-A849-32BC14E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3EB-F503-43B5-91FC-6E2E22338D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أ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ar-SA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user</cp:lastModifiedBy>
  <dcterms:modified xsi:type="dcterms:W3CDTF">2010-10-20T04:09:04Z</dcterms:modified>
  <cp:revision>31</cp:revision>
  <dc:subject/>
  <dc:title>مبادئ إدارة الأعمال</dc:title>
</cp:coreProperties>
</file>