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E08-7BA6-4AD0-9636-FCC0DF997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4B2E-D2EB-4BB8-BEAD-98A00E63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8E5-D1B6-4C8F-A2F4-27DEA8A99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74B0-B08C-4CF9-95D6-03BB77C6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ABA-BDED-46EC-B54A-1C6DE4E6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22C-3124-41F2-977B-A36DAAED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899B-25A5-42F4-A7FA-3BD7AB53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5B5-25B4-45E8-AA3B-0EA70681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843C-F193-4621-9D42-F1A960B5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4E13-D4FD-4C50-BCC0-FF3085C5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1AC-194A-413D-808A-A49FF781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E3A7-8966-4480-8DE1-54BC0E52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8D8C-70BC-4B24-951A-BCDF09A4C22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مفهوم 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838080" y="838080"/>
            <a:ext cx="114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523880" y="324648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أهمُّ المصطلحات المتعلقة بالإدار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ectiveness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درة على اختيار الأهداف و تحقيق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خصائص الأهداف الجيد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قابلة للقي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واقع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0000"/>
                </a:solidFill>
                <a:latin typeface="Arial"/>
              </a:rPr>
              <a:t>محددة زمنيًّ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مثال: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الرفع من حصة المؤسسة من السوق إلى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% في حدود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 ديسمبر 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i="1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كفاءة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fficiency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ني تحقيق أهداف المؤسسة مع الاستخدام الأمثل ل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كفء هو الذي يحقق أفضل النتائج مع التحكم الجيد في كلفة الإنتا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قدرة التنافسية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mpeti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15328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ي قدرة المؤسسة على خلق مجموعة أسلحة تنافسي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competitive advant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ويلة الأمد تسمح لها بالتفاعل بمهارة مع خطط منافسيها في السو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حصة السوق</a:t>
            </a:r>
            <a:br>
              <a:rPr sz="4000"/>
            </a:b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arket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1532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هو حجم مبيعات المؤسسة مقارنة بالحجم الإجمالي لمبيعات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1523880" y="3246480"/>
            <a:ext cx="525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ل الإدارة فنٌّ أم عِلمٌ 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</a:rPr>
              <a:t>الإدارة كعِلم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ستند الإدارة إلى نظريات علمية متراكمة و تستخدم بطريقة فعالة أساليب رياضية و إحصائية و اقتصاد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مد الإدارة الحديثة على أحدث التطبيقات الالكترونية و على علم الحاس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مد الإدارة الحديثة على نظريات عميقة في علم النفس و علم الاجتماع و على علم الأعصاب ( توجد التطبيقات خاصة في علم التسويق و علم الموارد البشرية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تبع المدير منهجا علميا في أداء عمله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0000ff"/>
                </a:solidFill>
                <a:latin typeface="Arial"/>
              </a:rPr>
              <a:t>الإدارة كف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تبر الإدارة فنًّا بحكم أنها تحتاج مهاراتٍ قيادية لا تخضع لمنطق العلو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تّخاذ القرارات يخضع أيضًا إلى الحدس أي الحاسّة السّادسة لدى المدي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إدارة عدد كبير من الموارد كما إدارة الوقت تتطلب كفاأتٍ و مهاراتٍ هي أقرب إلى الفنِّ منها إلى العل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33520" y="60948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بعد هذا الدرس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ستكون قادرًا على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هم مصطلح ا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فهم مصطلح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عرف على أهداف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ديد ماهية الإدارة: عِلمٌ أم فنٌّ 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تعرف على مصطلح المدي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مييز بين أنواع المديرين و مهامّ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مدير</a:t>
            </a:r>
            <a:br>
              <a:rPr sz="4000"/>
            </a:br>
            <a:r>
              <a:rPr b="1" i="1" lang="en-US" sz="3200" spc="-1" strike="noStrike">
                <a:solidFill>
                  <a:srgbClr val="0000ff"/>
                </a:solidFill>
                <a:latin typeface="Arial"/>
              </a:rPr>
              <a:t>The manager</a:t>
            </a:r>
            <a:r>
              <a:rPr b="0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فرد من أفراد المنظّمة تكون له مهمة الإشراف على التخطيط و التنظيم و صنع القرار و القيادة و الرقابة على أداء الموارد البشر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سئول عن بلوغ مستوى مرتفع من الأداء من خلال الاستغلال الأمثل لجميع موارد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هو أي فرد يكون مسئولا عن إدارة موارد المؤسس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المكونات الأساسية لتعريف المدير </a:t>
            </a:r>
            <a:br>
              <a:rPr sz="3600"/>
            </a:b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حسب الخشروم و موسى (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i="1" lang="ar-SA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914400" y="1828800"/>
            <a:ext cx="7391520" cy="990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عمل مع و من خلال الآخر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914400" y="2971800"/>
            <a:ext cx="739152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قيام بالوظائف الإدا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914400" y="3962520"/>
            <a:ext cx="7391520" cy="10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استخدام الأمثل للموارد المتاح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914400" y="5257800"/>
            <a:ext cx="739152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إنجاز أهداف المنظمة بفعالية و 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تصنيف المديرين وفق المستوى الإدار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6172200" y="2209680"/>
            <a:ext cx="29718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علي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رئيس مدير عام، مدير ع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ضع رسالة المنظّمة و رؤيت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وضع استراتيجية المؤسس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ني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2743200" y="2209680"/>
            <a:ext cx="342900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 u="sng">
                <a:solidFill>
                  <a:srgbClr val="000000"/>
                </a:solidFill>
                <a:uFillTx/>
                <a:latin typeface="Arial"/>
              </a:rPr>
              <a:t>مدير الإدارة الوسط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تحملون مسؤولية تنفيذ سياس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وضعتها الإدارة العلي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شرفون على أنشطة المستوى الثال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28600" y="2209680"/>
            <a:ext cx="25146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 u="sng">
                <a:solidFill>
                  <a:srgbClr val="000000"/>
                </a:solidFill>
                <a:uFillTx/>
                <a:latin typeface="Arial"/>
              </a:rPr>
              <a:t>مدير المستوى الإشرافي الأوّ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شرف، مدير مكت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يشرفون على عمال التشغي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تصنيف المديرين وفقا لمجالات الإدار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تسوي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وارد البش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ما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إنتاج أو العمل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إدار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دير المشتري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تصنيف المديرين وفقا لنطاق الأنشط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وظيفي: مسئول عن نشاط تنظيمي واح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عام: فرد مشرف على كل الأنشط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ff"/>
                </a:solidFill>
                <a:latin typeface="Arial"/>
              </a:rPr>
              <a:t>تصنيف المديرين وفقا لنوع المسؤول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تنفيذي: مدير الإنتاج مثل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الاستشاري: يقدم خدمات مساعدة و مساندة للمدير التنفيذ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بادئ إدارة الأعما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Arial"/>
              </a:rPr>
              <a:t>الوظائف و الأدوار و المهارات الإد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553080" y="304920"/>
            <a:ext cx="21337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جامعة الملك سعو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ّ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قسم العلوم الإدار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د. نزار منصو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762120" y="685800"/>
            <a:ext cx="99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وظائف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قيا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تخطيط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ني التخطيط تحديد أهداف المنظمة بكل دقة و تقرير أنجع الطرق لإنجاز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تنظيم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0773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عني وضع هيكل تنظيمي يتم بموجبه تقسيم العمل بين الأقسام و الأفراد و وضع علاقات السلطة و التنسيق بين الأفراد و الوحدات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514600" y="3246480"/>
            <a:ext cx="3962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000000"/>
                </a:solidFill>
                <a:latin typeface="Arial"/>
              </a:rPr>
              <a:t>المُنظَّمة ؟</a:t>
            </a:r>
            <a:r>
              <a:rPr b="0" lang="ar-SA" sz="8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صنع القرار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صنع المديرون القرارات بشكل يومي ويعني ذلك تحديد المشاكل ووضع خطة لحلِّ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قياد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قيادة هي أهم وأصعب ما يقوم به المدير. و هي تعني تحفيز المرؤوسين و التواصل السليم معهم و خلق مناخ عمل بنّاء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الرقاب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رقابة هي آخر مراحل العملية الإدارية وتعني التحقق من الوصول إلى الأهداف المرسومة و تحليل النتائج و وضع مقترحات لتحسين أداء المنظّم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أدوار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</a:rPr>
              <a:t>أدوار المدي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نقسم أدوار المدير إلى ثلاثة أقسا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أدوار شخص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أدوار معلومات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ff"/>
                </a:solidFill>
                <a:latin typeface="Arial"/>
              </a:rPr>
              <a:t>أدوار المدير الشخصية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مثل للمنظّ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قائ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حلقة اتّص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</a:rPr>
              <a:t>أدوار المدير المعلومات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236196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باحث عن ا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ر كموصل للمعلو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تصل مع الأطراف الخارج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Arial"/>
              </a:rPr>
              <a:t>أدوار صنع القرا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784872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باد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مخصص للموار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تعامل مع الاختلا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دير كمفاوض مع العمّ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523880" y="324648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المهارات الإدار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t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روبرت كاتز هذه المهارات إلى ثلاثة أقسا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ستغلال المعارف و الخبرات الشخصية للتميز في الع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إنسان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تعلقة بقدرات القيادة و التأثير في الآخر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مهارات فكر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القدرة على رؤية المنظمة كمجموعة متكاملة و التحليل السليم لمختلف المشاكل التي تمر ب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1219320" y="2895480"/>
            <a:ext cx="7543800" cy="2210040"/>
          </a:xfrm>
          <a:prstGeom prst="flowChartAlternateProcess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ُنظَّمة هي تركيبة أو مجموعة من الأفراد يعملون معً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 بِتقسيم مُعيَّن للعمل بغرض تحقيق </a:t>
            </a:r>
            <a:r>
              <a:rPr b="1" lang="ar-SA" sz="2800" spc="-1" strike="noStrike" u="sng">
                <a:solidFill>
                  <a:srgbClr val="ff0000"/>
                </a:solidFill>
                <a:uFillTx/>
                <a:latin typeface="Arial"/>
              </a:rPr>
              <a:t>هدف مشترك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تقسيم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if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سم جريفين هذه المهارات إلى نوعين: تشخيصية و تحل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شخيص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تعني قدرة المدير على تشخيص و فهم مختلف الأوضاع التي تمر بها ال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المهارات التحليل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 هي القدرة على التعمّق في تحليل المشاكل و الإلمام بمختلف جوانبها و الربط بين هذه الجوانب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00"/>
                </a:solidFill>
                <a:latin typeface="Arial"/>
              </a:rPr>
              <a:t>المُنظَّمة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(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rganization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مُخرَجات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تجات استهلاكية و صناع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دمات تعلي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دمات الضياف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خدمات ثقاف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المُنظَّم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صان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جامعات و المدار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كاتب استشار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كتب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أنواع المنظّما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5410080" y="1676520"/>
            <a:ext cx="3505320" cy="4114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مراع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ll Ma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العثي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1371600" y="1600200"/>
            <a:ext cx="3581280" cy="41911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منظّمة ذات هدف غير رِبح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مؤسسات رعاية الأي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كلية المجتمع بالريا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en pe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04920" y="3246480"/>
            <a:ext cx="883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إدارة هي عملية الاستغلال المحكم لِكافة موارد المنظمة بالتخطيط و 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 صنع القرار و القيادة و الرقابة بغرض إنجاز أهداف المنظمة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بكفاء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 و </a:t>
            </a:r>
            <a:r>
              <a:rPr b="1" lang="ar-SA" sz="2800" spc="-1" strike="noStrike">
                <a:solidFill>
                  <a:srgbClr val="ff0000"/>
                </a:solidFill>
                <a:latin typeface="Arial"/>
              </a:rPr>
              <a:t>فاعلية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6629400" y="2209680"/>
            <a:ext cx="228600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المدخل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وارد البشر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وارد الم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وارد الما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وارد المعلومات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352680" y="2209680"/>
            <a:ext cx="2590920" cy="365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عملية الإدار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خطي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نظي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قيادة و صنع القر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رقاب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533520" y="2209680"/>
            <a:ext cx="2209680" cy="3657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3200" spc="-1" strike="noStrike" u="sng">
                <a:solidFill>
                  <a:srgbClr val="000000"/>
                </a:solidFill>
                <a:uFillTx/>
                <a:latin typeface="Arial"/>
              </a:rPr>
              <a:t>تحقيق الأهداف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كفاء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فعال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H="1">
            <a:off x="5943240" y="403848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9"/>
          <p:cNvSpPr/>
          <p:nvPr/>
        </p:nvSpPr>
        <p:spPr>
          <a:xfrm flipH="1">
            <a:off x="2742840" y="403848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00"/>
                </a:solidFill>
                <a:latin typeface="Arial"/>
              </a:rPr>
              <a:t>ما هي أهداف الإدارة 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وظيف الأمثل لموارد المؤسس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قيق النتائج المرسومة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بكفاء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حقيق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الفعا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ضمان ديمومة المنظمة و الرفع من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قدرتها التنافس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رفع المستمر </a:t>
            </a:r>
            <a:r>
              <a:rPr b="0" lang="ar-SA" sz="3200" spc="-1" strike="noStrike">
                <a:solidFill>
                  <a:srgbClr val="0000ff"/>
                </a:solidFill>
                <a:latin typeface="Arial"/>
              </a:rPr>
              <a:t>لحصة المؤسسة من السو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05:15:58Z</dcterms:created>
  <dc:creator>Administrator</dc:creator>
  <dc:description/>
  <dc:language>en-US</dc:language>
  <cp:lastModifiedBy>user</cp:lastModifiedBy>
  <dcterms:modified xsi:type="dcterms:W3CDTF">2010-10-20T04:09:04Z</dcterms:modified>
  <cp:revision>31</cp:revision>
  <dc:subject/>
  <dc:title>مبادئ إدارة الأعمال</dc:title>
</cp:coreProperties>
</file>