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9A6-D197-4B0F-A64A-B99AAFBD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304-734F-468C-BDE3-CEB78C30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CBC-F162-47FB-8828-6265B692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829-61C7-4A61-B57A-75C3DBA0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0CE-C288-4468-9321-86F59ECC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B72-CAE5-416E-92F0-C42A990B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7BC-7326-4911-B632-F3151514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1C9-D6B2-4E37-A381-0C46619C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0F2-C21D-4CC8-89F3-97E2C94B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B90-38CF-4A7A-85F4-9841177B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368-BAC2-4873-9FFB-8B10B6FB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5EF-04BC-44D4-B47D-13AE84B1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DFB2-1E81-4662-83D9-6779B1049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فهوم 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أ. أحمد عباب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3246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همُّ المصطلحات المتعلقة ب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iven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رة على اختيار الأهداف و تحقيق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صائص الأهداف الجي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قابلة ل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واق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 زمنيًّ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الرفع من حصة المؤسسة من السوق إلى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% في حدود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ديسمبر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فاء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ني تحقيق أهداف المؤسسة مع الاستخدام الأمثل ل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كفء هو الذي يحقق أفضل النتائج مع التحكم الجيد في كلفة الإنتا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قدرة التنافسية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قدرة المؤسسة على خلق مجموعة أسلحة تنافس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competitive 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ويلة الأمد تسمح لها بالتفاعل بمهارة مع خطط منافسيها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حصة السوق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 حجم مبيعات المؤسسة مقارنة بالحجم الإجمالي لمبيعات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3246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ل الإدارة فنٌّ أم عِلمٌ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عِلم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ستند الإدارة إلى نظريات علمية متراكمة و تستخدم بطريقة فعالة أساليب رياضية و إحصائية و 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أحدث التطبيقات الالكترونية و على عل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نظريات عميقة في علم النفس و علم الاجتماع و على علم الأعصاب ( توجد التطبيقات خاصة في علم التسويق و علم الموارد البشر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بع المدير منهجا علميا في أداء عمله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بر الإدارة فنًّا بحكم أنها تحتاج مهاراتٍ قيادية لا تخضع لمنطق العلو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تّخاذ القرارات يخضع أيضًا إلى الحدس أي الحاسّة السّادسة لدى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دارة عدد كبير من الموارد كما إدارة الوقت تتطلب كفاءاتٍ و مهاراتٍ هي أقرب إلى الفنِّ منها إلى الع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أهداف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ماهية الإدارة: عِلمٌ أم فنٌّ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مدير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فرد من أفراد المنظّمة تكون له مهمة الإشراف على التخطيط و التنظيم و صنع القرار و القيادة و الرقابة على أداء الموارد البش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سئول عن بلوغ مستوى مرتفع من الأداء من خلال الاستغلال الأمثل لجميع موارد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أي فرد يكون مسئولا عن إدارة موارد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مكونات الأساسية لتعريف المدير </a:t>
            </a:r>
            <a:br>
              <a:rPr sz="3600"/>
            </a:b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حسب الخشروم و موسى (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828800"/>
            <a:ext cx="7391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مل مع و من خلال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971800"/>
            <a:ext cx="739152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م بالوظائف الإد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962520"/>
            <a:ext cx="7391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استخدام الأمثل للموارد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إنجاز أهداف المنظمة بفعالية و 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صنيف المديرين وفق المستوى الإد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2209680"/>
            <a:ext cx="29718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عل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رئيس مدير عام، مدير ع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رسالة المنظّمة و رؤي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استراتيجية المؤس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ن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09680"/>
            <a:ext cx="342900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وسط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تحملون مسؤولية تنفيذ سياس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وضعتها 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9680"/>
            <a:ext cx="25146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مدير المستوى الإشرافي الأوّ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شرف، مدير مكت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عمال التشغ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مجالات الإد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تسو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وارد البش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إنتاج أو ال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إد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شتر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طاق الأنش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وظيفي: مسئول عن نشاط تنظيمي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عام: فرد مشرف على كل 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وع المسؤو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تنفيذي: مدير الإنتاج مث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استشاري: يقدم خدمات مساعدة و مساندة للمدير التنفيذ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وظائف و الأدوار و المهارات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6858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وظائف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التخطيط تحديد أهداف المنظمة بكل دقة و تقرير أنجع الطرق لإنجاز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عني وضع هيكل تنظيمي يتم بموجبه تقسيم العمل بين الأقسام و الأفراد و وضع علاقات السلطة و التنسيق بين الأفراد و الوح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4600" y="3246480"/>
            <a:ext cx="396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مُنظَّمة ؟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صنع القرا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صنع المديرون القرارات بشكل يومي ويعني ذلك تحديد المشاكل ووضع خطة لحلِّ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قياد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قيادة هي أهم وأصعب ما يقوم به المدير. و هي تعني تحفيز المرؤوسين و التواصل السليم معهم و خلق مناخ عمل بنّ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رق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قابة هي آخر مراحل العملية الإدارية وتعني التحقق من الوصول إلى الأهداف المرسومة و تحليل النتائج و وضع مقترحات لتحسين أداء المنظّ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أدوار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نقسم أدوار المدير إلى ثلاثة 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معلوما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دوار المدير الشخص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مثل ل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حلقة اتّ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 المعلوما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باحث عن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ر كموصل ل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تصل مع الأطراف 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8487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با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خصص ل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عامل مع الاختل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فاوض مع العمّ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مهار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روبرت كاتز هذه المهارات إلى ثلاثة أقس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ستغلال المعارف و الخبرات الشخصية للتميز في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إنسا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تعلقة بقدرات القيادة و التأثير في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ك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القدرة على رؤية المنظمة كمجموعة متكاملة و التحليل السليم لمختلف المشاكل التي تمر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895480"/>
            <a:ext cx="7543800" cy="22100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ُنظَّمة هي تركيبة أو مجموعة من الأفراد يعملون مع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بِتقسيم مُعيَّن للعمل بغرض تحقيق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Arial"/>
              </a:rPr>
              <a:t>هدف مشتر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جريفين هذه المهارات إلى نوعين: تشخيصية و تحل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شخيص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قدرة المدير على تشخيص و فهم مختلف الأوضاع التي تمر بها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حلي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لتعمّق في تحليل المشاكل و الإلمام بمختلف جوانبها و الربط بين هذه الجوان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نظريّات الإدارة: المداخل التقلي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و البي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شير البيئة  إلى مجموعة القوى و الظروف المحيطة بالمنظّ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تؤثر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ختلف عناصر البيئة في عمل 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ون مطالبون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تحلي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كافّة عوامل البيئة و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ستشراف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أثير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عناصر البيئ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عامّ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مباش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دّاخ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العامّ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قتصا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جتماعية والثق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 التكن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سياسية القان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دولي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طبي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Arial"/>
              </a:rPr>
              <a:t>البيئة المباش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نافس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ورّد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قرض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تّحادات ال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كاتب التوظ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أجهزة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داخلية أو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تميز كل منظمة عن غيرها بثقافتها الس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ني ثقافة المنظّمة مجموعة المعتقدات و القيم المشتركة التي تُشعِرُ الموظّفين أنهم ينتمون إلى منظّمة واح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ؤثر هذه الثقافة بشكل مباشر في سلوك الأفراد و اتّجاهاتهم و كذلك في درجة نجاح المنظمة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بر ثقافة المنظمة عامل نجاح و تلاحم بين أفرا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حيانا تقوم الإدارة العليا بتغيير ثقافة المنظمة و ذلك تماشيا مع تغيير استراتيج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م هذا التغيير عبر خمس خط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طوات 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شخيص الثقافة الحالية للمنظّمة و تحديد ما يتماشى و ما لا يتماشى مع تطلعاتها المستقب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حديد الوسائل المختلفة لنقل الثقافة داخل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ستخدام الفرص المتاحة لإحداث تغيرات تدريجية و تراك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تفويض المديرين لأخذ القرار بأنف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لتحقق من التزام الجميع بالثقافة المطلو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مُخرَجات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تجات استهلاكية و صن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تعل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الضيا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ثقا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المُنظَّ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صان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جامعات و المدا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كاتب استش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كت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هداف الفص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إلى أهمّيّة عملي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المفاهيم الخاصّة بوظيف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ّف على أنواع التخطيط و مستو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صنيف 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838188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هو عمليّة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وضع الأهدا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تحديد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ا يجب القي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ه لإنجاز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لال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فترة زمنيّة محدّ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ضمن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عطيات و ظروف محدّ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الخصائص الثلاث للتّ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81080"/>
            <a:ext cx="739152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توقّعي و مستقبلِي بطبيع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657600"/>
            <a:ext cx="7391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ُترجَم بجملة من القر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257800"/>
            <a:ext cx="739152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ركّزُ على الأهداف المستقبلية المرغو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ّ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عد هذا الفصل ستكون قادرا عل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عريف مفهوم 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إدراك أهمّيّة التّنظيم ل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عرفة القواعد الأساسيّة لعمليّة التّ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الهياكل التنظيميّة و العناصر المكوّنة 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مثّل التّنظيم الوظيفة </a:t>
            </a: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ثانية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 وظائف الإد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، إذ بمجرد وضع الخطط يقوم 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مهمّة تنظيم و ترتيب مدخلات المشر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شكل ملائم و بغرض تنفيذ الخطط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و الاستخدام  المنظم للمصادر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لذي يحقق أعلى قدر من ربط المه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وحدات ببعضها ( التنسيق ) بعلاقات ثابت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ين جميع الأنشطة دون تغيير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صائص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جود هدف مشترك لكلّ أعضاء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رمية السل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سيم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نسيق العمل و الجهو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ff"/>
                </a:solidFill>
                <a:uFillTx/>
                <a:latin typeface="Arial"/>
              </a:rPr>
              <a:t>تعتمد فعالية البناء التنظيمي ع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لبسا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ال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يوضح العلاقة بي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السلطة + المسئ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تسلسل الأوام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( حقوق + واج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مرونة التنظيم وقدرته على مواكبة تغيرات البيئ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أنواع المنظّ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35053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 M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ث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3581280" cy="4191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غير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ؤسسات رعاية الأي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همّيّة وظيفة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كيز الجهود لربط الأنشطة ب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ساعدة في القيام ببقية الوظائف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ضيح كيفية تدفّق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قنوات الاتّصال داخل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جيه جهود الأفراد بما يحقق الفاعلية و ال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جنب الازدواجية في العمل و تعارض المهام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بادئ الت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سلسل السلط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وحدة الهد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كافؤ السلطة + 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ثبات المسئول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ا تفوض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أمام رئي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حاسب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على الصلاحيات الممنوحة 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مساهمته في تحقيق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وحدة الاتج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رئيس معين يرأس مجموعة من الإفراد الذين يؤدون عمل معي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هي (( الأعمال والأنشطة الملزم القيام بها من قب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عضو التنظي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372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السلط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القوة أو الحق الممنوح للشخص ( للقيام بالمهام + إصدارا لأوامر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فهم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بد من قبول المرؤوسين للأوامر وليتم ذلك لابد من   تحقق أهداف التنظيم فق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# تتعارض مع أهداف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قادرين على تنفيذه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استخدام قنوات رسم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اتصال مباش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حتى يضمن المدير طاعة المرؤوسين لابد من   الأوامر تصدر من جهة واح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"""   لتحقيق أهداف التنظ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المدير لدية قدرات + مهار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1125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التخص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ل وحدة تقوم بعمل محدد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إتقان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هولة التدر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lt;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gt; الإنتا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وحدة الأمر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يتلقى الفرد  ( الأوامر + يرفع التقارير ) من وإلى جهة واحد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تفويض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هي (( منح سلطة من مستوى أعلى إلى الأدنى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مسئولية # تفو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سلطة تفوض ويبقى الرئيس مسئول عن كل م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كلف به الغ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197000"/>
            <a:ext cx="1081080" cy="1368360"/>
          </a:xfrm>
          <a:prstGeom prst="ellipse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وائ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435640" y="126828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579640" y="170028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51640" y="1916280"/>
            <a:ext cx="100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79640" y="191628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تفوي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سباب استخدام التفويض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جاز عمل أكث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خفيف العبء علي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يتفرغ لـــ ( التخطيط + رسم السياسات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برة بعض المرؤوسين أكثر من رؤسائه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دريب للعاملين لشغل المراكز القياد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ناء روح الفريق + تسهيل اتخاذ القر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يو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مبالغة في التفويض              فلت زمام الأمور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في حالة الخطأ يصعب  تحديد المسئولية + التصحي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صعوبة التأكد من مطابقة التنفيذ للخط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3528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قسيم العم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هو(توزيع الأنشطة اللازمة لهذا العمل بين مجموعة من الأفر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مزايا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 )التخصص يزيد الخب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ب ) توفير الوقت ( الموظف يقوم بعمل مخصص # كل الأعم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ج) التركيز ---- يسهل العم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زيد الإ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طاق الإشرا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نطاق ( السيطرة / السلطة / التمكن / المسئولية 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هو ( عدد المرؤوسين الذين يشرف عليهم المدير بفاعلي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&gt; العدد     &gt; نطاق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&lt; العدد     &lt;   ""     """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شراف المدير على عدد قلي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در لقدرا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""""    """    ""   عدد أكب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تناقص فعاليته على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أثير نطاق الإشراف على كفاءة التنظي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ضاق نطاق الإشراف                 يزيد عدد  المستوي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859280" y="530064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2464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إدارة هي عملية الاستغلال المحكم لِكافة موارد المنظمة بالتخطيط و 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صنع القرار و القيادة و الرقابة بغرض إنجاز أهداف المنظمة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بكفاء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فاع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09680"/>
            <a:ext cx="22860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علوم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09680"/>
            <a:ext cx="259092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عملية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دة و صنع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220968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حقيق الأهد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ع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43240" y="4038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2840" y="4038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ما هي أهداف 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وظيف الأمثل لموارد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النتائج المرسومة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ب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ضمان ديمومة المنظمة و الرفع من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قدرتها التنا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فع المستمر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لحصة المؤسسة من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05:15:58Z</dcterms:created>
  <dc:creator>Administrator</dc:creator>
  <dc:description/>
  <dc:language>en-US</dc:language>
  <cp:lastModifiedBy>Ahmad</cp:lastModifiedBy>
  <dcterms:modified xsi:type="dcterms:W3CDTF">2011-05-16T11:12:30Z</dcterms:modified>
  <cp:revision>65</cp:revision>
  <dc:subject/>
  <dc:title>مبادئ إدارة الأعمال</dc:title>
</cp:coreProperties>
</file>