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9FF-C0E1-43D2-A702-3FECC4DC6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008A-0FE3-4111-92E6-D0BC54EC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E2D3-F6AB-4DE3-83A7-CDE4472A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314-43A1-4623-BB8F-74B3C540C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409B-5DCF-4801-9FCA-486A528C5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309-5780-43C9-A729-9D75E65B1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99A1-4CF5-4C14-A295-0050A3B6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2266-3F06-4F12-8FBA-F7CBC057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97B9-3C7D-4590-8D0D-F568AD50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888-2FB9-435E-A338-D3C5ABED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4F66-5063-483E-AAF6-63690AA5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C791-CA66-4547-9702-3B88319B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C7F1-7542-489D-AA7F-FDE0AD400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. أحمد عباب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Ahmad</cp:lastModifiedBy>
  <dcterms:modified xsi:type="dcterms:W3CDTF">2011-05-16T11:12:30Z</dcterms:modified>
  <cp:revision>65</cp:revision>
  <dc:subject/>
  <dc:title>مبادئ إدارة الأعمال</dc:title>
</cp:coreProperties>
</file>