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9D19-8437-42FF-AE2D-416DDA36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4797-3021-4C47-9895-24C4BDC0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C9AF-E0BE-404B-920E-D48F7101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D559-50AA-4182-8118-3E492BE7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7E95-8CFA-4107-BD13-46EA2ED1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A1C-F15D-4CF1-A374-11CEC64F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A1BD-5AAB-4AD2-9C3F-EE6A7621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4358-932C-48D4-8FAA-908BB863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E9A7-719D-46BE-B806-40DD93DC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1641-982B-4F32-ABC3-08C3F2F6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D7F3-8D65-42EB-A18D-95B83D1F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C54F-DDED-410B-AE14-B42CE1AF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CBB8-4FD2-4EB8-959E-A07F4B2E0D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مفهوم الإدا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3880" y="324648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همُّ المصطلحات المتعلقة بالإدا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فعالي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ectivenes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درة على اختيار الأهداف و تحقيق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صائص الأهداف الجيد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حد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قابلة للقي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واق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حددة زمنيًّ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مثال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الرفع من حصة المؤسسة من السوق إلى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% في حدود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 ديسمبر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فاء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icienc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ني تحقيق أهداف المؤسسة مع الاستخدام الأمثل للمدخ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كفء هو الذي يحقق أفضل النتائج مع التحكم الجيد في كلفة الإنتا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قدرة التنافسية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eti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ي قدرة المؤسسة على خلق مجموعة أسلحة تنافس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competitive 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طويلة الأمد تسمح لها بالتفاعل بمهارة مع خطط منافسيها في السو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حصة السوق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rket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15328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هو حجم مبيعات المؤسسة مقارنة بالحجم الإجمالي لمبيعات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3880" y="32464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ل الإدارة فنٌّ أم عِلمٌ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كعِلم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ستند الإدارة إلى نظريات علمية متراكمة و تستخدم بطريقة فعالة أساليب رياضية و إحصائية و اقتصاد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مد الإدارة الحديثة على أحدث التطبيقات الالكترونية و على علم الحا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مد الإدارة الحديثة على نظريات عميقة في علم النفس و علم الاجتماع و على علم الأعصاب ( توجد التطبيقات خاصة في علم التسويق و علم الموارد البشري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تبع المدير منهجا علميا في أداء عمله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كف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تبر الإدارة فنًّا بحكم أنها تحتاج مهاراتٍ قيادية لا تخضع لمنطق العلو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تّخاذ القرارات يخضع أيضًا إلى الحدس أي الحاسّة السّادسة لدى المد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دارة عدد كبير من الموارد كما إدارة الوقت تتطلب كفاءاتٍ و مهاراتٍ هي أقرب إلى الفنِّ منها إلى العل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he manager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094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بعد هذا الدر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ستكون قادرًا على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على مصطلح 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مييز بين أنواع المديرين و مهامّ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بعد هذا الدر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ستكون قادرًا على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فهم مصطلح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فهم مصطلح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على أهداف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ديد ماهية الإدارة: عِلمٌ أم فنٌّ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التعرف على مصطلح 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مييز بين أنواع المديرين و مهامّ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مدير</a:t>
            </a:r>
            <a:br>
              <a:rPr sz="40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he manage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هو فرد من أفراد المنظّمة تكون له مهمة الإشراف على التخطيط و التنظيم و صنع القرار و القيادة و الرقابة على أداء الموارد البشر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مسئول عن بلوغ مستوى مرتفع من الأداء من خلال الاستغلال الأمثل لجميع موارد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هو أي فرد يكون مسئولا عن إدارة موارد المؤسس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المكونات الأساسية لتعريف المدير </a:t>
            </a:r>
            <a:br>
              <a:rPr sz="3600"/>
            </a:b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حسب الخشروم و موسى (</a:t>
            </a: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2005</a:t>
            </a: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828800"/>
            <a:ext cx="739152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عمل مع و من خلال الآخر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971800"/>
            <a:ext cx="739152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قيام بالوظائف الإدا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3962520"/>
            <a:ext cx="7391520" cy="10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استخدام الأمثل للموارد المت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5257800"/>
            <a:ext cx="739152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إنجاز أهداف المنظمة بفعالية و كف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تصنيف المديرين وفق المستوى الإد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2209680"/>
            <a:ext cx="29718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مدير الإدارة العل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رئيس مدير عام، مدير ع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وضع رسالة المنظّمة و رؤيت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وضع استراتيجية المؤسس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أنشطة المستوى الثان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2209680"/>
            <a:ext cx="3429000" cy="365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مدير الإدارة الوسط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تحملون مسؤولية تنفيذ سياس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وضعتها الإدارة العل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أنشطة المستوى الثال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209680"/>
            <a:ext cx="25146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000" spc="-1" strike="noStrike" u="sng">
                <a:solidFill>
                  <a:srgbClr val="000000"/>
                </a:solidFill>
                <a:uFillTx/>
                <a:latin typeface="Arial"/>
              </a:rPr>
              <a:t>مدير المستوى الإشرافي الأوّ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شرف، مدير مكت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عمال التشغ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مجالات الإدا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تسوي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موارد البش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ما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إنتاج أو العمل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إدا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مشتر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نطاق الأنش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وظيفي: مسئول عن نشاط تنظيمي واح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عام: فرد مشرف على كل الأنش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نوع المسؤو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تنفيذي: مدير الإنتاج مث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استشاري: يقدم خدمات مساعدة و مساندة للمدير التنفيذ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لوظائف و الأدوار و المهارات الإد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68580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وظائف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صنع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قيا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رقا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تخطي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عني التخطيط تحديد أهداف المنظمة بكل دقة و تقرير أنجع الطرق لإنجاز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ت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عني وضع هيكل تنظيمي يتم بموجبه تقسيم العمل بين الأقسام و الأفراد و وضع علاقات السلطة و التنسيق بين الأفراد و الوحد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14600" y="3246480"/>
            <a:ext cx="3962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000000"/>
                </a:solidFill>
                <a:latin typeface="Arial"/>
              </a:rPr>
              <a:t>المُنظَّمة ؟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صنع القرا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صنع المديرون القرارات بشكل يومي ويعني ذلك تحديد المشاكل ووضع خطة لحلِّ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قياد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يادة هي أهم وأصعب ما يقوم به المدير. و هي تعني تحفيز المرؤوسين و التواصل السليم معهم و خلق مناخ عمل بنّا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رقاب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رقابة هي آخر مراحل العملية الإدارية وتعني التحقق من الوصول إلى الأهداف المرسومة و تحليل النتائج و وضع مقترحات لتحسين أداء المنظّ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3880" y="3246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أدوار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المد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نقسم أدوار المدير إلى ثلاثة أقس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شخص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معلومات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صنع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أدوار المدير الشخصي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ممثل ل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قائ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حلقة اتّ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المدير المعلوما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باحث عن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ر كموصل ل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متصل مع الأطراف الخار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صنع القر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78487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باد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مخصص للموا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تعامل مع الاختلا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فاوض مع العمّ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3880" y="3246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مهارات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قسي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سم روبرت كاتز هذه المهارات إلى ثلاثة أقسا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فن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هي القدرة على استغلال المعارف و الخبرات الشخصية للتميز في العم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إنسان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تعلقة بقدرات القيادة و التأثير في الآ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فكر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تعني القدرة على رؤية المنظمة كمجموعة متكاملة و التحليل السليم لمختلف المشاكل التي تمر ب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مُنظَّمة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rganization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2895480"/>
            <a:ext cx="7543800" cy="221004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ُنظَّمة هي تركيبة أو مجموعة من الأفراد يعملون معً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بِتقسيم مُعيَّن للعمل بغرض تحقيق </a:t>
            </a:r>
            <a:r>
              <a:rPr b="1" lang="hi-IN" sz="2800" spc="-1" strike="noStrike" u="sng">
                <a:solidFill>
                  <a:srgbClr val="ff0000"/>
                </a:solidFill>
                <a:uFillTx/>
                <a:latin typeface="Arial"/>
              </a:rPr>
              <a:t>هدف مشتر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قسي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f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سم جريفين هذه المهارات إلى نوعين: تشخيصية و تحل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مهارات التشخيص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تعني قدرة المدير على تشخيص و فهم مختلف الأوضاع التي تمر بها ال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مهارات التحلي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هي القدرة على التعمّق في تحليل المشاكل و الإلمام بمختلف جوانبها و الربط بين هذه الجوانب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نظريّات الإدارة: المداخل التقليد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و البيئ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شير البيئة  إلى مجموعة القوى و الظروف المحيطة بالمنظّ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تؤثر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ختلف عناصر البيئة في عمل  ال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ون مطالبون </a:t>
            </a: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بتحلي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كافّة عوامل البيئة و </a:t>
            </a: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ستشراف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أثير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عناصر البيئ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عامّ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مباش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دّاخ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773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 العامّ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اقتصاد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اجتماعية والثقا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 التكنولو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سياسية القانو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دولية العال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طبي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Arial"/>
              </a:rPr>
              <a:t>البيئة المباشر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نافس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ورّد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ع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قرض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تّحادات العم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كاتب التوظ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أجهزة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 </a:t>
            </a: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داخلية أو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تميز كل منظمة عن غيرها بثقافتها السائ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ني ثقافة المنظّمة مجموعة المعتقدات و القيم المشتركة التي تُشعِرُ الموظّفين أنهم ينتمون إلى منظّمة واح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ؤثر هذه الثقافة بشكل مباشر في سلوك الأفراد و اتّجاهاتهم و كذلك في درجة نجاح المنظمة في السو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بر ثقافة المنظمة عامل نجاح و تلاحم بين أفراد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تغيير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أحيانا تقوم الإدارة العليا بتغيير ثقافة المنظمة و ذلك تماشيا مع تغيير استراتيجي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تم هذا التغيير عبر خمس خطو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خطوات تغيير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تشخيص الثقافة الحالية للمنظّمة و تحديد ما يتماشى و ما لا يتماشى مع تطلعاتها المستقب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تحديد الوسائل المختلفة لنقل الثقافة داخل ا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استخدام الفرص المتاحة لإحداث تغيرات تدريجية و تراك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تفويض المديرين لأخذ القرار بأنف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التحقق من التزام الجميع بالثقافة المطلو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مُنظَّمة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rganization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مُخرَجاته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نتجات استهلاكية و صناع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تعلي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الضياف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ثقا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المُنظَّ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صان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جامعات و المدار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كاتب استش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كت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وظيفة التخطي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هداف الفصل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إلى أهمّيّة عملية 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ديد المفاهيم الخاصّة بوظيفة 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ّف على أنواع التخطيط و مستوي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صنيف 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تخطي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362320"/>
            <a:ext cx="8381880" cy="19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خطيط هو عمليّة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وضع الأهداف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 تحديد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ما يجب القيام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به لإنجاز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خلال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فترة زمنيّة محدّد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 ضمن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معطيات و ظروف محدّ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الخصائص الثلاث للتّخطي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1981080"/>
            <a:ext cx="739152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خطيط توقّعي و مستقبلِي بطبيع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3657600"/>
            <a:ext cx="7391520" cy="1371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ُترجَم بجملة من القر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5257800"/>
            <a:ext cx="739152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ركّزُ على الأهداف المستقبلية المرغو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وظيفة التّنظ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بعد هذا الفصل ستكون قادرا عل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عريف مفهوم الت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إدراك أهمّيّة التّنظيم ل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عرفة القواعد الأساسيّة لعمليّة التّ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حديد الهياكل التنظيميّة و العناصر المكوّنة 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ff"/>
                </a:solidFill>
                <a:latin typeface="Arial"/>
              </a:rPr>
              <a:t>التّنظيم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590920"/>
            <a:ext cx="7467480" cy="3200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مثّل التّنظيم الوظيفة </a:t>
            </a:r>
            <a:r>
              <a:rPr b="1" lang="hi-IN" sz="2800" spc="-1" strike="noStrike" u="sng">
                <a:solidFill>
                  <a:srgbClr val="000000"/>
                </a:solidFill>
                <a:uFillTx/>
                <a:latin typeface="Arial"/>
              </a:rPr>
              <a:t>الثانية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ن وظائف الإدا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، إذ بمجرد وضع الخطط يقوم المد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بمهمّة تنظيم و ترتيب مدخلات المشر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بشكل ملائم و بغرض تنفيذ الخطط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ff"/>
                </a:solidFill>
                <a:latin typeface="Arial"/>
              </a:rPr>
              <a:t>التّنظيم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590920"/>
            <a:ext cx="7467480" cy="3200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هو الاستخدام  المنظم للمصادر المت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الذي يحقق أعلى قدر من ربط المه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الوحدات ببعضها ( التنسيق ) بعلاقات ثابت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ين جميع الأنشطة دون تغيير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خصائص التّ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924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جود هدف مشترك لكلّ أعضاء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هرمية السل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قسيم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نسيق العمل و الجهود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ff"/>
                </a:solidFill>
                <a:uFillTx/>
                <a:latin typeface="Arial"/>
              </a:rPr>
              <a:t>تعتمد فعالية البناء التنظيمي عل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البسا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الأقس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يوضح العلاقة بي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السلطة + المسئو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تسلسل الأوام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( حقوق + واجبات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مرونة التنظيم وقدرته على مواكبة تغيرات البيئ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أنواع المنظّ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1676520"/>
            <a:ext cx="3505320" cy="4114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ظّمة ذات هدف رِبح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ر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ll M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عث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600200"/>
            <a:ext cx="3581280" cy="4191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ظّمة ذات هدف غير رِبح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ؤسسات رعاية الأي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لية المجتمع بالر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 pe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أهمّيّة وظيفة التّ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ركيز الجهود لربط الأنشطة ب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مساعدة في القيام ببقية الوظائف الإد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وضيح كيفية تدفّق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حديد قنوات الاتّصال داخل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وجيه جهود الأفراد بما يحقق الفاعلية و الكفاء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جنب الازدواجية في العمل و تعارض المهام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مبادئ التنظ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تسلسل السلط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وحدة الهد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تكافؤ السلطة + المسئو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ثبات المسئولي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لا تفوض 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أمام رئيس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محاسب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على الصلاحيات الممنوحة 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مساهمته في تحقيق الأهدا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وحدة الاتجا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رئيس معين يرأس مجموعة من الإفراد الذين يؤدون عمل معي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مسئو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هي (( الأعمال والأنشطة الملزم القيام بها من قبل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عضو التنظي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372000" y="342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السلط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القوة أو الحق الممنوح للشخص ( للقيام بالمهام + إصدارا لأوامر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فهم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لابد من قبول المرؤوسين للأوامر وليتم ذلك لابد من   تحقق أهداف التنظيم فق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# تتعارض مع أهدافه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قادرين على تنفيذها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استخدام قنوات رسمي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اتصال مباش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حتى يضمن المدير طاعة المرؤوسين لابد من   الأوامر تصدر من جهة واحد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"""   لتحقيق أهداف التنظي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المدير لدية قدرات + مهار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اتص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1125360"/>
            <a:ext cx="0" cy="15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3573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 التخصص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كل وحدة تقوم بعمل محدد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 إتقان ال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سهولة التدري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&lt;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&gt; الإنتا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وحدة الأمر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يتلقى الفرد  ( الأوامر + يرفع التقارير ) من وإلى جهة واحدة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التفويض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هي (( منح سلطة من مستوى أعلى إلى الأدنى 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المسئولية # تفو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السلطة تفوض ويبقى الرئيس مسئول عن كل ما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كلف به الغي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59640" y="1197000"/>
            <a:ext cx="1081080" cy="1368360"/>
          </a:xfrm>
          <a:prstGeom prst="ellipse">
            <a:avLst/>
          </a:prstGeom>
          <a:gradFill rotWithShape="0">
            <a:gsLst>
              <a:gs pos="0">
                <a:srgbClr val="750075"/>
              </a:gs>
              <a:gs pos="100000">
                <a:srgbClr val="ff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فوائ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5435640" y="126828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579640" y="170028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51640" y="1916280"/>
            <a:ext cx="10080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579640" y="1916280"/>
            <a:ext cx="1079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لتفوي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سباب استخدام التفويض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نجاز عمل أكث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خفيف العبء علي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يتفرغ لـــ ( التخطيط + رسم السياسات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برة بعض المرؤوسين أكثر من رؤسائه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دريب للعاملين لشغل المراكز القياد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بناء روح الفريق + تسهيل اتخاذ القرار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عيوب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المبالغة في التفويض              فلت زمام الأمور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في حالة الخطأ يصعب  تحديد المسئولية + التصحي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صعوبة التأكد من مطابقة التنفيذ للخط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635280" y="465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تقسيم العمل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هو(توزيع الأنشطة اللازمة لهذا العمل بين مجموعة من الأفرا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مزايا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أ )التخصص يزيد الخبر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ب ) توفير الوقت ( الموظف يقوم بعمل مخصص # كل الأعما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ج) التركيز ---- يسهل العم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زيد الإنتا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طاق الإشراف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: نطاق ( السيطرة / السلطة / التمكن / المسئولية 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هو ( عدد المرؤوسين الذين يشرف عليهم المدير بفاعلية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&gt; العدد     &gt; نطاق الإشرا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                       &lt; العدد     &lt;   ""     """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إشراف المدير على عدد قلي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هدر لقدرات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""""    """    ""   عدد أكبر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تناقص فعاليته على الإشرا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أثير نطاق الإشراف على كفاءة التنظي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إذا ضاق نطاق الإشراف                 يزيد عدد  المستويات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859280" y="530064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الإدارة 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324648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إدارة هي عملية الاستغلال المحكم لِكافة موارد المنظمة بالتخطيط و التنظ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صنع القرار و القيادة و الرقابة بغرض إنجاز أهداف المنظمة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بكفاء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فاع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الإدارة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2209680"/>
            <a:ext cx="22860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المدخ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بش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ا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ا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علومات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209680"/>
            <a:ext cx="2590920" cy="365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عملية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خطي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نظ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قيادة و صنع الق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رقا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209680"/>
            <a:ext cx="220968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تحقيق الأهد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كف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فعا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943240" y="40384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2840" y="403848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ما هي أهداف الإدارة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وظيف الأمثل لموارد ا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قيق النتائج المرسومة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بكفاء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قيق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الفع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ضمان ديمومة المنظمة و الرفع من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قدرتها التناف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رفع المستمر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لحصة المؤسسة من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05:15:58Z</dcterms:created>
  <dc:creator>Administrator</dc:creator>
  <dc:description/>
  <dc:language>en-US</dc:language>
  <cp:lastModifiedBy>Firas</cp:lastModifiedBy>
  <dcterms:modified xsi:type="dcterms:W3CDTF">2011-05-18T11:08:43Z</dcterms:modified>
  <cp:revision>65</cp:revision>
  <dc:subject/>
  <dc:title>مبادئ إدارة الأعمال</dc:title>
</cp:coreProperties>
</file>