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5B3-E653-49D2-8B28-4D17E557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E5E-DCF1-4C67-A972-8CD27EDF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557-731B-4640-9F77-FD1B347F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BC4-4F8C-485C-92A9-7B93F4BB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ECE-9405-411A-8DCB-63883457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2AD-7DA4-4BF9-BE1C-90C1E034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66C-AB93-40F4-BDF6-D6CB7A9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640-0B41-48E6-91D6-A755F579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20F-2D10-44F2-870A-6A8517C4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452-33FE-40E4-A35E-94DC8AB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4E5-0DD3-426A-AD1D-D266B89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240-2A05-4234-BADC-11C1222B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4E64-FC6F-484A-9E86-9D468D7E08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ءا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نظريّات الإدارة: المداخل التقلي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و البي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شير البيئة  إلى مجموعة القوى و الظروف المحيطة بالمنظّ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تؤثر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ختلف عناصر البيئة في عمل 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ون مطالبون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تحلي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كافّة عوامل البيئة و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شراف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أثير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عناصر البيئ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عام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مباش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دّاخ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العامّ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قتصا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جتماعية والثق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سياسية القان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دولي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طبي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</a:rPr>
              <a:t>البيئة المباش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ناف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ورّد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قرض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تّحادات ال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كاتب التوظ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جهزة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داخلية أو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تميز كل منظمة عن غيرها بثقافتها الس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ني ثقافة المنظّمة مجموعة المعتقدات و القيم المشتركة التي تُشعِرُ الموظّفين أنهم ينتمون إلى منظّمة 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ؤثر هذه الثقافة بشكل مباشر في سلوك الأفراد و اتّجاهاتهم و كذلك في درجة نجاح المنظمة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بر ثقافة المنظمة عامل نجاح و تلاحم بين أفرا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حيانا تقوم الإدارة العليا بتغيير ثقافة المنظمة و ذلك تماشيا مع تغيير استراتيج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م هذا التغيير عبر خمس خط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طوات 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شخيص الثقافة الحالية للمنظّمة و تحديد ما يتماشى و ما لا يتماشى مع تطلعاتها المستقب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حديد الوسائل المختلفة لنقل الثقافة داخل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ستخدام الفرص المتاحة لإحداث تغيرات تدريجية و تراك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تفويض المديرين لأخذ القرار بأنف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لتحقق من التزام الجميع بالثقافة المطل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هداف الفص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إلى أهمّيّة عملي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المفاهيم الخاصّة بوظيف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ّف على أنواع التخطيط و مستو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صنيف 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838188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خطيط هو عمليّة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ضع الأهداف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تحديد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ا يجب القيام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به لإنجاز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لال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فترة زمنيّة محدّد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ضمن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عطيات و ظروف محدّ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الخصائص الثلاث للتّ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739152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توقّعي و مستقبلِي بطبيع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657600"/>
            <a:ext cx="7391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ُترجَم بجملة من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257800"/>
            <a:ext cx="739152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ركّزُ على الأهداف المستقبلية المرغو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ّ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عد هذا الفصل ستكون قادرا عل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ريف مفهوم 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إدراك أهمّيّة التّنظيم ل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عرفة القواعد الأساسيّة لعمليّة التّ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الهياكل التنظيميّة و العناصر المكوّنة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مثّل التّنظيم الوظيفة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ثانية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 وظائف الإد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، إذ بمجرد وضع الخطط يقوم 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مهمّة تنظيم و ترتيب مدخلات المش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شكل ملائم و بغرض تنفيذ الخطط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و الاستخدام  المنظم للمصادر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ذي يحقق أعلى قدر من ربط المه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وحدات ببعضها ( التنسيق ) بعلاقات ثابت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ين جميع الأنشطة دون تغي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صائص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جود هدف مشترك لكلّ أعضاء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رمية السل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سيم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نسيق العمل و الجهو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ff"/>
                </a:solidFill>
                <a:uFillTx/>
                <a:latin typeface="Arial"/>
              </a:rPr>
              <a:t>تعتمد فعالية البناء التنظيمي ع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بسا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ال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يوضح العلاقة بي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السلطة + المسئ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تسلسل الأو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( حقوق + واج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رونة التنظيم وقدرته على مواكبة تغيرات البيئ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همّيّة وظيفة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كيز الجهود لربط الأنشطة ب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ساعدة في القيام ببقية الوظائف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ضيح كيفية تدفّق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قنوات الاتّصال داخل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جيه جهود الأفراد بما يحقق الفاعلية و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جنب الازدواجية في العمل و تعارض المهام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بادئ الت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سلسل السلط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وحدة الهد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كافؤ السلطة + 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ثبات المسئو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ا تفوض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أمام رئي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حا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على الصلاحيات الممنوحة 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مساهمته في تحقيق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وحدة الاتج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رئيس معين يرأس مجموعة من الإفراد الذين يؤدون عمل معي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هي (( الأعمال والأنشطة الملزم القيام بها من قب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عضو التنظي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372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السلط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القوة أو الحق الممنوح للشخص ( للقيام بالمهام + إصدارا لأوامر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فهم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بد من قبول المرؤوسين للأوامر وليتم ذلك لابد من   تحقق أهداف التنظيم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# تتعارض مع أهداف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قادرين على تنفيذ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استخدام قنوات رسم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اتصال مباش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حتى يضمن المدير طاعة المرؤوسين لابد من   الأوامر تصدر من جه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"""   لتحقيق أهداف التنظ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المدير لدية قدرات + مهار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1125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التخص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وحدة تقوم بعمل محد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إتقان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هولة التدر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lt;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gt; الإنتا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وحدة الأم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يتلقى الفرد  ( الأوامر + يرفع التقارير ) من وإلى جهة واحد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تفويض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هي (( منح سلطة من مستوى أعلى إلى الأدنى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مسئولية # تفو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سلطة تفوض ويبقى الرئيس مسئول عن كل م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كلف به الغ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197000"/>
            <a:ext cx="1081080" cy="1368360"/>
          </a:xfrm>
          <a:prstGeom prst="ellipse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وائ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435640" y="126828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579640" y="170028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51640" y="1916280"/>
            <a:ext cx="100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79640" y="1916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تفوي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سباب استخدام التفويض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جاز عمل أكث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خفيف العبء علي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يتفرغ لـــ ( التخطيط + رسم السياسات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برة بعض المرؤوسين أكثر من رؤسائ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دريب للعاملين لشغل المراكز القياد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ناء روح الفريق + تسهيل اتخاذ القر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يو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مبالغة في التفويض              فلت زمام الأمور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حالة الخطأ يصعب  تحديد المسئولية + التصحي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صعوبة التأكد من مطابقة التنفيذ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3528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قسيم العم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هو(توزيع الأنشطة اللازمة لهذا العمل بين مجموعة من الأفر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زايا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 )التخصص يزيد الخ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ب ) توفير الوقت ( الموظف يقوم بعمل مخصص # كل الأعم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ج) التركيز ---- يسهل العم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زيد الإ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طاق الإشرا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نطاق ( السيطرة / السلطة / التمكن / المسئولية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هو ( عدد المرؤوسين الذين يشرف عليهم المدير بفاعلي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&gt; العدد     &gt; نطاق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&lt; العدد     &lt;   ""     """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شراف المدير على عدد قلي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در لقدرا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""""    """    ""   عدد أكب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تناقص فعاليته على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أثير نطاق الإشراف على كفاءة التنظي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ضاق نطاق الإشراف                 يزيد عدد  المستوي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59280" y="5300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Firas</cp:lastModifiedBy>
  <dcterms:modified xsi:type="dcterms:W3CDTF">2011-05-18T11:08:43Z</dcterms:modified>
  <cp:revision>65</cp:revision>
  <dc:subject/>
  <dc:title>مبادئ إدارة الأعمال</dc:title>
</cp:coreProperties>
</file>