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</p:sldIdLst>
  <p:sldSz cx="9144000" cy="6858000"/>
  <p:notesSz cx="6858000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3A0FE-596D-49A0-BCA8-606F0ABD2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B8663-53D3-4FA0-AE83-3F8097EF0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BE02E-AC86-4D32-A2A3-BC04DD329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9403B-79E0-4BD9-904F-CB618F22E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1B2D4-7D6F-4D7F-899A-091D8580A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90411-FB01-4DFF-8E55-92700A32B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6BC34-D769-443C-A28E-1F72A9694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A9108-7924-40EC-A673-AA482D953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2B45E-4937-406A-B241-CE7A1DE78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E2241-FC04-47AB-88A3-A86EA8CE7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A3E6F-1EA2-4E8E-91D6-4ED4B9C06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0EEC8-4960-44C8-B8FD-846DC2EB7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EF63C-52A5-49A8-B5E4-EA65EA4119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مبادئ إدارة الأعما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ff"/>
                </a:solidFill>
                <a:latin typeface="Arial"/>
              </a:rPr>
              <a:t>مفهوم الإدار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553080" y="304920"/>
            <a:ext cx="2133720" cy="1143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جامعة الملك سعو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كلية المجتمع بالرّيا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قسم العلوم الإدار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أ. أحمد عبابن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838080"/>
            <a:ext cx="1143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523880" y="3246480"/>
            <a:ext cx="5639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</a:rPr>
              <a:t>أهمُّ المصطلحات المتعلقة بالإدار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ff"/>
                </a:solidFill>
                <a:latin typeface="Arial"/>
              </a:rPr>
              <a:t>الفعالية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Effectiveness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قدرة على اختيار الأهداف و تحقيقها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خصائص الأهداف الجيدة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0000"/>
                </a:solidFill>
                <a:latin typeface="Arial"/>
              </a:rPr>
              <a:t>محدد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0000"/>
                </a:solidFill>
                <a:latin typeface="Arial"/>
              </a:rPr>
              <a:t>قابلة للقيا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0000"/>
                </a:solidFill>
                <a:latin typeface="Arial"/>
              </a:rPr>
              <a:t>واقع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0000"/>
                </a:solidFill>
                <a:latin typeface="Arial"/>
              </a:rPr>
              <a:t>محددة زمنيًّ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ff"/>
                </a:solidFill>
                <a:latin typeface="Arial"/>
              </a:rPr>
              <a:t>مثال: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ar-SA" sz="3200" spc="-1" strike="noStrike">
                <a:solidFill>
                  <a:srgbClr val="000000"/>
                </a:solidFill>
                <a:latin typeface="Arial"/>
              </a:rPr>
              <a:t>الرفع من حصة المؤسسة من السوق إلى </a:t>
            </a:r>
            <a:r>
              <a:rPr b="0" i="1" lang="ar-SA" sz="32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i="1" lang="ar-SA" sz="3200" spc="-1" strike="noStrike">
                <a:solidFill>
                  <a:srgbClr val="000000"/>
                </a:solidFill>
                <a:latin typeface="Arial"/>
              </a:rPr>
              <a:t>% في حدود </a:t>
            </a:r>
            <a:r>
              <a:rPr b="0" i="1" lang="ar-SA" sz="3200" spc="-1" strike="noStrike">
                <a:solidFill>
                  <a:srgbClr val="000000"/>
                </a:solidFill>
                <a:latin typeface="Arial"/>
              </a:rPr>
              <a:t>31</a:t>
            </a:r>
            <a:r>
              <a:rPr b="0" i="1" lang="ar-SA" sz="3200" spc="-1" strike="noStrike">
                <a:solidFill>
                  <a:srgbClr val="000000"/>
                </a:solidFill>
                <a:latin typeface="Arial"/>
              </a:rPr>
              <a:t> ديسمبر </a:t>
            </a:r>
            <a:r>
              <a:rPr b="0" i="1" lang="ar-SA" sz="3200" spc="-1" strike="noStrike">
                <a:solidFill>
                  <a:srgbClr val="000000"/>
                </a:solidFill>
                <a:latin typeface="Arial"/>
              </a:rPr>
              <a:t>2012</a:t>
            </a:r>
            <a:r>
              <a:rPr b="0" i="1" lang="ar-SA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الكفاءة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Efficiency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تعني تحقيق أهداف المؤسسة مع الاستخدام الأمثل للمدخلا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مدير الكفء هو الذي يحقق أفضل النتائج مع التحكم الجيد في كلفة الإنتاج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القدرة التنافسية</a:t>
            </a:r>
            <a:br>
              <a:rPr sz="4000"/>
            </a:b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ompetitive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2438280"/>
            <a:ext cx="8153280" cy="368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هي قدرة المؤسسة على خلق مجموعة أسلحة تنافسية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stainable competitive advantag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طويلة الأمد تسمح لها بالتفاعل بمهارة مع خطط منافسيها في السوق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حصة السوق</a:t>
            </a:r>
            <a:br>
              <a:rPr sz="4000"/>
            </a:b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Market sh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153280" cy="31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هو حجم مبيعات المؤسسة مقارنة بالحجم الإجمالي لمبيعات السو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1523880" y="3246480"/>
            <a:ext cx="5257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</a:rPr>
              <a:t>هل الإدارة فنٌّ أم عِلمٌ 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4400" spc="-1" strike="noStrike">
                <a:solidFill>
                  <a:srgbClr val="0000ff"/>
                </a:solidFill>
                <a:latin typeface="Arial"/>
              </a:rPr>
              <a:t>الإدارة كعِلم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تستند الإدارة إلى نظريات علمية متراكمة و تستخدم بطريقة فعالة أساليب رياضية و إحصائية و اقتصادي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تعتمد الإدارة الحديثة على أحدث التطبيقات الالكترونية و على علم الحاس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تعتمد الإدارة الحديثة على نظريات عميقة في علم النفس و علم الاجتماع و على علم الأعصاب ( توجد التطبيقات خاصة في علم التسويق و علم الموارد البشرية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يتبع المدير منهجا علميا في أداء عمله.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4400" spc="-1" strike="noStrike">
                <a:solidFill>
                  <a:srgbClr val="0000ff"/>
                </a:solidFill>
                <a:latin typeface="Arial"/>
              </a:rPr>
              <a:t>الإدارة كف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تعتبر الإدارة فنًّا بحكم أنها تحتاج مهاراتٍ قيادية لا تخضع لمنطق العلوم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تّخاذ القرارات يخضع أيضًا إلى الحدس أي الحاسّة السّادسة لدى المدير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إدارة عدد كبير من الموارد كما إدارة الوقت تتطلب كفاءاتٍ و مهاراتٍ هي أقرب إلى الفنِّ منها إلى العلم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مبادئ إدارة الأعما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المدي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The manager</a:t>
            </a:r>
            <a:r>
              <a:rPr b="1" lang="ar-SA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553080" y="304920"/>
            <a:ext cx="2133720" cy="1143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Arial"/>
              </a:rPr>
              <a:t>جامعة الملك سعو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Arial"/>
              </a:rPr>
              <a:t>كلية المجتمع بالرّيا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Arial"/>
              </a:rPr>
              <a:t>قسم العلوم الإدار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Arial"/>
              </a:rPr>
              <a:t>د. نزار منصو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33520" y="609480"/>
            <a:ext cx="990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0000"/>
                </a:solidFill>
                <a:latin typeface="Arial"/>
              </a:rPr>
              <a:t>بعد هذا الدرس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4400" spc="-1" strike="noStrike">
                <a:solidFill>
                  <a:srgbClr val="ff0000"/>
                </a:solidFill>
                <a:latin typeface="Arial"/>
              </a:rPr>
              <a:t>ستكون قادرًا على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التعرف على مصطلح المدي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التمييز بين أنواع المديرين و مهامّه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0000"/>
                </a:solidFill>
                <a:latin typeface="Arial"/>
              </a:rPr>
              <a:t>بعد هذا الدرس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4400" spc="-1" strike="noStrike">
                <a:solidFill>
                  <a:srgbClr val="ff0000"/>
                </a:solidFill>
                <a:latin typeface="Arial"/>
              </a:rPr>
              <a:t>ستكون قادرًا على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فهم مصطلح المنظّم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فهم مصطلح الإدار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التعرف على أهداف الإدار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تحديد ماهية الإدارة: عِلمٌ أم فنٌّ 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التعرف على مصطلح المدي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التمييز بين أنواع المديرين و مهامّه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ff"/>
                </a:solidFill>
                <a:latin typeface="Arial"/>
              </a:rPr>
              <a:t>المدير</a:t>
            </a:r>
            <a:br>
              <a:rPr sz="4000"/>
            </a:b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The manager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مدير هو فرد من أفراد المنظّمة تكون له مهمة الإشراف على التخطيط و التنظيم و صنع القرار و القيادة و الرقابة على أداء الموارد البشري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مدير مسئول عن بلوغ مستوى مرتفع من الأداء من خلال الاستغلال الأمثل لجميع مواردها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مدير هو أي فرد يكون مسئولا عن إدارة موارد المؤسس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ff"/>
                </a:solidFill>
                <a:latin typeface="Arial"/>
              </a:rPr>
              <a:t>المكونات الأساسية لتعريف المدير </a:t>
            </a:r>
            <a:br>
              <a:rPr sz="3600"/>
            </a:br>
            <a:r>
              <a:rPr b="1" i="1" lang="ar-SA" sz="2800" spc="-1" strike="noStrike">
                <a:solidFill>
                  <a:srgbClr val="ff0000"/>
                </a:solidFill>
                <a:latin typeface="Arial"/>
              </a:rPr>
              <a:t>حسب الخشروم و موسى (</a:t>
            </a:r>
            <a:r>
              <a:rPr b="1" i="1" lang="ar-SA" sz="2800" spc="-1" strike="noStrike">
                <a:solidFill>
                  <a:srgbClr val="ff0000"/>
                </a:solidFill>
                <a:latin typeface="Arial"/>
              </a:rPr>
              <a:t>2005</a:t>
            </a:r>
            <a:r>
              <a:rPr b="1" i="1" lang="ar-SA" sz="28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14400" y="1828800"/>
            <a:ext cx="7391520" cy="9907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العمل مع و من خلال الآخري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914400" y="2971800"/>
            <a:ext cx="7391520" cy="8380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القيام بالوظائف الإدار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914400" y="3962520"/>
            <a:ext cx="7391520" cy="10666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الاستخدام الأمثل للموارد المتاح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5257800"/>
            <a:ext cx="7391520" cy="8380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إنجاز أهداف المنظمة بفعالية و كفاء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ff"/>
                </a:solidFill>
                <a:latin typeface="Arial"/>
              </a:rPr>
              <a:t>تصنيف المديرين وفق المستوى الإدار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172200" y="2209680"/>
            <a:ext cx="2971800" cy="3657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i-IN" sz="2400" spc="-1" strike="noStrike" u="sng">
                <a:solidFill>
                  <a:srgbClr val="000000"/>
                </a:solidFill>
                <a:uFillTx/>
                <a:latin typeface="Arial"/>
              </a:rPr>
              <a:t>مدير الإدارة العلي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Arial"/>
              </a:rPr>
              <a:t>رئيس مدير عام، مدير عا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Arial"/>
              </a:rPr>
              <a:t>وضع رسالة المنظّمة و رؤيت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Arial"/>
              </a:rPr>
              <a:t>وضع استراتيجية المؤسس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Arial"/>
              </a:rPr>
              <a:t>يشرفون على أنشطة المستوى الثاني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743200" y="2209680"/>
            <a:ext cx="3429000" cy="36576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i-IN" sz="2400" spc="-1" strike="noStrike" u="sng">
                <a:solidFill>
                  <a:srgbClr val="000000"/>
                </a:solidFill>
                <a:uFillTx/>
                <a:latin typeface="Arial"/>
              </a:rPr>
              <a:t>مدير الإدارة الوسط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Arial"/>
              </a:rPr>
              <a:t>يتحملون مسؤولية تنفيذ سياس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وضعتها الإدارة العلي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Arial"/>
              </a:rPr>
              <a:t>يشرفون على أنشطة المستوى الثال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209680"/>
            <a:ext cx="2514600" cy="3657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i-IN" sz="2000" spc="-1" strike="noStrike" u="sng">
                <a:solidFill>
                  <a:srgbClr val="000000"/>
                </a:solidFill>
                <a:uFillTx/>
                <a:latin typeface="Arial"/>
              </a:rPr>
              <a:t>مدير المستوى الإشرافي الأوّ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Arial"/>
              </a:rPr>
              <a:t>مشرف، مدير مكت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Arial"/>
              </a:rPr>
              <a:t>يشرفون على عمال التشغي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ff"/>
                </a:solidFill>
                <a:latin typeface="Arial"/>
              </a:rPr>
              <a:t>تصنيف المديرين وفقا لمجالات الإدار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مدير التسوي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مدير الموارد البش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مدير المال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مدير الإنتاج أو العمليا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مدير الإدار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مدير المشتريا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ff"/>
                </a:solidFill>
                <a:latin typeface="Arial"/>
              </a:rPr>
              <a:t>تصنيف المديرين وفقا لنطاق الأنشط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مدير الوظيفي: مسئول عن نشاط تنظيمي واح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مدير العام: فرد مشرف على كل الأنشط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ff"/>
                </a:solidFill>
                <a:latin typeface="Arial"/>
              </a:rPr>
              <a:t>تصنيف المديرين وفقا لنوع المسؤولي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مدير التنفيذي: مدير الإنتاج مثل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مدير الاستشاري: يقدم خدمات مساعدة و مساندة للمدير التنفيذ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مبادئ إدارة الأعما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371600" y="4114440"/>
            <a:ext cx="6400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ff"/>
                </a:solidFill>
                <a:latin typeface="Arial"/>
              </a:rPr>
              <a:t>الوظائف و الأدوار و المهارات الإدا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553080" y="304920"/>
            <a:ext cx="2133720" cy="1143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Arial"/>
              </a:rPr>
              <a:t>جامعة الملك سعو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Arial"/>
              </a:rPr>
              <a:t>كلية المجتمع بالرّيا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Arial"/>
              </a:rPr>
              <a:t>قسم العلوم الإدار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Arial"/>
              </a:rPr>
              <a:t>د. نزار منصو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62120" y="685800"/>
            <a:ext cx="990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ff"/>
                </a:solidFill>
                <a:latin typeface="Arial"/>
              </a:rPr>
              <a:t>الوظائف الإداري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التخطي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التنظي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صنع القرا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القياد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الرقاب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15328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ff"/>
                </a:solidFill>
                <a:latin typeface="Arial"/>
              </a:rPr>
              <a:t>التخطيط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يعني التخطيط تحديد أهداف المنظمة بكل دقة و تقرير أنجع الطرق لإنجازه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ff"/>
                </a:solidFill>
                <a:latin typeface="Arial"/>
              </a:rPr>
              <a:t>التنظيم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2133720"/>
            <a:ext cx="807732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يعني وضع هيكل تنظيمي يتم بموجبه تقسيم العمل بين الأقسام و الأفراد و وضع علاقات السلطة و التنسيق بين الأفراد و الوحدات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514600" y="3246480"/>
            <a:ext cx="39625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8800" spc="-1" strike="noStrike">
                <a:solidFill>
                  <a:srgbClr val="000000"/>
                </a:solidFill>
                <a:latin typeface="Arial"/>
              </a:rPr>
              <a:t>المُنظَّمة ؟</a:t>
            </a:r>
            <a:r>
              <a:rPr b="0" lang="en-US" sz="8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838080"/>
            <a:ext cx="822960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ff"/>
                </a:solidFill>
                <a:latin typeface="Arial"/>
              </a:rPr>
              <a:t>صنع القرار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يصنع المديرون القرارات بشكل يومي ويعني ذلك تحديد المشاكل ووضع خطة لحلِّها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ff"/>
                </a:solidFill>
                <a:latin typeface="Arial"/>
              </a:rPr>
              <a:t>القيادة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القيادة هي أهم وأصعب ما يقوم به المدير. و هي تعني تحفيز المرؤوسين و التواصل السليم معهم و خلق مناخ عمل بنّاء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ff"/>
                </a:solidFill>
                <a:latin typeface="Arial"/>
              </a:rPr>
              <a:t>الرقابة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الرقابة هي آخر مراحل العملية الإدارية وتعني التحقق من الوصول إلى الأهداف المرسومة و تحليل النتائج و وضع مقترحات لتحسين أداء المنظّم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523880" y="3246480"/>
            <a:ext cx="6172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</a:rPr>
              <a:t>الأدوار الإداري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ff"/>
                </a:solidFill>
                <a:latin typeface="Arial"/>
              </a:rPr>
              <a:t>أدوار المدي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تنقسم أدوار المدير إلى ثلاثة أقسا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ff"/>
                </a:solidFill>
                <a:latin typeface="Arial"/>
              </a:rPr>
              <a:t>أدوار شخص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ff"/>
                </a:solidFill>
                <a:latin typeface="Arial"/>
              </a:rPr>
              <a:t>أدوار معلومات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ff"/>
                </a:solidFill>
                <a:latin typeface="Arial"/>
              </a:rPr>
              <a:t>أدوار صنع القرا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ff"/>
                </a:solidFill>
                <a:latin typeface="Arial"/>
              </a:rPr>
              <a:t>أدوار المدير الشخصية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2361960"/>
            <a:ext cx="7924680" cy="37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المدير كممثل للمنظّم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المدير كقائ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المدير كحلقة اتّصا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ff"/>
                </a:solidFill>
                <a:latin typeface="Arial"/>
              </a:rPr>
              <a:t>أدوار المدير المعلومات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2361960"/>
            <a:ext cx="7924680" cy="37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المدير كباحث عن المعلوما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المدر كموصل للمعلوما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المدير كمتصل مع الأطراف الخارج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ff"/>
                </a:solidFill>
                <a:latin typeface="Arial"/>
              </a:rPr>
              <a:t>أدوار صنع القرا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784872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مدير كمباد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مدير مخصص للموار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مدير كمتعامل مع الاختلالا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مدير كمفاوض مع العمّا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1523880" y="3246480"/>
            <a:ext cx="6172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Arial"/>
              </a:rPr>
              <a:t>المهارات الإداري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"/>
              </a:rPr>
              <a:t>تقسيم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at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يقسم روبرت كاتز هذه المهارات إلى ثلاثة أقسام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r" rtl="1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Arial"/>
              </a:rPr>
              <a:t>مهارات فنية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و هي القدرة على استغلال المعارف و الخبرات الشخصية للتميز في العمل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r" rtl="1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Arial"/>
              </a:rPr>
              <a:t>مهارات إنسانية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متعلقة بقدرات القيادة و التأثير في الآخري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r" rtl="1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Arial"/>
              </a:rPr>
              <a:t>مهارات فكرية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و تعني القدرة على رؤية المنظمة كمجموعة متكاملة و التحليل السليم لمختلف المشاكل التي تمر بها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00"/>
                </a:solidFill>
                <a:latin typeface="Arial"/>
              </a:rPr>
              <a:t>المُنظَّمة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</a:rPr>
              <a:t>(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Organization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219320" y="2895480"/>
            <a:ext cx="7543800" cy="2210040"/>
          </a:xfrm>
          <a:prstGeom prst="flowChartAlternateProcess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المُنظَّمة هي تركيبة أو مجموعة من الأفراد يعملون معً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و بِتقسيم مُعيَّن للعمل بغرض تحقيق </a:t>
            </a:r>
            <a:r>
              <a:rPr b="1" lang="hi-IN" sz="2800" spc="-1" strike="noStrike" u="sng">
                <a:solidFill>
                  <a:srgbClr val="ff0000"/>
                </a:solidFill>
                <a:uFillTx/>
                <a:latin typeface="Arial"/>
              </a:rPr>
              <a:t>هدف مشترك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"/>
              </a:rPr>
              <a:t>تقسيم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riff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يقسم جريفين هذه المهارات إلى نوعين: تشخيصية و تحليل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r" rtl="1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Arial"/>
              </a:rPr>
              <a:t>المهارات التشخيصية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و تعني قدرة المدير على تشخيص و فهم مختلف الأوضاع التي تمر بها المنظم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r" rtl="1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Arial"/>
              </a:rPr>
              <a:t>المهارات التحليلية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و هي القدرة على التعمّق في تحليل المشاكل و الإلمام بمختلف جوانبها و الربط بين هذه الجوانب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مبادئ إدارة الأعما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ff"/>
                </a:solidFill>
                <a:latin typeface="Arial"/>
              </a:rPr>
              <a:t>نظريّات الإدارة: المداخل التقليدي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553080" y="304920"/>
            <a:ext cx="2133720" cy="1143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Arial"/>
              </a:rPr>
              <a:t>جامعة الملك سعو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Arial"/>
              </a:rPr>
              <a:t>كلية المجتمع بالرّيا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Arial"/>
              </a:rPr>
              <a:t>قسم العلوم الإدار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Arial"/>
              </a:rPr>
              <a:t>د. نزار منصو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838080" y="838080"/>
            <a:ext cx="1143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مبادئ إدارة الأعما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ff"/>
                </a:solidFill>
                <a:latin typeface="Arial"/>
              </a:rPr>
              <a:t>الإدارة و البيئة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 rtl="1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553080" y="304920"/>
            <a:ext cx="2133720" cy="1143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Arial"/>
              </a:rPr>
              <a:t>جامعة الملك سعو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Arial"/>
              </a:rPr>
              <a:t>كلية المجتمع بالرّيا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Arial"/>
              </a:rPr>
              <a:t>قسم العلوم الإدار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Arial"/>
              </a:rPr>
              <a:t>د. نزار منصو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38080" y="838080"/>
            <a:ext cx="1143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ff"/>
                </a:solidFill>
                <a:latin typeface="Arial"/>
              </a:rPr>
              <a:t>البيئة؟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تشير البيئة  إلى مجموعة القوى و الظروف المحيطة بالمنظّم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ff"/>
                </a:solidFill>
                <a:latin typeface="Arial"/>
              </a:rPr>
              <a:t>تؤثر </a:t>
            </a: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مختلف عناصر البيئة في عمل  المنظم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المديرون مطالبون </a:t>
            </a:r>
            <a:r>
              <a:rPr b="1" lang="hi-IN" sz="3200" spc="-1" strike="noStrike">
                <a:solidFill>
                  <a:srgbClr val="0000ff"/>
                </a:solidFill>
                <a:latin typeface="Arial"/>
              </a:rPr>
              <a:t>بتحليل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كافّة عوامل البيئة و </a:t>
            </a:r>
            <a:r>
              <a:rPr b="1" lang="hi-IN" sz="3200" spc="-1" strike="noStrike">
                <a:solidFill>
                  <a:srgbClr val="0000ff"/>
                </a:solidFill>
                <a:latin typeface="Arial"/>
              </a:rPr>
              <a:t>استشراف </a:t>
            </a: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تأثيراته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838080"/>
            <a:ext cx="822960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ff"/>
                </a:solidFill>
                <a:latin typeface="Arial"/>
              </a:rPr>
              <a:t>عناصر البيئة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2438280"/>
            <a:ext cx="8001000" cy="368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000000"/>
                </a:solidFill>
                <a:latin typeface="Arial"/>
              </a:rPr>
              <a:t>البيئة العامّ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000000"/>
                </a:solidFill>
                <a:latin typeface="Arial"/>
              </a:rPr>
              <a:t>البيئة المباشر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000000"/>
                </a:solidFill>
                <a:latin typeface="Arial"/>
              </a:rPr>
              <a:t>البيئة الدّاخلي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6840" y="533520"/>
            <a:ext cx="807732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ff"/>
                </a:solidFill>
                <a:latin typeface="Arial"/>
              </a:rPr>
              <a:t>البيئة العامّة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عوامل الاقتصادي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عوامل الاجتماعية والثقاف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عوامل  التكنولوج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عوامل السياسية القانون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عوامل الدولية العالم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عوامل الطبيع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0000ff"/>
                </a:solidFill>
                <a:latin typeface="Arial"/>
              </a:rPr>
              <a:t>البيئة المباشر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المنافسو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المورّدو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العملا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المقرضو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اتّحادات العما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مكاتب التوظي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الأجهزة المنظّم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ff"/>
                </a:solidFill>
                <a:latin typeface="Arial"/>
              </a:rPr>
              <a:t>البيئة </a:t>
            </a:r>
            <a:r>
              <a:rPr b="1" lang="hi-IN" sz="4000" spc="-1" strike="noStrike">
                <a:solidFill>
                  <a:srgbClr val="0000ff"/>
                </a:solidFill>
                <a:latin typeface="Arial"/>
              </a:rPr>
              <a:t>الداخلية أو ثقافة المنظّمة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تتميز كل منظمة عن غيرها بثقافتها السائد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تعني ثقافة المنظّمة مجموعة المعتقدات و القيم المشتركة التي تُشعِرُ الموظّفين أنهم ينتمون إلى منظّمة واحد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تؤثر هذه الثقافة بشكل مباشر في سلوك الأفراد و اتّجاهاتهم و كذلك في درجة نجاح المنظمة في السوق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تعتبر ثقافة المنظمة عامل نجاح و تلاحم بين أفراده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ff"/>
                </a:solidFill>
                <a:latin typeface="Arial"/>
              </a:rPr>
              <a:t>تغيير ثقافة المنظّمة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أحيانا تقوم الإدارة العليا بتغيير ثقافة المنظمة و ذلك تماشيا مع تغيير استراتيجياته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يتم هذا التغيير عبر خمس خطوا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4000" spc="-1" strike="noStrike">
                <a:solidFill>
                  <a:srgbClr val="0000ff"/>
                </a:solidFill>
                <a:latin typeface="Arial"/>
              </a:rPr>
              <a:t>خطوات تغيير ثقافة المنظّمة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تشخيص الثقافة الحالية للمنظّمة و تحديد ما يتماشى و ما لا يتماشى مع تطلعاتها المستقبل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تحديد الوسائل المختلفة لنقل الثقافة داخل المؤسس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استخدام الفرص المتاحة لإحداث تغيرات تدريجية و تراكم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تفويض المديرين لأخذ القرار بأنفسه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التحقق من التزام الجميع بالثقافة المطلوب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00"/>
                </a:solidFill>
                <a:latin typeface="Arial"/>
              </a:rPr>
              <a:t>المُنظَّمة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</a:rPr>
              <a:t>(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Organization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333399"/>
                </a:solidFill>
                <a:latin typeface="Arial"/>
              </a:rPr>
              <a:t>مُخرَجاتها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منتجات استهلاكية و صناع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خدمات تعليم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خدمات الضياف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خدمات ثقاف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333399"/>
                </a:solidFill>
                <a:latin typeface="Arial"/>
              </a:rPr>
              <a:t>المُنظَّما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المصان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الجامعات و المدار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مكاتب استشارا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المكتبا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مبادئ إدارة الأعما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ff"/>
                </a:solidFill>
                <a:latin typeface="Arial"/>
              </a:rPr>
              <a:t>وظيفة التخطي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553080" y="304920"/>
            <a:ext cx="2133720" cy="1143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Arial"/>
              </a:rPr>
              <a:t>جامعة الملك سعو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Arial"/>
              </a:rPr>
              <a:t>كلية المجتمع بالرّيا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Arial"/>
              </a:rPr>
              <a:t>قسم العلوم الإدار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Arial"/>
              </a:rPr>
              <a:t>د. نزار منصو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838080" y="838080"/>
            <a:ext cx="1143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8380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ff"/>
                </a:solidFill>
                <a:latin typeface="Arial"/>
              </a:rPr>
              <a:t>أهداف الفصل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15328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التعرف إلى أهمّيّة عملية التخطي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تحديد المفاهيم الخاصّة بوظيفة التخطي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التعرّف على أنواع التخطيط و مستويات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تصنيف الأهدا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ff"/>
                </a:solidFill>
                <a:latin typeface="Arial"/>
              </a:rPr>
              <a:t>التخطي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04920" y="2362320"/>
            <a:ext cx="8381880" cy="19810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التخطيط هو عمليّة </a:t>
            </a:r>
            <a:r>
              <a:rPr b="1" lang="hi-IN" sz="2800" spc="-1" strike="noStrike">
                <a:solidFill>
                  <a:srgbClr val="0000ff"/>
                </a:solidFill>
                <a:latin typeface="Arial"/>
              </a:rPr>
              <a:t>وضع الأهدا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و تحديد </a:t>
            </a:r>
            <a:r>
              <a:rPr b="1" lang="hi-IN" sz="2800" spc="-1" strike="noStrike">
                <a:solidFill>
                  <a:srgbClr val="0000ff"/>
                </a:solidFill>
                <a:latin typeface="Arial"/>
              </a:rPr>
              <a:t>ما يجب القيام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به لإنجازها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خلال </a:t>
            </a:r>
            <a:r>
              <a:rPr b="1" lang="hi-IN" sz="2800" spc="-1" strike="noStrike">
                <a:solidFill>
                  <a:srgbClr val="0000ff"/>
                </a:solidFill>
                <a:latin typeface="Arial"/>
              </a:rPr>
              <a:t>فترة زمنيّة محدّدة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و ضمن </a:t>
            </a:r>
            <a:r>
              <a:rPr b="1" lang="hi-IN" sz="2800" spc="-1" strike="noStrike">
                <a:solidFill>
                  <a:srgbClr val="0000ff"/>
                </a:solidFill>
                <a:latin typeface="Arial"/>
              </a:rPr>
              <a:t>معطيات و ظروف محدّد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4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 الخصائص الثلاث للتّخطيط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14400" y="1981080"/>
            <a:ext cx="7391520" cy="129564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التخطيط توقّعي و مستقبلِي بطبيعت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3657600"/>
            <a:ext cx="7391520" cy="1371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يُترجَم بجملة من القرارا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914400" y="5257800"/>
            <a:ext cx="7391520" cy="10666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يركّزُ على الأهداف المستقبلية المرغوب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6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1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6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مبادئ إدارة الأعما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ff"/>
                </a:solidFill>
                <a:latin typeface="Arial"/>
              </a:rPr>
              <a:t>وظيفة التّنظي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553080" y="304920"/>
            <a:ext cx="2133720" cy="1143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Arial"/>
              </a:rPr>
              <a:t>جامعة الملك سعو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Arial"/>
              </a:rPr>
              <a:t>كلية المجتمع بالرّيا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Arial"/>
              </a:rPr>
              <a:t>قسم العلوم الإدار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Arial"/>
              </a:rPr>
              <a:t>د. نزار منصو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838080" y="838080"/>
            <a:ext cx="1143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ff"/>
                </a:solidFill>
                <a:latin typeface="Arial"/>
              </a:rPr>
              <a:t>بعد هذا الفصل ستكون قادرا على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37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تعريف مفهوم التنظي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إدراك أهمّيّة التّنظيم للمؤسس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معرفة القواعد الأساسيّة لعمليّة التّنظي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تحديد الهياكل التنظيميّة و العناصر المكوّنة له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5400" spc="-1" strike="noStrike">
                <a:solidFill>
                  <a:srgbClr val="0000ff"/>
                </a:solidFill>
                <a:latin typeface="Arial"/>
              </a:rPr>
              <a:t>التّنظيم؟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990720" y="2590920"/>
            <a:ext cx="7467480" cy="320040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يمثّل التّنظيم الوظيفة </a:t>
            </a:r>
            <a:r>
              <a:rPr b="1" lang="hi-IN" sz="2800" spc="-1" strike="noStrike" u="sng">
                <a:solidFill>
                  <a:srgbClr val="000000"/>
                </a:solidFill>
                <a:uFillTx/>
                <a:latin typeface="Arial"/>
              </a:rPr>
              <a:t>الثانية </a:t>
            </a: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من وظائف الإدار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، إذ بمجرد وضع الخطط يقوم المدي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بمهمّة تنظيم و ترتيب مدخلات المشرو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بشكل ملائم و بغرض تنفيذ الخطط 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5400" spc="-1" strike="noStrike">
                <a:solidFill>
                  <a:srgbClr val="0000ff"/>
                </a:solidFill>
                <a:latin typeface="Arial"/>
              </a:rPr>
              <a:t>التّنظيم؟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990720" y="2590920"/>
            <a:ext cx="7467480" cy="3200400"/>
          </a:xfrm>
          <a:prstGeom prst="roundRect">
            <a:avLst>
              <a:gd name="adj" fmla="val 16667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هو الاستخدام  المنظم للمصادر المتاح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والذي يحقق أعلى قدر من ربط المها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والوحدات ببعضها ( التنسيق ) بعلاقات ثابتة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بين جميع الأنشطة دون تغيير 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ff"/>
                </a:solidFill>
                <a:latin typeface="Arial"/>
              </a:rPr>
              <a:t>خصائص التّنظيم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792468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وجود هدف مشترك لكلّ أعضاء المنظّم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هرمية السلط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تقسيم العم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تنسيق العمل و الجهود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 u="sng">
                <a:solidFill>
                  <a:srgbClr val="0000ff"/>
                </a:solidFill>
                <a:uFillTx/>
                <a:latin typeface="Arial"/>
              </a:rPr>
              <a:t>تعتمد فعالية البناء التنظيمي عل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0000"/>
                </a:solidFill>
                <a:latin typeface="Arial"/>
              </a:rPr>
              <a:t>البساط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 الأقسا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hi-IN" sz="3200" spc="-1" strike="noStrike">
                <a:solidFill>
                  <a:srgbClr val="ff0000"/>
                </a:solidFill>
                <a:latin typeface="Arial"/>
              </a:rPr>
              <a:t>يوضح العلاقة بين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السلطة + المسئول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  تسلسل الأوامر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( حقوق + واجبات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hi-IN" sz="3200" spc="-1" strike="noStrike">
                <a:solidFill>
                  <a:srgbClr val="ff0000"/>
                </a:solidFill>
                <a:latin typeface="Arial"/>
              </a:rPr>
              <a:t>مرونة التنظيم وقدرته على مواكبة تغيرات البيئة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0000"/>
                </a:solidFill>
                <a:latin typeface="Arial"/>
              </a:rPr>
              <a:t>أنواع المنظّمات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1676520"/>
            <a:ext cx="3505320" cy="4114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منظّمة ذات هدف رِبح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المراع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all Mar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croso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العثي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371600" y="1600200"/>
            <a:ext cx="3581280" cy="419112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منظّمة ذات هدف غير رِبح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مؤسسات رعاية الأيتا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كلية المجتمع بالريا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reen pe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ff"/>
                </a:solidFill>
                <a:latin typeface="Arial"/>
              </a:rPr>
              <a:t>أهمّيّة وظيفة التّنظيم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15328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تركيز الجهود لربط الأنشطة بالأهدا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المساعدة في القيام ببقية الوظائف الإدا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توضيح كيفية تدفّق العم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تحديد قنوات الاتّصال داخل المنظّم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توجيه جهود الأفراد بما يحقق الفاعلية و الكفاء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تجنب الازدواجية في العمل و تعارض المهام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ff"/>
                </a:solidFill>
                <a:latin typeface="Arial"/>
              </a:rPr>
              <a:t>مبادئ التنظي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68360" y="90792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hi-IN" sz="2800" spc="-1" strike="noStrike">
                <a:solidFill>
                  <a:srgbClr val="ff0000"/>
                </a:solidFill>
                <a:latin typeface="Arial"/>
              </a:rPr>
              <a:t>تسلسل السلطة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-وحدة الهد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hi-IN" sz="2800" spc="-1" strike="noStrike">
                <a:solidFill>
                  <a:srgbClr val="ff0000"/>
                </a:solidFill>
                <a:latin typeface="Arial"/>
              </a:rPr>
              <a:t>تكافؤ السلطة + المسئولية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hi-IN" sz="2800" spc="-1" strike="noStrike">
                <a:solidFill>
                  <a:srgbClr val="ff0000"/>
                </a:solidFill>
                <a:latin typeface="Arial"/>
              </a:rPr>
              <a:t>ثبات المسئولية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لا تفوض 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أمام رئيسه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hi-IN" sz="2800" spc="-1" strike="noStrike">
                <a:solidFill>
                  <a:srgbClr val="ff0000"/>
                </a:solidFill>
                <a:latin typeface="Arial"/>
              </a:rPr>
              <a:t>المحاسبة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على الصلاحيات الممنوحة له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مساهمته في تحقيق الأهدا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 rtl="1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hi-IN" sz="2800" spc="-1" strike="noStrike">
                <a:solidFill>
                  <a:srgbClr val="ff0000"/>
                </a:solidFill>
                <a:latin typeface="Arial"/>
              </a:rPr>
              <a:t>وحدة الاتجاه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:رئيس معين يرأس مجموعة من الإفراد الذين يؤدون عمل معين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hi-IN" sz="2800" spc="-1" strike="noStrike">
                <a:solidFill>
                  <a:srgbClr val="ff0000"/>
                </a:solidFill>
                <a:latin typeface="Arial"/>
              </a:rPr>
              <a:t>المسئولية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: هي (( الأعمال والأنشطة الملزم القيام بها من قبل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         عضو التنظيم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H="1">
            <a:off x="6372000" y="342900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012000" y="2708280"/>
            <a:ext cx="0" cy="129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539640" y="33336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8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- السلط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: القوة أو الحق الممنوح للشخص ( للقيام بالمهام + إصدارا لأوامر 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فهمها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i-IN" sz="2400" spc="-1" strike="noStrike">
                <a:solidFill>
                  <a:srgbClr val="000000"/>
                </a:solidFill>
                <a:latin typeface="Arial"/>
              </a:rPr>
              <a:t>لابد من قبول المرؤوسين للأوامر وليتم ذلك لابد من   تحقق أهداف التنظيم فقط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# تتعارض مع أهدافه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   قادرين على تنفيذها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استخدام قنوات رسمية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      اتصال مباشر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حتى يضمن المدير طاعة المرؤوسين لابد من   الأوامر تصدر من جهة واحد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"""   لتحقيق أهداف التنظي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المدير لدية قدرات + مهارات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اتصا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132000" y="1125360"/>
            <a:ext cx="0" cy="151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780000" y="3573360"/>
            <a:ext cx="0" cy="208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684360" y="475920"/>
            <a:ext cx="822960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2800" spc="-1" strike="noStrike">
                <a:solidFill>
                  <a:srgbClr val="ff0000"/>
                </a:solidFill>
                <a:latin typeface="Arial"/>
              </a:rPr>
              <a:t>9</a:t>
            </a:r>
            <a:r>
              <a:rPr b="0" lang="ar-SA" sz="2800" spc="-1" strike="noStrike">
                <a:solidFill>
                  <a:srgbClr val="ff0000"/>
                </a:solidFill>
                <a:latin typeface="Arial"/>
              </a:rPr>
              <a:t>-</a:t>
            </a:r>
            <a:r>
              <a:rPr b="1" lang="ar-SA" sz="2800" spc="-1" strike="noStrike">
                <a:solidFill>
                  <a:srgbClr val="ff0000"/>
                </a:solidFill>
                <a:latin typeface="Arial"/>
              </a:rPr>
              <a:t> التخصص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كل وحدة تقوم بعمل محدد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                                  إتقان العم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سهولة التدريب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                                 &lt; الوقت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                                 &gt; الإنتاج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ar-SA" sz="2800" spc="-1" strike="noStrike">
                <a:solidFill>
                  <a:srgbClr val="ff0000"/>
                </a:solidFill>
                <a:latin typeface="Arial"/>
              </a:rPr>
              <a:t>وحدة الأمر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: يتلقى الفرد  ( الأوامر + يرفع التقارير ) من وإلى جهة واحدة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ar-SA" sz="2800" spc="-1" strike="noStrike">
                <a:solidFill>
                  <a:srgbClr val="ff0000"/>
                </a:solidFill>
                <a:latin typeface="Arial"/>
              </a:rPr>
              <a:t>التفويض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: هي (( منح سلطة من مستوى أعلى إلى الأدنى )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                    المسئولية # تفوض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                    السلطة تفوض ويبقى الرئيس مسئول عن كل ما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                    كلف به الغير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659640" y="1197000"/>
            <a:ext cx="1081080" cy="1368360"/>
          </a:xfrm>
          <a:prstGeom prst="ellipse">
            <a:avLst/>
          </a:prstGeom>
          <a:gradFill rotWithShape="0">
            <a:gsLst>
              <a:gs pos="0">
                <a:srgbClr val="750075"/>
              </a:gs>
              <a:gs pos="100000">
                <a:srgbClr val="ff00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الفوائد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 flipV="1">
            <a:off x="5435640" y="1268280"/>
            <a:ext cx="1224000" cy="6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5579640" y="1700280"/>
            <a:ext cx="107964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51640" y="1916280"/>
            <a:ext cx="1008000" cy="21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H="1">
            <a:off x="5579640" y="1916280"/>
            <a:ext cx="1079640" cy="64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539640" y="33336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r" rtl="1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ff"/>
                </a:solidFill>
                <a:latin typeface="Arial"/>
              </a:rPr>
              <a:t>التفوي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r" rtl="1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أسباب استخدام التفويض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r" rtl="1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أنجاز عمل أكثر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r" rtl="1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تخفيف العبء عليه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000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يتفرغ لـــ ( التخطيط + رسم السياسات 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r" rtl="1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خبرة بعض المرؤوسين أكثر من رؤسائه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r" rtl="1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تدريب للعاملين لشغل المراكز القيادية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r" rtl="1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بناء روح الفريق + تسهيل اتخاذ القرارات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العيوب 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- المبالغة في التفويض              فلت زمام الأمور 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في حالة الخطأ يصعب  تحديد المسئولية + التصحيح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صعوبة التأكد من مطابقة التنفيذ للخطة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3635280" y="465300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395280" y="259920"/>
            <a:ext cx="822960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تقسيم العمل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      هو(توزيع الأنشطة اللازمة لهذا العمل بين مجموعة من الأفراد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المزايا :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أ )التخصص يزيد الخبر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             ب ) توفير الوقت ( الموظف يقوم بعمل مخصص # كل الأعمال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              ج) التركيز ---- يسهل العمل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0000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يزيد الإنتاج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نطاق الإشراف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: نطاق ( السيطرة / السلطة / التمكن / المسئولية )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       هو ( عدد المرؤوسين الذين يشرف عليهم المدير بفاعلية 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   &gt; العدد     &gt; نطاق الإشراف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                                     &lt; العدد     &lt;   ""     """"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إشراف المدير على عدد قليل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00000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هدر لقدراته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""""    """    ""   عدد أكبر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0000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تتناقص فعاليته على الإشراف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تأثير نطاق الإشراف على كفاءة التنظيم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إذا ضاق نطاق الإشراف                 يزيد عدد  المستويات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4859280" y="5300640"/>
            <a:ext cx="1225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0000"/>
                </a:solidFill>
                <a:latin typeface="Arial"/>
              </a:rPr>
              <a:t>الإدارة ؟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4920" y="3246480"/>
            <a:ext cx="8839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الإدارة هي عملية الاستغلال المحكم لِكافة موارد المنظمة بالتخطيط و التنظي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و صنع القرار و القيادة و الرقابة بغرض إنجاز أهداف المنظمة </a:t>
            </a:r>
            <a:r>
              <a:rPr b="1" lang="hi-IN" sz="2800" spc="-1" strike="noStrike">
                <a:solidFill>
                  <a:srgbClr val="ff0000"/>
                </a:solidFill>
                <a:latin typeface="Arial"/>
              </a:rPr>
              <a:t>بكفاءة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و </a:t>
            </a:r>
            <a:r>
              <a:rPr b="1" lang="hi-IN" sz="2800" spc="-1" strike="noStrike">
                <a:solidFill>
                  <a:srgbClr val="ff0000"/>
                </a:solidFill>
                <a:latin typeface="Arial"/>
              </a:rPr>
              <a:t>فاعلية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0000"/>
                </a:solidFill>
                <a:latin typeface="Arial"/>
              </a:rPr>
              <a:t>الإدارة 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2209680"/>
            <a:ext cx="2286000" cy="3657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i-IN" sz="3200" spc="-1" strike="noStrike" u="sng">
                <a:solidFill>
                  <a:srgbClr val="000000"/>
                </a:solidFill>
                <a:uFillTx/>
                <a:latin typeface="Arial"/>
              </a:rPr>
              <a:t>المدخلا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الموارد البشر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الموارد المال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الموارد الماد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الموارد المعلومات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352680" y="2209680"/>
            <a:ext cx="2590920" cy="36576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i-IN" sz="3200" spc="-1" strike="noStrike" u="sng">
                <a:solidFill>
                  <a:srgbClr val="000000"/>
                </a:solidFill>
                <a:uFillTx/>
                <a:latin typeface="Arial"/>
              </a:rPr>
              <a:t>عملية الإدار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التخطي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التنظي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القيادة و صنع القرا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الرقاب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33520" y="2209680"/>
            <a:ext cx="2209680" cy="3657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i-IN" sz="3200" spc="-1" strike="noStrike" u="sng">
                <a:solidFill>
                  <a:srgbClr val="000000"/>
                </a:solidFill>
                <a:uFillTx/>
                <a:latin typeface="Arial"/>
              </a:rPr>
              <a:t>تحقيق الأهدا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الكفاء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000000"/>
                </a:solidFill>
                <a:latin typeface="Arial"/>
              </a:rPr>
              <a:t>الفعال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5943240" y="4038480"/>
            <a:ext cx="6858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2742840" y="4038480"/>
            <a:ext cx="60948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0000"/>
                </a:solidFill>
                <a:latin typeface="Arial"/>
              </a:rPr>
              <a:t>ما هي أهداف الإدارة 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التوظيف الأمثل لموارد المؤسس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تحقيق النتائج المرسومة </a:t>
            </a:r>
            <a:r>
              <a:rPr b="0" lang="hi-IN" sz="3200" spc="-1" strike="noStrike">
                <a:solidFill>
                  <a:srgbClr val="0000ff"/>
                </a:solidFill>
                <a:latin typeface="Arial"/>
              </a:rPr>
              <a:t>بكفاء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تحقيق </a:t>
            </a:r>
            <a:r>
              <a:rPr b="0" lang="hi-IN" sz="3200" spc="-1" strike="noStrike">
                <a:solidFill>
                  <a:srgbClr val="0000ff"/>
                </a:solidFill>
                <a:latin typeface="Arial"/>
              </a:rPr>
              <a:t>الفعال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ضمان ديمومة المنظمة و الرفع من </a:t>
            </a:r>
            <a:r>
              <a:rPr b="0" lang="hi-IN" sz="3200" spc="-1" strike="noStrike">
                <a:solidFill>
                  <a:srgbClr val="0000ff"/>
                </a:solidFill>
                <a:latin typeface="Arial"/>
              </a:rPr>
              <a:t>قدرتها التنافس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الرفع المستمر </a:t>
            </a:r>
            <a:r>
              <a:rPr b="0" lang="hi-IN" sz="3200" spc="-1" strike="noStrike">
                <a:solidFill>
                  <a:srgbClr val="0000ff"/>
                </a:solidFill>
                <a:latin typeface="Arial"/>
              </a:rPr>
              <a:t>لحصة المؤسسة من السو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2T05:15:58Z</dcterms:created>
  <dc:creator>Administrator</dc:creator>
  <dc:description/>
  <dc:language>en-US</dc:language>
  <cp:lastModifiedBy>Ahmad</cp:lastModifiedBy>
  <dcterms:modified xsi:type="dcterms:W3CDTF">2011-05-16T11:12:30Z</dcterms:modified>
  <cp:revision>65</cp:revision>
  <dc:subject/>
  <dc:title>مبادئ إدارة الأعمال</dc:title>
</cp:coreProperties>
</file>