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485F-9CFF-431A-BD31-F9E52EC4E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5181-65F4-4FE3-BC6D-356612163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7684-15B3-4BDB-B435-ED6372CD2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A13C-92D3-40C5-BB08-2343CBCEF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76DC-986C-4C8A-B856-66520F365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CCF3-2D71-476F-AEA4-DC9AC2D62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1ED5-7ED0-4D07-AC04-46DB1A9BC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DD52-C7B8-4613-91E5-390BD0548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5323-2B8A-4022-8CFA-A395131DD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DF9F-B700-4B29-AF60-376D0CDB4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B0E3-44DF-449E-B075-E960997E3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7D48-71E2-425F-BB72-87645A11C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36B4-44AB-4A28-B8E8-08B804148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EBA0-45EB-4A19-B143-97BCD9B8B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BC9B-1CC0-4113-B2A3-B5D9A6753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A270-6EAA-402A-9BCD-78D1CA5FE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1947-2FCD-405B-B88E-FC7B7A1BC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5FB5-9EBF-4A29-A4FD-95A716958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A529-B35C-446A-B9A6-7D936C64F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D478-F8EC-4804-A9D7-6B5A76F19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DDFE-16ED-4670-A497-DC5ECC254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C963-BAA1-4A34-A8FB-3EC6A814A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1EBE-ACBB-4C67-8F2A-84C87FDC2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21CB-2B1A-4A37-9353-3CA1D5755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CBFA-DAE0-4220-B76C-0D3035BDB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6D75-41FD-432B-85AC-24FF72D4B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C69B-2C01-432D-907E-904E968D6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0C0F-15DD-4EFC-8ED3-9470CFF77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AF1C-CC80-4E92-8D55-61036D76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41C0-EA26-4EC3-A525-CF1B2E2CF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9C38-4560-4586-B36E-CDE4DEE10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B8F6-3D94-4114-9B8C-A868781B7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0A97-2C75-4DCC-B9E7-C60EFAB2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CD92-8FE7-432D-959E-9D7DD029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CB2A-85B7-4C0F-B793-9817A014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DF11-20BC-474C-9B65-F6C026D5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BEA7-67DD-476B-8B53-71CD6141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0B42-31F1-41C0-8844-50D0279D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B3EA-1023-4D94-9EBE-D902B560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B47B-5F17-403D-B3C2-E6042787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7C21-2338-43F2-8BEC-019FEF59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13B0-66D3-44A3-A53C-C9586284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A15C-8993-44D9-B1C1-7EBC7E52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3848-9E1C-4BDA-88D0-14A47D19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9D2C4-0B27-4E04-8F90-7FD38367A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0BD3B-3013-4943-A858-C2B0D741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14B7E-6F6C-455D-911F-0F20FD27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18776-B280-48FE-9805-87F05256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80A1C-7A71-4D75-90C2-AB035518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51E3-0406-4615-818E-2FE902DF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6ACBB-63A3-4873-B37A-EEC1E8B0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766F9-6151-44CB-B4E7-8A478DE4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11999-384B-43AF-859A-3E163BA5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53F06-3B82-4196-9F02-6EEE9E09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43028-89FC-4404-BD5F-3EAADA15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94BE8-5AF7-4334-A284-1BAAD70D9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102DB-3AE2-4008-AB19-6FD13E29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C873-8CBC-41EB-9518-2791EC2D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FBF1-BCD2-450E-BB12-A2E589E0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C9A5-61C3-4F65-A7E0-F9053674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AF75-AE61-4043-AEDF-BC44A7EA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E9E7-4E34-4114-8A9E-0C2537F2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B015-6763-49FE-B251-A6D78FC5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976A-A6DD-4AE6-9821-AC6B580EE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0E2C-D6AF-46BC-9603-74969D356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FB7E-2D88-4392-8D02-DB9E4D735B84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78000" y="1735200"/>
            <a:ext cx="73404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ell Structures, Functions and Transpor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ukaryotic Cell Organelles and Fun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Golgi Compl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ickna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The ship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packages, modifies, and transports materials to different location inside/outside of th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ppeara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stack of pancak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bio_ch7_4819b"/>
          <p:cNvPicPr/>
          <p:nvPr/>
        </p:nvPicPr>
        <p:blipFill>
          <a:blip r:embed="rId1"/>
          <a:stretch/>
        </p:blipFill>
        <p:spPr>
          <a:xfrm>
            <a:off x="1905120" y="1987560"/>
            <a:ext cx="4794120" cy="380376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3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7-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2743200" y="29844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7-5 Plant and Animal Ce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2362320" y="38088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Animal Cel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1828800" y="2438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2057400" y="2057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ol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304920" y="35053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ugh Endoplasmic Reticul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6553080" y="327672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mooth Endoplasmic Reticul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5791320" y="2057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boso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1295280" y="4724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lgi Bod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6477120" y="2514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ll Membr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Line 16"/>
          <p:cNvSpPr/>
          <p:nvPr/>
        </p:nvSpPr>
        <p:spPr>
          <a:xfrm flipH="1" flipV="1">
            <a:off x="4495680" y="1828440"/>
            <a:ext cx="76320" cy="762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3657600" y="138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ytoplas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Line 18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Line 19"/>
          <p:cNvSpPr/>
          <p:nvPr/>
        </p:nvSpPr>
        <p:spPr>
          <a:xfrm flipV="1">
            <a:off x="4876920" y="1828800"/>
            <a:ext cx="761760" cy="9144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Line 20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Line 21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Line 22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Line 26"/>
          <p:cNvSpPr/>
          <p:nvPr/>
        </p:nvSpPr>
        <p:spPr>
          <a:xfrm>
            <a:off x="5867280" y="3048120"/>
            <a:ext cx="144792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ukaryotic Cell Organelles and Fun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Lysosom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circular, but bigger than ribosom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ickna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“Clean-up Crew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to break down food into particles the rest of the cell can use and to destroy ol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bio_ch7_4819b"/>
          <p:cNvPicPr/>
          <p:nvPr/>
        </p:nvPicPr>
        <p:blipFill>
          <a:blip r:embed="rId1"/>
          <a:stretch/>
        </p:blipFill>
        <p:spPr>
          <a:xfrm>
            <a:off x="1905120" y="1987560"/>
            <a:ext cx="4794120" cy="380376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3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7-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2743200" y="29844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7-5 Plant and Animal Ce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2362320" y="38088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Animal Cel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1828800" y="2438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2057400" y="2057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ol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304920" y="35053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ugh Endoplasmic Reticul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6629400" y="3473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mooth Endoplasmic Reticul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5791320" y="2057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boso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1295280" y="4724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lgi Bod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6629400" y="2909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Mitochondr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6477120" y="2514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ll Membr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Line 17"/>
          <p:cNvSpPr/>
          <p:nvPr/>
        </p:nvSpPr>
        <p:spPr>
          <a:xfrm flipH="1" flipV="1">
            <a:off x="4495680" y="1828440"/>
            <a:ext cx="76320" cy="762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3657600" y="138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ytoplas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Line 19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Line 20"/>
          <p:cNvSpPr/>
          <p:nvPr/>
        </p:nvSpPr>
        <p:spPr>
          <a:xfrm flipV="1">
            <a:off x="4876920" y="1828800"/>
            <a:ext cx="761760" cy="9144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Line 21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Line 22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Line 23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ukaryotic Cell Organelles and Fun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Mitochond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ickna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“The Powerhous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Energy 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eaks down food to make A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>
              <a:spcBef>
                <a:spcPts val="5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AT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is the major fuel for all cell activities that require energ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4" descr="Mitochondria Inner Structure"/>
          <p:cNvPicPr/>
          <p:nvPr/>
        </p:nvPicPr>
        <p:blipFill>
          <a:blip r:embed="rId1"/>
          <a:stretch/>
        </p:blipFill>
        <p:spPr>
          <a:xfrm>
            <a:off x="2567160" y="1244520"/>
            <a:ext cx="444312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bio_ch7_4819b"/>
          <p:cNvPicPr/>
          <p:nvPr/>
        </p:nvPicPr>
        <p:blipFill>
          <a:blip r:embed="rId1"/>
          <a:stretch/>
        </p:blipFill>
        <p:spPr>
          <a:xfrm>
            <a:off x="1905120" y="1981080"/>
            <a:ext cx="4794120" cy="380376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6"/>
          <p:cNvSpPr/>
          <p:nvPr/>
        </p:nvSpPr>
        <p:spPr>
          <a:xfrm>
            <a:off x="2133720" y="30492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Animal Cel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1828800" y="2438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2057400" y="2057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ol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Text Box 10"/>
          <p:cNvSpPr/>
          <p:nvPr/>
        </p:nvSpPr>
        <p:spPr>
          <a:xfrm>
            <a:off x="304920" y="35053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ugh Endoplasmic Reticul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 Box 11"/>
          <p:cNvSpPr/>
          <p:nvPr/>
        </p:nvSpPr>
        <p:spPr>
          <a:xfrm>
            <a:off x="6629400" y="3473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mooth Endoplasmic Reticul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5791320" y="2057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boso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1295280" y="4724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lgi Bod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Text Box 15"/>
          <p:cNvSpPr/>
          <p:nvPr/>
        </p:nvSpPr>
        <p:spPr>
          <a:xfrm>
            <a:off x="6629400" y="2909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tochondr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Text Box 16"/>
          <p:cNvSpPr/>
          <p:nvPr/>
        </p:nvSpPr>
        <p:spPr>
          <a:xfrm>
            <a:off x="6477120" y="2514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ll Membr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Line 17"/>
          <p:cNvSpPr/>
          <p:nvPr/>
        </p:nvSpPr>
        <p:spPr>
          <a:xfrm flipH="1" flipV="1">
            <a:off x="4495680" y="1828440"/>
            <a:ext cx="76320" cy="762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3657600" y="138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ytoplas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Line 19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Line 20"/>
          <p:cNvSpPr/>
          <p:nvPr/>
        </p:nvSpPr>
        <p:spPr>
          <a:xfrm flipV="1">
            <a:off x="4876920" y="1828800"/>
            <a:ext cx="761760" cy="9144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Line 21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Line 22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Line 23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let’s talk about structures only found in PLANT Cells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bio_ch7_4819"/>
          <p:cNvPicPr/>
          <p:nvPr/>
        </p:nvPicPr>
        <p:blipFill>
          <a:blip r:embed="rId1"/>
          <a:stretch/>
        </p:blipFill>
        <p:spPr>
          <a:xfrm>
            <a:off x="2209680" y="1714680"/>
            <a:ext cx="4686480" cy="346680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18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7-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19"/>
          <p:cNvSpPr/>
          <p:nvPr/>
        </p:nvSpPr>
        <p:spPr>
          <a:xfrm>
            <a:off x="2743200" y="29844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7-5 Plant and Animal Ce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Text Box 20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Text Box 23"/>
          <p:cNvSpPr/>
          <p:nvPr/>
        </p:nvSpPr>
        <p:spPr>
          <a:xfrm>
            <a:off x="1295280" y="30492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Plant Cel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Text Box 24"/>
          <p:cNvSpPr/>
          <p:nvPr/>
        </p:nvSpPr>
        <p:spPr>
          <a:xfrm>
            <a:off x="990720" y="2681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ll Membr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Text Box 25"/>
          <p:cNvSpPr/>
          <p:nvPr/>
        </p:nvSpPr>
        <p:spPr>
          <a:xfrm>
            <a:off x="2590920" y="13860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Vacuo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Line 26"/>
          <p:cNvSpPr/>
          <p:nvPr/>
        </p:nvSpPr>
        <p:spPr>
          <a:xfrm flipH="1" flipV="1">
            <a:off x="5028840" y="3504960"/>
            <a:ext cx="1676520" cy="609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Line 27"/>
          <p:cNvSpPr/>
          <p:nvPr/>
        </p:nvSpPr>
        <p:spPr>
          <a:xfrm flipV="1">
            <a:off x="4952880" y="1676160"/>
            <a:ext cx="762120" cy="99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Line 28"/>
          <p:cNvSpPr/>
          <p:nvPr/>
        </p:nvSpPr>
        <p:spPr>
          <a:xfrm flipV="1">
            <a:off x="2666880" y="3580920"/>
            <a:ext cx="685800" cy="838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Line 29"/>
          <p:cNvSpPr/>
          <p:nvPr/>
        </p:nvSpPr>
        <p:spPr>
          <a:xfrm flipV="1">
            <a:off x="3276720" y="3581280"/>
            <a:ext cx="838080" cy="1447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Line 30"/>
          <p:cNvSpPr/>
          <p:nvPr/>
        </p:nvSpPr>
        <p:spPr>
          <a:xfrm>
            <a:off x="5334120" y="3505320"/>
            <a:ext cx="15238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Line 31"/>
          <p:cNvSpPr/>
          <p:nvPr/>
        </p:nvSpPr>
        <p:spPr>
          <a:xfrm flipV="1">
            <a:off x="5334120" y="2743200"/>
            <a:ext cx="1447560" cy="5335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Line 32"/>
          <p:cNvSpPr/>
          <p:nvPr/>
        </p:nvSpPr>
        <p:spPr>
          <a:xfrm flipV="1">
            <a:off x="5334120" y="2133360"/>
            <a:ext cx="1447560" cy="6094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Line 33"/>
          <p:cNvSpPr/>
          <p:nvPr/>
        </p:nvSpPr>
        <p:spPr>
          <a:xfrm>
            <a:off x="4952880" y="3657600"/>
            <a:ext cx="1447920" cy="990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Line 34"/>
          <p:cNvSpPr/>
          <p:nvPr/>
        </p:nvSpPr>
        <p:spPr>
          <a:xfrm>
            <a:off x="4876920" y="4038480"/>
            <a:ext cx="761760" cy="12193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Line 35"/>
          <p:cNvSpPr/>
          <p:nvPr/>
        </p:nvSpPr>
        <p:spPr>
          <a:xfrm>
            <a:off x="1066680" y="3352680"/>
            <a:ext cx="19051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Line 36"/>
          <p:cNvSpPr/>
          <p:nvPr/>
        </p:nvSpPr>
        <p:spPr>
          <a:xfrm>
            <a:off x="1905120" y="2133720"/>
            <a:ext cx="1295280" cy="685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ukaryotic Cell Organelles and Fun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Vacuo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stores w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what makes lettuce cris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there is no water, the plant wil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bio_ch7_4819b"/>
          <p:cNvPicPr/>
          <p:nvPr/>
        </p:nvPicPr>
        <p:blipFill>
          <a:blip r:embed="rId1"/>
          <a:stretch/>
        </p:blipFill>
        <p:spPr>
          <a:xfrm>
            <a:off x="1905120" y="1981080"/>
            <a:ext cx="4794120" cy="38037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6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7-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2743200" y="29844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7-5 Plant and Animal Ce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2362320" y="38088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Animal Cel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1828800" y="2438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ucle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2057400" y="2057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ucleol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6477120" y="2514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ll Membr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26"/>
          <p:cNvSpPr/>
          <p:nvPr/>
        </p:nvSpPr>
        <p:spPr>
          <a:xfrm flipH="1" flipV="1">
            <a:off x="4495680" y="1828440"/>
            <a:ext cx="76320" cy="762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3657600" y="138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ytoplas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Line 30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Line 31"/>
          <p:cNvSpPr/>
          <p:nvPr/>
        </p:nvSpPr>
        <p:spPr>
          <a:xfrm flipV="1">
            <a:off x="4876920" y="1828800"/>
            <a:ext cx="76176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Line 32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Line 33"/>
          <p:cNvSpPr/>
          <p:nvPr/>
        </p:nvSpPr>
        <p:spPr>
          <a:xfrm flipV="1">
            <a:off x="1905120" y="3733560"/>
            <a:ext cx="144756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Line 34"/>
          <p:cNvSpPr/>
          <p:nvPr/>
        </p:nvSpPr>
        <p:spPr>
          <a:xfrm flipV="1">
            <a:off x="2666880" y="4572000"/>
            <a:ext cx="1143000" cy="3808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35"/>
          <p:cNvSpPr/>
          <p:nvPr/>
        </p:nvSpPr>
        <p:spPr>
          <a:xfrm>
            <a:off x="5943600" y="3581280"/>
            <a:ext cx="14479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36"/>
          <p:cNvSpPr/>
          <p:nvPr/>
        </p:nvSpPr>
        <p:spPr>
          <a:xfrm>
            <a:off x="5867280" y="3048120"/>
            <a:ext cx="144792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37"/>
          <p:cNvSpPr/>
          <p:nvPr/>
        </p:nvSpPr>
        <p:spPr>
          <a:xfrm flipV="1">
            <a:off x="5105520" y="2209680"/>
            <a:ext cx="1371600" cy="6098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bio_ch7_4819"/>
          <p:cNvPicPr/>
          <p:nvPr/>
        </p:nvPicPr>
        <p:blipFill>
          <a:blip r:embed="rId1"/>
          <a:stretch/>
        </p:blipFill>
        <p:spPr>
          <a:xfrm>
            <a:off x="2209680" y="1714680"/>
            <a:ext cx="4686480" cy="346680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3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7-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2743200" y="29844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7-5 Plant and Animal Ce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295280" y="30492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Plant Cel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990720" y="2681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ll Membr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2590920" y="13860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cuo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1523880" y="21337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Chloroplas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Line 10"/>
          <p:cNvSpPr/>
          <p:nvPr/>
        </p:nvSpPr>
        <p:spPr>
          <a:xfrm flipH="1" flipV="1">
            <a:off x="5028840" y="3504960"/>
            <a:ext cx="1676520" cy="609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Line 11"/>
          <p:cNvSpPr/>
          <p:nvPr/>
        </p:nvSpPr>
        <p:spPr>
          <a:xfrm flipV="1">
            <a:off x="4952880" y="1676160"/>
            <a:ext cx="762120" cy="99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Line 12"/>
          <p:cNvSpPr/>
          <p:nvPr/>
        </p:nvSpPr>
        <p:spPr>
          <a:xfrm flipV="1">
            <a:off x="2666880" y="3580920"/>
            <a:ext cx="685800" cy="838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Line 13"/>
          <p:cNvSpPr/>
          <p:nvPr/>
        </p:nvSpPr>
        <p:spPr>
          <a:xfrm flipV="1">
            <a:off x="3276720" y="3581280"/>
            <a:ext cx="838080" cy="1447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Line 14"/>
          <p:cNvSpPr/>
          <p:nvPr/>
        </p:nvSpPr>
        <p:spPr>
          <a:xfrm>
            <a:off x="5334120" y="3505320"/>
            <a:ext cx="15238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Line 15"/>
          <p:cNvSpPr/>
          <p:nvPr/>
        </p:nvSpPr>
        <p:spPr>
          <a:xfrm flipV="1">
            <a:off x="5334120" y="2743200"/>
            <a:ext cx="1447560" cy="5335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Line 16"/>
          <p:cNvSpPr/>
          <p:nvPr/>
        </p:nvSpPr>
        <p:spPr>
          <a:xfrm flipV="1">
            <a:off x="5334120" y="2133360"/>
            <a:ext cx="1447560" cy="6094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Line 17"/>
          <p:cNvSpPr/>
          <p:nvPr/>
        </p:nvSpPr>
        <p:spPr>
          <a:xfrm>
            <a:off x="4952880" y="3657600"/>
            <a:ext cx="1447920" cy="990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8"/>
          <p:cNvSpPr/>
          <p:nvPr/>
        </p:nvSpPr>
        <p:spPr>
          <a:xfrm>
            <a:off x="4876920" y="4038480"/>
            <a:ext cx="761760" cy="12193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19"/>
          <p:cNvSpPr/>
          <p:nvPr/>
        </p:nvSpPr>
        <p:spPr>
          <a:xfrm>
            <a:off x="1066680" y="3352680"/>
            <a:ext cx="19051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ukaryotic Cell Organelles and Fun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Chloropla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traps energy from the sun to produce food for the plant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en in color because of chlorophyll, which is a green pi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loropla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39" name="Picture 4" descr="chloropl"/>
          <p:cNvPicPr/>
          <p:nvPr/>
        </p:nvPicPr>
        <p:blipFill>
          <a:blip r:embed="rId1"/>
          <a:stretch/>
        </p:blipFill>
        <p:spPr>
          <a:xfrm>
            <a:off x="2819520" y="2205000"/>
            <a:ext cx="449568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bio_ch7_4819"/>
          <p:cNvPicPr/>
          <p:nvPr/>
        </p:nvPicPr>
        <p:blipFill>
          <a:blip r:embed="rId1"/>
          <a:stretch/>
        </p:blipFill>
        <p:spPr>
          <a:xfrm>
            <a:off x="2209680" y="1714680"/>
            <a:ext cx="4686480" cy="34668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3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7-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2743200" y="29844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7-5 Plant and Animal Ce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1295280" y="30492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Plant Cel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990720" y="2681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ll Membr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2590920" y="13860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cuo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1523880" y="21337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loroplas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990720" y="3214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Cell W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12"/>
          <p:cNvSpPr/>
          <p:nvPr/>
        </p:nvSpPr>
        <p:spPr>
          <a:xfrm flipV="1">
            <a:off x="5486400" y="2743200"/>
            <a:ext cx="1371600" cy="457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13"/>
          <p:cNvSpPr/>
          <p:nvPr/>
        </p:nvSpPr>
        <p:spPr>
          <a:xfrm flipH="1" flipV="1">
            <a:off x="5028840" y="3504960"/>
            <a:ext cx="1676520" cy="609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Line 14"/>
          <p:cNvSpPr/>
          <p:nvPr/>
        </p:nvSpPr>
        <p:spPr>
          <a:xfrm flipV="1">
            <a:off x="4952880" y="1676160"/>
            <a:ext cx="762120" cy="99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Line 15"/>
          <p:cNvSpPr/>
          <p:nvPr/>
        </p:nvSpPr>
        <p:spPr>
          <a:xfrm flipV="1">
            <a:off x="2666880" y="3580920"/>
            <a:ext cx="685800" cy="838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Line 16"/>
          <p:cNvSpPr/>
          <p:nvPr/>
        </p:nvSpPr>
        <p:spPr>
          <a:xfrm flipV="1">
            <a:off x="3276720" y="3581280"/>
            <a:ext cx="838080" cy="1447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Line 17"/>
          <p:cNvSpPr/>
          <p:nvPr/>
        </p:nvSpPr>
        <p:spPr>
          <a:xfrm>
            <a:off x="5334120" y="3505320"/>
            <a:ext cx="15238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Line 18"/>
          <p:cNvSpPr/>
          <p:nvPr/>
        </p:nvSpPr>
        <p:spPr>
          <a:xfrm flipV="1">
            <a:off x="5334120" y="2743200"/>
            <a:ext cx="1447560" cy="5335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Line 19"/>
          <p:cNvSpPr/>
          <p:nvPr/>
        </p:nvSpPr>
        <p:spPr>
          <a:xfrm flipV="1">
            <a:off x="5334120" y="2133360"/>
            <a:ext cx="1447560" cy="6094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Line 20"/>
          <p:cNvSpPr/>
          <p:nvPr/>
        </p:nvSpPr>
        <p:spPr>
          <a:xfrm>
            <a:off x="4952880" y="3657600"/>
            <a:ext cx="1447920" cy="990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Line 21"/>
          <p:cNvSpPr/>
          <p:nvPr/>
        </p:nvSpPr>
        <p:spPr>
          <a:xfrm>
            <a:off x="4876920" y="4038480"/>
            <a:ext cx="761760" cy="12193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ukaryotic Cell Organelles and Fun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Cell W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provides support and protection to the cell membr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outside the cell membrane in plan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Oval 4"/>
          <p:cNvSpPr/>
          <p:nvPr/>
        </p:nvSpPr>
        <p:spPr>
          <a:xfrm>
            <a:off x="990720" y="1447920"/>
            <a:ext cx="4800600" cy="495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Oval 5"/>
          <p:cNvSpPr/>
          <p:nvPr/>
        </p:nvSpPr>
        <p:spPr>
          <a:xfrm>
            <a:off x="3352680" y="1447920"/>
            <a:ext cx="5029200" cy="4876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1447920" y="3049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ring Plant and Animal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1981080" y="8380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Text Box 8"/>
          <p:cNvSpPr/>
          <p:nvPr/>
        </p:nvSpPr>
        <p:spPr>
          <a:xfrm>
            <a:off x="4648320" y="8380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F:\PPS 500\فسيولوجيا متقدم\Plant Cell.png"/>
          <p:cNvPicPr/>
          <p:nvPr/>
        </p:nvPicPr>
        <p:blipFill>
          <a:blip r:embed="rId1"/>
          <a:stretch/>
        </p:blipFill>
        <p:spPr>
          <a:xfrm>
            <a:off x="1481040" y="1166760"/>
            <a:ext cx="618192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ukaryotic Cell Organelles and Func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07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ucle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ickna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“The Control Center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holds the D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Par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Nucleolu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dark spot in the middle of the nucleus that helps make riboso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bio_ch7_4819b"/>
          <p:cNvPicPr/>
          <p:nvPr/>
        </p:nvPicPr>
        <p:blipFill>
          <a:blip r:embed="rId1"/>
          <a:stretch/>
        </p:blipFill>
        <p:spPr>
          <a:xfrm>
            <a:off x="1905120" y="1987560"/>
            <a:ext cx="4794120" cy="38037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7-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2743200" y="29844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7-5 Plant and Animal Ce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2362320" y="38088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Animal Cel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1828800" y="2438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2057400" y="2057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ol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25"/>
          <p:cNvSpPr/>
          <p:nvPr/>
        </p:nvSpPr>
        <p:spPr>
          <a:xfrm>
            <a:off x="5791320" y="2057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Riboso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26"/>
          <p:cNvSpPr/>
          <p:nvPr/>
        </p:nvSpPr>
        <p:spPr>
          <a:xfrm>
            <a:off x="6477120" y="2514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ll Membr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Line 29"/>
          <p:cNvSpPr/>
          <p:nvPr/>
        </p:nvSpPr>
        <p:spPr>
          <a:xfrm flipH="1" flipV="1">
            <a:off x="4495680" y="1828440"/>
            <a:ext cx="76320" cy="762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30"/>
          <p:cNvSpPr/>
          <p:nvPr/>
        </p:nvSpPr>
        <p:spPr>
          <a:xfrm>
            <a:off x="3657600" y="138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ytoplas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Line 31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Line 32"/>
          <p:cNvSpPr/>
          <p:nvPr/>
        </p:nvSpPr>
        <p:spPr>
          <a:xfrm flipV="1">
            <a:off x="4876920" y="1828800"/>
            <a:ext cx="761760" cy="9144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Line 33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Line 34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35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Line 36"/>
          <p:cNvSpPr/>
          <p:nvPr/>
        </p:nvSpPr>
        <p:spPr>
          <a:xfrm flipV="1">
            <a:off x="1905120" y="3733560"/>
            <a:ext cx="144756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37"/>
          <p:cNvSpPr/>
          <p:nvPr/>
        </p:nvSpPr>
        <p:spPr>
          <a:xfrm flipV="1">
            <a:off x="2666880" y="4572000"/>
            <a:ext cx="1143000" cy="3808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38"/>
          <p:cNvSpPr/>
          <p:nvPr/>
        </p:nvSpPr>
        <p:spPr>
          <a:xfrm>
            <a:off x="5943600" y="3581280"/>
            <a:ext cx="14479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39"/>
          <p:cNvSpPr/>
          <p:nvPr/>
        </p:nvSpPr>
        <p:spPr>
          <a:xfrm>
            <a:off x="5867280" y="3048120"/>
            <a:ext cx="144792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ukaryotic Cell Organelles and Fun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iboso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 makes protei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in all cells, prokaryotic and eukaryo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ukaryotic Cell Organelles and Fun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40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Endoplasmic Reticulum (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ickna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“Road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The internal delivery system of the cel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bio_ch7_4819b"/>
          <p:cNvPicPr/>
          <p:nvPr/>
        </p:nvPicPr>
        <p:blipFill>
          <a:blip r:embed="rId1"/>
          <a:stretch/>
        </p:blipFill>
        <p:spPr>
          <a:xfrm>
            <a:off x="1905120" y="1987560"/>
            <a:ext cx="4794120" cy="38037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3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7-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743200" y="29844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7-5 Plant and Animal Ce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362320" y="38088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Animal Cel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1828800" y="2438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2057400" y="2057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ol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304920" y="350532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Rough Endoplasmic Reticul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6629400" y="327672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Smooth Endoplasmic Reticul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6477120" y="2514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ll Membr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15"/>
          <p:cNvSpPr/>
          <p:nvPr/>
        </p:nvSpPr>
        <p:spPr>
          <a:xfrm flipH="1" flipV="1">
            <a:off x="4495680" y="1828440"/>
            <a:ext cx="76320" cy="762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3657600" y="138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ytoplas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Line 17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Line 18"/>
          <p:cNvSpPr/>
          <p:nvPr/>
        </p:nvSpPr>
        <p:spPr>
          <a:xfrm flipV="1">
            <a:off x="4876920" y="1828800"/>
            <a:ext cx="761760" cy="9144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Line 19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Text Box 20"/>
          <p:cNvSpPr/>
          <p:nvPr/>
        </p:nvSpPr>
        <p:spPr>
          <a:xfrm>
            <a:off x="5791320" y="2057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boso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Line 21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Line 22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Line 24"/>
          <p:cNvSpPr/>
          <p:nvPr/>
        </p:nvSpPr>
        <p:spPr>
          <a:xfrm flipV="1">
            <a:off x="2666880" y="4572000"/>
            <a:ext cx="1143000" cy="3808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Line 26"/>
          <p:cNvSpPr/>
          <p:nvPr/>
        </p:nvSpPr>
        <p:spPr>
          <a:xfrm>
            <a:off x="5867280" y="3048120"/>
            <a:ext cx="144792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doplasmic Reticul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Typ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gh ER: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gh appearance because it has riboso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helps make proteins, that’s why it has riboso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iboso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makes fats or lipi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bio_ch7_4819b"/>
          <p:cNvPicPr/>
          <p:nvPr/>
        </p:nvPicPr>
        <p:blipFill>
          <a:blip r:embed="rId1"/>
          <a:stretch/>
        </p:blipFill>
        <p:spPr>
          <a:xfrm>
            <a:off x="1905120" y="1987560"/>
            <a:ext cx="4794120" cy="38037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3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7-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2743200" y="29844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7-5 Plant and Animal Ce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2362320" y="38088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Animal Cel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1828800" y="2438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2057400" y="2057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ol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304920" y="35053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ugh Endoplasmic Reticul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6553080" y="327672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mooth Endoplasmic Reticul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5791320" y="19810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boso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Text Box 14"/>
          <p:cNvSpPr/>
          <p:nvPr/>
        </p:nvSpPr>
        <p:spPr>
          <a:xfrm>
            <a:off x="1066680" y="4724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Golgi Comple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Text Box 15"/>
          <p:cNvSpPr/>
          <p:nvPr/>
        </p:nvSpPr>
        <p:spPr>
          <a:xfrm>
            <a:off x="6477120" y="2514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ll Membr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6"/>
          <p:cNvSpPr/>
          <p:nvPr/>
        </p:nvSpPr>
        <p:spPr>
          <a:xfrm flipH="1" flipV="1">
            <a:off x="4495680" y="1828440"/>
            <a:ext cx="76320" cy="762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 Box 17"/>
          <p:cNvSpPr/>
          <p:nvPr/>
        </p:nvSpPr>
        <p:spPr>
          <a:xfrm>
            <a:off x="3657600" y="138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ytoplas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18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Line 19"/>
          <p:cNvSpPr/>
          <p:nvPr/>
        </p:nvSpPr>
        <p:spPr>
          <a:xfrm flipV="1">
            <a:off x="4876920" y="1828800"/>
            <a:ext cx="761760" cy="9144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21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22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Line 26"/>
          <p:cNvSpPr/>
          <p:nvPr/>
        </p:nvSpPr>
        <p:spPr>
          <a:xfrm>
            <a:off x="5867280" y="3048120"/>
            <a:ext cx="144792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00:05:12Z</dcterms:created>
  <dc:creator>Courtney</dc:creator>
  <dc:description/>
  <dc:language>en-US</dc:language>
  <cp:lastModifiedBy>user</cp:lastModifiedBy>
  <dcterms:modified xsi:type="dcterms:W3CDTF">2012-09-15T04:27:17Z</dcterms:modified>
  <cp:revision>44</cp:revision>
  <dc:subject/>
  <dc:title>Chapters 4 and 5  Cell Structures, Functions and Transport</dc:title>
</cp:coreProperties>
</file>