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9674-B2A4-479C-B3C7-239F031F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2257-B38F-4640-BBC5-4555430E0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0C58-5631-4E48-A1CE-677288F6D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F503-17E7-4D8B-94A7-73BE18DF4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2087-94F9-4523-BC81-0F9F5F121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FB41-8DE8-49A9-8985-7C34CBB59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A8E0-40AB-40C2-B240-95AA4533C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83ED-43F6-4899-9011-B554B085A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2C00-270E-420B-A27F-032931596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79B8-6645-48EE-AE38-26C195A16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8A21-3DDD-4E88-8D51-CAF3B7913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B7D3-7EFB-490E-AA1E-1C7A78A98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4143-4A41-4F51-8DEC-11A13FA00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E4FF-1FFB-4539-8B73-CC165562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05C6-6A25-4C01-8DCA-1F04BCB1E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64F6-C269-4DA1-9173-07310E477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1041-FB05-4804-B335-3EB624283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2052-A234-4E89-B32E-21DCF284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FEA6-8BD2-450C-A6E8-07B35151A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4269-7870-44B4-AD1E-10F0896C8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4D14-AC7F-4A0B-9972-915058DF3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E6B7-BC42-4F93-AB28-6D2FDDD97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AA28-2F59-44D7-BCAD-F8DA90B27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3265-F556-411B-A39C-6C3D0451E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971A-7888-420D-AD9F-D6F854F6F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BBE6-5CBD-4B74-A877-F958EEFF0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6E3A-90D2-49B4-B99D-29E5CC9E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6FE-D968-4DA6-80EB-0CE31ABB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437-03B6-44C7-963E-126DDC9F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668-5555-4EEE-A07C-A96E8BD1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942-3362-41B8-AA96-C55BAA55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1399-BF84-442E-9193-1775E0CF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8361-FDA9-476E-8C22-4C4E1190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88CA-F5E8-42D3-9FE7-E7A58C61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F84A-3960-4373-90F3-734B5117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115B-F5F3-41A4-A07B-B9D9A9F4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4CCD-F978-4A36-A816-3E93BCF7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CA1D-2729-47DA-BE29-5C5BD628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887-3AFF-4468-94F7-518E9B33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A9DA-F0C4-40A0-8BC5-543BAA0D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B74E-FC42-41F8-9179-C2C1E6F3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9B6D-BC0C-4BA4-93BA-A80BC354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2915-0191-4F72-8889-66AC6124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0816-F4DB-491E-B49B-C34B96BE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4877-471C-439B-A90F-9E7BA676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5B7C-4772-425E-97EF-919A5DBA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E038E-A01B-4528-B4AD-402F5704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6AD83-0E5F-428F-A374-48A27E14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49C4-90BC-490B-AD88-B975BA33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304-EBD6-45DA-B599-AFEA4D7E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349D-916F-4F6A-A311-F40FE92E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FD74D-4C28-4284-BAFE-D434F1C8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36188-AE0E-424B-BBFA-CC72AAE9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C51B2-112B-4951-95A1-E91BAAE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F258-640E-4B41-94B7-102D3E63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F86FB-5D82-4D80-A8C1-97CDA64A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84F5-71E7-4D65-A61B-3656AD39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B5F-5914-40BF-BF25-19964B6C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C11-0A57-499E-9074-797B192F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761B-71B4-4FD5-9DAF-083C4BE3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AFC-8C4E-4CE1-B988-D04E185C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8FD-A95B-41AE-B112-0811A851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755-4BD8-478C-8959-F40BAE5B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F443-736F-40C1-A7F8-81ABFEF68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AC6A-341C-4C1D-ACAF-A38551D1F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B555-8F17-420F-A26A-3C572E0DEEB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78000" y="1735200"/>
            <a:ext cx="73404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ell Structures, Functions and Transpor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olgi Com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ck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The ship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packages, modifies, and transports materials to different location inside/outside of th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ppeara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tack of panca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6553080" y="3276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57913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2952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16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18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2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2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2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ysoso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ircular, but bigger than riboso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ck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“Clean-up Cre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to break down food into particles the rest of the cell can use and to destroy ol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629400" y="3473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57913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12952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6629400" y="2909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7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9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20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21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2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ck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“The Powerhous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Energy 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aks down food to make A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T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is the major fuel for all cell activities that require energ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Mitochondria Inner Structure"/>
          <p:cNvPicPr/>
          <p:nvPr/>
        </p:nvPicPr>
        <p:blipFill>
          <a:blip r:embed="rId1"/>
          <a:stretch/>
        </p:blipFill>
        <p:spPr>
          <a:xfrm>
            <a:off x="2567160" y="1244520"/>
            <a:ext cx="444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108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6"/>
          <p:cNvSpPr/>
          <p:nvPr/>
        </p:nvSpPr>
        <p:spPr>
          <a:xfrm>
            <a:off x="2133720" y="3049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6629400" y="3473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57913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12952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6629400" y="2909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17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19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20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21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22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let’s talk about structures only found in PLANT Cells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bio_ch7_4819"/>
          <p:cNvPicPr/>
          <p:nvPr/>
        </p:nvPicPr>
        <p:blipFill>
          <a:blip r:embed="rId1"/>
          <a:stretch/>
        </p:blipFill>
        <p:spPr>
          <a:xfrm>
            <a:off x="2209680" y="1714680"/>
            <a:ext cx="4686480" cy="34668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8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2952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26"/>
          <p:cNvSpPr/>
          <p:nvPr/>
        </p:nvSpPr>
        <p:spPr>
          <a:xfrm flipH="1" flipV="1">
            <a:off x="5028840" y="3504960"/>
            <a:ext cx="1676520" cy="609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27"/>
          <p:cNvSpPr/>
          <p:nvPr/>
        </p:nvSpPr>
        <p:spPr>
          <a:xfrm flipV="1">
            <a:off x="4952880" y="1676160"/>
            <a:ext cx="762120" cy="99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28"/>
          <p:cNvSpPr/>
          <p:nvPr/>
        </p:nvSpPr>
        <p:spPr>
          <a:xfrm flipV="1">
            <a:off x="2666880" y="358092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29"/>
          <p:cNvSpPr/>
          <p:nvPr/>
        </p:nvSpPr>
        <p:spPr>
          <a:xfrm flipV="1">
            <a:off x="3276720" y="3581280"/>
            <a:ext cx="83808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30"/>
          <p:cNvSpPr/>
          <p:nvPr/>
        </p:nvSpPr>
        <p:spPr>
          <a:xfrm>
            <a:off x="5334120" y="35053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31"/>
          <p:cNvSpPr/>
          <p:nvPr/>
        </p:nvSpPr>
        <p:spPr>
          <a:xfrm flipV="1">
            <a:off x="5334120" y="2743200"/>
            <a:ext cx="144756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32"/>
          <p:cNvSpPr/>
          <p:nvPr/>
        </p:nvSpPr>
        <p:spPr>
          <a:xfrm flipV="1">
            <a:off x="5334120" y="2133360"/>
            <a:ext cx="144756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33"/>
          <p:cNvSpPr/>
          <p:nvPr/>
        </p:nvSpPr>
        <p:spPr>
          <a:xfrm>
            <a:off x="4952880" y="3657600"/>
            <a:ext cx="1447920" cy="99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34"/>
          <p:cNvSpPr/>
          <p:nvPr/>
        </p:nvSpPr>
        <p:spPr>
          <a:xfrm>
            <a:off x="4876920" y="4038480"/>
            <a:ext cx="761760" cy="121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35"/>
          <p:cNvSpPr/>
          <p:nvPr/>
        </p:nvSpPr>
        <p:spPr>
          <a:xfrm>
            <a:off x="1066680" y="3352680"/>
            <a:ext cx="1905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36"/>
          <p:cNvSpPr/>
          <p:nvPr/>
        </p:nvSpPr>
        <p:spPr>
          <a:xfrm>
            <a:off x="1905120" y="2133720"/>
            <a:ext cx="1295280" cy="685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Vacu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tores w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what makes lettuce cri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re is no water, the plant wi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108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6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26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30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31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33"/>
          <p:cNvSpPr/>
          <p:nvPr/>
        </p:nvSpPr>
        <p:spPr>
          <a:xfrm flipV="1">
            <a:off x="1905120" y="3733560"/>
            <a:ext cx="1447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34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35"/>
          <p:cNvSpPr/>
          <p:nvPr/>
        </p:nvSpPr>
        <p:spPr>
          <a:xfrm>
            <a:off x="5943600" y="35812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3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37"/>
          <p:cNvSpPr/>
          <p:nvPr/>
        </p:nvSpPr>
        <p:spPr>
          <a:xfrm flipV="1">
            <a:off x="5105520" y="2209680"/>
            <a:ext cx="137160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bio_ch7_4819"/>
          <p:cNvPicPr/>
          <p:nvPr/>
        </p:nvPicPr>
        <p:blipFill>
          <a:blip r:embed="rId1"/>
          <a:stretch/>
        </p:blipFill>
        <p:spPr>
          <a:xfrm>
            <a:off x="2209680" y="1714680"/>
            <a:ext cx="4686480" cy="34668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2952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1523880" y="2133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10"/>
          <p:cNvSpPr/>
          <p:nvPr/>
        </p:nvSpPr>
        <p:spPr>
          <a:xfrm flipH="1" flipV="1">
            <a:off x="5028840" y="3504960"/>
            <a:ext cx="1676520" cy="609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11"/>
          <p:cNvSpPr/>
          <p:nvPr/>
        </p:nvSpPr>
        <p:spPr>
          <a:xfrm flipV="1">
            <a:off x="4952880" y="1676160"/>
            <a:ext cx="762120" cy="99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12"/>
          <p:cNvSpPr/>
          <p:nvPr/>
        </p:nvSpPr>
        <p:spPr>
          <a:xfrm flipV="1">
            <a:off x="2666880" y="358092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13"/>
          <p:cNvSpPr/>
          <p:nvPr/>
        </p:nvSpPr>
        <p:spPr>
          <a:xfrm flipV="1">
            <a:off x="3276720" y="3581280"/>
            <a:ext cx="83808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14"/>
          <p:cNvSpPr/>
          <p:nvPr/>
        </p:nvSpPr>
        <p:spPr>
          <a:xfrm>
            <a:off x="5334120" y="35053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5"/>
          <p:cNvSpPr/>
          <p:nvPr/>
        </p:nvSpPr>
        <p:spPr>
          <a:xfrm flipV="1">
            <a:off x="5334120" y="2743200"/>
            <a:ext cx="144756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6"/>
          <p:cNvSpPr/>
          <p:nvPr/>
        </p:nvSpPr>
        <p:spPr>
          <a:xfrm flipV="1">
            <a:off x="5334120" y="2133360"/>
            <a:ext cx="144756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7"/>
          <p:cNvSpPr/>
          <p:nvPr/>
        </p:nvSpPr>
        <p:spPr>
          <a:xfrm>
            <a:off x="4952880" y="3657600"/>
            <a:ext cx="1447920" cy="99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8"/>
          <p:cNvSpPr/>
          <p:nvPr/>
        </p:nvSpPr>
        <p:spPr>
          <a:xfrm>
            <a:off x="4876920" y="4038480"/>
            <a:ext cx="761760" cy="121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9"/>
          <p:cNvSpPr/>
          <p:nvPr/>
        </p:nvSpPr>
        <p:spPr>
          <a:xfrm>
            <a:off x="1066680" y="3352680"/>
            <a:ext cx="1905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hloropla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traps energy from the sun to produce food for the plant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n in color because of chlorophyll, which is a green pi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loropla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9" name="Picture 4" descr="chloropl"/>
          <p:cNvPicPr/>
          <p:nvPr/>
        </p:nvPicPr>
        <p:blipFill>
          <a:blip r:embed="rId1"/>
          <a:stretch/>
        </p:blipFill>
        <p:spPr>
          <a:xfrm>
            <a:off x="2819520" y="2205000"/>
            <a:ext cx="44956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bio_ch7_4819"/>
          <p:cNvPicPr/>
          <p:nvPr/>
        </p:nvPicPr>
        <p:blipFill>
          <a:blip r:embed="rId1"/>
          <a:stretch/>
        </p:blipFill>
        <p:spPr>
          <a:xfrm>
            <a:off x="2209680" y="1714680"/>
            <a:ext cx="4686480" cy="3466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2952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523880" y="2133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990720" y="32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12"/>
          <p:cNvSpPr/>
          <p:nvPr/>
        </p:nvSpPr>
        <p:spPr>
          <a:xfrm flipV="1">
            <a:off x="5486400" y="2743200"/>
            <a:ext cx="137160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13"/>
          <p:cNvSpPr/>
          <p:nvPr/>
        </p:nvSpPr>
        <p:spPr>
          <a:xfrm flipH="1" flipV="1">
            <a:off x="5028840" y="3504960"/>
            <a:ext cx="1676520" cy="609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14"/>
          <p:cNvSpPr/>
          <p:nvPr/>
        </p:nvSpPr>
        <p:spPr>
          <a:xfrm flipV="1">
            <a:off x="4952880" y="1676160"/>
            <a:ext cx="762120" cy="99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15"/>
          <p:cNvSpPr/>
          <p:nvPr/>
        </p:nvSpPr>
        <p:spPr>
          <a:xfrm flipV="1">
            <a:off x="2666880" y="358092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16"/>
          <p:cNvSpPr/>
          <p:nvPr/>
        </p:nvSpPr>
        <p:spPr>
          <a:xfrm flipV="1">
            <a:off x="3276720" y="3581280"/>
            <a:ext cx="83808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17"/>
          <p:cNvSpPr/>
          <p:nvPr/>
        </p:nvSpPr>
        <p:spPr>
          <a:xfrm>
            <a:off x="5334120" y="35053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18"/>
          <p:cNvSpPr/>
          <p:nvPr/>
        </p:nvSpPr>
        <p:spPr>
          <a:xfrm flipV="1">
            <a:off x="5334120" y="2743200"/>
            <a:ext cx="144756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19"/>
          <p:cNvSpPr/>
          <p:nvPr/>
        </p:nvSpPr>
        <p:spPr>
          <a:xfrm flipV="1">
            <a:off x="5334120" y="2133360"/>
            <a:ext cx="144756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20"/>
          <p:cNvSpPr/>
          <p:nvPr/>
        </p:nvSpPr>
        <p:spPr>
          <a:xfrm>
            <a:off x="4952880" y="3657600"/>
            <a:ext cx="1447920" cy="99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21"/>
          <p:cNvSpPr/>
          <p:nvPr/>
        </p:nvSpPr>
        <p:spPr>
          <a:xfrm>
            <a:off x="4876920" y="4038480"/>
            <a:ext cx="761760" cy="121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provides support and protection to the cell membr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outside the cell membrane in plan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val 4"/>
          <p:cNvSpPr/>
          <p:nvPr/>
        </p:nvSpPr>
        <p:spPr>
          <a:xfrm>
            <a:off x="990720" y="1447920"/>
            <a:ext cx="4800600" cy="495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Oval 5"/>
          <p:cNvSpPr/>
          <p:nvPr/>
        </p:nvSpPr>
        <p:spPr>
          <a:xfrm>
            <a:off x="3352680" y="1447920"/>
            <a:ext cx="5029200" cy="4876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447920" y="304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ng Plant and Animal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19810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4648320" y="838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F:\PPS 500\فسيولوجيا متقدم\Plant Cell.png"/>
          <p:cNvPicPr/>
          <p:nvPr/>
        </p:nvPicPr>
        <p:blipFill>
          <a:blip r:embed="rId1"/>
          <a:stretch/>
        </p:blipFill>
        <p:spPr>
          <a:xfrm>
            <a:off x="1481040" y="1166760"/>
            <a:ext cx="61819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ck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“The Control Cente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holds the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ar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ucleol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dark spot in the middle of the nucleus that helps make ribos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57913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9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3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32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34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35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36"/>
          <p:cNvSpPr/>
          <p:nvPr/>
        </p:nvSpPr>
        <p:spPr>
          <a:xfrm flipV="1">
            <a:off x="1905120" y="3733560"/>
            <a:ext cx="1447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37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38"/>
          <p:cNvSpPr/>
          <p:nvPr/>
        </p:nvSpPr>
        <p:spPr>
          <a:xfrm>
            <a:off x="5943600" y="35812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9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 makes prote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all cells, prokaryotic and eukaryo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ukaryotic Cell Organelles and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4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ndoplasmic Reticulum (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ck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“Road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The internal delivery system of the cel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04920" y="35053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629400" y="3276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15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17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18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19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57913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2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2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24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2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oplasmic Reticul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gh ER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gh appearance because it has ribos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helps make proteins, that’s why it has ribos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ibos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makes fats or lip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6553080" y="3276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5791320" y="1981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10666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Golgi Compl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6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8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9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2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0:05:12Z</dcterms:created>
  <dc:creator>Courtney</dc:creator>
  <dc:description/>
  <dc:language>en-US</dc:language>
  <cp:lastModifiedBy>user</cp:lastModifiedBy>
  <dcterms:modified xsi:type="dcterms:W3CDTF">2012-09-15T04:27:17Z</dcterms:modified>
  <cp:revision>44</cp:revision>
  <dc:subject/>
  <dc:title>Chapters 4 and 5  Cell Structures, Functions and Transport</dc:title>
</cp:coreProperties>
</file>