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E730-9336-4C97-B28D-C4DABC6F320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C360-5C28-4844-A7B3-6BB33D7A0C0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Calibri"/>
              </a:rPr>
              <a:t>مصا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Calibri"/>
              </a:rPr>
              <a:t>غير مصا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Calibri"/>
              </a:rPr>
              <a:t>المجمو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ول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بن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لمجمو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27F3-E91F-40FD-B0E6-A5774A598D7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B81D-D008-4E6E-B996-D7FD3C50D51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A311-B932-4546-BB7A-EC150D10D36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ECC-C384-41CB-B403-20AA3C17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2DC-E892-4C3A-83FB-B40BDC09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452-EEFA-4646-AAEE-C4C2A04A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978-9AA4-4546-AAC4-8DBEA6EB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E39-BD0E-40F2-BCAF-2BCC934B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8E1-2F88-45F5-85C4-C2D3F296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C94-CA94-4D31-B159-09064E4A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49A-6E45-4084-B037-B52E756C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D63-1C6E-4DBA-8726-1E9136EE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6A7-98A7-4E56-AA19-97AD2E21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AA2-98B5-46C4-9330-7BB3D49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300-6D59-4C59-8932-F33C7007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1C2C-F1E6-495C-9CB5-CF70DD71A7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سلمات الإحتما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26560" y="981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ح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)=0.6, P(B)=0.7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إحتمال حدوث واحد من الحدثين 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Calibri"/>
              </a:rPr>
              <a:t>على الأقل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= الإتح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UB)=0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/ النجاح في مقرر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Calibri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قرر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∩B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وبالتالي إحتمال النجاح في المقررين ه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∩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59"/>
              <p:cNvSpPr txBox="1"/>
              <p:nvPr/>
            </p:nvSpPr>
            <p:spPr>
              <a:xfrm>
                <a:off x="539640" y="76500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60"/>
              <p:cNvSpPr txBox="1"/>
              <p:nvPr/>
            </p:nvSpPr>
            <p:spPr>
              <a:xfrm>
                <a:off x="611280" y="189000"/>
                <a:ext cx="5698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61"/>
              <p:cNvSpPr txBox="1"/>
              <p:nvPr/>
            </p:nvSpPr>
            <p:spPr>
              <a:xfrm>
                <a:off x="539640" y="1052640"/>
                <a:ext cx="199080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Content Placeholder 2"/>
          <p:cNvSpPr/>
          <p:nvPr/>
        </p:nvSpPr>
        <p:spPr>
          <a:xfrm>
            <a:off x="324000" y="189000"/>
            <a:ext cx="2592360" cy="1224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62"/>
              <p:cNvSpPr txBox="1"/>
              <p:nvPr/>
            </p:nvSpPr>
            <p:spPr>
              <a:xfrm>
                <a:off x="684360" y="3284640"/>
                <a:ext cx="3527280" cy="23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836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/ إحتمال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فقط 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A)=0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/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هو الحدث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و</a:t>
            </a:r>
            <a:r>
              <a:rPr b="0" lang="ar-SA" sz="2800" spc="-1" strike="noStrike" u="sng">
                <a:solidFill>
                  <a:srgbClr val="00b0f0"/>
                </a:solidFill>
                <a:uFillTx/>
                <a:latin typeface="Calibri"/>
              </a:rPr>
              <a:t>عدم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بالتالي فإن حدوث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عدم حدوث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∩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179280" y="189000"/>
            <a:ext cx="2592360" cy="1224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58"/>
              <p:cNvSpPr txBox="1"/>
              <p:nvPr/>
            </p:nvSpPr>
            <p:spPr>
              <a:xfrm>
                <a:off x="539640" y="76500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259"/>
              <p:cNvSpPr txBox="1"/>
              <p:nvPr/>
            </p:nvSpPr>
            <p:spPr>
              <a:xfrm>
                <a:off x="611280" y="260280"/>
                <a:ext cx="5698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60"/>
              <p:cNvSpPr txBox="1"/>
              <p:nvPr/>
            </p:nvSpPr>
            <p:spPr>
              <a:xfrm>
                <a:off x="539640" y="1052640"/>
                <a:ext cx="199080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61"/>
              <p:cNvSpPr txBox="1"/>
              <p:nvPr/>
            </p:nvSpPr>
            <p:spPr>
              <a:xfrm>
                <a:off x="468360" y="2354400"/>
                <a:ext cx="295128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∩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144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r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-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و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وبالتالي فإن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alibri"/>
                <a:cs typeface="Akhbar MT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∩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نعلم أن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∩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=(AU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وبالتالي يكون احتمال عدم النجاح في ال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وعدم النجاح في ال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P((AU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)=1-P(AUB)=1-0.9=0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179280" y="189000"/>
            <a:ext cx="2232000" cy="1152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94"/>
              <p:cNvSpPr txBox="1"/>
              <p:nvPr/>
            </p:nvSpPr>
            <p:spPr>
              <a:xfrm>
                <a:off x="539640" y="76500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95"/>
              <p:cNvSpPr txBox="1"/>
              <p:nvPr/>
            </p:nvSpPr>
            <p:spPr>
              <a:xfrm>
                <a:off x="611280" y="260280"/>
                <a:ext cx="5698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96"/>
              <p:cNvSpPr txBox="1"/>
              <p:nvPr/>
            </p:nvSpPr>
            <p:spPr>
              <a:xfrm>
                <a:off x="539640" y="1052640"/>
                <a:ext cx="17287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5280" y="1628640"/>
            <a:ext cx="82202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881640" indent="-474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-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 الحدث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،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وبالتالي فإن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alibri"/>
                <a:cs typeface="Akhbar MT"/>
              </a:rPr>
              <a:t>أو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 الحدث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P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UB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حيث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P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)=1-P(A)=1-0.6=0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179280" y="189000"/>
            <a:ext cx="2232000" cy="1152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58"/>
              <p:cNvSpPr txBox="1"/>
              <p:nvPr/>
            </p:nvSpPr>
            <p:spPr>
              <a:xfrm>
                <a:off x="539640" y="76500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259"/>
              <p:cNvSpPr txBox="1"/>
              <p:nvPr/>
            </p:nvSpPr>
            <p:spPr>
              <a:xfrm>
                <a:off x="611280" y="260280"/>
                <a:ext cx="5698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260"/>
              <p:cNvSpPr txBox="1"/>
              <p:nvPr/>
            </p:nvSpPr>
            <p:spPr>
              <a:xfrm>
                <a:off x="539640" y="1052640"/>
                <a:ext cx="17287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261"/>
              <p:cNvSpPr txBox="1"/>
              <p:nvPr/>
            </p:nvSpPr>
            <p:spPr>
              <a:xfrm>
                <a:off x="3059280" y="2924280"/>
                <a:ext cx="3528720" cy="23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-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2836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cs typeface="Arabic Typesetting"/>
              </a:rPr>
              <a:t>ملاحظة: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الأحداث المتنافية هي الأحداث التي يستحيل حدوثها معا فإذا كان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و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حدثان فإ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333399"/>
                </a:solidFill>
                <a:uFillTx/>
                <a:latin typeface="Calibri"/>
                <a:cs typeface="Akhbar MT"/>
              </a:rPr>
              <a:t>مثال: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cs typeface="Akhbar MT"/>
              </a:rPr>
              <a:t>إذا كان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98989"/>
                </a:solidFill>
                <a:latin typeface="Calibri"/>
                <a:cs typeface="Akhbar MT"/>
              </a:rPr>
              <a:t>فأوجدي احتمال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إذا كانت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و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حدثين متنافي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130"/>
          <p:cNvGraphicFramePr/>
          <p:nvPr/>
        </p:nvGraphicFramePr>
        <p:xfrm>
          <a:off x="4716360" y="1916280"/>
          <a:ext cx="201636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16280"/>
                    <a:ext cx="20163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31"/>
          <p:cNvGraphicFramePr/>
          <p:nvPr/>
        </p:nvGraphicFramePr>
        <p:xfrm>
          <a:off x="4513320" y="3068640"/>
          <a:ext cx="272268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3320" y="3068640"/>
                    <a:ext cx="27226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ذا كانت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حادثتان متنافيتان فإن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∩B=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179280" y="189000"/>
            <a:ext cx="2232000" cy="1152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58"/>
              <p:cNvSpPr txBox="1"/>
              <p:nvPr/>
            </p:nvSpPr>
            <p:spPr>
              <a:xfrm>
                <a:off x="539640" y="76500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259"/>
              <p:cNvSpPr txBox="1"/>
              <p:nvPr/>
            </p:nvSpPr>
            <p:spPr>
              <a:xfrm>
                <a:off x="611280" y="260280"/>
                <a:ext cx="5698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260"/>
              <p:cNvSpPr txBox="1"/>
              <p:nvPr/>
            </p:nvSpPr>
            <p:spPr>
              <a:xfrm>
                <a:off x="539640" y="1052640"/>
                <a:ext cx="17287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61"/>
              <p:cNvSpPr txBox="1"/>
              <p:nvPr/>
            </p:nvSpPr>
            <p:spPr>
              <a:xfrm>
                <a:off x="2050920" y="2421000"/>
                <a:ext cx="3889440" cy="28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32720" y="115560"/>
            <a:ext cx="1954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0000"/>
                </a:solidFill>
                <a:uFillTx/>
                <a:latin typeface="Calibri"/>
              </a:rPr>
              <a:t>الواج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2" descr=""/>
          <p:cNvPicPr/>
          <p:nvPr/>
        </p:nvPicPr>
        <p:blipFill>
          <a:blip r:embed="rId1"/>
          <a:stretch/>
        </p:blipFill>
        <p:spPr>
          <a:xfrm>
            <a:off x="463680" y="615960"/>
            <a:ext cx="824220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مربع نص 3"/>
          <p:cNvSpPr/>
          <p:nvPr/>
        </p:nvSpPr>
        <p:spPr>
          <a:xfrm>
            <a:off x="3276720" y="558720"/>
            <a:ext cx="520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81bd"/>
                </a:solidFill>
                <a:latin typeface="Calibri"/>
                <a:cs typeface="Times New Roman"/>
              </a:rPr>
              <a:t>الاحتمال الشرطي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ربع نص 4"/>
          <p:cNvSpPr/>
          <p:nvPr/>
        </p:nvSpPr>
        <p:spPr>
          <a:xfrm>
            <a:off x="1285920" y="16430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ن دراسة الاحتمال الشرطي تعني حساب إحتمال حادث ما إذا علم حدوث حادث اخ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مربع نص 5"/>
          <p:cNvSpPr/>
          <p:nvPr/>
        </p:nvSpPr>
        <p:spPr>
          <a:xfrm>
            <a:off x="1071720" y="25718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إذا كا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حدثين فإن إحتمال حدوث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علماً بأ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قد حدث فعلا يُعبر عنه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/B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ويسمى بالاحتمال الشرطي ل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إذا كانت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قد حدثت ويعرف بـ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مربع نص 6"/>
          <p:cNvSpPr/>
          <p:nvPr/>
        </p:nvSpPr>
        <p:spPr>
          <a:xfrm>
            <a:off x="2133720" y="4143240"/>
            <a:ext cx="17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\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3929040" y="4143240"/>
            <a:ext cx="927000" cy="657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5286240" y="4143240"/>
            <a:ext cx="960480" cy="657360"/>
          </a:xfrm>
          <a:prstGeom prst="rect">
            <a:avLst/>
          </a:prstGeom>
          <a:ln w="0">
            <a:noFill/>
          </a:ln>
        </p:spPr>
      </p:pic>
      <p:sp>
        <p:nvSpPr>
          <p:cNvPr id="132" name="مربع نص 13"/>
          <p:cNvSpPr/>
          <p:nvPr/>
        </p:nvSpPr>
        <p:spPr>
          <a:xfrm>
            <a:off x="4929120" y="40719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مربع نص 14"/>
          <p:cNvSpPr/>
          <p:nvPr/>
        </p:nvSpPr>
        <p:spPr>
          <a:xfrm>
            <a:off x="1143000" y="542916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شرط أن تك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B) &gt; 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.الحدث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في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\B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هو فراغ العينة الجديد ويسمى الفراغ المختزل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اعتبار التجربة العشوائية المكونة من رمي حجر نرد، لتك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= حادثة الحصول عل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= حادثة الحصول على عدد زوج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</a:rPr>
              <a:t>احسب احتمال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</a:t>
            </a:r>
            <a:r>
              <a:rPr b="1" lang="ar-SA" sz="3200" spc="-1" strike="noStrike">
                <a:solidFill>
                  <a:srgbClr val="0070c0"/>
                </a:solidFill>
                <a:latin typeface="Calibri"/>
              </a:rPr>
              <a:t> إذا علمت بوقوع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</a:t>
            </a:r>
            <a:r>
              <a:rPr b="1" lang="ar-SA" sz="32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نفنا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شخص وفقاً للنوع (ولد-بنت) ووفقاً للإصابة بمرض عمى الألوان، فكانت النتيج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حسب الاحتمالات التالي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/ إذا علمنا أن الشخص المختار بنت، ما احتمال أن تكون مصابة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/ما احتمال أن الشخص المختار ولد إذا علمنا أنه مصاب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397160"/>
          <a:ext cx="6096240" cy="28033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صا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غير مصا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ول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بن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المجمو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</a:rPr>
              <a:t>مسلمات الاحتمال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4920" y="1447920"/>
            <a:ext cx="84438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حتمال الحد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يرمز له بالرم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هو عدد يحقق المسلمات التال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A)≥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S)=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0≤P(A) ≤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كل متتابعة من الأحداث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تنافية مثنى فإ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أ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30"/>
              <p:cNvSpPr txBox="1"/>
              <p:nvPr/>
            </p:nvSpPr>
            <p:spPr>
              <a:xfrm>
                <a:off x="971640" y="4581360"/>
                <a:ext cx="4680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2" descr=""/>
          <p:cNvPicPr/>
          <p:nvPr/>
        </p:nvPicPr>
        <p:blipFill>
          <a:blip r:embed="rId1"/>
          <a:stretch/>
        </p:blipFill>
        <p:spPr>
          <a:xfrm>
            <a:off x="244440" y="255600"/>
            <a:ext cx="879624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نفت مجموعة م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مريض راجعوا قسم الإسعاف خلال شهر في أحد المستشفيات في مدينة حسب النوع وحسب تقرير الطبيب إذا كانت الحالة مستعجلة أم لا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 اختيار أحد المراجعين عشوائياً احسب الاحتمالات التالي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تكون تامراجعة أنثى وحالتها مستعج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يكون المراجع ذكر أو حالته مستعج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تكون المراجعة أنثى إذا علم أن حالتها غير مستعج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يكون المراجع ذكر أو أنث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7640" y="1989000"/>
          <a:ext cx="6096240" cy="18892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ذكر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نثى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تعجلة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غير مستعجلة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2" descr=""/>
          <p:cNvPicPr/>
          <p:nvPr/>
        </p:nvPicPr>
        <p:blipFill>
          <a:blip r:embed="rId1"/>
          <a:stretch/>
        </p:blipFill>
        <p:spPr>
          <a:xfrm>
            <a:off x="450720" y="328680"/>
            <a:ext cx="844884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404640"/>
            <a:ext cx="8229600" cy="612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حتمال أن يحصل مشترك في المسابقة لتجويد القرآن وتفسيره على جائزة التجويد ه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0.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يحصل على جائزة التفسير ه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حتمال أن يحصل عليهما معاً ه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0.09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، إحسب الاحتمالات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شترك سوف لا يحصل على جائزة التجويد علماً أنه حصل على جتئزة التفس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سوف يحصل على جائزة التفسير علماً أنه لم يحصل على جائزة التجوي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Calibri"/>
              </a:rPr>
              <a:t>الحوادث المستق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ontent Placeholder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Content Placeholder 2" descr=""/>
          <p:cNvPicPr/>
          <p:nvPr/>
        </p:nvPicPr>
        <p:blipFill>
          <a:blip r:embed="rId1"/>
          <a:stretch/>
        </p:blipFill>
        <p:spPr>
          <a:xfrm>
            <a:off x="450720" y="469800"/>
            <a:ext cx="822960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ذا كان احتمال أن يصيب محمد هدف معين هو ¾ واحتمال أن يصيب أحمد الهدف نفسه ه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/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أوجد الاحتمالات التالي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يصيبا الهدف معا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الأقل يصيب الهدف أحدهم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حمد يصيب الهدف وأحمد لا يصيب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ذا علم أن محمد لم يصب الهدف، ما احتمال أن يصيبه أحم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واج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2" descr=""/>
          <p:cNvPicPr/>
          <p:nvPr/>
        </p:nvPicPr>
        <p:blipFill>
          <a:blip r:embed="rId1"/>
          <a:stretch/>
        </p:blipFill>
        <p:spPr>
          <a:xfrm>
            <a:off x="450720" y="1189080"/>
            <a:ext cx="8242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</a:rPr>
              <a:t>نتائج مسلمات الاحتما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=1-P(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94"/>
              <p:cNvSpPr txBox="1"/>
              <p:nvPr/>
            </p:nvSpPr>
            <p:spPr>
              <a:xfrm>
                <a:off x="1332000" y="1700280"/>
                <a:ext cx="1066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95"/>
              <p:cNvSpPr txBox="1"/>
              <p:nvPr/>
            </p:nvSpPr>
            <p:spPr>
              <a:xfrm>
                <a:off x="1258920" y="2852640"/>
                <a:ext cx="3282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96"/>
              <p:cNvSpPr txBox="1"/>
              <p:nvPr/>
            </p:nvSpPr>
            <p:spPr>
              <a:xfrm>
                <a:off x="1403280" y="3573360"/>
                <a:ext cx="3733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مربع نص 3"/>
          <p:cNvSpPr/>
          <p:nvPr/>
        </p:nvSpPr>
        <p:spPr>
          <a:xfrm>
            <a:off x="6000840" y="64296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81bd"/>
                </a:solidFill>
                <a:latin typeface="Calibri"/>
                <a:cs typeface="Times New Roman"/>
              </a:rPr>
              <a:t>ملاحظه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مربع نص 4"/>
          <p:cNvSpPr/>
          <p:nvPr/>
        </p:nvSpPr>
        <p:spPr>
          <a:xfrm>
            <a:off x="785880" y="1714680"/>
            <a:ext cx="7643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ذكرنا سابقا أن الاحداث المتنافية هي التي يستحيل حدوثها معاً 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كانت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حدثان متنافيان فإن    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   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نتج عن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A     B) 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3191040" y="2643120"/>
            <a:ext cx="23796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7286760" y="3500280"/>
            <a:ext cx="237960" cy="4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6"/>
              <p:cNvSpPr txBox="1"/>
              <p:nvPr/>
            </p:nvSpPr>
            <p:spPr>
              <a:xfrm>
                <a:off x="3857760" y="2666880"/>
                <a:ext cx="31428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ذا كان إحتمال نجاح طالبة في مقرر ما هو ¾. ما هو احتمال رسوبها في هذا المقرر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فرض أن الحدث نجاح الطالبة في المقرر =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بالتالي فإن الحدث رسوبها في المقرر =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كون إحتمال رسوبها في المقرر ه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(A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</a:rPr>
              <a:t>C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)=1-P(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3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560" y="765000"/>
            <a:ext cx="83516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cs typeface="Arabic Typesetting"/>
              </a:rPr>
              <a:t>مثال</a:t>
            </a: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ea typeface="Arabic Typesetting"/>
              </a:rPr>
              <a:t>: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</a:t>
            </a:r>
            <a:r>
              <a:rPr b="0" lang="ar-SA" sz="3200" spc="-1" strike="noStrike">
                <a:solidFill>
                  <a:srgbClr val="898989"/>
                </a:solidFill>
                <a:latin typeface="Calibri"/>
                <a:cs typeface="Akhbar MT"/>
              </a:rPr>
              <a:t>إذا ك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cs typeface="Akhbar MT"/>
              </a:rPr>
              <a:t>احسبي الاحتمالات التال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197"/>
          <p:cNvGraphicFramePr/>
          <p:nvPr/>
        </p:nvGraphicFramePr>
        <p:xfrm>
          <a:off x="900000" y="1341360"/>
          <a:ext cx="727236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72723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20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198"/>
          <p:cNvGraphicFramePr/>
          <p:nvPr/>
        </p:nvGraphicFramePr>
        <p:xfrm>
          <a:off x="755640" y="2990880"/>
          <a:ext cx="1492200" cy="20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19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990880"/>
                    <a:ext cx="149220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23"/>
          <p:cNvSpPr/>
          <p:nvPr/>
        </p:nvSpPr>
        <p:spPr>
          <a:xfrm>
            <a:off x="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99"/>
              <p:cNvSpPr txBox="1"/>
              <p:nvPr/>
            </p:nvSpPr>
            <p:spPr>
              <a:xfrm>
                <a:off x="1835280" y="314172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Calibri"/>
              </a:rPr>
              <a:t>نستخدم نتائج مسلمات الإحتم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Calibri"/>
              </a:rPr>
              <a:t>من </a:t>
            </a:r>
            <a:r>
              <a:rPr b="0" lang="ar-SA" sz="3200" spc="-1" strike="noStrike">
                <a:solidFill>
                  <a:srgbClr val="00b05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b050"/>
                </a:solidFill>
                <a:latin typeface="Calibri"/>
              </a:rPr>
              <a:t> ومن حل </a:t>
            </a:r>
            <a:r>
              <a:rPr b="0" lang="ar-SA" sz="3200" spc="-1" strike="noStrike">
                <a:solidFill>
                  <a:srgbClr val="00b05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b05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250920" y="189000"/>
            <a:ext cx="2592360" cy="1224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8"/>
          <p:cNvGrpSpPr/>
          <p:nvPr/>
        </p:nvGrpSpPr>
        <p:grpSpPr>
          <a:xfrm>
            <a:off x="539640" y="189000"/>
            <a:ext cx="1990800" cy="1066680"/>
            <a:chOff x="539640" y="189000"/>
            <a:chExt cx="1990800" cy="1066680"/>
          </a:xfrm>
        </p:grpSpPr>
        <mc:AlternateContent>
          <mc:Choice xmlns:a14="http://schemas.microsoft.com/office/drawing/2010/main" Requires="a14">
            <p:sp>
              <p:nvSpPr>
                <p:cNvPr id="79" name="Object 452"/>
                <p:cNvSpPr txBox="1"/>
                <p:nvPr/>
              </p:nvSpPr>
              <p:spPr>
                <a:xfrm>
                  <a:off x="539640" y="765360"/>
                  <a:ext cx="1751040" cy="2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∩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∩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c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Object 453"/>
                <p:cNvSpPr txBox="1"/>
                <p:nvPr/>
              </p:nvSpPr>
              <p:spPr>
                <a:xfrm>
                  <a:off x="610920" y="189000"/>
                  <a:ext cx="56988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Object 454"/>
                <p:cNvSpPr txBox="1"/>
                <p:nvPr/>
              </p:nvSpPr>
              <p:spPr>
                <a:xfrm>
                  <a:off x="539640" y="1052640"/>
                  <a:ext cx="19908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∪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-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∩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2" name="Object 455"/>
              <p:cNvSpPr txBox="1"/>
              <p:nvPr/>
            </p:nvSpPr>
            <p:spPr>
              <a:xfrm>
                <a:off x="395280" y="1773360"/>
                <a:ext cx="4675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/ 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456"/>
              <p:cNvSpPr txBox="1"/>
              <p:nvPr/>
            </p:nvSpPr>
            <p:spPr>
              <a:xfrm>
                <a:off x="611280" y="2637000"/>
                <a:ext cx="305424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/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57"/>
              <p:cNvSpPr txBox="1"/>
              <p:nvPr/>
            </p:nvSpPr>
            <p:spPr>
              <a:xfrm>
                <a:off x="468360" y="4365720"/>
                <a:ext cx="3948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/ 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58"/>
              <p:cNvSpPr txBox="1"/>
              <p:nvPr/>
            </p:nvSpPr>
            <p:spPr>
              <a:xfrm>
                <a:off x="539640" y="5157720"/>
                <a:ext cx="18003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4/ 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cs typeface="Arabic Typesetting"/>
              </a:rPr>
              <a:t>مثال</a:t>
            </a: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ea typeface="Arabic Typesetting"/>
              </a:rPr>
              <a:t>: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إذا كان احتمال النجاح في مقرر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هو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0.6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واحتمال النجاح في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هو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0.7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واحتمال النجاح في مقرر واحد على الأقل هو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0.9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.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 احسبي الاحتمالات التال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1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- احتمال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 و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2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- احتمال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 فق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3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- احتمال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cs typeface="Akhbar MT"/>
              </a:rPr>
              <a:t>و عدم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4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- احتمال عدم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 و عدم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5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- احتمال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 أو عدم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12:57:58Z</dcterms:created>
  <dc:creator>Zainab</dc:creator>
  <dc:description/>
  <dc:language>en-US</dc:language>
  <cp:lastModifiedBy>sarah</cp:lastModifiedBy>
  <dcterms:modified xsi:type="dcterms:W3CDTF">2013-11-28T05:29:03Z</dcterms:modified>
  <cp:revision>95</cp:revision>
  <dc:subject/>
  <dc:title>مسلمات الإحتمال</dc:title>
</cp:coreProperties>
</file>