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5CE4-401D-417E-BBC7-BB4F7CA9EFA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B22-CE74-44F8-A464-0F79E219C01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Calibri"/>
              </a:rPr>
              <a:t>مصا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Calibri"/>
              </a:rPr>
              <a:t>غير مصا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Calibri"/>
              </a:rPr>
              <a:t>المجمو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ول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بن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</a:rPr>
              <a:t>المجمو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alibri"/>
                <a:ea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3DCC-E641-4974-B23C-9176EC472B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AC9A-A493-4EEE-BED8-2EE842BFA75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5A67-CD18-4D46-AB79-E9F1CA62B0B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D5C-A215-40DC-B064-BDE94134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12A-A60D-4EC3-AA66-9864F61C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AFC-21AF-4100-930A-164CB735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706-3EFD-4F0C-88F7-6C41480C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643-B27A-4630-974B-F1F1D2F6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68D-A3E0-4B2A-ACB4-3780705A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A7E-BB94-462E-9D5A-6B34AEC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23C-D4AB-4A11-8D4B-3E1A3747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8C5-87AD-4880-B2DA-9A6A6AEF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694-0435-46BB-A124-27A314E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3B2-DAF2-4DD6-B20B-9A8E589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22E-5110-4FBD-A28B-A3588B8E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448D-AFA7-4594-B4A8-FDD752D4BA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سلمات الإحتما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560" y="981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)=0.6, P(B)=0.7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إحتمال حدوث واحد من الحدثين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Calibri"/>
              </a:rPr>
              <a:t>على الأقل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= الإتح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UB)=0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/ النجاح في مقرر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قرر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∩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، وبالتالي إحتمال النجاح في المقررين ه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∩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59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60"/>
              <p:cNvSpPr txBox="1"/>
              <p:nvPr/>
            </p:nvSpPr>
            <p:spPr>
              <a:xfrm>
                <a:off x="611280" y="189000"/>
                <a:ext cx="569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61"/>
              <p:cNvSpPr txBox="1"/>
              <p:nvPr/>
            </p:nvSpPr>
            <p:spPr>
              <a:xfrm>
                <a:off x="539640" y="1052640"/>
                <a:ext cx="19908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Content Placeholder 2"/>
          <p:cNvSpPr/>
          <p:nvPr/>
        </p:nvSpPr>
        <p:spPr>
          <a:xfrm>
            <a:off x="324000" y="189000"/>
            <a:ext cx="2592360" cy="1224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62"/>
              <p:cNvSpPr txBox="1"/>
              <p:nvPr/>
            </p:nvSpPr>
            <p:spPr>
              <a:xfrm>
                <a:off x="684360" y="3284640"/>
                <a:ext cx="3527280" cy="23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/ إحتمال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قط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A)=0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/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هو الحدث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و</a:t>
            </a:r>
            <a:r>
              <a:rPr b="0" lang="ar-SA" sz="2800" spc="-1" strike="noStrike" u="sng">
                <a:solidFill>
                  <a:srgbClr val="00b0f0"/>
                </a:solidFill>
                <a:uFillTx/>
                <a:latin typeface="Calibri"/>
              </a:rPr>
              <a:t>عدم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بالتالي فإن حدو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عدم حدو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∩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179280" y="189000"/>
            <a:ext cx="2592360" cy="1224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58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259"/>
              <p:cNvSpPr txBox="1"/>
              <p:nvPr/>
            </p:nvSpPr>
            <p:spPr>
              <a:xfrm>
                <a:off x="611280" y="260280"/>
                <a:ext cx="5698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60"/>
              <p:cNvSpPr txBox="1"/>
              <p:nvPr/>
            </p:nvSpPr>
            <p:spPr>
              <a:xfrm>
                <a:off x="539640" y="1052640"/>
                <a:ext cx="19908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61"/>
              <p:cNvSpPr txBox="1"/>
              <p:nvPr/>
            </p:nvSpPr>
            <p:spPr>
              <a:xfrm>
                <a:off x="468360" y="2354400"/>
                <a:ext cx="295128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∩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144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r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-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و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وبالتالي فإن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  <a:cs typeface="Akhbar MT"/>
              </a:rPr>
              <a:t>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∩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نعلم أن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∩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=(AU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وبالتالي يكون احتمال عدم النجاح في ال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وعدم النجاح في ال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P((AU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)=1-P(AUB)=1-0.9=0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179280" y="189000"/>
            <a:ext cx="2232000" cy="115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94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95"/>
              <p:cNvSpPr txBox="1"/>
              <p:nvPr/>
            </p:nvSpPr>
            <p:spPr>
              <a:xfrm>
                <a:off x="611280" y="260280"/>
                <a:ext cx="5698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96"/>
              <p:cNvSpPr txBox="1"/>
              <p:nvPr/>
            </p:nvSpPr>
            <p:spPr>
              <a:xfrm>
                <a:off x="539640" y="1052640"/>
                <a:ext cx="17287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1628640"/>
            <a:ext cx="8220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-474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-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الحد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،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ه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وبالتالي فإن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alibri"/>
                <a:cs typeface="Akhbar MT"/>
              </a:rPr>
              <a:t>أو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عدم النجاح في مقر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khbar MT"/>
              </a:rPr>
              <a:t> هو الحد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P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UB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khbar MT"/>
              </a:rPr>
              <a:t>حيث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P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khbar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khbar MT"/>
              </a:rPr>
              <a:t>)=1-P(A)=1-0.6=0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179280" y="189000"/>
            <a:ext cx="2232000" cy="115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58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59"/>
              <p:cNvSpPr txBox="1"/>
              <p:nvPr/>
            </p:nvSpPr>
            <p:spPr>
              <a:xfrm>
                <a:off x="611280" y="260280"/>
                <a:ext cx="5698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260"/>
              <p:cNvSpPr txBox="1"/>
              <p:nvPr/>
            </p:nvSpPr>
            <p:spPr>
              <a:xfrm>
                <a:off x="539640" y="1052640"/>
                <a:ext cx="17287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61"/>
              <p:cNvSpPr txBox="1"/>
              <p:nvPr/>
            </p:nvSpPr>
            <p:spPr>
              <a:xfrm>
                <a:off x="3059280" y="2924280"/>
                <a:ext cx="3528720" cy="23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-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2836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cs typeface="Arabic Typesetting"/>
              </a:rPr>
              <a:t>ملاحظة: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الأحداث المتنافية هي الأحداث التي يستحيل حدوثها معا فإذا كان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حدثان فإ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333399"/>
                </a:solidFill>
                <a:uFillTx/>
                <a:latin typeface="Calibri"/>
                <a:cs typeface="Akhbar MT"/>
              </a:rPr>
              <a:t>مثال: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cs typeface="Akhbar MT"/>
              </a:rPr>
              <a:t>إذا كان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98989"/>
                </a:solidFill>
                <a:latin typeface="Calibri"/>
                <a:cs typeface="Akhbar MT"/>
              </a:rPr>
              <a:t>فأوجدي احتمال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إذا كانت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حدثين متنافي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130"/>
          <p:cNvGraphicFramePr/>
          <p:nvPr/>
        </p:nvGraphicFramePr>
        <p:xfrm>
          <a:off x="4716360" y="1916280"/>
          <a:ext cx="201636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16280"/>
                    <a:ext cx="20163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31"/>
          <p:cNvGraphicFramePr/>
          <p:nvPr/>
        </p:nvGraphicFramePr>
        <p:xfrm>
          <a:off x="4513320" y="3068640"/>
          <a:ext cx="272268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3320" y="3068640"/>
                    <a:ext cx="27226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ذا كانت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حادثتان متنافيتان فإن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∩B=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179280" y="189000"/>
            <a:ext cx="2232000" cy="1152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58"/>
              <p:cNvSpPr txBox="1"/>
              <p:nvPr/>
            </p:nvSpPr>
            <p:spPr>
              <a:xfrm>
                <a:off x="539640" y="76500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259"/>
              <p:cNvSpPr txBox="1"/>
              <p:nvPr/>
            </p:nvSpPr>
            <p:spPr>
              <a:xfrm>
                <a:off x="611280" y="260280"/>
                <a:ext cx="5698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260"/>
              <p:cNvSpPr txBox="1"/>
              <p:nvPr/>
            </p:nvSpPr>
            <p:spPr>
              <a:xfrm>
                <a:off x="539640" y="1052640"/>
                <a:ext cx="17287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61"/>
              <p:cNvSpPr txBox="1"/>
              <p:nvPr/>
            </p:nvSpPr>
            <p:spPr>
              <a:xfrm>
                <a:off x="2050920" y="2421000"/>
                <a:ext cx="3889440" cy="28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32720" y="115560"/>
            <a:ext cx="1954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0000"/>
                </a:solidFill>
                <a:uFillTx/>
                <a:latin typeface="Calibri"/>
              </a:rPr>
              <a:t>الواج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2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مربع نص 3"/>
          <p:cNvSpPr/>
          <p:nvPr/>
        </p:nvSpPr>
        <p:spPr>
          <a:xfrm>
            <a:off x="3276720" y="558720"/>
            <a:ext cx="520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81bd"/>
                </a:solidFill>
                <a:latin typeface="Calibri"/>
                <a:cs typeface="Times New Roman"/>
              </a:rPr>
              <a:t>الاحتمال الشرطي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4"/>
          <p:cNvSpPr/>
          <p:nvPr/>
        </p:nvSpPr>
        <p:spPr>
          <a:xfrm>
            <a:off x="1285920" y="16430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ن دراسة الاحتمال الشرطي تعني حساب إحتمال حادث ما إذا علم حدوث حادث اخ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مربع نص 5"/>
          <p:cNvSpPr/>
          <p:nvPr/>
        </p:nvSpPr>
        <p:spPr>
          <a:xfrm>
            <a:off x="1071720" y="25718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فإذا كا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حدثين فإن إحتمال حدوث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علماً بأ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قد حدث فعلا يُعبر عنه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/B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ويسمى بالاحتمال الشرطي ل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إذا كانت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قد حدثت ويعرف بـ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مربع نص 6"/>
          <p:cNvSpPr/>
          <p:nvPr/>
        </p:nvSpPr>
        <p:spPr>
          <a:xfrm>
            <a:off x="2133720" y="4143240"/>
            <a:ext cx="17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\B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3929040" y="4143240"/>
            <a:ext cx="927000" cy="657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5286240" y="4143240"/>
            <a:ext cx="960480" cy="657360"/>
          </a:xfrm>
          <a:prstGeom prst="rect">
            <a:avLst/>
          </a:prstGeom>
          <a:ln w="0">
            <a:noFill/>
          </a:ln>
        </p:spPr>
      </p:pic>
      <p:sp>
        <p:nvSpPr>
          <p:cNvPr id="132" name="مربع نص 13"/>
          <p:cNvSpPr/>
          <p:nvPr/>
        </p:nvSpPr>
        <p:spPr>
          <a:xfrm>
            <a:off x="4929120" y="40719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مربع نص 14"/>
          <p:cNvSpPr/>
          <p:nvPr/>
        </p:nvSpPr>
        <p:spPr>
          <a:xfrm>
            <a:off x="1143000" y="542916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شرط أن تك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B) &gt; 0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.الحدث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في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\B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هو فراغ العينة الجديد ويسمى الفراغ المختزل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اعتبار التجربة العشوائية المكونة من رمي حجر نرد، لتك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= حادثة الحصول ع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= حادثة الحصول على عدد زوج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احسب احتمال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</a:t>
            </a: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 إذا علمت بوقوع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</a:t>
            </a: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نفن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شخص وفقاً للنوع (ولد-بنت) ووفقاً للإصابة بمرض عمى الألوان، فكانت النتيج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حسب الاحتمالات التال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/ إذا علمنا أن الشخص المختار بنت، ما احتمال أن تكون مصابة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/ما احتمال أن الشخص المختار ولد إذا علمنا أنه مصاب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97160"/>
          <a:ext cx="6096240" cy="28033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صا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غير مصا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ول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بن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المجمو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</a:rPr>
              <a:t>مسلمات الاحتمال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447920"/>
            <a:ext cx="84438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حتمال الحد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رمز له بالرم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هو عدد يحقق المسلمات التال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A)≥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S)=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0≤P(A) ≤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كل متتابعة من الأحداث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تنافية مثنى فإ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أ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30"/>
              <p:cNvSpPr txBox="1"/>
              <p:nvPr/>
            </p:nvSpPr>
            <p:spPr>
              <a:xfrm>
                <a:off x="971640" y="4581360"/>
                <a:ext cx="4680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2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79624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نفت مجموعة م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مريض راجعوا قسم الإسعاف خلال شهر في أحد المستشفيات في مدينة حسب النوع وحسب تقرير الطبيب إذا كانت الحالة مستعجلة أم لا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 اختيار أحد المراجعين عشوائياً احسب الاحتمالات التال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تكون تامراجعة أنثى وحالتها مستعج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يكون المراجع ذكر أو حالته مستعج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تكون المراجعة أنثى إذا علم أن حالتها غير مستعج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يكون المراجع ذكر أو أنث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7640" y="1989000"/>
          <a:ext cx="6096240" cy="18892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ذكر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نثى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تعجل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غير مستعجلة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2" descr=""/>
          <p:cNvPicPr/>
          <p:nvPr/>
        </p:nvPicPr>
        <p:blipFill>
          <a:blip r:embed="rId1"/>
          <a:stretch/>
        </p:blipFill>
        <p:spPr>
          <a:xfrm>
            <a:off x="450720" y="328680"/>
            <a:ext cx="844884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404640"/>
            <a:ext cx="8229600" cy="612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حتمال أن يحصل مشترك في المسابقة لتجويد القرآن وتفسيره على جائزة التجويد ه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0.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يحصل على جائزة التفسير ه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حتمال أن يحصل عليهما معاً ه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0.09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، إحسب الاحتمالات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شترك سوف لا يحصل على جائزة التجويد علماً أنه حصل على جتئزة التفس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سوف يحصل على جائزة التفسير علماً أنه لم يحصل على جائزة التجوي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Calibri"/>
              </a:rPr>
              <a:t>الحوادث المستق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Content Placeholder 2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822960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ذا كان احتمال أن يصيب محمد هدف معين هو ¾ واحتمال أن يصيب أحمد الهدف نفسه ه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/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أوجد الاحتمالات التال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يصيبا الهدف معا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الأقل يصيب الهدف أحدهم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حمد يصيب الهدف وأحمد لا يصيب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ذا علم أن محمد لم يصب الهدف، ما احتمال أن يصيبه أحم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واج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2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8242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</a:rPr>
              <a:t>نتائج مسلمات الاحتما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=1-P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94"/>
              <p:cNvSpPr txBox="1"/>
              <p:nvPr/>
            </p:nvSpPr>
            <p:spPr>
              <a:xfrm>
                <a:off x="1332000" y="1700280"/>
                <a:ext cx="1066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95"/>
              <p:cNvSpPr txBox="1"/>
              <p:nvPr/>
            </p:nvSpPr>
            <p:spPr>
              <a:xfrm>
                <a:off x="1258920" y="2852640"/>
                <a:ext cx="3282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96"/>
              <p:cNvSpPr txBox="1"/>
              <p:nvPr/>
            </p:nvSpPr>
            <p:spPr>
              <a:xfrm>
                <a:off x="1403280" y="3573360"/>
                <a:ext cx="3733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مربع نص 3"/>
          <p:cNvSpPr/>
          <p:nvPr/>
        </p:nvSpPr>
        <p:spPr>
          <a:xfrm>
            <a:off x="6000840" y="64296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81bd"/>
                </a:solidFill>
                <a:latin typeface="Calibri"/>
                <a:cs typeface="Times New Roman"/>
              </a:rPr>
              <a:t>ملاحظه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مربع نص 4"/>
          <p:cNvSpPr/>
          <p:nvPr/>
        </p:nvSpPr>
        <p:spPr>
          <a:xfrm>
            <a:off x="785880" y="1714680"/>
            <a:ext cx="7643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ذكرنا سابقا أن الاحداث المتنافية هي التي يستحيل حدوثها معاً 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كانت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حدثان متنافيان فإن    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   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نتج عن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A     B) 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191040" y="2643120"/>
            <a:ext cx="23796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286760" y="3500280"/>
            <a:ext cx="237960" cy="4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6"/>
              <p:cNvSpPr txBox="1"/>
              <p:nvPr/>
            </p:nvSpPr>
            <p:spPr>
              <a:xfrm>
                <a:off x="3857760" y="2666880"/>
                <a:ext cx="31428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ذا كان إحتمال نجاح طالبة في مقرر ما هو ¾. ما هو احتمال رسوبها في هذا المقرر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فرض أن الحدث نجاح الطالبة في المقرر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بالتالي فإن الحدث رسوبها في المقرر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كون إحتمال رسوبها في المقرر ه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(A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</a:rPr>
              <a:t>C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=1-P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3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560" y="765000"/>
            <a:ext cx="8351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cs typeface="Arabic Typesetting"/>
              </a:rPr>
              <a:t>مثال</a:t>
            </a: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ea typeface="Arabic Typesetting"/>
              </a:rPr>
              <a:t>: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</a:t>
            </a:r>
            <a:r>
              <a:rPr b="0" lang="ar-SA" sz="3200" spc="-1" strike="noStrike">
                <a:solidFill>
                  <a:srgbClr val="898989"/>
                </a:solidFill>
                <a:latin typeface="Calibri"/>
                <a:cs typeface="Akhbar MT"/>
              </a:rPr>
              <a:t>إذا ك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cs typeface="Akhbar MT"/>
              </a:rPr>
              <a:t>احسبي الاحتمالات التال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197"/>
          <p:cNvGraphicFramePr/>
          <p:nvPr/>
        </p:nvGraphicFramePr>
        <p:xfrm>
          <a:off x="900000" y="1341360"/>
          <a:ext cx="727236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72723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20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198"/>
          <p:cNvGraphicFramePr/>
          <p:nvPr/>
        </p:nvGraphicFramePr>
        <p:xfrm>
          <a:off x="755640" y="2990880"/>
          <a:ext cx="1492200" cy="20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19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990880"/>
                    <a:ext cx="149220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23"/>
          <p:cNvSpPr/>
          <p:nvPr/>
        </p:nvSpPr>
        <p:spPr>
          <a:xfrm>
            <a:off x="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99"/>
              <p:cNvSpPr txBox="1"/>
              <p:nvPr/>
            </p:nvSpPr>
            <p:spPr>
              <a:xfrm>
                <a:off x="1835280" y="3141720"/>
                <a:ext cx="1751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الح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Calibri"/>
              </a:rPr>
              <a:t>نستخدم نتائج مسلمات الإحتم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من </a:t>
            </a: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 ومن حل </a:t>
            </a: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b05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250920" y="189000"/>
            <a:ext cx="2592360" cy="1224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(A</a:t>
            </a:r>
            <a:r>
              <a:rPr b="0" lang="en-US" sz="1800" spc="-1" strike="noStrike" baseline="30000">
                <a:solidFill>
                  <a:srgbClr val="898989"/>
                </a:solidFill>
                <a:latin typeface="Calibri"/>
              </a:rPr>
              <a:t>c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)=1-P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8"/>
          <p:cNvGrpSpPr/>
          <p:nvPr/>
        </p:nvGrpSpPr>
        <p:grpSpPr>
          <a:xfrm>
            <a:off x="539640" y="189000"/>
            <a:ext cx="1990800" cy="1066680"/>
            <a:chOff x="539640" y="189000"/>
            <a:chExt cx="1990800" cy="1066680"/>
          </a:xfrm>
        </p:grpSpPr>
        <mc:AlternateContent>
          <mc:Choice xmlns:a14="http://schemas.microsoft.com/office/drawing/2010/main" Requires="a14">
            <p:sp>
              <p:nvSpPr>
                <p:cNvPr id="79" name="Object 452"/>
                <p:cNvSpPr txBox="1"/>
                <p:nvPr/>
              </p:nvSpPr>
              <p:spPr>
                <a:xfrm>
                  <a:off x="539640" y="765360"/>
                  <a:ext cx="175104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∩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∩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c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453"/>
                <p:cNvSpPr txBox="1"/>
                <p:nvPr/>
              </p:nvSpPr>
              <p:spPr>
                <a:xfrm>
                  <a:off x="610920" y="189000"/>
                  <a:ext cx="56988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Object 454"/>
                <p:cNvSpPr txBox="1"/>
                <p:nvPr/>
              </p:nvSpPr>
              <p:spPr>
                <a:xfrm>
                  <a:off x="539640" y="1052640"/>
                  <a:ext cx="19908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∪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-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∩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2" name="Object 455"/>
              <p:cNvSpPr txBox="1"/>
              <p:nvPr/>
            </p:nvSpPr>
            <p:spPr>
              <a:xfrm>
                <a:off x="395280" y="1773360"/>
                <a:ext cx="4675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/ 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456"/>
              <p:cNvSpPr txBox="1"/>
              <p:nvPr/>
            </p:nvSpPr>
            <p:spPr>
              <a:xfrm>
                <a:off x="611280" y="2637000"/>
                <a:ext cx="305424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/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57"/>
              <p:cNvSpPr txBox="1"/>
              <p:nvPr/>
            </p:nvSpPr>
            <p:spPr>
              <a:xfrm>
                <a:off x="468360" y="4365720"/>
                <a:ext cx="3948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/ 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∩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∪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58"/>
              <p:cNvSpPr txBox="1"/>
              <p:nvPr/>
            </p:nvSpPr>
            <p:spPr>
              <a:xfrm>
                <a:off x="539640" y="5157720"/>
                <a:ext cx="18003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4/ 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cs typeface="Arabic Typesetting"/>
              </a:rPr>
              <a:t>مثال</a:t>
            </a: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333399"/>
                </a:solidFill>
                <a:uFillTx/>
                <a:latin typeface="Calibri"/>
                <a:ea typeface="Arabic Typesetting"/>
              </a:rPr>
              <a:t>: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إذا كان احتمال النجاح في مقرر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ه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0.6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واحتمال النجاح في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ه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0.7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 واحتمال النجاح في مقرر واحد على الأقل هو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  <a:ea typeface="Akhbar MT"/>
              </a:rPr>
              <a:t>0.9</a:t>
            </a:r>
            <a:r>
              <a:rPr b="0" lang="ar-SA" sz="2400" spc="-1" strike="noStrike">
                <a:solidFill>
                  <a:srgbClr val="898989"/>
                </a:solidFill>
                <a:latin typeface="Calibri"/>
                <a:ea typeface="Akhbar MT"/>
              </a:rPr>
              <a:t>.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احسبي الاحتمالات التال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1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و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2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فق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3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cs typeface="Akhbar MT"/>
              </a:rPr>
              <a:t>و عدم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4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عدم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و عدم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5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- احتمال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B</a:t>
            </a:r>
            <a:r>
              <a:rPr b="0" lang="ar-SA" sz="2800" spc="-1" strike="noStrike">
                <a:solidFill>
                  <a:srgbClr val="898989"/>
                </a:solidFill>
                <a:latin typeface="Calibri"/>
                <a:ea typeface="Akhbar MT"/>
              </a:rPr>
              <a:t> أو عدم النجاح في مقرر 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  <a:ea typeface="Akhbar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12:57:58Z</dcterms:created>
  <dc:creator>Zainab</dc:creator>
  <dc:description/>
  <dc:language>en-US</dc:language>
  <cp:lastModifiedBy>sarah</cp:lastModifiedBy>
  <dcterms:modified xsi:type="dcterms:W3CDTF">2013-11-28T05:29:03Z</dcterms:modified>
  <cp:revision>95</cp:revision>
  <dc:subject/>
  <dc:title>مسلمات الإحتمال</dc:title>
</cp:coreProperties>
</file>