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6EB1-579B-45E5-9451-91357F6CF7C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CA2C-7502-44BF-B89C-942ADD415046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302-9860-4CE3-AD64-2F820E63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AFF-A3B0-4B3D-A8B3-A8C764DB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A7B-853A-46D9-A0DA-3813B57D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4F6-BF99-4B74-808F-088B5CD1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0F59-E2CF-492E-AE2F-C2F372D9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2F80-5A79-4951-9F43-322C1006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A123-BE44-4B9F-9D5F-A95F8D9C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8251-3DFA-4A5C-BDFD-2B9BC844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8381-C6F5-4F40-AB3C-B976C2F2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E08E-105B-4755-9949-36583C71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FC19-7C1D-410F-A8DB-4F02D858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7F1-3D7C-41F5-840B-9606A1EE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F100-714A-4412-B41B-8339346C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7026-48F5-4B36-BAA3-6C9627F7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9072-D95A-4E99-9A63-BFEEF509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1ACE-E3E2-4858-8318-0992E1DC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5D16-BE6A-4371-AB69-431DA986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75348-8695-4967-BFF8-70FD4BFC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2066D-E398-43AC-93D5-ACFCAB11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DEE8D-6918-4A54-BA88-C4A8544A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BD6E4-9257-4490-A412-305F62B1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0B1A7-5D1C-4EB7-993C-39BA5E34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A77-7F60-45AB-9BF8-7301FC2E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0B9CA-0D60-4208-819F-8BD2B1FA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1508F-3E5A-4A22-837B-8C123738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E0D8D-EEF3-4484-BF36-B7D03710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1D881-0981-463E-BD4D-85F3988B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EB16F-A6EB-4B63-9BA1-753C74F9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B25A2-8D61-4EAF-B374-23E8B92B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AEBA5-FE99-406B-8C02-DC4F47EC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42E2E-4989-4342-8E8A-91F2297C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F2E5B-0D50-4C88-BBA5-D0CDDB23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28D36-881B-4620-8DB3-D59B3107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85E3-6632-4A49-BA96-775F5C54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BBA4C-35E4-4F31-A615-478125E9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FDDE1-74D7-473E-9210-AD67780B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3F922-C1B9-4C12-8150-1D5D51A0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C3E4B-3D92-4E19-9D3A-B2629648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1B8BE-7FE2-468A-A2BD-CE1C18CC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CA267-38F3-4D45-A5B8-AA68E7B5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5B4BF-538C-479F-83F6-C00BEA54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ABB89-FD93-4F13-B50D-0A46BB67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EA7CA-01D3-4F4A-AFDF-983F4ED9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51C97-43A3-4B60-BFF9-26C4C247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CA33-33EB-47EE-A51E-2BD9FB95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709DB-0797-4912-AE63-D4686AEE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0B4FC-9AC9-494A-B1DC-4B7DCC01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46FFD-75CA-44EC-AF7B-50218B5C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A1FDB-45E2-4FB3-9FAA-E1001A0B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CE729-DFFF-4AEE-9321-91D4399E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C02E0-AE90-47A9-96BA-3B3B1D58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00467-8C14-483B-BC0F-F44829A5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50ED2-C3F6-46E5-B2E3-60C2623F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47114-3D09-4727-A9C6-D3DB3C6E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90384-2333-4123-B9AC-55342137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F51F-F3B8-4C69-B965-0068E85B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B5BD1-CEE5-4CA2-9159-91970CE9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C8DB-D80F-4BEB-AEBF-B233BEDA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592-D34F-4E5C-9C55-9ECD4961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FCF-6736-45C0-B531-EDFF5583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اعداد / أ.دنيا العثيم &amp; أ. غادة الرشي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FFC5-532B-4B8B-9257-CD82C417F1B1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اعداد / أ.دنيا العثيم &amp; أ. غادة الرشي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2B97-4547-42AE-BE3A-7934CDA92BF6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اعداد / أ.دنيا العثيم &amp; أ. غادة الرشي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8F46-DC6C-4546-8AB1-71ECB12DA7CC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اعداد / أ.دنيا العثيم &amp; أ. غادة الرشي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96CD-4F95-4EA7-8C99-873640E32046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اعداد / أ.دنيا العثيم &amp; أ. غادة الرشي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EB18-B57A-405B-9C77-3A03D4BCDBF7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52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0000"/>
                </a:solidFill>
                <a:latin typeface="Verdana"/>
                <a:cs typeface="Akhbar MT"/>
              </a:rPr>
              <a:t>إدارة الأنتاج</a:t>
            </a:r>
            <a:endParaRPr b="1" lang="en-US" sz="9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9766f"/>
                </a:solidFill>
                <a:latin typeface="Verdana"/>
                <a:ea typeface="Akhbar MT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Footer Placeholder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Comic Sans MS"/>
              </a:rPr>
              <a:t>اعداد / أ.دنيا العثيم &amp; أ. غادة الرشيد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07f09"/>
                </a:solidFill>
                <a:latin typeface="Verdana"/>
              </a:rPr>
              <a:t>المحتويات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فهوم إدارة الانتاج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عوامل المؤثرة على العمل الانتاجي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دور حياة العمل الانتاج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2" descr="C:\Program Files\Microsoft Office\MEDIA\CAGCAT10\j0195812.wmf"/>
          <p:cNvPicPr/>
          <p:nvPr/>
        </p:nvPicPr>
        <p:blipFill>
          <a:blip r:embed="rId1"/>
          <a:stretch/>
        </p:blipFill>
        <p:spPr>
          <a:xfrm rot="21100800">
            <a:off x="760320" y="1843200"/>
            <a:ext cx="2449440" cy="324468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Comic Sans MS"/>
              </a:rPr>
              <a:t>اعداد / أ.دنيا العثيم &amp; أ. غادة الرشيد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8"/>
          <p:cNvSpPr/>
          <p:nvPr/>
        </p:nvSpPr>
        <p:spPr>
          <a:xfrm>
            <a:off x="257040" y="291960"/>
            <a:ext cx="8418600" cy="9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26b02"/>
                </a:solidFill>
                <a:latin typeface="Times New Roman"/>
                <a:cs typeface="Times New Roman"/>
              </a:rPr>
              <a:t>مفهوم الإنتاج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تاج العناصر التي تستخدم في عملية التشغيل، والتي تتمثل في القوى البشرية،و المادية  خلال مدة زمنية معين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منت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اتج النهائي لعملية التشغيل،قد يكون سلعة او خدمة..وهذا المنتج ليس بالضرورة ان يكون بصورته النهائية فقد يكون منتج تحت التصنيع والذي يسوق للمستهلك الصناعي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عمليات 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سلة اجراءات التشغيل التي تجري على المادة لتحولها من صورتها الاولية الى صورتها الانتاج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واخيرا يمكن تعريف </a:t>
            </a:r>
            <a:r>
              <a:rPr b="0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ظيفة الانتاج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نها: ذلك النشاط المسؤول عن تحويل المدخلات لمخرجات نهائ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Footer Placeholder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Comic Sans MS"/>
              </a:rPr>
              <a:t>اعداد / أ.دنيا العثيم &amp; أ. غادة الرشيد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428760" y="428760"/>
            <a:ext cx="82152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07f09"/>
                </a:solidFill>
                <a:latin typeface="Comic Sans MS"/>
              </a:rPr>
              <a:t>عوامل تؤثر على العمل الانتاجي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1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خارجية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يات السوق المتضاربة وتقلبات رغبات المستهلكي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ظروف البيئية المحيطة: سياسية ،اقتصادية، تشريعية، اجتماعية، تكنولوج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2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داخلية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عمالة المتاح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مواد المستخدم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الات والمعدات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لوائح التنظيمية الداخلية لسير العمل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Comic Sans MS"/>
              </a:rPr>
              <a:t>اعداد / أ.دنيا العثيم &amp; أ. غادة الرشيد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500040" y="0"/>
            <a:ext cx="8072640" cy="9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دورة حياة النشاط الانتاجي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نبؤ بحجم المبيعات لتحديد حجم الانتاج المبدئي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صميم في الاقسام الفن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التكلفة  والكمية الكلية لإنتاج الوحد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حجم الانتاج النهائي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وضع خطة للإنتاج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وافقة قسم الرقاب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رسال الانتاج التام الى المخازن تمهيدا لتسويقه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للمستهل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Picture 3" descr="C:\Users\General\AppData\Local\Microsoft\Windows\Temporary Internet Files\Content.IE5\9KOXUAMG\MP900438675[1].jpg"/>
          <p:cNvPicPr/>
          <p:nvPr/>
        </p:nvPicPr>
        <p:blipFill>
          <a:blip r:embed="rId1"/>
          <a:stretch/>
        </p:blipFill>
        <p:spPr>
          <a:xfrm>
            <a:off x="-17640" y="4292640"/>
            <a:ext cx="3076920" cy="2468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C:\Users\General\AppData\Local\Microsoft\Windows\Temporary Internet Files\Content.IE5\9KOXUAMG\MP900438695[1].jpg"/>
          <p:cNvPicPr/>
          <p:nvPr/>
        </p:nvPicPr>
        <p:blipFill>
          <a:blip r:embed="rId2"/>
          <a:stretch/>
        </p:blipFill>
        <p:spPr>
          <a:xfrm>
            <a:off x="7920" y="2060640"/>
            <a:ext cx="3051360" cy="2232000"/>
          </a:xfrm>
          <a:prstGeom prst="rect">
            <a:avLst/>
          </a:prstGeom>
          <a:ln w="0">
            <a:noFill/>
          </a:ln>
        </p:spPr>
      </p:pic>
      <p:sp>
        <p:nvSpPr>
          <p:cNvPr id="241" name="Footer Placeholder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Comic Sans MS"/>
              </a:rPr>
              <a:t>اعداد / أ.دنيا العثيم &amp; أ. غادة الرشيد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Abdulaziz</cp:lastModifiedBy>
  <dcterms:modified xsi:type="dcterms:W3CDTF">2012-05-07T10:02:59Z</dcterms:modified>
  <cp:revision>35</cp:revision>
  <dc:subject/>
  <dc:title>التسويق..</dc:title>
</cp:coreProperties>
</file>