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5919-136F-4EB5-BE17-CB66F74291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764-6A7B-47E4-8B4C-1AF899FF713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679-91BE-45D4-A70A-F5AED8A4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94A-DBB5-4EDC-941A-62BF1292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95D-FE7A-4399-A630-05B6342C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C2F-087B-4D92-9108-E143541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9503-287E-4EEF-90B1-C4AB407E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8538-E047-4C26-BF6D-C71301E0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59D-EE4A-4616-BAEE-1397586E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7BA-C62E-4D4A-8038-BFF0E81D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5A3-4DA5-41BE-8177-00A115D6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08BD-C052-4E6E-89E8-76C738A6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8B2F-A7AC-44C6-98F8-4E6B735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4D3-EB99-4286-8CFF-51EAC30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B59-F07F-4436-AD61-08DA7E1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247C-4B1F-4147-BA69-B80452C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F3C4-EDD2-4579-BB8F-EE42959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7460-E417-40E1-8DBD-4DD90A2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4846-6F40-40C7-B72F-39A63B22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9F5D-F522-4164-A9AE-99DBF1FF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28D4-5C4C-42DA-A8D0-5B47B221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FEF9-8170-40D3-9CD5-08AC1BE4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1B8F-D576-4447-ABF5-F71CBCF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CAA7-3369-404B-8C80-F7FC7D03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164-FAAA-4AEA-9FB2-3CDA3AB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6351-FADE-4286-A95D-332AB8F8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6FC3-A315-466A-82C0-67C4A48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624E-2749-4444-B6FB-4DB99878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5AFC-ADEF-4118-BA44-54C20C4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DD83-BCC0-4F0E-AD6C-5BCEF87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E89E-5FF9-49E4-8658-440DB7D3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16EF-A374-4E78-9C3C-EB04F514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57E7-9EC9-432D-82EF-AAFDC603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9C43-FC88-4A01-834C-F8467FAE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5667-F560-4CDC-9DE7-09374CF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B74-A7D8-4FB5-BBED-60619AC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FCE9-7AA9-43B2-A68F-862F8A8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954E-C2E2-4E62-AFBE-8C457482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0835-38AE-464A-880B-BC0E419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D5CE-7641-4B8C-8AF3-1661646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046B-4386-4562-AF3B-9395639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ADFB-559F-4926-83A7-ACFAC74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0DA0-8053-4938-BCF2-4EBDCBCF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46F8-53C3-468A-81F8-813D3577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C7E9-386D-4AFF-A7EF-DA55916A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74DC-0068-4084-B2D6-64EB29D7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2E4-7473-46B3-AF50-ED236B7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204F-FFFD-49C4-9C04-E6959268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4A44-C2BD-408D-B331-691C876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D2F3-4DFE-4C6F-9F8F-5763F72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EFA5-44D2-4E3F-B17B-9AA91CAD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C30E-E83F-46AD-A173-D8C46580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701B-7445-40D7-9432-BA7E967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F37B-0AFE-412B-95ED-9115441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6EB6-C7B3-4A85-B3B4-6CEA015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0677-E8C9-4829-81AB-03FCA3D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1024-43A5-4645-A48D-251D3636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900-6BAD-45CB-B468-A6DF8DF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E6FE-74D6-4CFF-B295-8D3186C3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857-AFF6-4CE6-8509-772D2D92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C7C-F6C1-4B38-B8D6-9310872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971-99FB-40A4-AA5C-336E102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3E5-40DB-4266-9C4B-6A750234979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0A9-8053-4801-8807-2AF4EE29FB0B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5749-A70F-41C7-92F4-297C4C38F173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A66C-D384-4602-A68E-ECD0A3C27E4D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B22-0AE6-4E14-AF27-FA218F07EAB5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ooter Placeholder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Footer Placeholder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Comic Sans MS"/>
              </a:rPr>
              <a:t>اعداد / أ.دنيا العثيم &amp; أ. غادة الرشيد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Abdulaziz</cp:lastModifiedBy>
  <dcterms:modified xsi:type="dcterms:W3CDTF">2012-05-07T10:02:59Z</dcterms:modified>
  <cp:revision>35</cp:revision>
  <dc:subject/>
  <dc:title>التسويق..</dc:title>
</cp:coreProperties>
</file>