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0F8-ADE1-4379-B2E4-90180DFE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254-B792-4492-8672-0503E49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EB-1DFC-4971-A3AF-B7ABA93D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3A0-E20F-4227-BD87-B0E2630D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994-F846-4ED4-B1A0-76F82E3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01B-AAC1-4948-8B4D-4660C91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8B6-4A51-4C24-BDA7-4D074DB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892-9639-410E-B04E-E7E7C1B2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AE8-E705-4C5A-AF4D-EB111C4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09E-CB43-4323-89C4-D3FCEA5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EF2-5F18-4545-B7C6-C744EF70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713-5EC0-477D-A93B-E3E91257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071-B383-4C70-A6BC-7A89F59D0D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تناظر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احاد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مقابل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 القدرة على مواءمة شيئين كل منهما بالآخر لأنهما ينتميان لنفس الفئة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ثال ( الكوب الأحمر ينتمي الى الطبق الاحمر ، واذا كان هناك اربعة اطباق فلا بد من وجود اربعة اكواب ). إدراك ان مجموعة ما لها نفس عدد عناصر مجموعة أخرى، لكل طفل كعكة ، لكل طفل كت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طفال بحاجة الى مقارنة الشيء بنظيره لكي يقرروا اذا ما كانت تنتمي الى بعضها البعض ، وهذه تعتبر خطوة ابعد من مجرد ترتيب الأشياء المتشابهة ، فهذه الأشياء تنتمي لنفس الفئ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35280" y="3067560"/>
            <a:ext cx="85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مثال : قبعة – رأس            فستان- بنت          نحلة – خلية     نحلة – ور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معجون اسنان –فرشاة      قلم –ورق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تكوين مفهوم المقابلة او التناظر الأحادي الأطفال بحاجة الى أن تكون تجاربهم حسية وحقيقية فالاطفال يتعلمون من خلال العمل في الشي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مقابلة او التناظر الاحادي من المكونات الأساسية لمفهوم العدد ،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ربة بياجية الكؤوس والبيض ، وعدم قدرة الطفل على ادراك الثبات العدد ي( الاحتفاظ) ، عند تغيير وضع البيض من أمام الكؤوس ( مفهوم التناظر الأحادي متطلب سابق للعد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يبدأ تعلم الطفل مفهوم التناظر الأحادي في المرحلة الحسية الحركية اثناء اللعب ، مثلا يضع امام كل دمية صح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جب ان نتدرج في تقديم المفهوم للطفل في البداية يكون عدد عناصر المجموعة اقل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ناصر ، ثم تزيد تدريجيا حت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ناصر وعندها نستطيع ان نحكم ان الطفل فهم التناظر الاح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مثل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حيوان وصغاره –العامل وادواته- نوع الحيوان والغطاء الذي يغطي جسمه – مقابلة مجموعات مكونه من نفس الع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تعليم مفهوم المقابلة نستعين بمجموعة من المجسمات وصور الحيوانات والطيور والقطع البلاستيكية الهندسية الشك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تنوع اشكال الانشطة وتدرجها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دد عناصر المجمو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مات الحس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جس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ياء حقيقية بينها ارتباط طبيع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بين عناصر لا يوجد بينها ارتباط طبيع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بين عناصر مجموعتين مختلفة العناص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4:37:56Z</dcterms:created>
  <dc:creator>Hala</dc:creator>
  <dc:description/>
  <dc:language>en-US</dc:language>
  <cp:lastModifiedBy>SONY</cp:lastModifiedBy>
  <dcterms:modified xsi:type="dcterms:W3CDTF">2012-11-24T04:51:05Z</dcterms:modified>
  <cp:revision>5</cp:revision>
  <dc:subject/>
  <dc:title>التناظر الاحادي (المقابلة )  هي القدرة على مواءمة شيئين كل منهما بالآخر لأنهما ينتميان لنفس الفئة.  مثال ( الكوب الأحمر ينتمي الى الطبق الاحمر ، واذا كان هناك اربعة اطباق فلا بد من وجود اربعة اكواب ). إدراك ان مجموعة ما لها نفس عدد عناصر مجموعة أخرى، لكل طفل كعكة ، لكل طفل كتاب</dc:title>
</cp:coreProperties>
</file>