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2551-3E1B-44DF-AF82-798DE68A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261C-4FE4-4041-A136-3269F9BB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3225-812D-4BDA-B9AF-1D6B20A2E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B05A-3E07-443A-A53C-C87EBC06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1B68-9406-47B0-A406-139E4FDA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DCE0-8E4A-48EB-BFEE-E15EC64D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194E-F70B-481D-9D17-F7D64D8C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EE5C-781D-462A-BEF9-F3037E10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51DF-5510-4A20-9382-C3AB0291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1CEB-E1AD-4961-8DC3-32A5B560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7116-4FC8-4522-A517-BEE3BFBD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D623-F1C6-43F7-8937-5CAAAABC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1305-C800-4264-B2EE-AC0CAA3942C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A" sz="4000" spc="-1" strike="noStrike">
                <a:solidFill>
                  <a:srgbClr val="ff0066"/>
                </a:solidFill>
                <a:latin typeface="Arial"/>
              </a:rPr>
              <a:t>التناظر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66"/>
                </a:solidFill>
                <a:latin typeface="Arial"/>
              </a:rPr>
              <a:t>الاحادي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ar-SA" sz="4000" spc="-1" strike="noStrike">
                <a:solidFill>
                  <a:srgbClr val="ff0066"/>
                </a:solidFill>
                <a:latin typeface="Arial"/>
              </a:rPr>
              <a:t>المقابلة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)</a:t>
            </a: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ي القدرة على مواءمة شيئين كل منهما بالآخر لأنهما ينتميان لنفس الفئة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ثال ( الكوب الأحمر ينتمي الى الطبق الاحمر ، واذا كان هناك اربعة اطباق فلا بد من وجود اربعة اكواب ). إدراك ان مجموعة ما لها نفس عدد عناصر مجموعة أخرى، لكل طفل كعكة ، لكل طفل كتا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تناظر الاحاد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أطفال بحاجة الى مقارنة الشيء بنظيره لكي يقرروا اذا ما كانت تنتمي الى بعضها البعض ، وهذه تعتبر خطوة ابعد من مجرد ترتيب الأشياء المتشابهة ، فهذه الأشياء تنتمي لنفس الفئ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-35280" y="3067560"/>
            <a:ext cx="85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66"/>
                </a:solidFill>
                <a:latin typeface="Arial"/>
              </a:rPr>
              <a:t>مثال : قبعة – رأس            فستان- بنت          نحلة – خلية     نحلة – ور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66"/>
                </a:solidFill>
                <a:latin typeface="Arial"/>
              </a:rPr>
              <a:t>معجون اسنان –فرشاة      قلم –ورق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تناظر الاحاد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لتكوين مفهوم المقابلة او التناظر الأحادي الأطفال بحاجة الى أن تكون تجاربهم حسية وحقيقية فالاطفال يتعلمون من خلال العمل في الشيء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المقابلة او التناظر الاحادي من المكونات الأساسية لمفهوم العدد ، المفاهيم الرياضية مثل مفهوم العدد والمقارنة العددية ومفهوم المجموعة والمجموعة الجزئية ومقارنة المجموعات يمكن ان يتعلمها الطفل أسهل بكثير بعد تعلمه لمفهوم المقابل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تناظر الاحاد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جربة بياجية الكؤوس والبيض ، وعدم قدرة الطفل على ادراك الثبات العدد ي( الاحتفاظ) ، عند تغيير وضع البيض من أمام الكؤوس ( مفهوم التناظر الأحادي متطلب سابق للعدد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يبدأ تعلم الطفل مفهوم التناظر الأحادي في المرحلة الحسية الحركية اثناء اللعب ، مثلا يضع امام كل دمية صح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تناظر الاحاد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يجب ان نتدرج في تقديم المفهوم للطفل في البداية يكون عدد عناصر المجموعة اقل من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عناصر ، ثم تزيد تدريجيا حتى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عناصر وعندها نستطيع ان نحكم ان الطفل فهم التناظر الاحاد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مثله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الحيوان وصغاره –العامل وادواته- نوع الحيوان والغطاء الذي يغطي جسمه – مقابلة مجموعات مكونه من نفس العد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تناظر الاحاد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لتعليم مفهوم المقابلة نستعين بمجموعة من المجسمات وصور الحيوانات والطيور والقطع البلاستيكية الهندسية الشكل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66"/>
                </a:solidFill>
                <a:uFillTx/>
                <a:latin typeface="Arial"/>
              </a:rPr>
              <a:t>تنوع اشكال الانشطة وتدرجها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عدد عناصر المجموع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سمات الحس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مجسم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شياء حقيقية بينها ارتباط طبيع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قابلة بين عناصر لا يوجد بينها ارتباط طبيع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قابلة بين عناصر مجموعتين مختلفة العناصر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4:37:56Z</dcterms:created>
  <dc:creator>Hala</dc:creator>
  <dc:description/>
  <dc:language>en-US</dc:language>
  <cp:lastModifiedBy>SONY</cp:lastModifiedBy>
  <dcterms:modified xsi:type="dcterms:W3CDTF">2012-11-24T04:51:05Z</dcterms:modified>
  <cp:revision>5</cp:revision>
  <dc:subject/>
  <dc:title>التناظر الاحادي (المقابلة )  هي القدرة على مواءمة شيئين كل منهما بالآخر لأنهما ينتميان لنفس الفئة.  مثال ( الكوب الأحمر ينتمي الى الطبق الاحمر ، واذا كان هناك اربعة اطباق فلا بد من وجود اربعة اكواب ). إدراك ان مجموعة ما لها نفس عدد عناصر مجموعة أخرى، لكل طفل كعكة ، لكل طفل كتاب</dc:title>
</cp:coreProperties>
</file>