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F6F2E-576F-4354-B40B-B0442E8A2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46FE4-C4C2-4475-AFE5-B2C1E3AC3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D9B42-EBAE-4798-AD05-C72354F7C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2FB25-BA59-422E-9BB3-772B06F74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C7E7D-8BAC-4FA8-9772-28FDD7166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0BED3-2C41-4B2C-A634-1BF1D4715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C1D84-D4AA-4A50-854F-A8336A8D7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541D0-02EA-4B94-8290-4C78EEE25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5D5DB-6066-4C83-9383-FDF6D280C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BE125-9A01-4E43-88F7-F2B94F1F7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8011D-910E-479D-8A82-81F6ECF73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A31AB-246C-4F78-AE4F-CEF04216B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8A23A-0A7D-4C90-BA6F-E89E18427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E8D50-C00D-4416-9974-88EFB40FC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6FD5B-E0BE-49C9-84A8-E59FF39E1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725FC5-1EFE-4657-ACDA-9924FA78E3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E2858-9BB9-4C22-804D-688A1F4A2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984ECA5-99A8-4089-9AEF-AEC711CEFF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0BB1748-8AC6-4B64-B298-DD91EA5136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28BAE0F-FA00-4ABB-937C-D52E7EC103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9523308-4D88-47E7-9236-80362DAFC1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51AC9E3-145E-4DF7-94A6-4C38CB0057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93EAE-3EE0-4E6A-93D1-C86D1C406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BF98B78-0A9B-488F-B386-24A65F1E77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64E9A26-EB83-4B58-A755-A44460B20F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E7D7B11-C3E5-4FDC-8FF6-C5947571BC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93C1ED8-7399-4A01-A090-7D8B4358EF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2488022-CCEE-438D-B435-10CB59ABB6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AA28C88-1A94-4183-90A8-A098FDD70B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A11CDE9-AB45-453B-AD2A-7A89CD03BB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9DC7998-0634-4AE2-9343-7A344C0D46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9363C58-2496-4141-8759-8E9270A56B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A687BB5-801B-45C8-A291-2428D9F0D4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067F5-6DA8-4B9F-8D51-AD0DE2DA3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B42BF30-C462-46E4-96D4-597BA48921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D1B0BF5-E609-498E-8DC4-2E83F34C55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BE9A914-8129-47B0-832F-9D5C42E88D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2A07D72-BAC6-4A69-9C20-30AACB328F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0E4A4EB-7F91-4C77-B58D-2BA4847E1F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A221DAF-0190-4757-B7F5-28D97F22F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549EEAA-542B-4797-818A-C08544E8CE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C83DE6F-3D2C-491D-B2A6-FA837A6467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243386A-ABD1-46D1-9DB2-A5C9A2EBD9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8974A72-E0E0-406D-8038-08D9306BF3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1887C-B480-45A7-B8C6-9C170053E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709E05C-FA37-4C0A-8252-013C0B33F5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70CF726-A56B-4F5A-B014-B5580B0C6D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8504BF2-C9F6-490E-A21C-57737FD8B9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BFB8C69-C344-4608-98F6-A41A7A9A2B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F2D31FD-292A-4E53-8829-20A36E9753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14C4191-BE6D-4E91-A497-F394A46A05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1EBAAC4-252E-49CE-979C-050D43654C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71F9C42-3F51-4BF1-85A4-EF09FF7C2F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8A1C773-214E-4254-8520-0A36B2178A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E3DDB77-7032-4FE6-A705-B4F9667092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FA943-5FCD-414A-854B-585F6BF12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4418984-0338-4649-8047-5A4CDA9B4E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F9FC06-006D-4937-93D9-51373DFDAC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622A14-0268-4D17-9FD3-8183042DE1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E346D7-32E1-4A91-97EB-918B0DA447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5D4DA7-BC50-4E6A-A108-CA7008015A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20B83C-2E2A-4F37-87F3-818B733916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390050-FDD6-481F-A17A-A4695A73BB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FB0E29-7DF3-4869-88C5-69FB9D2196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61AAB6-F3DA-4BAE-84EE-564BEF5629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1B5788-9AF2-4A53-827D-5C3321ACB6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BD5C7-C528-40D7-8AE6-2063DB13A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6BB87A-7967-42CB-B4F1-174F4B90A9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953C29-1C07-4602-90B4-1DC3AD8A66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A36075-125D-4558-8CAB-74C16D98BF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F61D9B0-BC96-49F8-A315-CF3C59FDB3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3F9E02B-218F-4A12-A2AD-6D6B3049AC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944AFC8-07DE-4BB6-82BC-1543D2BF59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2B7AD00-D61A-4ADD-BAF1-02C0A0C0E2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8E646AA-A68B-4379-86D9-87B80E0422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FDDBE36-635C-4B59-9FD3-07F9023ECB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A10742C-CC99-442E-AFFF-D7DCA660C2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26C43-24AF-4179-B254-BA7BD0C51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1F78178-E682-4667-A17C-32CA742228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EE92E7E-4D9C-455E-B4CE-86C1BD4208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4600B31-7236-4E46-8123-9548033C3D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A53A0A5-7546-4C3C-A614-DE02A41584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F90DC33-8625-4D59-B32D-66A36874FA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342A6B-696F-49AE-8050-A9FB58F1F0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53A274-D29E-4DD0-AFC4-6D1CE28620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2EEF92-7239-437A-9C01-24E0F20658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BD2435-11C9-43E9-B7BC-5D3C31C0FA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8761F9-08F1-4181-B929-E996D6BD8E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5FD65-5286-43DF-912A-DC260275E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3C4752-4EC6-4788-BE02-11A85E58F6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206192-7750-4504-857D-95DFDB746E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C1BD3E-49B8-4184-ADF0-F8E7BFB544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4A2CFD-3655-4EDA-B378-18B8411C84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86B9D8-2CA6-4BF8-8275-BFA075102D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E22D7D-CAE3-421F-A427-B35E6AD0CA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631DC5-4329-4D8C-9061-89281D112FD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مستطيل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مستطيل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EB58-C298-407E-B4D6-4FA92CB6643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مستطيل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مستطيل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ستطيل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F27C0-CBAA-48EA-990C-673AE060F440}"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مستطيل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مستطيل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مستطيل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6C832-79E6-45E7-AE07-165FE305BBD8}"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مستطيل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مستطيل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2AE46-F295-4C4A-9FC5-192D21EBD41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مستطيل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مستطيل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C337-83C4-4B0C-B511-FEDE7C79939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875F-4603-4C9B-9321-9A11B3A8BF30}"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مستطيل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مستطيل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مستطيل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مستطيل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F8B15-6942-43D0-A6DA-B84BD5B1929B}"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مستطيل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16235-5D2C-42FF-875D-AE8EA360565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600" spc="-1" strike="noStrike">
                <a:solidFill>
                  <a:srgbClr val="ebddc3"/>
                </a:solidFill>
                <a:latin typeface="Tw Cen MT"/>
                <a:cs typeface="Arial"/>
              </a:rPr>
              <a:t>مفاهيم الاتصال</a:t>
            </a:r>
            <a:endParaRPr b="0" lang="en-US" sz="6600" spc="-1" strike="noStrike">
              <a:solidFill>
                <a:srgbClr val="ebddc3"/>
              </a:solidFill>
              <a:latin typeface="Tw Cen MT"/>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7200" y="609480"/>
            <a:ext cx="8229600" cy="551664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ea typeface="Arial"/>
              </a:rPr>
              <a:t>2</a:t>
            </a:r>
            <a:r>
              <a:rPr b="1" lang="ar-JO" sz="4000" spc="-1" strike="noStrike">
                <a:solidFill>
                  <a:srgbClr val="000000"/>
                </a:solidFill>
                <a:latin typeface="Tw Cen MT"/>
                <a:ea typeface="Arial"/>
              </a:rPr>
              <a:t>. البعد الاجتماعي</a:t>
            </a:r>
            <a:endParaRPr b="0" lang="en-US" sz="40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وسيلة هادفة لضمان التفاعل والتبادل المشترك بين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الأفراد</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تنمية العلاقات الشخصية بين الأفراد</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تحقيق التفاهم بين القيادة والعاملين، وممارسة العلاقات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الإنسانية، وتحقيق الرضا في العمل، ورفع الروح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المعنوية.</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يمثل الاتصال جزءا كبرا من أعمال الأفراد اليومية،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ويقدر بعض الخبراء أنها تستهلك ما بين </a:t>
            </a:r>
            <a:r>
              <a:rPr b="0" lang="ar-JO" sz="2900" spc="-1" strike="noStrike">
                <a:solidFill>
                  <a:srgbClr val="000000"/>
                </a:solidFill>
                <a:latin typeface="Tw Cen MT"/>
                <a:ea typeface="Arial"/>
              </a:rPr>
              <a:t>75</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90</a:t>
            </a:r>
            <a:r>
              <a:rPr b="0" lang="ar-JO" sz="2900" spc="-1" strike="noStrike">
                <a:solidFill>
                  <a:srgbClr val="000000"/>
                </a:solidFill>
                <a:latin typeface="Tw Cen MT"/>
                <a:ea typeface="Arial"/>
              </a:rPr>
              <a:t>% من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وقت الأشخاص سواء مع ذواتهم أو مع الآخرين.</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عناصر عملية الاتصال</a:t>
            </a:r>
            <a:endParaRPr b="0" lang="en-US" sz="48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lIns="90000" rIns="90000" tIns="46800" bIns="46800" anchor="t">
            <a:normAutofit fontScale="87000"/>
          </a:bodyPr>
          <a:p>
            <a:pPr marL="447480" indent="-447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300" spc="-1" strike="noStrike">
                <a:solidFill>
                  <a:srgbClr val="000000"/>
                </a:solidFill>
                <a:latin typeface="Tw Cen MT"/>
                <a:cs typeface="Arial"/>
              </a:rPr>
              <a:t>المرسل</a:t>
            </a:r>
            <a:r>
              <a:rPr b="0" lang="ar-JO" sz="2700" spc="-1" strike="noStrike">
                <a:solidFill>
                  <a:srgbClr val="000000"/>
                </a:solidFill>
                <a:latin typeface="Tw Cen MT"/>
                <a:ea typeface="Arial"/>
              </a:rPr>
              <a:t>: يعد نقطة الانطلاق في عملية الاتصال، وعنه تصدر الرسالة التي تحمل معنى محددا يتفق مع وجهة نظره، ويهدف المرسل من الرسالة الى استثارة استجابة محددة لدى المستقبل.</a:t>
            </a:r>
            <a:endParaRPr b="0" lang="en-US" sz="2700" spc="-1" strike="noStrike">
              <a:solidFill>
                <a:srgbClr val="000000"/>
              </a:solidFill>
              <a:latin typeface="Tw Cen MT"/>
            </a:endParaRPr>
          </a:p>
          <a:p>
            <a:pPr marL="447480" indent="-447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300" spc="-1" strike="noStrike">
                <a:solidFill>
                  <a:srgbClr val="000000"/>
                </a:solidFill>
                <a:latin typeface="Tw Cen MT"/>
                <a:cs typeface="Arial"/>
              </a:rPr>
              <a:t>الرسالة</a:t>
            </a:r>
            <a:r>
              <a:rPr b="0" lang="ar-JO" sz="2700" spc="-1" strike="noStrike">
                <a:solidFill>
                  <a:srgbClr val="000000"/>
                </a:solidFill>
                <a:latin typeface="Tw Cen MT"/>
                <a:ea typeface="Arial"/>
              </a:rPr>
              <a:t>: المادة او المحتوى في عملية الاتصال، وتتكون من مجموعة المعاني التي يضعها القائم بالاتصال في رموز تنقل الى المستقبلين.</a:t>
            </a:r>
            <a:endParaRPr b="0" lang="en-US" sz="2700" spc="-1" strike="noStrike">
              <a:solidFill>
                <a:srgbClr val="000000"/>
              </a:solidFill>
              <a:latin typeface="Tw Cen MT"/>
            </a:endParaRPr>
          </a:p>
          <a:p>
            <a:pPr marL="447480" indent="-447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300" spc="-1" strike="noStrike">
                <a:solidFill>
                  <a:srgbClr val="000000"/>
                </a:solidFill>
                <a:latin typeface="Tw Cen MT"/>
                <a:cs typeface="Arial"/>
              </a:rPr>
              <a:t>الوسيلة (القناة): </a:t>
            </a:r>
            <a:r>
              <a:rPr b="0" lang="ar-JO" sz="2700" spc="-1" strike="noStrike">
                <a:solidFill>
                  <a:srgbClr val="000000"/>
                </a:solidFill>
                <a:latin typeface="Tw Cen MT"/>
                <a:cs typeface="Arial"/>
              </a:rPr>
              <a:t>الاداة او الوساطة التي تنقل بها الرسالة الى اعداد كبيرة من الافراد المنتشرين على مساحات واسعة ومتفرقة. وقد تكون الوسيلة سمعية مثل (الاذاعة)، او بصرية مثل ( الملصقات، واللوحات، والاعلانات)، او سمعية بصرية مثل ( التلفزيون، والسينما، او متعددة القنوات كالفيديو والحاسوب).</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533160"/>
            <a:ext cx="8229600" cy="559260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ea typeface="Arial"/>
              </a:rPr>
              <a:t>4</a:t>
            </a:r>
            <a:r>
              <a:rPr b="1" lang="ar-JO" sz="4400" spc="-1" strike="noStrike">
                <a:solidFill>
                  <a:srgbClr val="000000"/>
                </a:solidFill>
                <a:latin typeface="Tw Cen MT"/>
                <a:ea typeface="Arial"/>
              </a:rPr>
              <a:t>. المستقبل</a:t>
            </a:r>
            <a:r>
              <a:rPr b="0" lang="ar-JO" sz="2900" spc="-1" strike="noStrike">
                <a:solidFill>
                  <a:srgbClr val="000000"/>
                </a:solidFill>
                <a:latin typeface="Tw Cen MT"/>
                <a:ea typeface="Arial"/>
              </a:rPr>
              <a:t>: يعد الآخرون هدف الاتصال، فهم المستقبلون، ويجب على المرسل أن يضعهم في حسابه دائما عند النظر في كل عنصر من عناصر الاتصال. فالمستقبل يستقبل الرسالة ويؤول رموزها ويفسرها.</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ea typeface="Arial"/>
              </a:rPr>
              <a:t>5</a:t>
            </a:r>
            <a:r>
              <a:rPr b="1" lang="ar-JO" sz="4400" spc="-1" strike="noStrike">
                <a:solidFill>
                  <a:srgbClr val="000000"/>
                </a:solidFill>
                <a:latin typeface="Tw Cen MT"/>
                <a:ea typeface="Arial"/>
              </a:rPr>
              <a:t>. التغذية الراجعة</a:t>
            </a:r>
            <a:r>
              <a:rPr b="0" lang="ar-JO" sz="2900" spc="-1" strike="noStrike">
                <a:solidFill>
                  <a:srgbClr val="000000"/>
                </a:solidFill>
                <a:latin typeface="Tw Cen MT"/>
                <a:ea typeface="Arial"/>
              </a:rPr>
              <a:t>: استجابة المستقبل إلي يستدل بها المرسل عن تأثير رسالته في المستقبل، ووجهة نظر المستقبل بشأنها. تسمى بمصطلح ”رد الفعل“.</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خطوات الاتصال</a:t>
            </a:r>
            <a:endParaRPr b="0" lang="en-US" sz="48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كوين الفكرة لدى المرس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حويل الفكرة إلى رموز</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نقل الفكرة خلال قناة اتصا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سليم الرسالة</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فسير الرموز</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التصرف</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أنواع الاتصال</a:t>
            </a:r>
            <a:endParaRPr b="0" lang="en-US" sz="48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يقسم الاتصال إلى قسمين:</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أولا: الاتصال اللفظ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ثانيا: الاتصال غير اللفظ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لاتصال اللفظي</a:t>
            </a:r>
            <a:endParaRPr b="0" lang="en-US" sz="48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يرتبط الاتصال اللفظي بالعملية التي يقوم بها المرسل او المستقبل أثناء نقل الرسالة اللفظية، وينقسم الاتصال اللفظي الى قسمين هما:</a:t>
            </a:r>
            <a:endParaRPr b="0" lang="en-US" sz="2900" spc="-1" strike="noStrike">
              <a:solidFill>
                <a:srgbClr val="000000"/>
              </a:solidFill>
              <a:latin typeface="Tw Cen MT"/>
            </a:endParaRPr>
          </a:p>
          <a:p>
            <a:pPr marL="318960" indent="-31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الاتصال الشفه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a:p>
            <a:pPr marL="318960" indent="-31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الاتصال الكتاب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هارات الاتصال الشفهي</a:t>
            </a:r>
            <a:br>
              <a:rPr sz="4000"/>
            </a:br>
            <a:endParaRPr b="0" lang="en-US" sz="48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ات التحدث</a:t>
            </a:r>
            <a:r>
              <a:rPr b="0" lang="ar-JO" sz="2900" spc="-1" strike="noStrike">
                <a:solidFill>
                  <a:srgbClr val="000000"/>
                </a:solidFill>
                <a:latin typeface="Tw Cen MT"/>
                <a:ea typeface="Arial"/>
              </a:rPr>
              <a:t>: تتم عن طريق نقل الرسالة بواسطة استخدام الكلمات مشافهة من قبل المرسل.</a:t>
            </a: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ة الاستماع</a:t>
            </a:r>
            <a:r>
              <a:rPr b="0" lang="ar-JO" sz="2900" spc="-1" strike="noStrike">
                <a:solidFill>
                  <a:srgbClr val="000000"/>
                </a:solidFill>
                <a:latin typeface="Tw Cen MT"/>
                <a:ea typeface="Arial"/>
              </a:rPr>
              <a:t>: تتم عن طريق استقبال الرسالة الكلامية، وفهم معانيها من قبل المستقبل.</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هارات الاتصال الكتابي</a:t>
            </a:r>
            <a:endParaRPr b="0" lang="en-US" sz="48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ات الكتابة</a:t>
            </a:r>
            <a:r>
              <a:rPr b="0" lang="ar-JO" sz="2900" spc="-1" strike="noStrike">
                <a:solidFill>
                  <a:srgbClr val="000000"/>
                </a:solidFill>
                <a:latin typeface="Tw Cen MT"/>
                <a:ea typeface="Arial"/>
              </a:rPr>
              <a:t>: تتم عن طريق نقل الرسالة بواسطة استخدام الكلمات المكتوبة من قبل المرسل.</a:t>
            </a: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ات القراءة</a:t>
            </a:r>
            <a:r>
              <a:rPr b="0" lang="ar-JO" sz="2900" spc="-1" strike="noStrike">
                <a:solidFill>
                  <a:srgbClr val="000000"/>
                </a:solidFill>
                <a:latin typeface="Tw Cen MT"/>
                <a:ea typeface="Arial"/>
              </a:rPr>
              <a:t>: تتم عن طريق استقبال الرسالة المكتوبة، وفهم معانيها من قبل المستقبل.</a:t>
            </a:r>
            <a:endParaRPr b="0" lang="en-US" sz="2900" spc="-1" strike="noStrike">
              <a:solidFill>
                <a:srgbClr val="000000"/>
              </a:solidFill>
              <a:latin typeface="Tw Cen MT"/>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272520"/>
            <a:ext cx="815328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لاتصال اللفظي</a:t>
            </a:r>
            <a:endParaRPr b="0" lang="en-US" sz="4800" spc="-1" strike="noStrike">
              <a:solidFill>
                <a:srgbClr val="775f55"/>
              </a:solidFill>
              <a:latin typeface="Tw Cen MT"/>
            </a:endParaRPr>
          </a:p>
        </p:txBody>
      </p:sp>
      <p:sp>
        <p:nvSpPr>
          <p:cNvPr id="385" name=""/>
          <p:cNvSpPr txBox="1"/>
          <p:nvPr/>
        </p:nvSpPr>
        <p:spPr>
          <a:xfrm>
            <a:off x="609120" y="2437920"/>
            <a:ext cx="3886200" cy="3581640"/>
          </a:xfrm>
          <a:prstGeom prst="rect">
            <a:avLst/>
          </a:prstGeom>
          <a:noFill/>
          <a:ln w="0">
            <a:noFill/>
          </a:ln>
        </p:spPr>
        <p:txBody>
          <a:bodyPr lIns="90000" rIns="90000" tIns="46800" bIns="46800" anchor="t">
            <a:normAutofit fontScale="69000"/>
          </a:bodyPr>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يسهل الرجوع اليه لتحديد المسؤوليات.</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يوثق المعلومات للاستفادة منها في المستقبل.</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يضمن نقل بعض المعلومات والأجوبة لعدد كبير من الافراد</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5360" indent="-3153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700" spc="-1" strike="noStrike">
                <a:solidFill>
                  <a:srgbClr val="000000"/>
                </a:solidFill>
                <a:latin typeface="Tw Cen MT"/>
                <a:cs typeface="Arial"/>
              </a:rPr>
              <a:t>مثل</a:t>
            </a:r>
            <a:r>
              <a:rPr b="0" lang="ar-JO" sz="2700" spc="-1" strike="noStrike">
                <a:solidFill>
                  <a:srgbClr val="000000"/>
                </a:solidFill>
                <a:latin typeface="Tw Cen MT"/>
                <a:ea typeface="Arial"/>
              </a:rPr>
              <a:t>:</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تقارير، والمذكرات.</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منشورات، والشكاوي.</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لوحات البيانية ووسائل الايضاح البصرية.</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جرائد الحائطية.</a:t>
            </a:r>
            <a:endParaRPr b="0" lang="en-US" sz="2700" spc="-1" strike="noStrike">
              <a:solidFill>
                <a:srgbClr val="000000"/>
              </a:solidFill>
              <a:latin typeface="Tw Cen MT"/>
            </a:endParaRPr>
          </a:p>
        </p:txBody>
      </p:sp>
      <p:sp>
        <p:nvSpPr>
          <p:cNvPr id="386" name=""/>
          <p:cNvSpPr txBox="1"/>
          <p:nvPr/>
        </p:nvSpPr>
        <p:spPr>
          <a:xfrm>
            <a:off x="4800240" y="2437920"/>
            <a:ext cx="3886200" cy="3581640"/>
          </a:xfrm>
          <a:prstGeom prst="rect">
            <a:avLst/>
          </a:prstGeom>
          <a:noFill/>
          <a:ln w="0">
            <a:noFill/>
          </a:ln>
        </p:spPr>
        <p:txBody>
          <a:bodyPr lIns="90000" rIns="90000" tIns="46800" bIns="46800" anchor="t">
            <a:normAutofit fontScale="69000"/>
          </a:bodyPr>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قوي روح التعاون والصداقة.</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زيل التوتر والضغوط نتيجة اخراج ما في الصدور</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شجع على تبادل الاسئلة ولذلك فهو فعال في تقريب المفاهيم</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سرع عملية تبادل الأفكار والمعلومات والاراء فهو يوفر الوقت والجهد.</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5360" indent="-3153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w Cen MT"/>
                <a:cs typeface="Arial"/>
              </a:rPr>
              <a:t>مثل</a:t>
            </a:r>
            <a:r>
              <a:rPr b="0" lang="ar-JO" sz="2500" spc="-1" strike="noStrike">
                <a:solidFill>
                  <a:srgbClr val="000000"/>
                </a:solidFill>
                <a:latin typeface="Tw Cen MT"/>
                <a:ea typeface="Arial"/>
              </a:rPr>
              <a:t>:</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مقابلات الشخصية</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مكالمات التلفونية</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لجان والاجتماعات والمؤتمرات</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محاضرات</a:t>
            </a:r>
            <a:endParaRPr b="0" lang="en-US" sz="2500" spc="-1" strike="noStrike">
              <a:solidFill>
                <a:srgbClr val="000000"/>
              </a:solidFill>
              <a:latin typeface="Tw Cen MT"/>
            </a:endParaRPr>
          </a:p>
          <a:p>
            <a:pPr marL="315360" indent="-3153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
        <p:nvSpPr>
          <p:cNvPr id="387" name="PlaceHolder 2"/>
          <p:cNvSpPr>
            <a:spLocks noGrp="1"/>
          </p:cNvSpPr>
          <p:nvPr>
            <p:ph/>
          </p:nvPr>
        </p:nvSpPr>
        <p:spPr>
          <a:xfrm>
            <a:off x="609120" y="1752120"/>
            <a:ext cx="3886200" cy="639720"/>
          </a:xfrm>
          <a:prstGeom prst="rect">
            <a:avLst/>
          </a:prstGeom>
          <a:solidFill>
            <a:srgbClr val="dd8047"/>
          </a:solidFill>
          <a:ln w="0">
            <a:noFill/>
          </a:ln>
        </p:spPr>
        <p:txBody>
          <a:bodyPr lIns="90000" rIns="90000" tIns="46800" bIns="46800" anchor="ctr">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w Cen MT"/>
                <a:cs typeface="Arial"/>
              </a:rPr>
              <a:t>الاتصال الكتابي</a:t>
            </a:r>
            <a:endParaRPr b="0" lang="en-US" sz="2000" spc="-1" strike="noStrike">
              <a:solidFill>
                <a:srgbClr val="000000"/>
              </a:solidFill>
              <a:latin typeface="Tw Cen MT"/>
            </a:endParaRPr>
          </a:p>
        </p:txBody>
      </p:sp>
      <p:sp>
        <p:nvSpPr>
          <p:cNvPr id="388" name="PlaceHolder 3"/>
          <p:cNvSpPr>
            <a:spLocks noGrp="1"/>
          </p:cNvSpPr>
          <p:nvPr>
            <p:ph/>
          </p:nvPr>
        </p:nvSpPr>
        <p:spPr>
          <a:xfrm>
            <a:off x="4800240" y="1752120"/>
            <a:ext cx="3886200" cy="639720"/>
          </a:xfrm>
          <a:prstGeom prst="rect">
            <a:avLst/>
          </a:prstGeom>
          <a:solidFill>
            <a:srgbClr val="d8b25c"/>
          </a:solidFill>
          <a:ln w="0">
            <a:noFill/>
          </a:ln>
        </p:spPr>
        <p:txBody>
          <a:bodyPr lIns="90000" rIns="90000" tIns="46800" bIns="46800" anchor="ctr">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w Cen MT"/>
                <a:cs typeface="Arial"/>
              </a:rPr>
              <a:t>الاتصال الشفهي</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لاتصال غير اللفظي</a:t>
            </a:r>
            <a:endParaRPr b="0" lang="en-US" sz="4800" spc="-1" strike="noStrike">
              <a:solidFill>
                <a:srgbClr val="775f55"/>
              </a:solidFill>
              <a:latin typeface="Tw Cen MT"/>
            </a:endParaRPr>
          </a:p>
        </p:txBody>
      </p:sp>
      <p:sp>
        <p:nvSpPr>
          <p:cNvPr id="390" name=""/>
          <p:cNvSpPr txBox="1"/>
          <p:nvPr/>
        </p:nvSpPr>
        <p:spPr>
          <a:xfrm>
            <a:off x="457200" y="1599840"/>
            <a:ext cx="8229600" cy="4876920"/>
          </a:xfrm>
          <a:prstGeom prst="rect">
            <a:avLst/>
          </a:prstGeom>
          <a:noFill/>
          <a:ln w="0">
            <a:noFill/>
          </a:ln>
        </p:spPr>
        <p:txBody>
          <a:bodyPr lIns="90000" rIns="90000" tIns="46800" bIns="46800" anchor="t">
            <a:normAutofit fontScale="94000"/>
          </a:bodyPr>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رتبط الاتصال غير اللفظي باستخدام الأفراد مجموعة من الإيماءات، وتعابير الوجه، والمظهر العام، والتعبيرات الجسدية أو التغيرات الصوتية، وذلك لنقل رسائلهم.</a:t>
            </a:r>
            <a:endParaRPr b="0" lang="en-US" sz="29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نقسم الاتصال غير اللفظي إلى قسمين:</a:t>
            </a:r>
            <a:endParaRPr b="0" lang="en-US" sz="2900" spc="-1" strike="noStrike">
              <a:solidFill>
                <a:srgbClr val="000000"/>
              </a:solidFill>
              <a:latin typeface="Tw Cen MT"/>
            </a:endParaRPr>
          </a:p>
          <a:p>
            <a:pPr marL="299520" indent="-29952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اتصال غير اللفظي البصري.</a:t>
            </a:r>
            <a:endParaRPr b="0" lang="en-US" sz="2900" spc="-1" strike="noStrike">
              <a:solidFill>
                <a:srgbClr val="000000"/>
              </a:solidFill>
              <a:latin typeface="Tw Cen MT"/>
            </a:endParaRPr>
          </a:p>
          <a:p>
            <a:pPr marL="299520" indent="-29952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اتصال غير اللفظي الصوتي. </a:t>
            </a:r>
            <a:endParaRPr b="0" lang="en-US" sz="29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تؤدي العينان وظيفتين رئيسيتين في الاتصال غير اللفظي:</a:t>
            </a:r>
            <a:endParaRPr b="0" lang="en-US" sz="29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1</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توفير التغذية الراجعة</a:t>
            </a:r>
            <a:r>
              <a:rPr b="0" lang="ar-SA" sz="2900" spc="-1" strike="noStrike">
                <a:solidFill>
                  <a:srgbClr val="000000"/>
                </a:solidFill>
                <a:latin typeface="Tw Cen MT"/>
                <a:ea typeface="Arial"/>
              </a:rPr>
              <a:t>. </a:t>
            </a:r>
            <a:r>
              <a:rPr b="1" lang="ar-SA" sz="2900" spc="-1" strike="noStrike">
                <a:solidFill>
                  <a:srgbClr val="000000"/>
                </a:solidFill>
                <a:latin typeface="Tw Cen MT"/>
                <a:ea typeface="Arial"/>
              </a:rPr>
              <a:t>2</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توثيق الاتصال بين أطراف الاتصال.</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هدف</a:t>
            </a:r>
            <a:endParaRPr b="0" lang="en-US" sz="4800" spc="-1" strike="noStrike">
              <a:solidFill>
                <a:srgbClr val="775f55"/>
              </a:solidFill>
              <a:latin typeface="Tw Cen MT"/>
            </a:endParaRPr>
          </a:p>
        </p:txBody>
      </p:sp>
      <p:sp>
        <p:nvSpPr>
          <p:cNvPr id="35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نقل هادفة للمعلومات، من شخص الى اخر بغرض ايجاد نوع من التفاهم المتبادل بينهما. عملية تبادل الأفكار والمعلومات من اجل ايجاد فهم مشترك وثقة بين العناصر الانسانية في المنظمة.</a:t>
            </a:r>
            <a:endParaRPr b="0" lang="en-US" sz="2900" spc="-1" strike="noStrike">
              <a:solidFill>
                <a:srgbClr val="000000"/>
              </a:solidFill>
              <a:latin typeface="Tw Cen MT"/>
            </a:endParaRPr>
          </a:p>
        </p:txBody>
      </p:sp>
      <p:pic>
        <p:nvPicPr>
          <p:cNvPr id="353" name="~PP124.WAV" descr=""/>
          <p:cNvPicPr/>
          <p:nvPr/>
        </p:nvPicPr>
        <p:blipFill>
          <a:blip r:embed="rId1"/>
          <a:stretch/>
        </p:blipFill>
        <p:spPr>
          <a:xfrm>
            <a:off x="8724960" y="6438960"/>
            <a:ext cx="304920" cy="3049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الاتصال غير اللفظي</a:t>
            </a:r>
            <a:endParaRPr b="0" lang="en-US" sz="48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w Cen MT"/>
                <a:cs typeface="Arial"/>
              </a:rPr>
              <a:t>الاتصال غير اللفظي البصري</a:t>
            </a:r>
            <a:r>
              <a:rPr b="0" lang="ar-SA" sz="2900" spc="-1" strike="noStrike">
                <a:solidFill>
                  <a:srgbClr val="000000"/>
                </a:solidFill>
                <a:latin typeface="Tw Cen MT"/>
                <a:ea typeface="Arial"/>
              </a:rPr>
              <a:t>: </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قوم المرسل باستخدام تعبيرات الوجه، وحركات العينين والابتسامة، وحركات يديه أو أي جزء من أجزاء جسمه لنقل أفكاره، ورغباته، ومشاعره للآخرين. ويتم الكشف عن هذه المهارات من خلال الملاحظة البصرية من قبل الآخرين.</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الاتصال غير اللفظي</a:t>
            </a:r>
            <a:endParaRPr b="0" lang="en-US" sz="4800" spc="-1" strike="noStrike">
              <a:solidFill>
                <a:srgbClr val="775f55"/>
              </a:solidFill>
              <a:latin typeface="Tw Cen MT"/>
            </a:endParaRPr>
          </a:p>
        </p:txBody>
      </p:sp>
      <p:sp>
        <p:nvSpPr>
          <p:cNvPr id="39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w Cen MT"/>
                <a:cs typeface="Arial"/>
              </a:rPr>
              <a:t>الاتصال غير اللفظي الصوتي</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قوم المرسل باستخدام تنوع طبقات صوته لإيصال الرسالة وليس معنى الكلمة، وبهذا فان نبرة الصوت تعطي معنى آخر غير معنى الكلمة الحقيقي، ويلاحظ أن حدة الصوت، ودرجة خشونته، وليونته تنبئ عن طبيعة المتحدث، فضعاف الشخصية عندما يتحدثون مع الغرباء نجدهم يتحدثون بصوت خافت. كما أن الصوت الهادئ يحمل درجة من المودة، في حين أن الصوت الحاد المرتفع يعبر عن العكس تمام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5f55"/>
                </a:solidFill>
                <a:latin typeface="Tw Cen MT"/>
                <a:cs typeface="Arial"/>
              </a:rPr>
              <a:t>الاتصال غير اللفظي البصري والصوتي</a:t>
            </a:r>
            <a:endParaRPr b="0" lang="en-US" sz="4400" spc="-1" strike="noStrike">
              <a:solidFill>
                <a:srgbClr val="775f55"/>
              </a:solidFill>
              <a:latin typeface="Tw Cen MT"/>
            </a:endParaRPr>
          </a:p>
        </p:txBody>
      </p:sp>
      <p:sp>
        <p:nvSpPr>
          <p:cNvPr id="396"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509040" indent="-5090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وضح ردود الفعل العكسية.</a:t>
            </a:r>
            <a:endParaRPr b="0" lang="en-US" sz="2900" spc="-1" strike="noStrike">
              <a:solidFill>
                <a:srgbClr val="000000"/>
              </a:solidFill>
              <a:latin typeface="Tw Cen MT"/>
            </a:endParaRPr>
          </a:p>
          <a:p>
            <a:pPr marL="509040" indent="-5090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مؤثر في الروح المعنوية للأفراد حيث أن الأفعال تتحدث بصوت أعلى من الكلمات.</a:t>
            </a:r>
            <a:endParaRPr b="0" lang="en-US" sz="2900" spc="-1" strike="noStrike">
              <a:solidFill>
                <a:srgbClr val="000000"/>
              </a:solidFill>
              <a:latin typeface="Tw Cen MT"/>
            </a:endParaRPr>
          </a:p>
          <a:p>
            <a:pPr marL="509040" indent="-5090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له أثره البالغ لدى الأفراد ذوي الكفاءات والثقافة العالية.</a:t>
            </a:r>
            <a:endParaRPr b="0" lang="en-US" sz="2900" spc="-1" strike="noStrike">
              <a:solidFill>
                <a:srgbClr val="000000"/>
              </a:solidFill>
              <a:latin typeface="Tw Cen MT"/>
            </a:endParaRPr>
          </a:p>
          <a:p>
            <a:pPr marL="509040" indent="-50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مثل:</a:t>
            </a:r>
            <a:endParaRPr b="0" lang="en-US" sz="2900" spc="-1" strike="noStrike">
              <a:solidFill>
                <a:srgbClr val="000000"/>
              </a:solidFill>
              <a:latin typeface="Tw Cen MT"/>
            </a:endParaRPr>
          </a:p>
          <a:p>
            <a:pPr marL="509040" indent="-50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	</a:t>
            </a:r>
            <a:r>
              <a:rPr b="0" lang="ar-SA" sz="2900" spc="-1" strike="noStrike">
                <a:solidFill>
                  <a:srgbClr val="000000"/>
                </a:solidFill>
                <a:latin typeface="Tw Cen MT"/>
                <a:ea typeface="Arial"/>
              </a:rPr>
              <a:t>- الإيماءات.</a:t>
            </a:r>
            <a:endParaRPr b="0" lang="en-US" sz="2900" spc="-1" strike="noStrike">
              <a:solidFill>
                <a:srgbClr val="000000"/>
              </a:solidFill>
              <a:latin typeface="Tw Cen MT"/>
            </a:endParaRPr>
          </a:p>
          <a:p>
            <a:pPr marL="509040" indent="-50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	</a:t>
            </a:r>
            <a:r>
              <a:rPr b="0" lang="ar-SA" sz="2900" spc="-1" strike="noStrike">
                <a:solidFill>
                  <a:srgbClr val="000000"/>
                </a:solidFill>
                <a:latin typeface="Tw Cen MT"/>
                <a:ea typeface="Arial"/>
              </a:rPr>
              <a:t>- حركات الوجه السكوت، والغضب، والانفعال الابتسامة، ونبرات الصوت.</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وظائف الاتصال</a:t>
            </a:r>
            <a:r>
              <a:rPr b="0" lang="ar-SA" sz="4400" spc="-1" strike="noStrike">
                <a:solidFill>
                  <a:srgbClr val="775f55"/>
                </a:solidFill>
                <a:latin typeface="Tw Cen MT"/>
                <a:ea typeface="Arial"/>
              </a:rPr>
              <a:t> </a:t>
            </a:r>
            <a:endParaRPr b="0" lang="en-US" sz="4400" spc="-1" strike="noStrike">
              <a:solidFill>
                <a:srgbClr val="775f55"/>
              </a:solidFill>
              <a:latin typeface="Tw Cen MT"/>
            </a:endParaRPr>
          </a:p>
        </p:txBody>
      </p:sp>
      <p:sp>
        <p:nvSpPr>
          <p:cNvPr id="398" name=""/>
          <p:cNvSpPr txBox="1"/>
          <p:nvPr/>
        </p:nvSpPr>
        <p:spPr>
          <a:xfrm>
            <a:off x="457200" y="1599840"/>
            <a:ext cx="8229600" cy="4724280"/>
          </a:xfrm>
          <a:prstGeom prst="rect">
            <a:avLst/>
          </a:prstGeom>
          <a:noFill/>
          <a:ln w="0">
            <a:noFill/>
          </a:ln>
        </p:spPr>
        <p:txBody>
          <a:bodyPr lIns="90000" rIns="90000" tIns="46800" bIns="46800" anchor="t">
            <a:normAutofit fontScale="91000"/>
          </a:bodyPr>
          <a:p>
            <a:pPr marL="468000" indent="-46800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cs typeface="Arial"/>
              </a:rPr>
              <a:t>الوظيفة الاجتماعية</a:t>
            </a:r>
            <a:r>
              <a:rPr b="0" lang="ar-SA" sz="2900" spc="-1" strike="noStrike">
                <a:solidFill>
                  <a:srgbClr val="000000"/>
                </a:solidFill>
                <a:latin typeface="Tw Cen MT"/>
                <a:ea typeface="Arial"/>
              </a:rPr>
              <a:t>: إن دوام المجتمع واستمراره يتم بنقل الخبرات واتصال الأفراد. فالناس يعيشون جماعة بفضل ما يشتركون فيه من أهداف ومعلومات.</a:t>
            </a:r>
            <a:endParaRPr b="0" lang="en-US" sz="2900" spc="-1" strike="noStrike">
              <a:solidFill>
                <a:srgbClr val="000000"/>
              </a:solidFill>
              <a:latin typeface="Tw Cen MT"/>
            </a:endParaRPr>
          </a:p>
          <a:p>
            <a:pPr marL="468000" indent="-46800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468000" indent="-46800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cs typeface="Arial"/>
              </a:rPr>
              <a:t>الوظيفة المهنية</a:t>
            </a:r>
            <a:r>
              <a:rPr b="0" lang="ar-SA" sz="2900" spc="-1" strike="noStrike">
                <a:solidFill>
                  <a:srgbClr val="000000"/>
                </a:solidFill>
                <a:latin typeface="Tw Cen MT"/>
                <a:ea typeface="Arial"/>
              </a:rPr>
              <a:t>: العمل على توفير الحقائق اللازمة وتبادلها لتيسير الاتفاق أو توضيح وجهات النظر حول القضايا العامة، وتوفير الأدلة الملائمة لكل الأمور التي تهم المجتمع محليا، وقوميا، ودولي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وظائف الاتصال</a:t>
            </a:r>
            <a:endParaRPr b="0" lang="en-US" sz="4800" spc="-1" strike="noStrike">
              <a:solidFill>
                <a:srgbClr val="775f55"/>
              </a:solidFill>
              <a:latin typeface="Tw Cen MT"/>
            </a:endParaRPr>
          </a:p>
        </p:txBody>
      </p:sp>
      <p:sp>
        <p:nvSpPr>
          <p:cNvPr id="400" name=""/>
          <p:cNvSpPr txBox="1"/>
          <p:nvPr/>
        </p:nvSpPr>
        <p:spPr>
          <a:xfrm>
            <a:off x="457200" y="1599840"/>
            <a:ext cx="8229600" cy="525780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ea typeface="Arial"/>
              </a:rPr>
              <a:t>3</a:t>
            </a:r>
            <a:r>
              <a:rPr b="1" lang="ar-SA" sz="4800" spc="-1" strike="noStrike">
                <a:solidFill>
                  <a:srgbClr val="000000"/>
                </a:solidFill>
                <a:latin typeface="Tw Cen MT"/>
                <a:ea typeface="Arial"/>
              </a:rPr>
              <a:t>. الوظيفة الأكاديمية</a:t>
            </a:r>
            <a:r>
              <a:rPr b="0" lang="ar-SA" sz="2900" spc="-1" strike="noStrike">
                <a:solidFill>
                  <a:srgbClr val="000000"/>
                </a:solidFill>
                <a:latin typeface="Tw Cen MT"/>
                <a:ea typeface="Arial"/>
              </a:rPr>
              <a:t>: جمع وتخزين ومعالجة ونشر الأنباء والبيانات والصور والحقائق والرسائل والآراء والتعليقات، من اجل فهم الظروف الشخصية والبيئية والتصرف تجاهها من علم ومعرفة، والوصول إلى وضع يمكن من اتخاذ القرارات السليمة.</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ea typeface="Arial"/>
              </a:rPr>
              <a:t>4</a:t>
            </a:r>
            <a:r>
              <a:rPr b="1" lang="ar-SA" sz="4800" spc="-1" strike="noStrike">
                <a:solidFill>
                  <a:srgbClr val="000000"/>
                </a:solidFill>
                <a:latin typeface="Tw Cen MT"/>
                <a:ea typeface="Arial"/>
              </a:rPr>
              <a:t>. الوظيفة الثقافية</a:t>
            </a:r>
            <a:r>
              <a:rPr b="0" lang="ar-SA" sz="2900" spc="-1" strike="noStrike">
                <a:solidFill>
                  <a:srgbClr val="000000"/>
                </a:solidFill>
                <a:latin typeface="Tw Cen MT"/>
                <a:ea typeface="Arial"/>
              </a:rPr>
              <a:t>: إن نقل الموروث الثقافي من جيل إلى آخر لخلق التضامن والاستمرارية في المجتمع عبر الأجيال، وذلك عن طريق الاتصال الكتابي.</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وظائف الاتصال</a:t>
            </a:r>
            <a:endParaRPr b="0" lang="en-US" sz="48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ea typeface="Arial"/>
              </a:rPr>
              <a:t>5</a:t>
            </a:r>
            <a:r>
              <a:rPr b="1" lang="ar-SA" sz="4800" spc="-1" strike="noStrike">
                <a:solidFill>
                  <a:srgbClr val="000000"/>
                </a:solidFill>
                <a:latin typeface="Tw Cen MT"/>
                <a:ea typeface="Arial"/>
              </a:rPr>
              <a:t>. الوظيفة التراثية</a:t>
            </a:r>
            <a:r>
              <a:rPr b="0" lang="ar-SA" sz="2900" spc="-1" strike="noStrike">
                <a:solidFill>
                  <a:srgbClr val="000000"/>
                </a:solidFill>
                <a:latin typeface="Tw Cen MT"/>
                <a:ea typeface="Arial"/>
              </a:rPr>
              <a:t>: نشر الأعمال الثقافية والفنية بهدف المحافظة على التراث والتطوير الثقافي عن طريق توسيع آفاق الفرد، وإيقاظ خياله وإشباع حاجاته الجمالية وإطلاق قدرته على الإبداع.</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تفاعل</a:t>
            </a:r>
            <a:endParaRPr b="0" lang="en-US" sz="48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تفاعل مشتركة بين طرفين لتبادل فكرة او خبرة معينة عن طريق وسيلة ما.</a:t>
            </a:r>
            <a:endParaRPr b="0" lang="en-US" sz="2900" spc="-1" strike="noStrike">
              <a:solidFill>
                <a:srgbClr val="000000"/>
              </a:solidFill>
              <a:latin typeface="Tw Cen MT"/>
            </a:endParaRPr>
          </a:p>
        </p:txBody>
      </p:sp>
      <p:pic>
        <p:nvPicPr>
          <p:cNvPr id="356" name="~PP998.WAV" descr=""/>
          <p:cNvPicPr/>
          <p:nvPr/>
        </p:nvPicPr>
        <p:blipFill>
          <a:blip r:embed="rId1"/>
          <a:stretch/>
        </p:blipFill>
        <p:spPr>
          <a:xfrm>
            <a:off x="8724960" y="64389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شكل</a:t>
            </a:r>
            <a:endParaRPr b="0" lang="en-US" sz="4800" spc="-1" strike="noStrike">
              <a:solidFill>
                <a:srgbClr val="775f55"/>
              </a:solidFill>
              <a:latin typeface="Tw Cen MT"/>
            </a:endParaRPr>
          </a:p>
        </p:txBody>
      </p:sp>
      <p:sp>
        <p:nvSpPr>
          <p:cNvPr id="35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اجتماعية يقتضي تحقيقها وجود طرفين (مرسل ومستقبل) ونشوء تفاعل بينهما ينتج عنهما نقل الافكار او المعلومات او المهارات او الاتجاهات او المشاعر او تبادل التأثير ازاء موضوع (محور الاتصال).</a:t>
            </a:r>
            <a:endParaRPr b="0" lang="en-US" sz="2900" spc="-1" strike="noStrike">
              <a:solidFill>
                <a:srgbClr val="000000"/>
              </a:solidFill>
              <a:latin typeface="Tw Cen MT"/>
            </a:endParaRPr>
          </a:p>
        </p:txBody>
      </p:sp>
      <p:pic>
        <p:nvPicPr>
          <p:cNvPr id="359" name="~PP3197.WAV" descr=""/>
          <p:cNvPicPr/>
          <p:nvPr/>
        </p:nvPicPr>
        <p:blipFill>
          <a:blip r:embed="rId1"/>
          <a:stretch/>
        </p:blipFill>
        <p:spPr>
          <a:xfrm>
            <a:off x="8724960" y="64389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3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كيفية</a:t>
            </a:r>
            <a:endParaRPr b="0" lang="en-US" sz="48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الطريقة التي يتم من خلالها ايصال المعارف من فرد الى اخر او من فرد الى مجموعة حتى تصبح مشاعا بينهم ثم تؤدي الى التفاهم والتفاعل.</a:t>
            </a:r>
            <a:endParaRPr b="0" lang="en-US" sz="2900" spc="-1" strike="noStrike">
              <a:solidFill>
                <a:srgbClr val="000000"/>
              </a:solidFill>
              <a:latin typeface="Tw Cen MT"/>
            </a:endParaRPr>
          </a:p>
        </p:txBody>
      </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مشاركة</a:t>
            </a:r>
            <a:endParaRPr b="0" lang="en-US" sz="48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مشاركة في الخبرة وجعلها مألوفة بين اثنين او اكثر من الأفراد.</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أركان عملية الاتصال</a:t>
            </a:r>
            <a:endParaRPr b="0" lang="en-US" sz="48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وجود معارف أو معلومات لنقلها عبر عملية الاتصا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التفاعل بين عناصر الاتصا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قبول المستقبل لرسالة المرس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وجود فهم مشترك بين المرسل والمستقب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775f55"/>
                </a:solidFill>
                <a:latin typeface="Tw Cen MT"/>
                <a:cs typeface="Arial"/>
              </a:rPr>
              <a:t>اذن مما سبق يمكن استخلاص مفهوم الاتصال بأنه</a:t>
            </a:r>
            <a:r>
              <a:rPr b="0" lang="ar-JO" sz="4000" spc="-1" strike="noStrike">
                <a:solidFill>
                  <a:srgbClr val="775f55"/>
                </a:solidFill>
                <a:latin typeface="Tw Cen MT"/>
                <a:ea typeface="Arial"/>
              </a:rPr>
              <a:t>:</a:t>
            </a:r>
            <a:endParaRPr b="0" lang="en-US" sz="40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عملية إنتاج، ونقل، وتبادل المعلومات، والأفكار، والآراء، والمشاعر من شخص إلى آخر بقصد التأثير فيه وإحداث الاستجابة المطلوبة.</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همية الاتصال</a:t>
            </a:r>
            <a:endParaRPr b="0" lang="en-US" sz="48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تتمثل اهمية الاتصال في بعدين اساسسين، هما:</a:t>
            </a:r>
            <a:endParaRPr b="0" lang="en-US" sz="2500" spc="-1" strike="noStrike">
              <a:solidFill>
                <a:srgbClr val="000000"/>
              </a:solidFill>
              <a:latin typeface="Tw Cen MT"/>
            </a:endParaRPr>
          </a:p>
          <a:p>
            <a:pPr marL="309240" indent="-30924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البعد الشخصي</a:t>
            </a:r>
            <a:endParaRPr b="0" lang="en-US" sz="40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القدرة على انجاز الاهداف بالشكل المطلوب</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توجيه السلوك الفردي والجماعي للأفراد وتغيره</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وسيلة للتحفيز للقيام بالأدوار المطلوبة </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تنمية خبرات الأفراد ومهاراتهم </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اشباع حاجة الأفراد للانتماء الى الجماعة، فالأتصال بذاته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cs typeface="Arial"/>
              </a:rPr>
              <a:t>حاجة يسعى الى اشباعها</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نقل المعلومات، والبيانات، والاحصاءات، والمفاهيم بما يسهم في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cs typeface="Arial"/>
              </a:rPr>
              <a:t>اتخاذ القرارات المناسبة، وتتحقيق النجاح المطلوب.</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04:45:10Z</dcterms:created>
  <dc:creator>owner</dc:creator>
  <dc:description/>
  <dc:language>en-US</dc:language>
  <cp:lastModifiedBy>admin</cp:lastModifiedBy>
  <dcterms:modified xsi:type="dcterms:W3CDTF">2011-10-10T10:36:40Z</dcterms:modified>
  <cp:revision>84</cp:revision>
  <dc:subject/>
  <dc:title>مفاهيم الاتصال</dc:title>
</cp:coreProperties>
</file>