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DE6-7E32-45B3-A60D-FDB594C1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31E-171E-4BE4-8363-06CCAD98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FF2F-B8B4-415D-8170-4D0AF4A3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5FC-AE1A-4BDA-8991-D81D0F504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623-DC90-40C5-8FDE-60BFF01E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C50-2D12-4663-BC8D-9B9CB9DC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36D9-3A51-4B3A-9796-2DD5C109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47C2-A98A-49D2-BDA6-B52AD429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BA22-B066-4F60-8A85-2099F745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DD50-D458-43E9-B777-079E2CA8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11C-C482-495D-8E4D-751E5CDD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5523-6AF9-450E-92B9-B65C0A07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8D5C-2617-4B36-8E86-B18ADB5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631B-5B50-41AA-B3B7-1EEFC24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DEB0-9B77-4E3A-A4A7-E3B3AAA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DCCB-204D-4AB6-98F7-562D015E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A14A-A53C-4A89-A021-E2AF670A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130-F6BF-493F-B75F-32343191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04F3-0016-451A-8C96-ADA5CEA2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443-E821-439D-983F-A3A2FFB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790-EAAC-4463-A8D2-1FC7EBB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8E4-5454-4270-A4DD-235058B9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AE26-CC68-4BF1-9839-7CCC0255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4875-0434-4522-9023-445F421C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5C15-8CCB-4A0E-8F8C-7DC954C30B2C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9B8D-792C-4FA3-B02D-8621FD343D35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ورشة عمل في البحث التربوي 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إعداد وتقديم الدكتور محمد القضاه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قسم علم النفس- جامعة الملك سعود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24360" y="6381360"/>
            <a:ext cx="77756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طي للمستجيب فرصة مناقشة الاسئلة مع غيره فيكون عرضة للتأثر باراء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في حالة عدم اجبار المستجيب على ذكر اسمه او الكشف عن شخصيته لا يمكن الرجوع الي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حتمال قيام افراد آخرين غير الفرد المستهدف بالإجاب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بعض الاحيان تتطلب الاستبانة عدداً كبيراً من الاسئلة الامرالذي يؤدي الى جعلها طويلة وتثير ملل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9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خطوات تصميم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 خطوات تصميم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هداف الاستبانة والنقاط التي سوف تتناولها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لمجالات(المحاور) التي ستتناولها ا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صياغة الاسئلة بحيث تدور حول الاهداف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اجراء دراسة اولية ل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عرض الاستبانة على ذوي الخبرة (التحكيم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صدق الاستبانة وثباتها بالطرق الاحصائ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بالنسبة للزمن اللازم لتعبئة الاستبان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ليس هناك تحديد ولكن ينصح الخبراء بأن لا يتعدى الربع ساعة للاستبانة التي تعبأ بشكل فردي والنصف ساعة للاستبانة التي تعبأ بشكل جماعي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ا عدد الاسئل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ختلف باختلاف العنوان ويقترح الخبراء ان يكون بين (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-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 سؤالا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ّا طول السؤا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جب ان يكون بأبسط صورة ممكنة دون ان يخل ذلك بفهم المستجيب له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ن شروط الاستبانة الجيدة احتوائها على ما يل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عنوان واسم الباحث والجهة المشرف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غرض من الدراس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رسالة التطبيعية وتعطى للقارى لشكره على المساعدة وتطمينه بسرية المعلوم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معلومات الشخصية عن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ليمات الاج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مدت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كتب اربعة من فئات الاستجاب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3164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فئات الاستجابة كثيرة ويحددها نوع الاسئلة وفيما يلي استعراض لبعض منها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افق بشدة ، اوافق ، محايد ، غير موافق ، غير موافق بشدة.وهذا يسمى مقياس ليكرت ويستخدم في قياس الاتجاه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ممتاز ، جيد جداً، جيد ، ضعي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دائماً،عادة،نادراً،اطلا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ض تماماً، راض الى حد ما، لست راض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يذكر خبراء كتابة الاستبانة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:ـ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ن من الحكمة استبعاد فئة عدم المعرفة (لا اعرف، لا ادري، لا رأي لي، محايد) لكونها مخرج امن وسهل من صعوبة الاختيار على ان هذه النقطة محل خلاف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ينصح الخبراء بالابتعاد عن البديلين فقط مثل (نعم- لا) لان ذلك يقلل فرصة الاختيار للمستجيب بالتالي قد يحصل الباحث على نتائج غير صادق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رف المقابلة وماهي مزياها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920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قابلة </a:t>
            </a:r>
            <a:r>
              <a:rPr b="0" lang="hi-IN" sz="2800" spc="-1" strike="noStrike">
                <a:solidFill>
                  <a:srgbClr val="ffcc00"/>
                </a:solidFill>
                <a:latin typeface="Arial Black"/>
              </a:rPr>
              <a:t>هي محادثة بين شخصين يبدأها الشخص الذي يجري المقابلة لاهداف معي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الفرصة لجمع معلومات كثيرة وشام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من خلالها تجمع معلومات حقيقية وصادق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صلح للاوساط التي تنتشر فيها الام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ضمن الاجابة على كل الاسئ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للمستجيب الفرصة للاستفسار عن بعض الامور المتعلقة بالمقاب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شعر المستجيب باهميته الاجتماع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ادوات البحث العلمي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  <a:ea typeface="DecoType Naskh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مقاب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طلب جهداً ووقتاً طويلاً وتكاليف  كثي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أثر بعوامل كتوتر المستجيب ومحاولته ارضاء الباحث والجو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قد يستدرج الباحث وخاصة المبتدى الى مناقشات جانب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3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ملاحظة؟ وماهي الامور التي ينبغي مراعاتها حتى تنجح 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4149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لاحظة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ي مشاهدة مقصودة ودقيقة ومنظمة وعميقة لظاهرة م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مور التي تجب مراعاتها لانجاح عملية الملاحظ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حدد موضوع الملاحظة واهدافها مسب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شترك اكثر من فرد في عملية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سجل الملاحظات عقب حدوثها مباش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ؤجل تفسير الملاحظات والتعليق عليها الى ما بعد جمع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داة الملاحظة معدة مسبقاً ومحكمة بعنا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4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ختبار ؟ وماهي انواع الاختبارات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79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ختبار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و مجموعة من المثيرات تقدم للمستجيب لاستثارة استجابات لديه يعطى عليها درجة عددية تعتبر مؤشرًَا للقدر الذي يمتلكه المستجيب من الخاصية التي يقيسها الاختبار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نواع الاختبارات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لاختبارات التحصيل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اداء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 الاستعداد العقلي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ميو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شخص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دوات البحث العلم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لاً:-  الاستبان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نياً:- المقاب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لثاً:-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بعاً:- الاختبار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ستبانة وماهي القواعد التي ينبغي مراعاتها عند صياغة الاسئ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7920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ستبان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هي مجموعة من الاسئلة المكتوبة يقوم المستجيب بالاجابة عنها وهي نوعين اما مقيدة او ح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قواعد التي ينبغي مراعاتها عند صياغة الاسئ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لاسئلة سهلة لا تحتمل اكثر من معنى ويمكن فهمها بوضوح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بدأ الاستبانة بالاسئلة السهلة ثم الصع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نصب كل سؤال على جانب محدد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كثار من عدد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تي تتطلب اجابات مفتوح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معقدة التي تصعب الاجابة علي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مميزات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-617760"/>
            <a:ext cx="6840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من خلالها يمكن جمع معلومات من عدد كبير من الاشخاص في وقت وجهد قلي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صلح في البحوث التي تتطلب الحصول على بيانات سر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مكن من خلالها جمع البيانات من المستفيدين بطريقة فردية او جماع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ستخدامها قد لا يجعل الباحث عرضة لتحيز بعض جامعي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hi-IN" sz="44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استبانة: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حتاج الى جهد وعناية في اعدادها وصياغت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صعب استخدامها اذا كان المستجيبين غير مثقفين اولا يجيدون القراءة والكت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سوء فهم بعض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فقد بعض نسخ الاستبانة او عدم الاجابة عنها او عن بعض الاسئلة فيها من قبل بعض الاشخاص او عدم اعادتها للباحث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20:53Z</dcterms:created>
  <dc:creator>0114</dc:creator>
  <dc:description/>
  <dc:language>en-US</dc:language>
  <cp:lastModifiedBy>mohammad</cp:lastModifiedBy>
  <dcterms:modified xsi:type="dcterms:W3CDTF">2010-05-25T10:39:13Z</dcterms:modified>
  <cp:revision>59</cp:revision>
  <dc:subject/>
  <dc:title>البرنامج التدريبي على البحث التربوي للعاملين في الحقل التربوي  </dc:title>
</cp:coreProperties>
</file>