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4C6B-3FA1-4AD9-97E3-44BF6107C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003F-E099-42A7-9019-D5AE26E62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A050-A5D2-423D-A29E-AD076CC31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3C54-6F9C-46FA-AF3D-24BE96629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5B13D-815C-4019-B32E-F0C46A57C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813AA-19F2-4AF9-9EAD-30F56031D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C5F30-EDF6-4228-9623-3E74243E4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2E45D-2161-491C-A2DC-A23A73559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6598D-6BF1-42FF-B84E-4A486978F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1D8AB-88F1-47C7-8D38-0C40EBF4F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E3121-16C0-4EE3-8024-0926E8087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E859-931F-4A42-9FAC-70F462220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FD6A7-F797-4BD1-BE31-D6A95F09F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390B2-6EC7-468B-AB32-ADF479AF3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AAABF-2FD0-438C-8E13-8237039DB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37FDC-864D-4DAA-9EF5-28515C74A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AB2F3-768A-440C-A4B5-939E53E83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84FC-B1F0-42C0-88D4-6FEE22996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5E74-2020-41F5-BB26-A5028F06B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B177-EF9C-47D2-B93D-CE6488130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EFB8-C900-4FC4-BF04-582B137FA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C5EA-C174-4B3F-84F0-602679589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E256-A797-4B9A-B041-F46135D42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76B1-B0DC-42B5-80D9-B93510D69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D2994-F8D2-4F36-93EE-6506AF7E07BC}" type="slidenum">
              <a:rPr b="0" lang="ar-SA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858DA-4B04-4382-BAFE-AC010F933237}" type="slidenum">
              <a:rPr b="0" lang="ar-SA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 rtl="1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 rtl="1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 rtl="1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11280" y="1557000"/>
            <a:ext cx="792144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Arial Black"/>
              </a:rPr>
              <a:t>ورشة عمل في البحث التربوي </a:t>
            </a:r>
            <a:br>
              <a:rPr sz="4000"/>
            </a:br>
            <a:r>
              <a:rPr b="0" lang="ar-SA" sz="4000" spc="-1" strike="noStrike">
                <a:solidFill>
                  <a:srgbClr val="ffffff"/>
                </a:solidFill>
                <a:latin typeface="Arial Black"/>
              </a:rPr>
              <a:t>إعداد وتقديم الدكتور محمد القضاه</a:t>
            </a:r>
            <a:br>
              <a:rPr sz="4000"/>
            </a:br>
            <a:r>
              <a:rPr b="0" lang="ar-SA" sz="4000" spc="-1" strike="noStrike">
                <a:solidFill>
                  <a:srgbClr val="ffffff"/>
                </a:solidFill>
                <a:latin typeface="Arial Black"/>
              </a:rPr>
              <a:t>قسم علم النفس- جامعة الملك سعود</a:t>
            </a:r>
            <a:r>
              <a:rPr b="0" lang="ar-SA" sz="40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-324360" y="6381360"/>
            <a:ext cx="7775640" cy="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4840" bIns="2484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cc00"/>
                </a:solidFill>
                <a:latin typeface="Arial Black"/>
              </a:rPr>
              <a:t>5</a:t>
            </a:r>
            <a:r>
              <a:rPr b="0" lang="ar-SA" sz="3200" spc="-1" strike="noStrike">
                <a:solidFill>
                  <a:srgbClr val="ffcc00"/>
                </a:solidFill>
                <a:latin typeface="Arial Black"/>
              </a:rPr>
              <a:t>- تعطي للمستجيب فرصة مناقشة الاسئلة مع غيره فيكون عرضة للتأثر باراءه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2916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cc00"/>
                </a:solidFill>
                <a:latin typeface="Arial Black"/>
              </a:rPr>
              <a:t>6</a:t>
            </a:r>
            <a:r>
              <a:rPr b="0" lang="ar-SA" sz="3200" spc="-1" strike="noStrike">
                <a:solidFill>
                  <a:srgbClr val="ffcc00"/>
                </a:solidFill>
                <a:latin typeface="Arial Black"/>
              </a:rPr>
              <a:t>- في حالة عدم اجبار المستجيب على ذكر اسمه او الكشف عن شخصيته لا يمكن الرجوع اليه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2916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cc00"/>
                </a:solidFill>
                <a:latin typeface="Arial Black"/>
              </a:rPr>
              <a:t>7</a:t>
            </a:r>
            <a:r>
              <a:rPr b="0" lang="ar-SA" sz="3200" spc="-1" strike="noStrike">
                <a:solidFill>
                  <a:srgbClr val="ffcc00"/>
                </a:solidFill>
                <a:latin typeface="Arial Black"/>
              </a:rPr>
              <a:t>- احتمال قيام افراد آخرين غير الفرد المستهدف بالإجابة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2916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cc00"/>
                </a:solidFill>
                <a:latin typeface="Arial Black"/>
              </a:rPr>
              <a:t>8</a:t>
            </a:r>
            <a:r>
              <a:rPr b="0" lang="ar-SA" sz="3200" spc="-1" strike="noStrike">
                <a:solidFill>
                  <a:srgbClr val="ffcc00"/>
                </a:solidFill>
                <a:latin typeface="Arial Black"/>
              </a:rPr>
              <a:t>- بعض الاحيان تتطلب الاستبانة عدداً كبيراً من الاسئلة الامرالذي يؤدي الى جعلها طويلة وتثير ملل المستجيب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29160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4000" y="-160020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cc00"/>
                </a:solidFill>
                <a:latin typeface="Arial Black"/>
              </a:rPr>
              <a:t>النشاط رقم (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9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) الوقت المخصص له(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15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) دقيقة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 algn="r" rtl="1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Arial Black"/>
                <a:cs typeface="DecoType Naskh"/>
              </a:rPr>
              <a:t>ماهي خطوات تصميم الاستبانة؟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4000" y="-160020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  <a:ea typeface="DecoType Naskh"/>
              </a:rPr>
              <a:t>     خطوات تصميم الاستبانة:-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1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- تحديد اهداف الاستبانة والنقاط التي سوف تتناولها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2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- تحديد المجالات(المحاور) التي ستتناولها الاستبانة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3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- صياغة الاسئلة بحيث تدور حول الاهداف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4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- اجراء دراسة اولية للاستبانة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5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- عرض الاستبانة على ذوي الخبرة (التحكيم)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6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- تحديد صدق الاستبانة وثباتها بالطرق الاحصائية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ffffff"/>
                </a:solidFill>
                <a:latin typeface="Arial Black"/>
                <a:cs typeface="DecoType Naskh"/>
              </a:rPr>
              <a:t>بالنسبة للزمن اللازم لتعبئة الاستبانة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  فليس هناك تحديد ولكن ينصح الخبراء بأن لا يتعدى الربع ساعة للاستبانة التي تعبأ بشكل فردي والنصف ساعة للاستبانة التي تعبأ بشكل جماعي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ffffff"/>
                </a:solidFill>
                <a:latin typeface="Arial Black"/>
                <a:cs typeface="DecoType Naskh"/>
              </a:rPr>
              <a:t>اما عدد الاسئلة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  فيختلف باختلاف العنوان ويقترح الخبراء ان يكون بين (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25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 - 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45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) سؤالاً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Arial Black"/>
                <a:cs typeface="DecoType Naskh"/>
              </a:rPr>
              <a:t>امّا طول السؤال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  فيجب ان يكون بأبسط صورة ممكنة دون ان يخل ذلك بفهم المستجيب له.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10920" y="-160020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23640" y="764640"/>
            <a:ext cx="777708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Arial Black"/>
                <a:cs typeface="DecoType Naskh"/>
              </a:rPr>
              <a:t>من شروط الاستبانة الجيدة احتوائها على ما يلي:-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cc00"/>
                </a:solidFill>
                <a:latin typeface="Arial Black"/>
              </a:rPr>
              <a:t>1</a:t>
            </a:r>
            <a:r>
              <a:rPr b="0" lang="ar-SA" sz="3200" spc="-1" strike="noStrike">
                <a:solidFill>
                  <a:srgbClr val="ffcc00"/>
                </a:solidFill>
                <a:latin typeface="Arial Black"/>
              </a:rPr>
              <a:t>- العنوان واسم الباحث والجهة المشرفة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cc00"/>
                </a:solidFill>
                <a:latin typeface="Arial Black"/>
              </a:rPr>
              <a:t>2</a:t>
            </a:r>
            <a:r>
              <a:rPr b="0" lang="ar-SA" sz="3200" spc="-1" strike="noStrike">
                <a:solidFill>
                  <a:srgbClr val="ffcc00"/>
                </a:solidFill>
                <a:latin typeface="Arial Black"/>
              </a:rPr>
              <a:t>- الغرض من الدراسة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cc00"/>
                </a:solidFill>
                <a:latin typeface="Arial Black"/>
              </a:rPr>
              <a:t>3</a:t>
            </a:r>
            <a:r>
              <a:rPr b="0" lang="ar-SA" sz="3200" spc="-1" strike="noStrike">
                <a:solidFill>
                  <a:srgbClr val="ffcc00"/>
                </a:solidFill>
                <a:latin typeface="Arial Black"/>
              </a:rPr>
              <a:t>- الرسالة التطبيعية وتعطى للقارى لشكره على المساعدة وتطمينه بسرية المعلومات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cc00"/>
                </a:solidFill>
                <a:latin typeface="Arial Black"/>
              </a:rPr>
              <a:t>4</a:t>
            </a:r>
            <a:r>
              <a:rPr b="0" lang="ar-SA" sz="3200" spc="-1" strike="noStrike">
                <a:solidFill>
                  <a:srgbClr val="ffcc00"/>
                </a:solidFill>
                <a:latin typeface="Arial Black"/>
              </a:rPr>
              <a:t>- المعلومات الشخصية عن المستجيب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cc00"/>
                </a:solidFill>
                <a:latin typeface="Arial Black"/>
              </a:rPr>
              <a:t>5</a:t>
            </a:r>
            <a:r>
              <a:rPr b="0" lang="ar-SA" sz="3200" spc="-1" strike="noStrike">
                <a:solidFill>
                  <a:srgbClr val="ffcc00"/>
                </a:solidFill>
                <a:latin typeface="Arial Black"/>
              </a:rPr>
              <a:t>- تعليمات الاجابة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cc00"/>
                </a:solidFill>
                <a:latin typeface="Arial Black"/>
              </a:rPr>
              <a:t>6</a:t>
            </a:r>
            <a:r>
              <a:rPr b="0" lang="ar-SA" sz="3200" spc="-1" strike="noStrike">
                <a:solidFill>
                  <a:srgbClr val="ffcc00"/>
                </a:solidFill>
                <a:latin typeface="Arial Black"/>
              </a:rPr>
              <a:t>- الاسئلة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cc00"/>
                </a:solidFill>
                <a:latin typeface="Arial Black"/>
              </a:rPr>
              <a:t>النشاط رقم (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10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) مدته (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15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) دقيقة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 algn="r" rtl="1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Arial Black"/>
                <a:cs typeface="DecoType Naskh"/>
              </a:rPr>
              <a:t>اكتب اربعة من فئات الاستجابة؟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331640" y="-160020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39280" y="764640"/>
            <a:ext cx="799308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  <a:ea typeface="DecoType Naskh"/>
              </a:rPr>
              <a:t>    فئات الاستجابة كثيرة ويحددها نوع الاسئلة وفيما يلي استعراض لبعض منها:-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cc00"/>
                </a:solidFill>
                <a:latin typeface="Arial Black"/>
              </a:rPr>
              <a:t>اوافق بشدة ، اوافق ، محايد ، غير موافق ، غير موافق بشدة.وهذا يسمى مقياس ليكرت ويستخدم في قياس الاتجاهات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cc00"/>
                </a:solidFill>
                <a:latin typeface="Arial Black"/>
              </a:rPr>
              <a:t>ممتاز ، جيد جداً، جيد ، ضعيف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cc00"/>
                </a:solidFill>
                <a:latin typeface="Arial Black"/>
              </a:rPr>
              <a:t>دائماً،عادة،نادراً،اطلاقاً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cc00"/>
                </a:solidFill>
                <a:latin typeface="Arial Black"/>
              </a:rPr>
              <a:t>راض تماماً، راض الى حد ما، لست راض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8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Arial Black"/>
                <a:cs typeface="DecoType Naskh"/>
              </a:rPr>
              <a:t>يذكر خبراء كتابة الاستبانة</a:t>
            </a: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 :ـ </a:t>
            </a:r>
            <a:r>
              <a:rPr b="0" lang="hi-IN" sz="3200" spc="-1" strike="noStrike">
                <a:solidFill>
                  <a:srgbClr val="ffcc00"/>
                </a:solidFill>
                <a:latin typeface="Arial Black"/>
              </a:rPr>
              <a:t>ان من الحكمة استبعاد فئة عدم المعرفة (لا اعرف، لا ادري، لا رأي لي، محايد) لكونها مخرج امن وسهل من صعوبة الاختيار على ان هذه النقطة محل خلاف 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 algn="r" rtl="1">
              <a:lnSpc>
                <a:spcPct val="8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cc00"/>
                </a:solidFill>
                <a:latin typeface="Arial Black"/>
              </a:rPr>
              <a:t>ينصح الخبراء بالابتعاد عن البديلين فقط مثل (نعم- لا) لان ذلك يقلل فرصة الاختيار للمستجيب بالتالي قد يحصل الباحث على نتائج غير صادقة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r" rtl="1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4000" y="-160020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cc00"/>
                </a:solidFill>
                <a:latin typeface="Arial Black"/>
              </a:rPr>
              <a:t>النشاط (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11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) الوقت المخصص له(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15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) دقيقة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 algn="r" rtl="1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Arial Black"/>
                <a:cs typeface="DecoType Naskh"/>
              </a:rPr>
              <a:t>عرف المقابلة وماهي مزياها؟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042560" y="-160020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792000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Arial Black"/>
                <a:cs typeface="DecoType Naskh"/>
              </a:rPr>
              <a:t>المقابلة </a:t>
            </a:r>
            <a:r>
              <a:rPr b="0" lang="hi-IN" sz="2800" spc="-1" strike="noStrike">
                <a:solidFill>
                  <a:srgbClr val="ffcc00"/>
                </a:solidFill>
                <a:latin typeface="Arial Black"/>
              </a:rPr>
              <a:t>هي محادثة بين شخصين يبدأها الشخص الذي يجري المقابلة لاهداف معينة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 algn="r" rtl="1">
              <a:lnSpc>
                <a:spcPct val="90000"/>
              </a:lnSpc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Arial Black"/>
                <a:cs typeface="DecoType Naskh"/>
              </a:rPr>
              <a:t>مميزات المقابلة:-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1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- تتيح الفرصة لجمع معلومات كثيرة وشاملة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2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- من خلالها تجمع معلومات حقيقية وصادقة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3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- تصلح للاوساط التي تنتشر فيها الامية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4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- تضمن الاجابة على كل الاسئلة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5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- تتيح للمستجيب الفرصة للاستفسار عن بعض الامور المتعلقة بالمقابلة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6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- تشعر المستجيب باهميته الاجتماعية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4000" y="-160020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cc00"/>
                </a:solidFill>
                <a:latin typeface="Arial Black"/>
              </a:rPr>
              <a:t>النشاط رقم (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5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) الوقت المخصص له(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15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) دقيقة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 algn="r" rtl="1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Arial Black"/>
                <a:cs typeface="DecoType Naskh"/>
              </a:rPr>
              <a:t>ماهي ادوات البحث العلمي؟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4000" y="-160020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  <a:ea typeface="DecoType Naskh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cc00"/>
                </a:solidFill>
                <a:latin typeface="Arial Black"/>
              </a:rPr>
              <a:t>النشاط (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12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) الوقت المخصص له (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15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) دقيقة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 algn="r" rtl="1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  <a:ea typeface="DecoType Naskh"/>
              </a:rPr>
              <a:t> </a:t>
            </a:r>
            <a:r>
              <a:rPr b="0" lang="hi-IN" sz="4000" spc="-1" strike="noStrike">
                <a:solidFill>
                  <a:srgbClr val="ffffff"/>
                </a:solidFill>
                <a:latin typeface="Arial Black"/>
                <a:cs typeface="DecoType Naskh"/>
              </a:rPr>
              <a:t>ماهي عيوب المقابلة؟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4000" y="-160020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Arial Black"/>
                <a:cs typeface="DecoType Naskh"/>
              </a:rPr>
              <a:t>عيوب المقابلة:-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1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- تتطلب جهداً ووقتاً طويلاً وتكاليف  كثيرة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2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- تتأثر بعوامل كتوتر المستجيب ومحاولته ارضاء الباحث والجو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3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- قد يستدرج الباحث وخاصة المبتدى الى مناقشات جانبية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755280" y="-160020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cc00"/>
                </a:solidFill>
                <a:latin typeface="Arial Black"/>
              </a:rPr>
              <a:t>النشاط رقم ( 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13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) الوقت المخصص له (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15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) دقيقة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 algn="r" rtl="1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Arial Black"/>
                <a:cs typeface="DecoType Naskh"/>
              </a:rPr>
              <a:t>ماهو تعريف الملاحظة؟ وماهي الامور التي ينبغي مراعاتها حتى تنجح ؟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826920" y="-160020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4000" y="981000"/>
            <a:ext cx="7414920" cy="64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r" rtl="1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Arial Black"/>
                <a:cs typeface="DecoType Naskh"/>
              </a:rPr>
              <a:t>الملاحظة </a:t>
            </a:r>
            <a:r>
              <a:rPr b="0" lang="hi-IN" sz="3200" spc="-1" strike="noStrike">
                <a:solidFill>
                  <a:srgbClr val="ffcc00"/>
                </a:solidFill>
                <a:latin typeface="Arial Black"/>
              </a:rPr>
              <a:t>هي مشاهدة مقصودة ودقيقة ومنظمة وعميقة لظاهرة ما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12120" indent="-312120" algn="r" rtl="1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Arial Black"/>
                <a:cs typeface="DecoType Naskh"/>
              </a:rPr>
              <a:t>الامور التي تجب مراعاتها لانجاح عملية الملاحظة:-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12120" indent="-312120" algn="r" rtl="1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1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- ان يحدد موضوع الملاحظة واهدافها مسبقاً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12120" indent="-312120" algn="r" rtl="1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2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- ان يشترك اكثر من فرد في عملية الملاحظة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12120" indent="-312120" algn="r" rtl="1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3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- ان تسجل الملاحظات عقب حدوثها مباشرة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12120" indent="-312120" algn="r" rtl="1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4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- ان يؤجل تفسير الملاحظات والتعليق عليها الى ما بعد جمع البيانات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12120" indent="-312120" algn="r" rtl="1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5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- ان تكون اداة الملاحظة معدة مسبقاً ومحكمة بعناية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4000" y="-160020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cc00"/>
                </a:solidFill>
                <a:latin typeface="Arial Black"/>
              </a:rPr>
              <a:t>النشاط رقم (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14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) الوقت المخصص له (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15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) دقيقة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 algn="r" rtl="1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Arial Black"/>
                <a:cs typeface="DecoType Naskh"/>
              </a:rPr>
              <a:t>ماهو تعريف الاختبار ؟ وماهي انواع الاختبارات؟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042560" y="-160020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50560" y="1168560"/>
            <a:ext cx="799308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r" rtl="1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Arial Black"/>
                <a:cs typeface="DecoType Naskh"/>
              </a:rPr>
              <a:t>الاختبار </a:t>
            </a:r>
            <a:r>
              <a:rPr b="0" lang="hi-IN" sz="3200" spc="-1" strike="noStrike">
                <a:solidFill>
                  <a:srgbClr val="ffcc00"/>
                </a:solidFill>
                <a:latin typeface="Arial Black"/>
              </a:rPr>
              <a:t>هو مجموعة من المثيرات تقدم للمستجيب لاستثارة استجابات لديه يعطى عليها درجة عددية تعتبر مؤشرًَا للقدر الذي يمتلكه المستجيب من الخاصية التي يقيسها الاختبار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-335880" algn="r" rtl="1">
              <a:lnSpc>
                <a:spcPct val="90000"/>
              </a:lnSpc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Arial Black"/>
                <a:cs typeface="DecoType Naskh"/>
              </a:rPr>
              <a:t>انواع الاختبارات:-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-335880" algn="r" rtl="1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1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- الاختبارات التحصيلية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-335880" algn="r" rtl="1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2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- اختبارات الاداء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-335880" algn="r" rtl="1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3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- اختبار الاستعداد العقلي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-335880" algn="r" rtl="1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4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- اختبارات الميول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-335880" algn="r" rtl="1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5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- اختبارات الشخصية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26920" y="-160020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Arial Black"/>
                <a:cs typeface="DecoType Naskh"/>
              </a:rPr>
              <a:t>ادوات البحث العلمي:-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cc00"/>
                </a:solidFill>
                <a:latin typeface="Arial Black"/>
              </a:rPr>
              <a:t>اولاً:-  الاستبانة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cc00"/>
                </a:solidFill>
                <a:latin typeface="Arial Black"/>
              </a:rPr>
              <a:t>ثانياً:- المقابلة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cc00"/>
                </a:solidFill>
                <a:latin typeface="Arial Black"/>
              </a:rPr>
              <a:t>ثالثاً:- الملاحظة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cc00"/>
                </a:solidFill>
                <a:latin typeface="Arial Black"/>
              </a:rPr>
              <a:t>رابعاً:- الاختبارات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755280" y="-160020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cc00"/>
                </a:solidFill>
                <a:latin typeface="Arial Black"/>
              </a:rPr>
              <a:t>النشاط رقم (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6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) الوقت المخصص له(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15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) دقيقة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 algn="r" rtl="1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Arial Black"/>
                <a:cs typeface="DecoType Naskh"/>
              </a:rPr>
              <a:t>ماهو تعريف الاستبانة وماهي القواعد التي ينبغي مراعاتها عند صياغة الاسئلة؟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4000" y="-160020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24000" y="691920"/>
            <a:ext cx="7920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r" rtl="1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Arial Black"/>
                <a:cs typeface="DecoType Naskh"/>
              </a:rPr>
              <a:t>الاستبانة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هي مجموعة من الاسئلة المكتوبة يقوم المستجيب بالاجابة عنها وهي نوعين اما مقيدة او حرة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298440" indent="-298440" algn="r" rtl="1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Arial Black"/>
                <a:cs typeface="DecoType Naskh"/>
              </a:rPr>
              <a:t>القواعد التي ينبغي مراعاتها عند صياغة الاسئلة:-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298440" indent="-298440" algn="r" rtl="1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1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- ان تكون الاسئلة سهلة لا تحتمل اكثر من معنى ويمكن فهمها بوضوح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298440" indent="-298440" algn="r" rtl="1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2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- ان تبدأ الاستبانة بالاسئلة السهلة ثم الصعبة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298440" indent="-298440" algn="r" rtl="1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3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- ان ينصب كل سؤال على جانب محدد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298440" indent="-298440" algn="r" rtl="1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4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- تجنب الاكثار من عدد الاسئلة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298440" indent="-298440" algn="r" rtl="1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5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- تجنب الاسئلة التي تتطلب اجابات مفتوحة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298440" indent="-298440" algn="r" rtl="1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6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- تجنب الاسئلة المعقدة التي تصعب الاجابة عليها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10920" y="-160020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cc00"/>
                </a:solidFill>
                <a:latin typeface="Arial Black"/>
              </a:rPr>
              <a:t>النشاط رقم (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7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) الوقت المخصص له(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15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) دقيقة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 algn="r" rtl="1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Arial Black"/>
                <a:cs typeface="DecoType Naskh"/>
              </a:rPr>
              <a:t>ماهي مميزات الاستبانة؟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10920" y="-617760"/>
            <a:ext cx="68403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11280" y="105264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-250200" algn="r" rtl="1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Arial Black"/>
                <a:cs typeface="DecoType Naskh"/>
              </a:rPr>
              <a:t>مميزات الاستبانة:-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250200" indent="-250200" algn="r" rtl="1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1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- من خلالها يمكن جمع معلومات من عدد كبير من الاشخاص في وقت وجهد قليل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250200" indent="-250200" algn="r" rtl="1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2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- تصلح في البحوث التي تتطلب الحصول على بيانات سرية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250200" indent="-250200" algn="r" rtl="1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3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- يمكن من خلالها جمع البيانات من المستفيدين بطريقة فردية او جماعية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250200" indent="-250200" algn="r" rtl="1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4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- استخدامها قد لا يجعل الباحث عرضة لتحيز بعض جامعي البيانات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755280" y="-160020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cc00"/>
                </a:solidFill>
                <a:latin typeface="Arial Black"/>
              </a:rPr>
              <a:t>النشاط رقم (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8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) الوقت المخصص له(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15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) دقيقة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 algn="r" rtl="1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Arial Black"/>
                <a:cs typeface="DecoType Naskh"/>
              </a:rPr>
              <a:t>ماهي عيوب الاستبانة؟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755280" y="-160020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826920" y="907920"/>
            <a:ext cx="763272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     </a:t>
            </a:r>
            <a:r>
              <a:rPr b="0" lang="hi-IN" sz="4400" spc="-1" strike="noStrike">
                <a:solidFill>
                  <a:srgbClr val="ffffff"/>
                </a:solidFill>
                <a:latin typeface="Arial Black"/>
                <a:cs typeface="DecoType Naskh"/>
              </a:rPr>
              <a:t>عيوب الاستبانة:-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1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- تحتاج الى جهد وعناية في اعدادها وصياغتها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2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- يصعب استخدامها اذا كان المستجيبين غير مثقفين اولا يجيدون القراءة والكتابة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3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- احتمال سوء فهم بعض الاسئلة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4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- احتمال فقد بعض نسخ الاستبانة او عدم الاجابة عنها او عن بعض الاسئلة فيها من قبل بعض الاشخاص او عدم اعادتها للباحث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4T08:20:53Z</dcterms:created>
  <dc:creator>0114</dc:creator>
  <dc:description/>
  <dc:language>en-US</dc:language>
  <cp:lastModifiedBy>mohammad</cp:lastModifiedBy>
  <dcterms:modified xsi:type="dcterms:W3CDTF">2010-05-25T10:39:13Z</dcterms:modified>
  <cp:revision>59</cp:revision>
  <dc:subject/>
  <dc:title>البرنامج التدريبي على البحث التربوي للعاملين في الحقل التربوي  </dc:title>
</cp:coreProperties>
</file>