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0E44-7D7F-447C-900D-9852E59F0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D8E7-E635-4031-8801-00E29F13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4E1E-4714-4977-B639-F520796F7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462D-9A39-48F3-AFA8-A237E1ED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B9C6-DB76-47AE-930A-47F84B3B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00CE-9B21-4C67-9E72-7F9ED83B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9171-7A92-4F71-B05D-FC37EDC1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3F43-A175-4A46-B658-6E5D472A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1A12-0BCE-4AEA-A481-BBCF7137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94B3-3761-42C0-BB4C-3EC0722A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6B9F-A23E-46BD-831F-2B40EA9D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D5A4-5B92-486A-88D3-A2BA63BD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0278-892C-444B-B7E0-69B7A5E6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FC87-68BC-47FE-92BB-1BBECFAD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6F9F-19F3-469F-8C80-16F8546B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2BE4-934D-4DB3-9617-9DEC3C35E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34B8-A9CC-45F7-BB03-9C4E442E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3603-91F6-4343-9DE2-7FEFA448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B4EF-7AE4-4B7B-9130-46E837F2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4896-A377-43C3-856F-42DF5251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73B2-428E-482D-907E-25B33064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E4D9-5806-43B4-98F6-72C914B7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66A3-AE8E-4AAD-B043-3F00D93B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D322-F0B3-40DF-BC23-1C63037D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1BB3-2768-4632-A5B5-561A2C398071}" type="slidenum"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DF29-673E-417D-8E09-0B9505AA0998}" type="slidenum"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 rtl="1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79214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 Black"/>
              </a:rPr>
              <a:t>ورشة عمل في البحث التربوي </a:t>
            </a:r>
            <a:br>
              <a:rPr sz="4000"/>
            </a:br>
            <a:r>
              <a:rPr b="0" lang="ar-SA" sz="4000" spc="-1" strike="noStrike">
                <a:solidFill>
                  <a:srgbClr val="ffffff"/>
                </a:solidFill>
                <a:latin typeface="Arial Black"/>
              </a:rPr>
              <a:t>إعداد وتقديم الدكتور محمد القضاه</a:t>
            </a:r>
            <a:br>
              <a:rPr sz="4000"/>
            </a:br>
            <a:r>
              <a:rPr b="0" lang="ar-SA" sz="4000" spc="-1" strike="noStrike">
                <a:solidFill>
                  <a:srgbClr val="ffffff"/>
                </a:solidFill>
                <a:latin typeface="Arial Black"/>
              </a:rPr>
              <a:t>قسم علم النفس- جامعة الملك سعود</a:t>
            </a:r>
            <a:r>
              <a:rPr b="0" lang="ar-SA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-324360" y="6381360"/>
            <a:ext cx="777564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5</a:t>
            </a: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- تعطي للمستجيب فرصة مناقشة الاسئلة مع غيره فيكون عرضة للتأثر باراءه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6</a:t>
            </a: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- في حالة عدم اجبار المستجيب على ذكر اسمه او الكشف عن شخصيته لا يمكن الرجوع اليه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7</a:t>
            </a: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- احتمال قيام افراد آخرين غير الفرد المستهدف بالإجابة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8</a:t>
            </a: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- بعض الاحيان تتطلب الاستبانة عدداً كبيراً من الاسئلة الامرالذي يؤدي الى جعلها طويلة وتثير ملل المستجيب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400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cc00"/>
                </a:solidFill>
                <a:latin typeface="Arial Black"/>
              </a:rPr>
              <a:t>النشاط رقم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9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الوقت المخصص له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دقيقة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اهي خطوات تصميم الاستبانة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400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DecoType Naskh"/>
              </a:rPr>
              <a:t>     خطوات تصميم الاستبانة:-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تحديد اهداف الاستبانة والنقاط التي سوف تتناولها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تحديد المجالات(المحاور) التي ستتناولها الاستبانة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صياغة الاسئلة بحيث تدور حول الاهداف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اجراء دراسة اولية للاستبانة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5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عرض الاستبانة على ذوي الخبرة (التحكيم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6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تحديد صدق الاستبانة وثباتها بالطرق الاحصائية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بالنسبة للزمن اللازم لتعبئة الاستبانة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فليس هناك تحديد ولكن ينصح الخبراء بأن لا يتعدى الربع ساعة للاستبانة التي تعبأ بشكل فردي والنصف ساعة للاستبانة التي تعبأ بشكل جماعي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ما عدد الاسئلة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فيختلف باختلاف العنوان ويقترح الخبراء ان يكون بين (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25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-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45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) سؤالاً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مّا طول السؤال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فيجب ان يكون بأبسط صورة ممكنة دون ان يخل ذلك بفهم المستجيب له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092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7777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ن شروط الاستبانة الجيدة احتوائها على ما يلي:-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- العنوان واسم الباحث والجهة المشرفة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- الغرض من الدراسة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- الرسالة التطبيعية وتعطى للقارى لشكره على المساعدة وتطمينه بسرية المعلومات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- المعلومات الشخصية عن المستجيب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5</a:t>
            </a: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- تعليمات الاجاب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6</a:t>
            </a: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- الاسئل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cc00"/>
                </a:solidFill>
                <a:latin typeface="Arial Black"/>
              </a:rPr>
              <a:t>النشاط رقم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0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مدته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دقيقة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كتب اربعة من فئات الاستجابة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3164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9280" y="764640"/>
            <a:ext cx="799308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DecoType Naskh"/>
              </a:rPr>
              <a:t>    فئات الاستجابة كثيرة ويحددها نوع الاسئلة وفيما يلي استعراض لبعض منها:-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اوافق بشدة ، اوافق ، محايد ، غير موافق ، غير موافق بشدة.وهذا يسمى مقياس ليكرت ويستخدم في قياس الاتجاهات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ممتاز ، جيد جداً، جيد ، ضعيف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دائماً،عادة،نادراً،اطلاقاً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راض تماماً، راض الى حد ما، لست راض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يذكر خبراء كتابة الاستبانة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 :ـ </a:t>
            </a: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ان من الحكمة استبعاد فئة عدم المعرفة (لا اعرف، لا ادري، لا رأي لي، محايد) لكونها مخرج امن وسهل من صعوبة الاختيار على ان هذه النقطة محل خلاف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ينصح الخبراء بالابتعاد عن البديلين فقط مثل (نعم- لا) لان ذلك يقلل فرصة الاختيار للمستجيب بالتالي قد يحصل الباحث على نتائج غير صادق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00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cc00"/>
                </a:solidFill>
                <a:latin typeface="Arial Black"/>
              </a:rPr>
              <a:t>النشاط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1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الوقت المخصص له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دقيقة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عرف المقابلة وماهي مزياها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256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7920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لمقابلة </a:t>
            </a:r>
            <a:r>
              <a:rPr b="0" lang="hi-IN" sz="2800" spc="-1" strike="noStrike">
                <a:solidFill>
                  <a:srgbClr val="ffcc00"/>
                </a:solidFill>
                <a:latin typeface="Arial Black"/>
              </a:rPr>
              <a:t>هي محادثة بين شخصين يبدأها الشخص الذي يجري المقابلة لاهداف معينة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ميزات المقابلة:-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تتيح الفرصة لجمع معلومات كثيرة وشاملة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من خلالها تجمع معلومات حقيقية وصادقة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تصلح للاوساط التي تنتشر فيها الامية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تضمن الاجابة على كل الاسئلة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5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تتيح للمستجيب الفرصة للاستفسار عن بعض الامور المتعلقة بالمقابلة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6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تشعر المستجيب باهميته الاجتماعية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400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cc00"/>
                </a:solidFill>
                <a:latin typeface="Arial Black"/>
              </a:rPr>
              <a:t>النشاط رقم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الوقت المخصص له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دقيقة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اهي ادوات البحث العلمي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400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  <a:ea typeface="DecoType Naskh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cc00"/>
                </a:solidFill>
                <a:latin typeface="Arial Black"/>
              </a:rPr>
              <a:t>النشاط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2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الوقت المخصص له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دقيقة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  <a:ea typeface="DecoType Naskh"/>
              </a:rPr>
              <a:t> </a:t>
            </a: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اهي عيوب المقابلة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00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عيوب المقابلة:-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تتطلب جهداً ووقتاً طويلاً وتكاليف  كثير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تتأثر بعوامل كتوتر المستجيب ومحاولته ارضاء الباحث والجو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قد يستدرج الباحث وخاصة المبتدى الى مناقشات جانبي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5528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cc00"/>
                </a:solidFill>
                <a:latin typeface="Arial Black"/>
              </a:rPr>
              <a:t>النشاط رقم (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3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الوقت المخصص له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دقيقة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اهو تعريف الملاحظة؟ وماهي الامور التي ينبغي مراعاتها حتى تنجح 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26920" y="-16002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741492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لملاحظة </a:t>
            </a: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هي مشاهدة مقصودة ودقيقة ومنظمة وعميقة لظاهرة ما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لامور التي تجب مراعاتها لانجاح عملية الملاحظة:-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ن يحدد موضوع الملاحظة واهدافها مسبقاً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ن يشترك اكثر من فرد في عملية الملاحظ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ن تسجل الملاحظات عقب حدوثها مباشر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ن يؤجل تفسير الملاحظات والتعليق عليها الى ما بعد جمع البيانات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5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ن تكون اداة الملاحظة معدة مسبقاً ومحكمة بعناي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400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cc00"/>
                </a:solidFill>
                <a:latin typeface="Arial Black"/>
              </a:rPr>
              <a:t>النشاط رقم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4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الوقت المخصص له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دقيقة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اهو تعريف الاختبار ؟ وماهي انواع الاختبارات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4256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0560" y="1168560"/>
            <a:ext cx="799308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لاختبار </a:t>
            </a: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هو مجموعة من المثيرات تقدم للمستجيب لاستثارة استجابات لديه يعطى عليها درجة عددية تعتبر مؤشرًَا للقدر الذي يمتلكه المستجيب من الخاصية التي يقيسها الاختبار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 algn="r" rtl="1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نواع الاختبارات:-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لاختبارات التحصيلي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ختبارات الاداء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ختبار الاستعداد العقلي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ختبارات الميول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5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ختبارات الشخصي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6920" y="-16002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دوات البحث العلمي:-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اولاً:-  الاستبان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ثانياً:- المقابل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ثالثاً:- الملاحظ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رابعاً:- الاختبارات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5528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cc00"/>
                </a:solidFill>
                <a:latin typeface="Arial Black"/>
              </a:rPr>
              <a:t>النشاط رقم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6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الوقت المخصص له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دقيقة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اهو تعريف الاستبانة وماهي القواعد التي ينبغي مراعاتها عند صياغة الاسئلة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400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24000" y="691920"/>
            <a:ext cx="7920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لاستبانة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هي مجموعة من الاسئلة المكتوبة يقوم المستجيب بالاجابة عنها وهي نوعين اما مقيدة او حر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لقواعد التي ينبغي مراعاتها عند صياغة الاسئلة:-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ن تكون الاسئلة سهلة لا تحتمل اكثر من معنى ويمكن فهمها بوضوح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ن تبدأ الاستبانة بالاسئلة السهلة ثم الصعب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ن ينصب كل سؤال على جانب محدد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تجنب الاكثار من عدد الاسئل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5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تجنب الاسئلة التي تتطلب اجابات مفتوح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6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تجنب الاسئلة المعقدة التي تصعب الاجابة عليها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092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cc00"/>
                </a:solidFill>
                <a:latin typeface="Arial Black"/>
              </a:rPr>
              <a:t>النشاط رقم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7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الوقت المخصص له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دقيقة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اهي مميزات الاستبانة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0920" y="-617760"/>
            <a:ext cx="6840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ميزات الاستبانة:-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50200" indent="-25020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من خلالها يمكن جمع معلومات من عدد كبير من الاشخاص في وقت وجهد قليل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50200" indent="-25020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تصلح في البحوث التي تتطلب الحصول على بيانات سري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50200" indent="-25020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يمكن من خلالها جمع البيانات من المستفيدين بطريقة فردية او جماعي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50200" indent="-25020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ستخدامها قد لا يجعل الباحث عرضة لتحيز بعض جامعي البيانات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5528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cc00"/>
                </a:solidFill>
                <a:latin typeface="Arial Black"/>
              </a:rPr>
              <a:t>النشاط رقم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8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الوقت المخصص له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دقيقة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اهي عيوب الاستبانة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5528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26920" y="907920"/>
            <a:ext cx="7632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hi-IN" sz="44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عيوب الاستبانة:-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تحتاج الى جهد وعناية في اعدادها وصياغتها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يصعب استخدامها اذا كان المستجيبين غير مثقفين اولا يجيدون القراءة والكتاب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حتمال سوء فهم بعض الاسئل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حتمال فقد بعض نسخ الاستبانة او عدم الاجابة عنها او عن بعض الاسئلة فيها من قبل بعض الاشخاص او عدم اعادتها للباحث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08:20:53Z</dcterms:created>
  <dc:creator>0114</dc:creator>
  <dc:description/>
  <dc:language>en-US</dc:language>
  <cp:lastModifiedBy>mohammad</cp:lastModifiedBy>
  <dcterms:modified xsi:type="dcterms:W3CDTF">2010-05-25T10:39:13Z</dcterms:modified>
  <cp:revision>59</cp:revision>
  <dc:subject/>
  <dc:title>البرنامج التدريبي على البحث التربوي للعاملين في الحقل التربوي  </dc:title>
</cp:coreProperties>
</file>