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8E9-8FA4-457D-8372-9F6B511C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72C-8984-4B3C-B60C-EB911466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7A99-F085-49CD-A5FE-3686F6A5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925-CACD-45A5-9FD7-3CDD5ABB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7FFB-1CDD-44E6-B07D-B62647C8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D5C-D874-419D-9165-3B7FE946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4AB8-8679-476C-B9E5-EE72C8CA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FABA-A44C-4D9C-BB9A-FE7EF809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A2A-545F-4E5F-9655-FB53DFA1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E4C4-AE85-4213-8B17-173014D7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A206-DA01-4D72-B5FC-A024DCDC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CE34-2B87-4D79-BAB0-098FF4EE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6CBB-AD1D-418C-A7AF-727CBF3DF8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5FCA-A907-47AD-8354-38129E62A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وارد البش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team-dynamics-2.jpg"/>
          <p:cNvPicPr/>
          <p:nvPr/>
        </p:nvPicPr>
        <p:blipFill>
          <a:blip r:embed="rId1"/>
          <a:stretch/>
        </p:blipFill>
        <p:spPr>
          <a:xfrm>
            <a:off x="1714680" y="1600200"/>
            <a:ext cx="5715000" cy="4705200"/>
          </a:xfrm>
          <a:prstGeom prst="rect">
            <a:avLst/>
          </a:prstGeom>
          <a:ln w="0">
            <a:noFill/>
          </a:ln>
        </p:spPr>
      </p:pic>
      <p:sp>
        <p:nvSpPr>
          <p:cNvPr id="4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كيفية مواجهة الفائض أو العج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في حالة الفائض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استراتيجية تتوقف على ندرة ووفرة سوق العم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في حالة العجز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حلول مثل : تنشيط الاستقطاب ، التساهل في معايير الإختيار ، رفع مستوى الأجور والمكافآت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ثانيا / تحليل الوظيف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يف تحليل الوظيفة 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70c0"/>
                </a:solidFill>
                <a:latin typeface="Calibri"/>
                <a:cs typeface="Arial"/>
              </a:rPr>
              <a:t>هو الإلمام الشامل بتفاصيل كل وظيفة عن طريق الدراسة العلمية لكل منها على حدة ، وملاحظة وتسجيل الحقائق التي توضح واجباتها ومسؤولياتها والظروف المحيطة بها والشروط الواجب توافرها في من يشغلها ، على أن تفرغ هذه المعلومات في كشوف تحليل الوظيفة تمهيدا لتوصيف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25494.jpg"/>
          <p:cNvPicPr/>
          <p:nvPr/>
        </p:nvPicPr>
        <p:blipFill>
          <a:blip r:embed="rId1"/>
          <a:stretch/>
        </p:blipFill>
        <p:spPr>
          <a:xfrm>
            <a:off x="0" y="0"/>
            <a:ext cx="1351080" cy="2209680"/>
          </a:xfrm>
          <a:prstGeom prst="rect">
            <a:avLst/>
          </a:prstGeom>
          <a:ln w="0">
            <a:noFill/>
          </a:ln>
        </p:spPr>
      </p:pic>
      <p:sp>
        <p:nvSpPr>
          <p:cNvPr id="8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صف الوظائ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54061"/>
                </a:solidFill>
                <a:latin typeface="Calibri"/>
                <a:cs typeface="Arial"/>
              </a:rPr>
              <a:t>يعني التسجيل المنظم لأبعاد الوظيفة ومكوناتها الأساسية والعوامل المحيطة بها في بطاقة أو كشف خاص لوصف الوظيفة كمستند لتعريف الوظيفة بحيث يعكس: عوامل التقييم الداخلة في تكوين الوظيفة ، ومهامها و واجباتها و مسؤولياتها والحد الأدنى من مطالب التأهيل اللازمة لشغله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يرتبط نجاح تحليل وتوصيف الوظائف بعدد من الإعتبارات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حسن اختيار وإعداد القائمين بعملية تحليل وتوصيف الوظائ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b050"/>
                </a:solidFill>
                <a:latin typeface="Calibri"/>
                <a:cs typeface="Arial"/>
              </a:rPr>
              <a:t>يجب أن يعكس اسم الوظيفة جوهرها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376092"/>
                </a:solidFill>
                <a:latin typeface="Calibri"/>
                <a:cs typeface="Arial"/>
              </a:rPr>
              <a:t>يجب أن يكون الوصف مطابقا للواقع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Calibri"/>
                <a:cs typeface="Arial"/>
              </a:rPr>
              <a:t>تأكيد صحة ودقة البيانات المستخدمة للعملي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أن يكون هناك تمهيد للعاملين عن طبيعة هذه الدراسة والفوائد التي قد تعود عليهم من إتمام وصف الوظائ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5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a452a"/>
                </a:solidFill>
                <a:latin typeface="Calibri"/>
                <a:cs typeface="Arial"/>
              </a:rPr>
              <a:t>توافر تدعيم وتأييد كامل من جانب الإدارة لمثل هذه العملية الشبه دوري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5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ثالثا / وضع الشخص المناسب في المكان المناس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اختيار والتعيي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ترقية والنق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people_puzzle_md_wm.jpg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إختيار والتعيين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اختيار والتعيين 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70c0"/>
                </a:solidFill>
                <a:latin typeface="Calibri"/>
                <a:cs typeface="Arial"/>
              </a:rPr>
              <a:t>هو النشاط الإداري الذي يتعلق بالبحث عن المهارات المطلوبة للمنشأة ، وحث الأفراد الذين تتوافر لديهم الاشتراطات للتقدم للوظائف الشاغرة تمهيدا لاختيار أفضل المهارات للعمل بالمنشأة المعنية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د سياسة الإختيار من أهم سياسات الأفراد حيث أنها /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3152"/>
                </a:solidFill>
                <a:latin typeface="Calibri"/>
                <a:cs typeface="Arial"/>
              </a:rPr>
              <a:t>تعد مفتاح دخول العنصر البشري إلى المنشأة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3152"/>
                </a:solidFill>
                <a:latin typeface="Calibri"/>
                <a:cs typeface="Arial"/>
              </a:rPr>
              <a:t>تحدد كفاءة الاختيار ، كفاءة الإدارة على تصميم باقي السياسات الأخرى الخاصة بالأفراد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3152"/>
                </a:solidFill>
                <a:latin typeface="Calibri"/>
                <a:cs typeface="Arial"/>
              </a:rPr>
              <a:t>تحدد احتياجات المشروع من التدريب مستقبلا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3152"/>
                </a:solidFill>
                <a:latin typeface="Calibri"/>
                <a:cs typeface="Arial"/>
              </a:rPr>
              <a:t>تؤثر على فرص الترقية مستقبلا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3152"/>
                </a:solidFill>
                <a:latin typeface="Calibri"/>
                <a:cs typeface="Arial"/>
              </a:rPr>
              <a:t>تؤثر على معدلات الدوران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3152"/>
                </a:solidFill>
                <a:latin typeface="Calibri"/>
                <a:cs typeface="Arial"/>
              </a:rPr>
              <a:t>الارتفاع الزائد في تكلفة العمالة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3152"/>
                </a:solidFill>
                <a:latin typeface="Calibri"/>
                <a:cs typeface="Arial"/>
              </a:rPr>
              <a:t>مستوى الكفاءة الإنتاجية للمنظم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3152"/>
                </a:solidFill>
                <a:latin typeface="Calibri"/>
                <a:cs typeface="Arial"/>
              </a:rPr>
              <a:t>معظم مشكلات العمالة تعود إلى سوء سياسات الاختيار والتعيين المتبعة في المنظم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رقية والنق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ترقية 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هي انتقال العامل من وظيفة إلى وظيفة أخرى ذات مسؤوليات ومهام أعلى وبالتالي ذات راتب أعلى حاليا أو مستقبل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سس الترقية 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على أساس الأقدم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على أساس الكفاء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ج- على أساس الأقدمية والكفاء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ريف النق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عني تحرك العامل من وظيفة إلى وظيفة أخرى على المستوى الإداري نفسه وبأجر مشابه ، وبأدنى تغير في الواجبات والمسؤوليات ، مع اختلافات في ظروف العم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* التنزيل الوظيفي: هو النقل إلى وظيفة أقل مسؤولية وراتب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Job-Transfer.jpg"/>
          <p:cNvPicPr/>
          <p:nvPr/>
        </p:nvPicPr>
        <p:blipFill>
          <a:blip r:embed="rId1"/>
          <a:stretch/>
        </p:blipFill>
        <p:spPr>
          <a:xfrm>
            <a:off x="1752480" y="4495680"/>
            <a:ext cx="5715000" cy="2362320"/>
          </a:xfrm>
          <a:prstGeom prst="rect">
            <a:avLst/>
          </a:prstGeom>
          <a:ln w="0">
            <a:noFill/>
          </a:ln>
        </p:spPr>
      </p:pic>
      <p:sp>
        <p:nvSpPr>
          <p:cNvPr id="10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رابعا/ تدريب وتنمية القوى العامل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كتشاف الحاجات التدريب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تحديد الاحتياجات التدريب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50"/>
                </a:solidFill>
                <a:latin typeface="Calibri"/>
                <a:cs typeface="Arial"/>
              </a:rPr>
              <a:t>تصميم البرامج التدريب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  <a:cs typeface="Arial"/>
              </a:rPr>
              <a:t>تنفيذ البرامج التدريب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84807"/>
                </a:solidFill>
                <a:latin typeface="Calibri"/>
                <a:cs typeface="Arial"/>
              </a:rPr>
              <a:t>تقييم برامج التدري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training.gif"/>
          <p:cNvPicPr/>
          <p:nvPr/>
        </p:nvPicPr>
        <p:blipFill>
          <a:blip r:embed="rId1"/>
          <a:stretch/>
        </p:blipFill>
        <p:spPr>
          <a:xfrm>
            <a:off x="228600" y="1447920"/>
            <a:ext cx="4010040" cy="5410080"/>
          </a:xfrm>
          <a:prstGeom prst="rect">
            <a:avLst/>
          </a:prstGeom>
          <a:ln w="0">
            <a:noFill/>
          </a:ln>
        </p:spPr>
      </p:pic>
      <p:sp>
        <p:nvSpPr>
          <p:cNvPr id="10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رق بين وظيفة الأفراد وإدارة الأفرا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ظيفة الأفراد 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50"/>
                </a:solidFill>
                <a:latin typeface="Calibri"/>
                <a:cs typeface="Arial"/>
              </a:rPr>
              <a:t>هي الأنشطة المختلفة التي تمارسها الوحدة التنظيمية المسؤولة عن تدبير القوى العاملة اللازمة للمنظمة ، كما ونوعا وتوقيتا والمحافظة عليها وتعويضها وتنميتها وتحفيز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إدارة الأفراد / </a:t>
            </a:r>
            <a:r>
              <a:rPr b="0" lang="ar-SA" sz="3200" spc="-1" strike="noStrike">
                <a:solidFill>
                  <a:srgbClr val="604a7b"/>
                </a:solidFill>
                <a:latin typeface="Calibri"/>
                <a:cs typeface="Arial"/>
              </a:rPr>
              <a:t>هي الكيفية التي يتعامل بها كل مدير مع مرؤوسيه ليصل بهم إلى تحقيق الأهداف المراد تحقيق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6c0a"/>
                </a:solidFill>
                <a:latin typeface="Calibri"/>
                <a:ea typeface="Arial"/>
              </a:rPr>
              <a:t>*إذن ........ هي وظيفة كل مدير بينما ....... هي أحد وظائف المنظم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  <a:ea typeface="Arial"/>
              </a:rPr>
              <a:t>*أهداف إدارة الأفرا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خامسا / تقييم أداء العاملي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هو عبارة عن التقييم الدوري لأداء الفرد لوظيفته ومدى اتجاه قدراته وامكانياته نحو التقدم 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يفيد تقييم الأداء في 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كتشاف الحاجات التدريب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حكم على فعالية سياسة الاختيار والتعيي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وفير معلومات عن العاملين تساعد في تخطيط القوى العامل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نح العلاوات والترقية وتنمية الموظ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866529_feedback_form_excellent.jpg"/>
          <p:cNvPicPr/>
          <p:nvPr/>
        </p:nvPicPr>
        <p:blipFill>
          <a:blip r:embed="rId1"/>
          <a:stretch/>
        </p:blipFill>
        <p:spPr>
          <a:xfrm>
            <a:off x="0" y="2666880"/>
            <a:ext cx="1447920" cy="4191120"/>
          </a:xfrm>
          <a:prstGeom prst="rect">
            <a:avLst/>
          </a:prstGeom>
          <a:ln w="0">
            <a:noFill/>
          </a:ln>
        </p:spPr>
      </p:pic>
      <p:sp>
        <p:nvSpPr>
          <p:cNvPr id="11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لأجل تحسين فاعلية تقييم الأداء يؤخذ بالاعتبارات التالي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  <a:cs typeface="Arial"/>
              </a:rPr>
              <a:t>الاعتماد على معايير عادلة في تقييم وتقدير الإنجا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  <a:cs typeface="Arial"/>
              </a:rPr>
              <a:t>التوصل لمعايير مقبولة من كل من الإدارة والعاملي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  <a:cs typeface="Arial"/>
              </a:rPr>
              <a:t>استخدام أساليب تقييم متعدد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  <a:cs typeface="Arial"/>
              </a:rPr>
              <a:t>مراعاة تحسين عملية التغذية العكسية للمعلومات المرتدة عن التقيي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ظائف إدارة الأفراد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خطيط الموارد البشر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Calibri"/>
                <a:cs typeface="Arial"/>
              </a:rPr>
              <a:t>تحليل وتصميم الوظائ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Calibri"/>
                <a:cs typeface="Arial"/>
              </a:rPr>
              <a:t>الإستقطاب والإختيار والتعي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f7f7f"/>
                </a:solidFill>
                <a:latin typeface="Calibri"/>
                <a:cs typeface="Arial"/>
              </a:rPr>
              <a:t>التدري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99"/>
                </a:solidFill>
                <a:latin typeface="Calibri"/>
                <a:cs typeface="Arial"/>
              </a:rPr>
              <a:t>تقييم الأدا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a452a"/>
                </a:solidFill>
                <a:latin typeface="Calibri"/>
                <a:cs typeface="Arial"/>
              </a:rPr>
              <a:t>التعويض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صحة والسلام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goals.jpg"/>
          <p:cNvPicPr/>
          <p:nvPr/>
        </p:nvPicPr>
        <p:blipFill>
          <a:blip r:embed="rId1"/>
          <a:stretch/>
        </p:blipFill>
        <p:spPr>
          <a:xfrm>
            <a:off x="0" y="1676520"/>
            <a:ext cx="4267080" cy="518148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ولا /تخطيط الموارد البش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يف تخطيط الموارد البشري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Calibri"/>
                <a:cs typeface="Arial"/>
              </a:rPr>
              <a:t>هي تقدير احتياجات المنشأة من الأفراد كما ونوعا خلال المدة القادمة مع تحديد الوظائف التي يشغلونها ، والمؤهلات المطلوب توافرها فيمن يشغل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untitledhrr.bmp"/>
          <p:cNvPicPr/>
          <p:nvPr/>
        </p:nvPicPr>
        <p:blipFill>
          <a:blip r:embed="rId1"/>
          <a:stretch/>
        </p:blipFill>
        <p:spPr>
          <a:xfrm>
            <a:off x="304920" y="4267080"/>
            <a:ext cx="6858000" cy="243864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خطوات تخطيط الموارد البش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دراسة أهداف التنظي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000"/>
                </a:solidFill>
                <a:latin typeface="Calibri"/>
                <a:cs typeface="Arial"/>
              </a:rPr>
              <a:t>تقدير الطل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50"/>
                </a:solidFill>
                <a:latin typeface="Calibri"/>
                <a:cs typeface="Arial"/>
              </a:rPr>
              <a:t>التنبؤ العر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Calibri"/>
                <a:cs typeface="Arial"/>
              </a:rPr>
              <a:t>تحديد الفائض أو العج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Calibri"/>
                <a:cs typeface="Arial"/>
              </a:rPr>
              <a:t>استراتيجيات مواجهة الفائض والعج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child-development-baby-milk.jpg"/>
          <p:cNvPicPr/>
          <p:nvPr/>
        </p:nvPicPr>
        <p:blipFill>
          <a:blip r:embed="rId1"/>
          <a:stretch/>
        </p:blipFill>
        <p:spPr>
          <a:xfrm>
            <a:off x="152280" y="1371600"/>
            <a:ext cx="3353040" cy="5486400"/>
          </a:xfrm>
          <a:prstGeom prst="rect">
            <a:avLst/>
          </a:prstGeom>
          <a:ln w="0">
            <a:noFill/>
          </a:ln>
        </p:spPr>
      </p:pic>
      <p:sp>
        <p:nvSpPr>
          <p:cNvPr id="5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دراسة أهداف التنظيم</a:t>
            </a:r>
            <a:br>
              <a:rPr sz="4400"/>
            </a:b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عدد ساعات العمل ، أوقات الراحة ، تنويع المنتجات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HRJigsaw.gif"/>
          <p:cNvPicPr/>
          <p:nvPr/>
        </p:nvPicPr>
        <p:blipFill>
          <a:blip r:embed="rId1"/>
          <a:stretch/>
        </p:blipFill>
        <p:spPr>
          <a:xfrm>
            <a:off x="1542960" y="2173320"/>
            <a:ext cx="6058080" cy="3381480"/>
          </a:xfrm>
          <a:prstGeom prst="rect">
            <a:avLst/>
          </a:prstGeom>
          <a:ln w="0">
            <a:noFill/>
          </a:ln>
        </p:spPr>
      </p:pic>
      <p:sp>
        <p:nvSpPr>
          <p:cNvPr id="6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دير الطل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ديد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نوعي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الأفراد المطلوبي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ديد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 عدد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فراد المطلوبي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project_management3.jpg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6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دير العر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  <a:cs typeface="Arial"/>
              </a:rPr>
              <a:t>تحليل البيئة الخارجية المؤثرة على العمال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  <a:cs typeface="Arial"/>
              </a:rPr>
              <a:t>تحليل العمالة الحال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  <a:cs typeface="Arial"/>
              </a:rPr>
              <a:t>تحليل العمالة في فئات العمر المختلف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  <a:cs typeface="Arial"/>
              </a:rPr>
              <a:t>تحليل سياسة الترق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  <a:cs typeface="Arial"/>
              </a:rPr>
              <a:t>تحليل ظاهر الغياب ودوران العم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hr.gif"/>
          <p:cNvPicPr/>
          <p:nvPr/>
        </p:nvPicPr>
        <p:blipFill>
          <a:blip r:embed="rId1"/>
          <a:stretch/>
        </p:blipFill>
        <p:spPr>
          <a:xfrm>
            <a:off x="0" y="0"/>
            <a:ext cx="2895480" cy="7048440"/>
          </a:xfrm>
          <a:prstGeom prst="rect">
            <a:avLst/>
          </a:prstGeom>
          <a:ln w="0">
            <a:noFill/>
          </a:ln>
        </p:spPr>
      </p:pic>
      <p:sp>
        <p:nvSpPr>
          <p:cNvPr id="6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ديد الفائض أو العجز من العمال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ن خلال مقارنة الطلب بالعرض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نوعي والكمي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1292650059_140404567_1-Pictures-of--Sahara-HR-Consultants-Contact-us-for-all-kind-of-Jobs-in-Shimoga-404026.jpg"/>
          <p:cNvPicPr/>
          <p:nvPr/>
        </p:nvPicPr>
        <p:blipFill>
          <a:blip r:embed="rId1"/>
          <a:stretch/>
        </p:blipFill>
        <p:spPr>
          <a:xfrm>
            <a:off x="0" y="1219320"/>
            <a:ext cx="3429000" cy="5638680"/>
          </a:xfrm>
          <a:prstGeom prst="rect">
            <a:avLst/>
          </a:prstGeom>
          <a:ln w="0">
            <a:noFill/>
          </a:ln>
        </p:spPr>
      </p:pic>
      <p:sp>
        <p:nvSpPr>
          <p:cNvPr id="7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 دنيا العثي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20:45:50Z</dcterms:created>
  <dc:creator>Dell</dc:creator>
  <dc:description/>
  <dc:language>en-US</dc:language>
  <cp:lastModifiedBy>Abdulaziz</cp:lastModifiedBy>
  <dcterms:modified xsi:type="dcterms:W3CDTF">2012-05-07T10:03:42Z</dcterms:modified>
  <cp:revision>37</cp:revision>
  <dc:subject/>
  <dc:title>الموارد البشرية</dc:title>
</cp:coreProperties>
</file>