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13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2FB1-9E98-4D36-AFAC-80AA1395A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8DA5-086E-4DCC-88E2-ABC85D801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B4B1-16D9-4CFD-8D49-4C8724706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446B-8104-4FF8-91EC-1106631A3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898C-7E52-4BFB-BD62-393769861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8584-4135-4F82-B1A0-6D7C8EF58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9987-3B0C-464D-A97E-C0839E12D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01D4-2CE6-4CF4-AF83-CFC620B2A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808E-A7E3-4845-9687-F4D5595EA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A4E1-1103-40B2-9F1D-5B5ECD0C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F456-26CF-4066-8686-C3088D89B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80B5-16D8-470C-A1A1-97C548C4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C8A18-3BF0-47E7-B9EB-4C58FDB3CE0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اعداد / أ. دنيا العثي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98BFA-6793-437A-A646-9C2A61460C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وارد البشر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5" descr="team-dynamics-2.jpg"/>
          <p:cNvPicPr/>
          <p:nvPr/>
        </p:nvPicPr>
        <p:blipFill>
          <a:blip r:embed="rId1"/>
          <a:stretch/>
        </p:blipFill>
        <p:spPr>
          <a:xfrm>
            <a:off x="1714680" y="1600200"/>
            <a:ext cx="5715000" cy="4705200"/>
          </a:xfrm>
          <a:prstGeom prst="rect">
            <a:avLst/>
          </a:prstGeom>
          <a:ln w="0">
            <a:noFill/>
          </a:ln>
        </p:spPr>
      </p:pic>
      <p:sp>
        <p:nvSpPr>
          <p:cNvPr id="4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اعداد / أ. دنيا العثي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كيفية مواجهة الفائض أو العج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Calibri"/>
                <a:cs typeface="Arial"/>
              </a:rPr>
              <a:t>في حالة الفائض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/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استراتيجية تتوقف على ندرة ووفرة سوق العمل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Calibri"/>
                <a:cs typeface="Arial"/>
              </a:rPr>
              <a:t>في حالة العجز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/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حلول مثل : تنشيط الاستقطاب ، التساهل في معايير الإختيار ، رفع مستوى الأجور والمكافآت 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اعداد / أ. دنيا العثي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ثانيا / تحليل الوظيف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عريف تحليل الوظيفة 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70c0"/>
                </a:solidFill>
                <a:latin typeface="Calibri"/>
                <a:cs typeface="Arial"/>
              </a:rPr>
              <a:t>هو الإلمام الشامل بتفاصيل كل وظيفة عن طريق الدراسة العلمية لكل منها على حدة ، وملاحظة وتسجيل الحقائق التي توضح واجباتها ومسؤولياتها والظروف المحيطة بها والشروط الواجب توافرها في من يشغلها ، على أن تفرغ هذه المعلومات في كشوف تحليل الوظيفة تمهيدا لتوصيفها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3" descr="25494.jpg"/>
          <p:cNvPicPr/>
          <p:nvPr/>
        </p:nvPicPr>
        <p:blipFill>
          <a:blip r:embed="rId1"/>
          <a:stretch/>
        </p:blipFill>
        <p:spPr>
          <a:xfrm>
            <a:off x="0" y="0"/>
            <a:ext cx="1351080" cy="2209680"/>
          </a:xfrm>
          <a:prstGeom prst="rect">
            <a:avLst/>
          </a:prstGeom>
          <a:ln w="0">
            <a:noFill/>
          </a:ln>
        </p:spPr>
      </p:pic>
      <p:sp>
        <p:nvSpPr>
          <p:cNvPr id="80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اعداد / أ. دنيا العثي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وصف الوظائ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254061"/>
                </a:solidFill>
                <a:latin typeface="Calibri"/>
                <a:cs typeface="Arial"/>
              </a:rPr>
              <a:t>يعني التسجيل المنظم لأبعاد الوظيفة ومكوناتها الأساسية والعوامل المحيطة بها في بطاقة أو كشف خاص لوصف الوظيفة كمستند لتعريف الوظيفة بحيث يعكس: عوامل التقييم الداخلة في تكوين الوظيفة ، ومهامها و واجباتها و مسؤولياتها والحد الأدنى من مطالب التأهيل اللازمة لشغلها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اعداد / أ. دنيا العثي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Calibri"/>
                <a:cs typeface="Times New Roman"/>
              </a:rPr>
              <a:t>يرتبط نجاح تحليل وتوصيف الوظائف بعدد من الإعتبارات</a:t>
            </a:r>
            <a:r>
              <a:rPr b="0" lang="ar-SA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r" rtl="1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حسن اختيار وإعداد القائمين بعملية تحليل وتوصيف الوظائف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spcBef>
                <a:spcPts val="75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b050"/>
                </a:solidFill>
                <a:latin typeface="Calibri"/>
                <a:cs typeface="Arial"/>
              </a:rPr>
              <a:t>يجب أن يعكس اسم الوظيفة جوهرها 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spcBef>
                <a:spcPts val="75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376092"/>
                </a:solidFill>
                <a:latin typeface="Calibri"/>
                <a:cs typeface="Arial"/>
              </a:rPr>
              <a:t>يجب أن يكون الوصف مطابقا للواقع 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0000"/>
                </a:solidFill>
                <a:latin typeface="Calibri"/>
                <a:cs typeface="Arial"/>
              </a:rPr>
              <a:t>تأكيد صحة ودقة البيانات المستخدمة للعملية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أن يكون هناك تمهيد للعاملين عن طبيعة هذه الدراسة والفوائد التي قد تعود عليهم من إتمام وصف الوظائف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spcBef>
                <a:spcPts val="751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4a452a"/>
                </a:solidFill>
                <a:latin typeface="Calibri"/>
                <a:cs typeface="Arial"/>
              </a:rPr>
              <a:t>توافر تدعيم وتأييد كامل من جانب الإدارة لمثل هذه العملية الشبه دورية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spcBef>
                <a:spcPts val="751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اعداد / أ. دنيا العثي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Calibri"/>
                <a:cs typeface="Times New Roman"/>
              </a:rPr>
              <a:t>ثالثا / وضع الشخص المناسب في المكان المناسب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اختيار والتعيين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ترقية والنقل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3" descr="people_puzzle_md_wm.jpg"/>
          <p:cNvPicPr/>
          <p:nvPr/>
        </p:nvPicPr>
        <p:blipFill>
          <a:blip r:embed="rId1"/>
          <a:stretch/>
        </p:blipFill>
        <p:spPr>
          <a:xfrm>
            <a:off x="0" y="3048120"/>
            <a:ext cx="9144000" cy="3809880"/>
          </a:xfrm>
          <a:prstGeom prst="rect">
            <a:avLst/>
          </a:prstGeom>
          <a:ln w="0">
            <a:noFill/>
          </a:ln>
        </p:spPr>
      </p:pic>
      <p:sp>
        <p:nvSpPr>
          <p:cNvPr id="90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اعداد / أ. دنيا العثي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إختيار والتعيين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عريف الاختيار والتعيين 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70c0"/>
                </a:solidFill>
                <a:latin typeface="Calibri"/>
                <a:cs typeface="Arial"/>
              </a:rPr>
              <a:t>هو النشاط الإداري الذي يتعلق بالبحث عن المهارات المطلوبة للمنشأة ، وحث الأفراد الذين تتوافر لديهم الاشتراطات للتقدم للوظائف الشاغرة تمهيدا لاختيار أفضل المهارات للعمل بالمنشأة المعنية 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اعداد / أ. دنيا العثي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ar-SA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 تعد سياسة الإختيار من أهم سياسات الأفراد حيث أنها /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751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403152"/>
                </a:solidFill>
                <a:latin typeface="Calibri"/>
                <a:cs typeface="Arial"/>
              </a:rPr>
              <a:t>تعد مفتاح دخول العنصر البشري إلى المنشأة 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751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403152"/>
                </a:solidFill>
                <a:latin typeface="Calibri"/>
                <a:cs typeface="Arial"/>
              </a:rPr>
              <a:t>تحدد كفاءة الاختيار ، كفاءة الإدارة على تصميم باقي السياسات الأخرى الخاصة بالأفراد 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751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403152"/>
                </a:solidFill>
                <a:latin typeface="Calibri"/>
                <a:cs typeface="Arial"/>
              </a:rPr>
              <a:t>تحدد احتياجات المشروع من التدريب مستقبلا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751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403152"/>
                </a:solidFill>
                <a:latin typeface="Calibri"/>
                <a:cs typeface="Arial"/>
              </a:rPr>
              <a:t>تؤثر على فرص الترقية مستقبلا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751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403152"/>
                </a:solidFill>
                <a:latin typeface="Calibri"/>
                <a:cs typeface="Arial"/>
              </a:rPr>
              <a:t>تؤثر على معدلات الدوران 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751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403152"/>
                </a:solidFill>
                <a:latin typeface="Calibri"/>
                <a:cs typeface="Arial"/>
              </a:rPr>
              <a:t>الارتفاع الزائد في تكلفة العمالة 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751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403152"/>
                </a:solidFill>
                <a:latin typeface="Calibri"/>
                <a:cs typeface="Arial"/>
              </a:rPr>
              <a:t>مستوى الكفاءة الإنتاجية للمنظمة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751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403152"/>
                </a:solidFill>
                <a:latin typeface="Calibri"/>
                <a:cs typeface="Arial"/>
              </a:rPr>
              <a:t>معظم مشكلات العمالة تعود إلى سوء سياسات الاختيار والتعيين المتبعة في المنظمة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اعداد / أ. دنيا العثي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رقية والنق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عريف الترقية /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هي انتقال العامل من وظيفة إلى وظيفة أخرى ذات مسؤوليات ومهام أعلى وبالتالي ذات راتب أعلى حاليا أو مستقبلا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أسس الترقية 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على أساس الأقدم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على أساس الكفاء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ج- على أساس الأقدمية والكفاء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اعداد / أ. دنيا العثي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تعريف النق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يعني تحرك العامل من وظيفة إلى وظيفة أخرى على المستوى الإداري نفسه وبأجر مشابه ، وبأدنى تغير في الواجبات والمسؤوليات ، مع اختلافات في ظروف العمل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* التنزيل الوظيفي: هو النقل إلى وظيفة أقل مسؤولية وراتب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3" descr="Job-Transfer.jpg"/>
          <p:cNvPicPr/>
          <p:nvPr/>
        </p:nvPicPr>
        <p:blipFill>
          <a:blip r:embed="rId1"/>
          <a:stretch/>
        </p:blipFill>
        <p:spPr>
          <a:xfrm>
            <a:off x="1752480" y="4495680"/>
            <a:ext cx="5715000" cy="2362320"/>
          </a:xfrm>
          <a:prstGeom prst="rect">
            <a:avLst/>
          </a:prstGeom>
          <a:ln w="0">
            <a:noFill/>
          </a:ln>
        </p:spPr>
      </p:pic>
      <p:sp>
        <p:nvSpPr>
          <p:cNvPr id="10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اعداد / أ. دنيا العثي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رابعا/ تدريب وتنمية القوى العامل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كتشاف الحاجات التدريبية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Calibri"/>
                <a:cs typeface="Arial"/>
              </a:rPr>
              <a:t>تحديد الاحتياجات التدريب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b050"/>
                </a:solidFill>
                <a:latin typeface="Calibri"/>
                <a:cs typeface="Arial"/>
              </a:rPr>
              <a:t>تصميم البرامج التدريب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7375e"/>
                </a:solidFill>
                <a:latin typeface="Calibri"/>
                <a:cs typeface="Arial"/>
              </a:rPr>
              <a:t>تنفيذ البرامج التدريب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84807"/>
                </a:solidFill>
                <a:latin typeface="Calibri"/>
                <a:cs typeface="Arial"/>
              </a:rPr>
              <a:t>تقييم برامج التدري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training.gif"/>
          <p:cNvPicPr/>
          <p:nvPr/>
        </p:nvPicPr>
        <p:blipFill>
          <a:blip r:embed="rId1"/>
          <a:stretch/>
        </p:blipFill>
        <p:spPr>
          <a:xfrm>
            <a:off x="228600" y="1447920"/>
            <a:ext cx="4010040" cy="5410080"/>
          </a:xfrm>
          <a:prstGeom prst="rect">
            <a:avLst/>
          </a:prstGeom>
          <a:ln w="0">
            <a:noFill/>
          </a:ln>
        </p:spPr>
      </p:pic>
      <p:sp>
        <p:nvSpPr>
          <p:cNvPr id="107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اعداد / أ. دنيا العثي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فرق بين وظيفة الأفراد وإدارة الأفرا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وظيفة الأفراد 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b050"/>
                </a:solidFill>
                <a:latin typeface="Calibri"/>
                <a:cs typeface="Arial"/>
              </a:rPr>
              <a:t>هي الأنشطة المختلفة التي تمارسها الوحدة التنظيمية المسؤولة عن تدبير القوى العاملة اللازمة للمنظمة ، كما ونوعا وتوقيتا والمحافظة عليها وتعويضها وتنميتها وتحفيزها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إدارة الأفراد / </a:t>
            </a:r>
            <a:r>
              <a:rPr b="0" lang="ar-SA" sz="3200" spc="-1" strike="noStrike">
                <a:solidFill>
                  <a:srgbClr val="604a7b"/>
                </a:solidFill>
                <a:latin typeface="Calibri"/>
                <a:cs typeface="Arial"/>
              </a:rPr>
              <a:t>هي الكيفية التي يتعامل بها كل مدير مع مرؤوسيه ليصل بهم إلى تحقيق الأهداف المراد تحقيقها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46c0a"/>
                </a:solidFill>
                <a:latin typeface="Calibri"/>
                <a:ea typeface="Arial"/>
              </a:rPr>
              <a:t>*إذن ........ هي وظيفة كل مدير بينما ....... هي أحد وظائف المنظم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7375e"/>
                </a:solidFill>
                <a:latin typeface="Calibri"/>
                <a:ea typeface="Arial"/>
              </a:rPr>
              <a:t>*أهداف إدارة الأفراد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اعداد / أ. دنيا العثي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خامسا / تقييم أداء العاملي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هو عبارة عن التقييم الدوري لأداء الفرد لوظيفته ومدى اتجاه قدراته وامكانياته نحو التقدم 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ويفيد تقييم الأداء في 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كتشاف الحاجات التدريبي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حكم على فعالية سياسة الاختيار والتعيين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وفير معلومات عن العاملين تساعد في تخطيط القوى العامل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منح العلاوات والترقية وتنمية الموظ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3" descr="866529_feedback_form_excellent.jpg"/>
          <p:cNvPicPr/>
          <p:nvPr/>
        </p:nvPicPr>
        <p:blipFill>
          <a:blip r:embed="rId1"/>
          <a:stretch/>
        </p:blipFill>
        <p:spPr>
          <a:xfrm>
            <a:off x="0" y="2666880"/>
            <a:ext cx="1447920" cy="4191120"/>
          </a:xfrm>
          <a:prstGeom prst="rect">
            <a:avLst/>
          </a:prstGeom>
          <a:ln w="0">
            <a:noFill/>
          </a:ln>
        </p:spPr>
      </p:pic>
      <p:sp>
        <p:nvSpPr>
          <p:cNvPr id="111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اعداد / أ. دنيا العثي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Calibri"/>
                <a:cs typeface="Times New Roman"/>
              </a:rPr>
              <a:t>لأجل تحسين فاعلية تقييم الأداء يؤخذ بالاعتبارات التالية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7375e"/>
                </a:solidFill>
                <a:latin typeface="Calibri"/>
                <a:cs typeface="Arial"/>
              </a:rPr>
              <a:t>الاعتماد على معايير عادلة في تقييم وتقدير الإنجا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7375e"/>
                </a:solidFill>
                <a:latin typeface="Calibri"/>
                <a:cs typeface="Arial"/>
              </a:rPr>
              <a:t>التوصل لمعايير مقبولة من كل من الإدارة والعاملين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7375e"/>
                </a:solidFill>
                <a:latin typeface="Calibri"/>
                <a:cs typeface="Arial"/>
              </a:rPr>
              <a:t>استخدام أساليب تقييم متعدد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7375e"/>
                </a:solidFill>
                <a:latin typeface="Calibri"/>
                <a:cs typeface="Arial"/>
              </a:rPr>
              <a:t>مراعاة تحسين عملية التغذية العكسية للمعلومات المرتدة عن التقيي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اعداد / أ. دنيا العثي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وظائف إدارة الأفراد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خطيط الموارد البشر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7030a0"/>
                </a:solidFill>
                <a:latin typeface="Calibri"/>
                <a:cs typeface="Arial"/>
              </a:rPr>
              <a:t>تحليل وتصميم الوظائ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76092"/>
                </a:solidFill>
                <a:latin typeface="Calibri"/>
                <a:cs typeface="Arial"/>
              </a:rPr>
              <a:t>الإستقطاب والإختيار والتعيي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7f7f7f"/>
                </a:solidFill>
                <a:latin typeface="Calibri"/>
                <a:cs typeface="Arial"/>
              </a:rPr>
              <a:t>التدريب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99"/>
                </a:solidFill>
                <a:latin typeface="Calibri"/>
                <a:cs typeface="Arial"/>
              </a:rPr>
              <a:t>تقييم الأداء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a452a"/>
                </a:solidFill>
                <a:latin typeface="Calibri"/>
                <a:cs typeface="Arial"/>
              </a:rPr>
              <a:t>التعويض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صحة والسلام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goals.jpg"/>
          <p:cNvPicPr/>
          <p:nvPr/>
        </p:nvPicPr>
        <p:blipFill>
          <a:blip r:embed="rId1"/>
          <a:stretch/>
        </p:blipFill>
        <p:spPr>
          <a:xfrm>
            <a:off x="0" y="1676520"/>
            <a:ext cx="4267080" cy="5181480"/>
          </a:xfrm>
          <a:prstGeom prst="rect">
            <a:avLst/>
          </a:prstGeom>
          <a:ln w="0">
            <a:noFill/>
          </a:ln>
        </p:spPr>
      </p:pic>
      <p:sp>
        <p:nvSpPr>
          <p:cNvPr id="50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اعداد / أ. دنيا العثي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أولا /تخطيط الموارد البشر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عريف تخطيط الموارد البشرية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76092"/>
                </a:solidFill>
                <a:latin typeface="Calibri"/>
                <a:cs typeface="Arial"/>
              </a:rPr>
              <a:t>هي تقدير احتياجات المنشأة من الأفراد كما ونوعا خلال المدة القادمة مع تحديد الوظائف التي يشغلونها ، والمؤهلات المطلوب توافرها فيمن يشغلها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untitledhrr.bmp"/>
          <p:cNvPicPr/>
          <p:nvPr/>
        </p:nvPicPr>
        <p:blipFill>
          <a:blip r:embed="rId1"/>
          <a:stretch/>
        </p:blipFill>
        <p:spPr>
          <a:xfrm>
            <a:off x="304920" y="4267080"/>
            <a:ext cx="6858000" cy="2438640"/>
          </a:xfrm>
          <a:prstGeom prst="rect">
            <a:avLst/>
          </a:prstGeom>
          <a:ln w="0">
            <a:noFill/>
          </a:ln>
        </p:spPr>
      </p:pic>
      <p:sp>
        <p:nvSpPr>
          <p:cNvPr id="5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اعداد / أ. دنيا العثي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خطوات تخطيط الموارد البشر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Calibri"/>
                <a:cs typeface="Arial"/>
              </a:rPr>
              <a:t>دراسة أهداف التنظي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c000"/>
                </a:solidFill>
                <a:latin typeface="Calibri"/>
                <a:cs typeface="Arial"/>
              </a:rPr>
              <a:t>تقدير الطل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b050"/>
                </a:solidFill>
                <a:latin typeface="Calibri"/>
                <a:cs typeface="Arial"/>
              </a:rPr>
              <a:t>التنبؤ العر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76092"/>
                </a:solidFill>
                <a:latin typeface="Calibri"/>
                <a:cs typeface="Arial"/>
              </a:rPr>
              <a:t>تحديد الفائض أو العج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03152"/>
                </a:solidFill>
                <a:latin typeface="Calibri"/>
                <a:cs typeface="Arial"/>
              </a:rPr>
              <a:t>استراتيجيات مواجهة الفائض والعج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child-development-baby-milk.jpg"/>
          <p:cNvPicPr/>
          <p:nvPr/>
        </p:nvPicPr>
        <p:blipFill>
          <a:blip r:embed="rId1"/>
          <a:stretch/>
        </p:blipFill>
        <p:spPr>
          <a:xfrm>
            <a:off x="152280" y="1371600"/>
            <a:ext cx="3353040" cy="5486400"/>
          </a:xfrm>
          <a:prstGeom prst="rect">
            <a:avLst/>
          </a:prstGeom>
          <a:ln w="0">
            <a:noFill/>
          </a:ln>
        </p:spPr>
      </p:pic>
      <p:sp>
        <p:nvSpPr>
          <p:cNvPr id="58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اعداد / أ. دنيا العثي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دراسة أهداف التنظيم</a:t>
            </a:r>
            <a:br>
              <a:rPr sz="4400"/>
            </a:b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Times New Roman"/>
              </a:rPr>
              <a:t>عدد ساعات العمل ، أوقات الراحة ، تنويع المنتجات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Content Placeholder 3" descr="HRJigsaw.gif"/>
          <p:cNvPicPr/>
          <p:nvPr/>
        </p:nvPicPr>
        <p:blipFill>
          <a:blip r:embed="rId1"/>
          <a:stretch/>
        </p:blipFill>
        <p:spPr>
          <a:xfrm>
            <a:off x="1542960" y="2173320"/>
            <a:ext cx="6058080" cy="3381480"/>
          </a:xfrm>
          <a:prstGeom prst="rect">
            <a:avLst/>
          </a:prstGeom>
          <a:ln w="0">
            <a:noFill/>
          </a:ln>
        </p:spPr>
      </p:pic>
      <p:sp>
        <p:nvSpPr>
          <p:cNvPr id="61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اعداد / أ. دنيا العثي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تقدير الطلب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حديد 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  <a:cs typeface="Arial"/>
              </a:rPr>
              <a:t>نوعية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الأفراد المطلوبين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حديد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  <a:ea typeface="Arial"/>
              </a:rPr>
              <a:t> عدد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أفراد المطلوبين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7" descr="project_management3.jpg"/>
          <p:cNvPicPr/>
          <p:nvPr/>
        </p:nvPicPr>
        <p:blipFill>
          <a:blip r:embed="rId1"/>
          <a:stretch/>
        </p:blipFill>
        <p:spPr>
          <a:xfrm>
            <a:off x="0" y="3200400"/>
            <a:ext cx="9144000" cy="3657600"/>
          </a:xfrm>
          <a:prstGeom prst="rect">
            <a:avLst/>
          </a:prstGeom>
          <a:ln w="0">
            <a:noFill/>
          </a:ln>
        </p:spPr>
      </p:pic>
      <p:sp>
        <p:nvSpPr>
          <p:cNvPr id="65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اعداد / أ. دنيا العثي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تقدير العر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7375e"/>
                </a:solidFill>
                <a:latin typeface="Calibri"/>
                <a:cs typeface="Arial"/>
              </a:rPr>
              <a:t>تحليل البيئة الخارجية المؤثرة على العمال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7375e"/>
                </a:solidFill>
                <a:latin typeface="Calibri"/>
                <a:cs typeface="Arial"/>
              </a:rPr>
              <a:t>تحليل العمالة الحالي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7375e"/>
                </a:solidFill>
                <a:latin typeface="Calibri"/>
                <a:cs typeface="Arial"/>
              </a:rPr>
              <a:t>تحليل العمالة في فئات العمر المختلف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7375e"/>
                </a:solidFill>
                <a:latin typeface="Calibri"/>
                <a:cs typeface="Arial"/>
              </a:rPr>
              <a:t>تحليل سياسة الترقي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7375e"/>
                </a:solidFill>
                <a:latin typeface="Calibri"/>
                <a:cs typeface="Arial"/>
              </a:rPr>
              <a:t>تحليل ظاهر الغياب ودوران العمل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hr.gif"/>
          <p:cNvPicPr/>
          <p:nvPr/>
        </p:nvPicPr>
        <p:blipFill>
          <a:blip r:embed="rId1"/>
          <a:stretch/>
        </p:blipFill>
        <p:spPr>
          <a:xfrm>
            <a:off x="0" y="0"/>
            <a:ext cx="2895480" cy="7048440"/>
          </a:xfrm>
          <a:prstGeom prst="rect">
            <a:avLst/>
          </a:prstGeom>
          <a:ln w="0">
            <a:noFill/>
          </a:ln>
        </p:spPr>
      </p:pic>
      <p:sp>
        <p:nvSpPr>
          <p:cNvPr id="6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اعداد / أ. دنيا العثي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تحديد الفائض أو العجز من العمال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من خلال مقارنة الطلب بالعرض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نوعي والكمي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1292650059_140404567_1-Pictures-of--Sahara-HR-Consultants-Contact-us-for-all-kind-of-Jobs-in-Shimoga-404026.jpg"/>
          <p:cNvPicPr/>
          <p:nvPr/>
        </p:nvPicPr>
        <p:blipFill>
          <a:blip r:embed="rId1"/>
          <a:stretch/>
        </p:blipFill>
        <p:spPr>
          <a:xfrm>
            <a:off x="0" y="1219320"/>
            <a:ext cx="3429000" cy="5638680"/>
          </a:xfrm>
          <a:prstGeom prst="rect">
            <a:avLst/>
          </a:prstGeom>
          <a:ln w="0">
            <a:noFill/>
          </a:ln>
        </p:spPr>
      </p:pic>
      <p:sp>
        <p:nvSpPr>
          <p:cNvPr id="7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اعداد / أ. دنيا العثي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2T20:45:50Z</dcterms:created>
  <dc:creator>Dell</dc:creator>
  <dc:description/>
  <dc:language>en-US</dc:language>
  <cp:lastModifiedBy>Abdulaziz</cp:lastModifiedBy>
  <dcterms:modified xsi:type="dcterms:W3CDTF">2012-05-07T10:03:42Z</dcterms:modified>
  <cp:revision>37</cp:revision>
  <dc:subject/>
  <dc:title>الموارد البشرية</dc:title>
</cp:coreProperties>
</file>