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AA29C-E1E0-4723-B866-E7B628AF1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50908-3BB5-47E1-BFF6-587B3D33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3F32-0994-4654-9089-19CBBAD9E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52D10-A3C0-4E34-982E-547479F37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3D279C-E122-4C85-B45A-703FB88A2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90CA49-E0F1-4379-AC28-FD61380BE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0EB602-F36D-4C95-B9FA-9F6451EAA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DC2601-3634-43A1-AE23-A8AF9DB8E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F14139-394F-453C-9B15-522752E04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81D823-4D5D-4489-97BD-0A401EAA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657EF8-9799-4DE9-8CC9-26DED25E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CC1AC-659B-4ACE-80CB-60191450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986E6C-50FA-4E56-8B72-B5FBE996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E3D573-2302-4A3C-B2F5-AC5BED280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C67205-693A-4915-B970-18C905C42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F1599A-AE34-4D76-A22B-19355E2B3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40A3CD-88BC-4846-9177-BE684C9B2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57986-CD64-4F71-84CF-BD8A6DC186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1A078-3824-4C1F-A3C1-4FAFE99F7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18F243-2966-4DD9-83AC-6A73C2506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91C35-4D17-4CE3-97CC-803D81374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CEA27-0CA1-449D-8F4E-B9AA67B59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9FF6-3496-416F-B846-8D15A765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4FD60-131F-420F-A263-D4857CBDA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64F47-1862-45A2-B6C4-3E3334893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4E510-ED17-4239-84AA-3257CA487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373CF-1E37-4566-88F7-78BDF58EC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6EEC8-7F8B-4ED7-8BE0-A102A99ED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98EDFA-8D0E-42C9-A83C-A79F969BCC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4D1ADF-E04F-4BB0-B251-17EF471A54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FC301C2-0D0A-4B0A-BFDF-5A7736BA98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5C8383B-3825-433B-9AF2-0BA1B2EF56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E81B6E2-C63D-40A7-9977-376AD975E4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604A-F3D7-4308-9CDD-6B26DB16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6BD0609-65EC-48CB-8525-43F5CAD03D7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DBF6DCC-58CD-465E-9533-EA46B85A5E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FD3E6BF-2A99-4B61-B38A-6D209C4BD9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4B6AB7E-A526-4005-A195-8AF22350BC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FFDEB3-95AE-4674-B4DB-92F74502A5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1A1A505-1785-4F05-B7AB-6814E10BC3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87661A2-1BB2-4AE5-A667-EB73C6D3F2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8EA04B7-3B70-465D-8BFB-99F4316E4A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3907F1A-AA28-48E4-ADA7-1A57CA4EBB4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C63FD-4F9F-4EAA-B574-C4363643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EA91-0D43-41FD-9087-FA8C3995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5385-3113-4DE7-9294-62ED33E8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5E43-3A6D-4A19-985D-55169A542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CEEB-47B4-434D-A951-68ACDFB90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C877-9AC5-44BF-B604-6F3741FCA0BA}"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80B2-4292-4F58-B944-275902ED5C54}"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437E-0EFC-4441-93A4-7426BD64D800}"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47DE-13FB-4EEE-A597-1644E3F5EB1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عنوان 1" descr=""/>
          <p:cNvPicPr/>
          <p:nvPr/>
        </p:nvPicPr>
        <p:blipFill>
          <a:blip r:embed="rId1"/>
          <a:stretch/>
        </p:blipFill>
        <p:spPr>
          <a:xfrm>
            <a:off x="426960" y="493560"/>
            <a:ext cx="8290080" cy="908280"/>
          </a:xfrm>
          <a:prstGeom prst="rect">
            <a:avLst/>
          </a:prstGeom>
          <a:ln w="0">
            <a:noFill/>
          </a:ln>
        </p:spPr>
      </p:pic>
      <p:sp>
        <p:nvSpPr>
          <p:cNvPr id="20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مستطيل 5"/>
          <p:cNvSpPr/>
          <p:nvPr/>
        </p:nvSpPr>
        <p:spPr>
          <a:xfrm>
            <a:off x="428760" y="1671480"/>
            <a:ext cx="8286480" cy="624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2f2f2"/>
                </a:solidFill>
                <a:latin typeface="Calibri"/>
                <a:cs typeface="Simplified Arabic"/>
              </a:rPr>
              <a:t>من </a:t>
            </a:r>
            <a:r>
              <a:rPr b="1" lang="ar-SA" sz="3200" spc="-1" strike="noStrike">
                <a:solidFill>
                  <a:srgbClr val="f2f2f2"/>
                </a:solidFill>
                <a:latin typeface="Calibri"/>
                <a:ea typeface="Simplified Arabic"/>
              </a:rPr>
              <a:t>3</a:t>
            </a:r>
            <a:r>
              <a:rPr b="1" lang="ar-SA" sz="3200" spc="-1" strike="noStrike">
                <a:solidFill>
                  <a:srgbClr val="f2f2f2"/>
                </a:solidFill>
                <a:latin typeface="Calibri"/>
                <a:ea typeface="Simplified Arabic"/>
              </a:rPr>
              <a:t> سنوات-</a:t>
            </a:r>
            <a:r>
              <a:rPr b="1" lang="ar-SA" sz="3200" spc="-1" strike="noStrike">
                <a:solidFill>
                  <a:srgbClr val="f2f2f2"/>
                </a:solidFill>
                <a:latin typeface="Calibri"/>
                <a:ea typeface="Simplified Arabic"/>
              </a:rPr>
              <a:t>6</a:t>
            </a:r>
            <a:r>
              <a:rPr b="1" lang="ar-SA" sz="3200" spc="-1" strike="noStrike">
                <a:solidFill>
                  <a:srgbClr val="f2f2f2"/>
                </a:solidFill>
                <a:latin typeface="Calibri"/>
                <a:ea typeface="Simplified Arabic"/>
              </a:rPr>
              <a:t> سنوات.</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تركز مركز اللذة في المنطقة القضيبية. ويشعر الطفل بلذة اثنا لعبه بأعضائه التناسلية. </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بدأ اهتمامه بالفروق التشريحية بينه وبين الأنثى.</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سلوك الطفل في هذه المرحلة يتميز بالانتصاب والاندفاع.</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تظهر هنا عقدة اوديب وعقدة الكترا.</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عنوان 1" descr=""/>
          <p:cNvPicPr/>
          <p:nvPr/>
        </p:nvPicPr>
        <p:blipFill>
          <a:blip r:embed="rId1"/>
          <a:stretch/>
        </p:blipFill>
        <p:spPr>
          <a:xfrm>
            <a:off x="396720" y="347760"/>
            <a:ext cx="8290080" cy="914400"/>
          </a:xfrm>
          <a:prstGeom prst="rect">
            <a:avLst/>
          </a:prstGeom>
          <a:ln w="0">
            <a:noFill/>
          </a:ln>
        </p:spPr>
      </p:pic>
      <p:sp>
        <p:nvSpPr>
          <p:cNvPr id="205" name="مربع نص 3"/>
          <p:cNvSpPr/>
          <p:nvPr/>
        </p:nvSpPr>
        <p:spPr>
          <a:xfrm>
            <a:off x="428760" y="1714680"/>
            <a:ext cx="8215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وديب: يرغب الابن أمه.</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لكترا: ترغب البنت أباها</a:t>
            </a:r>
            <a:r>
              <a:rPr b="0" lang="ar-SA" sz="3200" spc="-1" strike="noStrike">
                <a:solidFill>
                  <a:srgbClr val="000000"/>
                </a:solidFill>
                <a:latin typeface="Constantia"/>
                <a:ea typeface="Times New Roman"/>
              </a:rPr>
              <a:t>.</a:t>
            </a:r>
            <a:endParaRPr b="0" lang="en-US" sz="3200" spc="-1" strike="noStrike">
              <a:solidFill>
                <a:srgbClr val="ffffff"/>
              </a:solidFill>
              <a:latin typeface="Arial"/>
            </a:endParaRPr>
          </a:p>
        </p:txBody>
      </p:sp>
      <p:sp>
        <p:nvSpPr>
          <p:cNvPr id="20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عنوان 1" descr=""/>
          <p:cNvPicPr/>
          <p:nvPr/>
        </p:nvPicPr>
        <p:blipFill>
          <a:blip r:embed="rId1"/>
          <a:stretch/>
        </p:blipFill>
        <p:spPr>
          <a:xfrm>
            <a:off x="426960" y="493560"/>
            <a:ext cx="8290080" cy="908280"/>
          </a:xfrm>
          <a:prstGeom prst="rect">
            <a:avLst/>
          </a:prstGeom>
          <a:ln w="0">
            <a:noFill/>
          </a:ln>
        </p:spPr>
      </p:pic>
      <p:sp>
        <p:nvSpPr>
          <p:cNvPr id="20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مستطيل 5"/>
          <p:cNvSpPr/>
          <p:nvPr/>
        </p:nvSpPr>
        <p:spPr>
          <a:xfrm>
            <a:off x="428760" y="1671480"/>
            <a:ext cx="8286480" cy="686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من </a:t>
            </a:r>
            <a:r>
              <a:rPr b="1" lang="ar-SA" sz="3600" spc="-1" strike="noStrike">
                <a:solidFill>
                  <a:srgbClr val="ffffff"/>
                </a:solidFill>
                <a:latin typeface="Calibri"/>
                <a:ea typeface="Simplified Arabic"/>
              </a:rPr>
              <a:t>12</a:t>
            </a:r>
            <a:r>
              <a:rPr b="1" lang="ar-SA" sz="3600" spc="-1" strike="noStrike">
                <a:solidFill>
                  <a:srgbClr val="ffffff"/>
                </a:solidFill>
                <a:latin typeface="Calibri"/>
                <a:cs typeface="Simplified Arabic"/>
              </a:rPr>
              <a:t>سنوات-</a:t>
            </a:r>
            <a:r>
              <a:rPr b="1" lang="ar-SA" sz="3600" spc="-1" strike="noStrike">
                <a:solidFill>
                  <a:srgbClr val="ffffff"/>
                </a:solidFill>
                <a:latin typeface="Calibri"/>
                <a:ea typeface="Simplified Arabic"/>
              </a:rPr>
              <a:t>18</a:t>
            </a:r>
            <a:r>
              <a:rPr b="1" lang="ar-SA" sz="3600" spc="-1" strike="noStrike">
                <a:solidFill>
                  <a:srgbClr val="ffffff"/>
                </a:solidFill>
                <a:latin typeface="Calibri"/>
                <a:ea typeface="Simplified Arabic"/>
              </a:rPr>
              <a:t> سنوات.</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cs typeface="Simplified Arabic"/>
              </a:rPr>
              <a:t>في بداية هذه المرحلة يبقى التعلق بالوالدين إلا انه بعد ذلك يكون الفرد مستعدا لعملية التناسل لبلوغه جنسيا، ويتجه الفرد نحو الجنس الأخر (الجنسية الغيرية) ويبدأ استعداده لتكوين أسرة، من خلال التزاوج وهنا يفهم الفرد ان العادات تحول دون إشباع حاجاته من المحارم.</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3" name="Picture 3" descr="C:\Users\toot\Pictures\ideabulbs.jpg"/>
          <p:cNvPicPr/>
          <p:nvPr/>
        </p:nvPicPr>
        <p:blipFill>
          <a:blip r:embed="rId1"/>
          <a:stretch/>
        </p:blipFill>
        <p:spPr>
          <a:xfrm>
            <a:off x="-96840" y="0"/>
            <a:ext cx="9240840" cy="6891480"/>
          </a:xfrm>
          <a:prstGeom prst="rect">
            <a:avLst/>
          </a:prstGeom>
          <a:ln w="0">
            <a:noFill/>
          </a:ln>
        </p:spPr>
      </p:pic>
      <p:pic>
        <p:nvPicPr>
          <p:cNvPr id="214"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Times New Roman"/>
                </a:rPr>
                <a:t>  ** </a:t>
              </a:r>
              <a:r>
                <a:rPr b="1" lang="ar-SA" sz="2000" spc="-1" strike="noStrike">
                  <a:solidFill>
                    <a:srgbClr val="000000"/>
                  </a:solidFill>
                  <a:latin typeface="Constantia"/>
                  <a:cs typeface="Times New Roman"/>
                </a:rPr>
                <a:t>رائد هذه النظرية العالم النمساوي سيجموند فرويد، ونظريته محصلة لاعماله في المجال الطبي النفسي والعقلي.</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a:t>
              </a:r>
              <a:r>
                <a:rPr b="1" lang="ar-SA" sz="2000" spc="-1" strike="noStrike">
                  <a:solidFill>
                    <a:srgbClr val="7d9263"/>
                  </a:solidFill>
                  <a:latin typeface="Constantia"/>
                  <a:ea typeface="Times New Roman"/>
                </a:rPr>
                <a:t> </a:t>
              </a:r>
              <a:r>
                <a:rPr b="1" lang="ar-SA" sz="2000" spc="-1" strike="noStrike">
                  <a:solidFill>
                    <a:srgbClr val="536142"/>
                  </a:solidFill>
                  <a:latin typeface="Constantia"/>
                  <a:ea typeface="Times New Roman"/>
                </a:rPr>
                <a:t>**</a:t>
              </a:r>
              <a:r>
                <a:rPr b="1" lang="ar-SA" sz="2000" spc="-1" strike="noStrike">
                  <a:solidFill>
                    <a:srgbClr val="7d9263"/>
                  </a:solidFill>
                  <a:latin typeface="Constantia"/>
                  <a:ea typeface="Times New Roman"/>
                </a:rPr>
                <a:t> </a:t>
              </a:r>
              <a:r>
                <a:rPr b="1" lang="ar-SA" sz="2000" spc="-1" strike="noStrike">
                  <a:solidFill>
                    <a:srgbClr val="c00000"/>
                  </a:solidFill>
                  <a:latin typeface="Constantia"/>
                  <a:cs typeface="Times New Roman"/>
                </a:rPr>
                <a:t>تصنف هذه النظرية انها في اصلها نظرية في الشخصية، ولكن لها تطبيقات في علم نفس النمو.</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تركز هذه النظرية على الخبرات الأولى في حياة الطفل، ويعزو شخصية الكبار وما يتبعها من سلوكات الى الخبرات الاولى في حياة الطفل.</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 </a:t>
              </a:r>
              <a:r>
                <a:rPr b="1" lang="ar-SA" sz="2000" spc="-1" strike="noStrike">
                  <a:solidFill>
                    <a:srgbClr val="000000"/>
                  </a:solidFill>
                  <a:latin typeface="Constantia"/>
                  <a:cs typeface="Times New Roman"/>
                </a:rPr>
                <a:t>تركز هذه النظرية على الدوافع الجنسية وخاصة </a:t>
              </a:r>
              <a:r>
                <a:rPr b="1" lang="ar-SA" sz="2000" spc="-1" strike="noStrike">
                  <a:solidFill>
                    <a:srgbClr val="ff0000"/>
                  </a:solidFill>
                  <a:latin typeface="Constantia"/>
                  <a:cs typeface="Times New Roman"/>
                </a:rPr>
                <a:t>نزعة اللبيدو </a:t>
              </a:r>
              <a:r>
                <a:rPr b="1" lang="ar-SA" sz="2000" spc="-1" strike="noStrike">
                  <a:solidFill>
                    <a:srgbClr val="000000"/>
                  </a:solidFill>
                  <a:latin typeface="Constantia"/>
                  <a:cs typeface="Times New Roman"/>
                </a:rPr>
                <a:t>وهي الطاقة الأساسية الغريزية والمسماة بالشبق والرغبة الجنسية. ويرى فرويد بان مفتاح فهم السلوك هو مركز تلك الطاقة.</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r>
                <a:rPr b="1" lang="ar-SA" sz="2000" spc="-1" strike="noStrike">
                  <a:solidFill>
                    <a:srgbClr val="ff0000"/>
                  </a:solidFill>
                  <a:latin typeface="Constantia"/>
                  <a:cs typeface="Times New Roman"/>
                </a:rPr>
                <a:t>اهتم فرويد بالاختلافات والفروق بين الأطفال من حيث المشاعر والرغبات  وان الأطفال تنشأ عندهم مشاعر جنسية وعدوانية نحو والديهم، وهذه المشاعر تودي الى الصراع والمرض النفسي.</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Times New Roman"/>
                </a:rPr>
                <a:t>   يرى فرويد ان الإنسان أناني في سلوكه ومدفوع بدوافع شعورية </a:t>
              </a:r>
              <a:r>
                <a:rPr b="1" lang="en-US" sz="2000" spc="-1" strike="noStrike">
                  <a:solidFill>
                    <a:srgbClr val="000000"/>
                  </a:solidFill>
                  <a:latin typeface="Constantia"/>
                </a:rPr>
                <a:t>Consciousness</a:t>
              </a:r>
              <a:r>
                <a:rPr b="1" lang="en-US" sz="2000" spc="-1" strike="noStrike">
                  <a:solidFill>
                    <a:srgbClr val="000000"/>
                  </a:solidFill>
                  <a:latin typeface="Constantia"/>
                </a:rPr>
                <a:t>  </a:t>
              </a:r>
              <a:r>
                <a:rPr b="1" lang="ar-SA" sz="2000" spc="-1" strike="noStrike">
                  <a:solidFill>
                    <a:srgbClr val="000000"/>
                  </a:solidFill>
                  <a:latin typeface="Constantia"/>
                  <a:cs typeface="Times New Roman"/>
                </a:rPr>
                <a:t>وأخرى لا شعورية </a:t>
              </a:r>
              <a:r>
                <a:rPr b="1" lang="en-US" sz="2000" spc="-1" strike="noStrike">
                  <a:solidFill>
                    <a:srgbClr val="000000"/>
                  </a:solidFill>
                  <a:latin typeface="Constantia"/>
                </a:rPr>
                <a:t>Unconsciousness</a:t>
              </a:r>
              <a:r>
                <a:rPr b="1" lang="en-US" sz="2000" spc="-1" strike="noStrike">
                  <a:solidFill>
                    <a:srgbClr val="000000"/>
                  </a:solidFill>
                  <a:latin typeface="Constantia"/>
                </a:rPr>
                <a:t> </a:t>
              </a:r>
              <a:r>
                <a:rPr b="1" lang="ar-SA" sz="2000" spc="-1" strike="noStrike">
                  <a:solidFill>
                    <a:srgbClr val="000000"/>
                  </a:solidFill>
                  <a:latin typeface="Constantia"/>
                  <a:ea typeface="Times New Roman"/>
                </a:rPr>
                <a:t>: وهو مخزون من الأفكار والرغبات الجنسية المكبوته والتي تنم عن اللذة وهي مصدر تحريك السلوك .</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endParaRPr b="0" lang="en-US" sz="2000" spc="-1" strike="noStrike">
                <a:solidFill>
                  <a:srgbClr val="ffffff"/>
                </a:solidFill>
                <a:latin typeface="Arial"/>
              </a:endParaRPr>
            </a:p>
            <a:p>
              <a:pPr marL="272880" indent="-272880" algn="r" rtl="1">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262080"/>
            <a:ext cx="8302320" cy="631476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493560"/>
            <a:ext cx="8290080" cy="90828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هي مصدر للطاقة الغريزية، تسعى دائما لتحقيق اللذة واشباع الرغبات المكبوتة </a:t>
            </a:r>
            <a:r>
              <a:rPr b="1" i="1" lang="ar-SA" sz="3200" spc="-1" strike="noStrike">
                <a:solidFill>
                  <a:srgbClr val="ff0000"/>
                </a:solidFill>
                <a:latin typeface="Calibri"/>
                <a:cs typeface="Simplified Arabic"/>
              </a:rPr>
              <a:t>وتجنب الالم.</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هو لا تهتم بتغيرات الواقع، هدفه الاساسي اشباع الرغب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تواجه الهو صعوبات في تحقيق اهدافها من قبل الواقع لذا تستخدم الميكانزمات الدفاعية لمواجهة الصعوبات وهي:</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إسقاط ، التسامي، التبرير، النكوص، </a:t>
            </a:r>
            <a:r>
              <a:rPr b="1" i="1" lang="en-US" sz="2800" spc="-1" strike="noStrike">
                <a:solidFill>
                  <a:srgbClr val="ff0000"/>
                </a:solidFill>
                <a:latin typeface="Calibri"/>
                <a:ea typeface="Simplified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426960" y="493560"/>
            <a:ext cx="8290080" cy="90828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وهو الجانب العاقل في الشخصية يسعى لتحقيق رغباته واشباعها من خلال الوسائل المقبولة التي تتفق مع توقعات المجتمع وعاداته وتقاليد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Simplified Arabic"/>
              </a:rPr>
              <a:t>الانا تخضع لمبدأ الواقعية أي العقلا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2800" spc="-1" strike="noStrike">
                <a:solidFill>
                  <a:srgbClr val="ff0000"/>
                </a:solidFill>
                <a:latin typeface="Calibri"/>
                <a:cs typeface="Simplified Arabic"/>
              </a:rPr>
              <a:t>هو الضمير المتمثل بالقيم الدينية والتربوية والاخلاقية وعادات المجتمع إذ يظهر هذا الجانب متاخرا لتاخر بناء القوى التي تشكل الضمير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يمثل الانا الجانب المثالي والخلقي لسلوك الفرد الذي يراعي الجوانب الاخلاقية والدينية في المجتمع ويتشكل الانا الاعلى من :</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ضمير : هو مجموعة الأوامر التي تصدر من الفرد لذاته بأن ما يقوم به من عمل هو صحيح أم خاطئ، حلال ام حرام، والفرد بهذا يكون تجاوز تلقي المعلومات من البيئة الخارجية.</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ذات المثالية: تتشكل من خلال التشجيع على السلوك المرغو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رسم تخطيطي 1" descr=""/>
          <p:cNvPicPr/>
          <p:nvPr/>
        </p:nvPicPr>
        <p:blipFill>
          <a:blip r:embed="rId1"/>
          <a:stretch/>
        </p:blipFill>
        <p:spPr>
          <a:xfrm>
            <a:off x="420840" y="262080"/>
            <a:ext cx="8302320" cy="6327720"/>
          </a:xfrm>
          <a:prstGeom prst="rect">
            <a:avLst/>
          </a:prstGeom>
          <a:ln w="0">
            <a:noFill/>
          </a:ln>
        </p:spPr>
      </p:pic>
      <p:sp>
        <p:nvSpPr>
          <p:cNvPr id="191"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cs typeface="Times New Roman"/>
              </a:rPr>
              <a:t>مراحل النمو النفس</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ea typeface="Times New Roman"/>
              </a:rPr>
              <a:t> جنس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426960" y="493560"/>
            <a:ext cx="8290080" cy="908280"/>
          </a:xfrm>
          <a:prstGeom prst="rect">
            <a:avLst/>
          </a:prstGeom>
          <a:ln w="0">
            <a:noFill/>
          </a:ln>
        </p:spPr>
      </p:pic>
      <p:sp>
        <p:nvSpPr>
          <p:cNvPr id="193"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مستطيل 5"/>
          <p:cNvSpPr/>
          <p:nvPr/>
        </p:nvSpPr>
        <p:spPr>
          <a:xfrm>
            <a:off x="428760" y="1671480"/>
            <a:ext cx="828648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الولادة – سنة ونصف.</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تتركز انشطة الطفل حول الفم كونه مركز اللذة. </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لفم يمثل الواسطة للتغذية واشباع الحاجات ولهذا نجد الطفل يقوم بعميلة القضم والعض.</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ن مرور الطفل بحرمان من مصادر اللذة في هذه المرحلة، يؤثر على مشاعره من حيث الامن والطمانينة والعطف والحنان، وبالتالي يحدث ما يسمى بالتثبيت: أي تثبت مع الطفل أنماط سلوكية غير مرغوب فيها تلازمه عبر المراحل اللاحقة.</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عنوان 1" descr=""/>
          <p:cNvPicPr/>
          <p:nvPr/>
        </p:nvPicPr>
        <p:blipFill>
          <a:blip r:embed="rId1"/>
          <a:stretch/>
        </p:blipFill>
        <p:spPr>
          <a:xfrm>
            <a:off x="426960" y="493560"/>
            <a:ext cx="8290080" cy="908280"/>
          </a:xfrm>
          <a:prstGeom prst="rect">
            <a:avLst/>
          </a:prstGeom>
          <a:ln w="0">
            <a:noFill/>
          </a:ln>
        </p:spPr>
      </p:pic>
      <p:sp>
        <p:nvSpPr>
          <p:cNvPr id="19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مستطيل 5"/>
          <p:cNvSpPr/>
          <p:nvPr/>
        </p:nvSpPr>
        <p:spPr>
          <a:xfrm>
            <a:off x="428760" y="1671480"/>
            <a:ext cx="828648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سنة ونصف- </a:t>
            </a:r>
            <a:r>
              <a:rPr b="1" lang="ar-SA" sz="2800" spc="-1" strike="noStrike">
                <a:solidFill>
                  <a:srgbClr val="ffffff"/>
                </a:solidFill>
                <a:latin typeface="Calibri"/>
                <a:ea typeface="Simplified Arabic"/>
              </a:rPr>
              <a:t>3</a:t>
            </a:r>
            <a:r>
              <a:rPr b="1" lang="ar-SA" sz="2800" spc="-1" strike="noStrike">
                <a:solidFill>
                  <a:srgbClr val="ffffff"/>
                </a:solidFill>
                <a:latin typeface="Calibri"/>
                <a:ea typeface="Simplified Arabic"/>
              </a:rPr>
              <a:t> سنوات.</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يتركز مركز اللذة في المنطقة الشرجية ويشعر الطفل براحة اثنا عملية الاخراج وبعد تخلصه منه. اذا تنتقل اللذة من مجرد الاخراج الى التحكم بالاخراج. اذا تمكن الطفل من هذه المرحلة يشعر بذات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ذا تعرض الطفل لاي ظروف قاسية قد يصيبه النكوص ويعود للمرحلة السابقة، فيمص اصابعه، ويقضم اظافر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07:35Z</dcterms:modified>
  <cp:revision>105</cp:revision>
  <dc:subject/>
  <dc:title>مصادر المعلومات في البحث التربوي</dc:title>
</cp:coreProperties>
</file>