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C4514-443E-4270-9C3B-D2D47385C48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EE713-2A68-4382-BFD1-CBE9BD04D4E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ABBA5-512A-41E6-8478-B22FE36A8F6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0F86C-AA8A-4C4B-B6CD-F13C05268B3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AFA87-8579-49F6-922A-BE81FABC9C9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3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02E4B-7A74-4515-B4D5-07402D0CD03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06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9B96-64E8-4E03-83E9-235F901F51E9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4AA87-9F4C-4548-9242-802086A07B0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30931-9CBD-424E-8278-E9019BD0B8A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4741-19FA-4EA6-AB74-7CCDC18E1B4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00ECC-3132-496A-8FCA-7EEBF928E0E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9D244-C6CA-405B-A8A2-8649FCA05EE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2AF7E-9CD7-496E-BE6A-DFE5041A97C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E60AC-D0B9-4849-9F0E-7C254BE7C8F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15AB-6E2B-4428-9829-AB0BC84AC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BDFB-2D63-44FD-AA01-3DE596D68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3EFC-9DF3-4273-A1F7-5068E3AF7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08C5-4788-438F-9A09-DB12BE01F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FD6CE-40E8-4A26-9012-3DD945740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F629F-A3D8-4DDD-8070-65A9BD5EE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30419-683C-4B0A-B924-04F0B5E1C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E0675-3551-4333-913F-28C7DB212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1F149-CC63-493B-B515-D04B2394A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8FD1E-C085-4852-B989-43F94CDE1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8165B-6FD1-4D72-89F0-C0CAD3722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0B09-9278-44A1-8CD1-5AD1761A8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96ADB-BF9B-477A-B387-25129E01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F20EF-93BC-4FCE-839C-C6083292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EE6E2-154C-44C4-98C9-0B6923CDB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BADEF-FFB8-4217-AF2C-5C4D2A245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2040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93240" y="160020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4756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2040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93240" y="3964320"/>
            <a:ext cx="2354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A5A2A-3AAD-45C8-99AD-6278A0DF9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8258-A762-459B-95E2-E224DF532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08F4-C049-44AF-9C8A-CCADCA6F2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AD5C-7F81-4B9D-8615-E9D82245A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185B-B010-403D-AC0C-54CD99E6B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9E99-3732-431C-975E-1905B91D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5160" y="396432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B9E5-4B5F-4F43-A9B2-15A96D46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5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5160" y="1600200"/>
            <a:ext cx="356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47560" y="3964320"/>
            <a:ext cx="731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F1DE-A248-4817-B5E8-548D2BEF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B1B93-4682-4DFF-B585-78B443DB8F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لمسارات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478C6-6F25-4F4C-81B7-9FF913B7C2E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025AB-B914-4C7A-BC4E-44CD1C80E50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لمسارات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67BC5-0F0A-4B84-A5DC-34993EB8312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40000" y="2943000"/>
            <a:ext cx="5184720" cy="990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969696"/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99"/>
                </a:solidFill>
                <a:latin typeface="Arial"/>
              </a:rPr>
              <a:t> التعريف بمسارات التدريب الميداني</a:t>
            </a:r>
            <a:br>
              <a:rPr sz="5400"/>
            </a:b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(لقسم علم النفس بجامعة الملك سعود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4032360" y="1717560"/>
            <a:ext cx="18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عرض خاص لــ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 rot="16200000">
            <a:off x="-2154960" y="2661120"/>
            <a:ext cx="598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89c4ff"/>
                </a:solidFill>
                <a:latin typeface="Arial"/>
              </a:rPr>
              <a:t>التعريف بمسارات التدريب الميداني</a:t>
            </a:r>
            <a:r>
              <a:rPr b="1" lang="ar-SA" sz="4000" spc="-1" strike="noStrike">
                <a:solidFill>
                  <a:srgbClr val="89c4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عنصر نائب للتاريخ 1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04672-A2FD-4C39-8DFC-218B7186F44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عنصر نائب للتذييل 2"/>
          <p:cNvSpPr/>
          <p:nvPr/>
        </p:nvSpPr>
        <p:spPr>
          <a:xfrm>
            <a:off x="373392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المسارا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"/>
          <p:cNvSpPr/>
          <p:nvPr/>
        </p:nvSpPr>
        <p:spPr>
          <a:xfrm rot="16200000">
            <a:off x="-2154960" y="2661120"/>
            <a:ext cx="598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89c4ff"/>
                </a:solidFill>
                <a:latin typeface="Arial"/>
              </a:rPr>
              <a:t>التعريف بمسارات التدريب الميداني</a:t>
            </a:r>
            <a:r>
              <a:rPr b="1" lang="ar-SA" sz="4000" spc="-1" strike="noStrike">
                <a:solidFill>
                  <a:srgbClr val="89c4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1116000" y="907920"/>
            <a:ext cx="771516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ff"/>
                </a:solidFill>
                <a:uFillTx/>
                <a:latin typeface="Arial"/>
              </a:rPr>
              <a:t>متطلبات المسار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شخصية الطالبة وقدرتها على التعامل مع فئات المسا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معدل التراكمي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مقابلة الشخص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عنصر نائب للتاريخ 1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CC98C-BBF8-46FD-B0C7-C94DBE65F61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عنصر نائب للتذييل 2"/>
          <p:cNvSpPr/>
          <p:nvPr/>
        </p:nvSpPr>
        <p:spPr>
          <a:xfrm>
            <a:off x="373392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المسارا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مستطيل 3"/>
          <p:cNvSpPr/>
          <p:nvPr/>
        </p:nvSpPr>
        <p:spPr>
          <a:xfrm>
            <a:off x="285840" y="1413000"/>
            <a:ext cx="885816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ستشفى الملك خالد الجامعي (د/إيمان السيد)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طالب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ستشفى الملك عبد العزيز الجامعي (د/وجدان الكحيمي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من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عصرا /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طالب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ستشفى الصحة النفسية - مجمع الأمل - (د/ وجدان الكحيمي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8-4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عصرا/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طالب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ستشفى القوات المسلحة ”العسكري“ بالملز (د/ نعمت الصقعبي)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من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عصرا،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طالب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مركز الأمير سلمان لأمراض الكلى مخرج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14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(أ/ساره السبيعي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2954520" y="907920"/>
            <a:ext cx="67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ff"/>
                </a:solidFill>
                <a:uFillTx/>
                <a:latin typeface="Arial"/>
              </a:rPr>
              <a:t>القائمات على التدريب في هذا المسار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عنصر نائب للتاريخ 1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C79CC-ED41-4848-8A59-A8108BE1390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عنصر نائب للتذييل 2"/>
          <p:cNvSpPr/>
          <p:nvPr/>
        </p:nvSpPr>
        <p:spPr>
          <a:xfrm>
            <a:off x="373392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المسارا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"/>
          <p:cNvSpPr/>
          <p:nvPr/>
        </p:nvSpPr>
        <p:spPr>
          <a:xfrm rot="16200000">
            <a:off x="-2154960" y="2661120"/>
            <a:ext cx="598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89c4ff"/>
                </a:solidFill>
                <a:latin typeface="Arial"/>
              </a:rPr>
              <a:t>التعريف بمسارات التدريب الميداني</a:t>
            </a:r>
            <a:r>
              <a:rPr b="1" lang="ar-SA" sz="4000" spc="-1" strike="noStrike">
                <a:solidFill>
                  <a:srgbClr val="89c4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1177920" y="476280"/>
            <a:ext cx="7715160" cy="63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1258920" y="1197000"/>
            <a:ext cx="7715160" cy="46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ff"/>
                </a:solidFill>
                <a:uFillTx/>
                <a:latin typeface="Arial"/>
              </a:rPr>
              <a:t>نبذة مختصرة عن المسار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تتدرب الطالبة في هذا المسار في أحد اتجاهين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تتدرب الطالبة على ممارسة برنامج يهدف إلى تعليم التفكير لطلاب الصف الأول والثاني الابتدائي بالإضافة إلى تدريبها على نظرية الذكاءات المتعددة مع تطبيق إجراءات وأساليب وأدوات تلك النظر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تتدرب الطالبة على حالات الضعف العقلي (البسيط، والمتوسط) والحالات المزدوجة ( إعاقة عقلية + جسدية ) وبعض المتلازمات (داون) وذلك في المراكز التالي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مدارس في الشمال (رياض أطفال + ابتدائي) مدرسة المهد الأهلية، مدرسة الفرسان(د. بسمة الحلو). صباحي،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طالب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جمعية الوفاء الخيرية (العليا) (أ. أمل الوعيل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مركز الرعاية النهارية (القدس) (أ.أمل الوعيل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1619280" y="404640"/>
            <a:ext cx="71388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66"/>
                </a:solidFill>
                <a:latin typeface="Arial"/>
              </a:rPr>
              <a:t>مسار الفئات الخاص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عنصر نائب للتاريخ 1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034F6-D2BB-425D-B45C-A207D237545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عنصر نائب للتذييل 2"/>
          <p:cNvSpPr/>
          <p:nvPr/>
        </p:nvSpPr>
        <p:spPr>
          <a:xfrm>
            <a:off x="373392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المسارا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"/>
          <p:cNvSpPr/>
          <p:nvPr/>
        </p:nvSpPr>
        <p:spPr>
          <a:xfrm rot="16200000">
            <a:off x="-2154960" y="2661120"/>
            <a:ext cx="598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89c4ff"/>
                </a:solidFill>
                <a:latin typeface="Arial"/>
              </a:rPr>
              <a:t>التعريف بمسارات التدريب الميداني</a:t>
            </a:r>
            <a:r>
              <a:rPr b="1" lang="ar-SA" sz="4000" spc="-1" strike="noStrike">
                <a:solidFill>
                  <a:srgbClr val="89c4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1177920" y="765000"/>
            <a:ext cx="771516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ff"/>
                </a:solidFill>
                <a:uFillTx/>
                <a:latin typeface="Arial"/>
              </a:rPr>
              <a:t>متطلبات المسار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تلتزم الطالبة بالتعامل مع الفئات المذكورة سابقاً كما يلي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تطبيق مقاييس الذكاء والقدرا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عمل برامج وخطط لتعديل السلو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التزام بالأنظمة والضوابط الخاصة بالمرك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عنصر نائب للتاريخ 1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9D158-ECE0-43F8-B861-3C0F0C50CC9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عنصر نائب للتذييل 2"/>
          <p:cNvSpPr/>
          <p:nvPr/>
        </p:nvSpPr>
        <p:spPr>
          <a:xfrm>
            <a:off x="373392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المسارا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"/>
          <p:cNvSpPr/>
          <p:nvPr/>
        </p:nvSpPr>
        <p:spPr>
          <a:xfrm>
            <a:off x="1571760" y="-255240"/>
            <a:ext cx="721512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ff"/>
                </a:solidFill>
                <a:uFillTx/>
                <a:latin typeface="Calibri"/>
              </a:rPr>
              <a:t>شروط القبول في مجال التوح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الرغبة الجادة والأكيدة للالتحاق بمسار التوحد، وتحمل ما تلاقيه الطالبة من عناء خلال فترة التدريب مع تلك الفئ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أن لا يقل معدل الطالبة عن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3.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أن لا يكون مع الطالبة مادة خلال فترة التدري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المقابلة الشخصية (ومدى ملائمة الطالبة للتعامل مع فئة التوحد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هناك شروط أخرى يتم تحديدها بعد القبول إن شاء الل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عنصر نائب للتاريخ 1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A1381-0B2B-4195-A28B-E2C64409702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عنصر نائب للتذييل 2"/>
          <p:cNvSpPr/>
          <p:nvPr/>
        </p:nvSpPr>
        <p:spPr>
          <a:xfrm>
            <a:off x="373392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المسارا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"/>
          <p:cNvSpPr/>
          <p:nvPr/>
        </p:nvSpPr>
        <p:spPr>
          <a:xfrm>
            <a:off x="1714680" y="322560"/>
            <a:ext cx="6858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ff"/>
                </a:solidFill>
                <a:uFillTx/>
                <a:latin typeface="Calibri"/>
              </a:rPr>
              <a:t>متطلبات مجال التوح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خلفية نظرية و لو بسيطة كمدخل للتعريف بالتوح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شخصية الطالبة و مدى قدرتها على التعامل مع هذه الفئة من أطفال التوح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لمعدل التراكم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المقابلة الشخص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عنصر نائب للتاريخ 1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B2A5B-389E-44C7-B47B-01D8485256E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عنصر نائب للتذييل 2"/>
          <p:cNvSpPr/>
          <p:nvPr/>
        </p:nvSpPr>
        <p:spPr>
          <a:xfrm>
            <a:off x="373392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المسارا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"/>
          <p:cNvSpPr/>
          <p:nvPr/>
        </p:nvSpPr>
        <p:spPr>
          <a:xfrm>
            <a:off x="1785960" y="682920"/>
            <a:ext cx="6643800" cy="55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ff"/>
                </a:solidFill>
                <a:uFillTx/>
                <a:latin typeface="Calibri"/>
              </a:rPr>
              <a:t>مراكز التدريب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والدة الأمير فيص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معهد التربية الفكرية شر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 مراكز أخرى يتم تحديدها لاحق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ff"/>
                </a:solidFill>
                <a:uFillTx/>
                <a:latin typeface="Arial"/>
              </a:rPr>
              <a:t>القائمات على التدريب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- د.عزة الغامد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Calibri"/>
              </a:rPr>
              <a:t>- د.أمل الدو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عنصر نائب للتاريخ 1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60BC7-59AF-46B1-9352-4E1C45DBA73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عنصر نائب للتذييل 2"/>
          <p:cNvSpPr/>
          <p:nvPr/>
        </p:nvSpPr>
        <p:spPr>
          <a:xfrm>
            <a:off x="373392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المسارا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"/>
          <p:cNvSpPr/>
          <p:nvPr/>
        </p:nvSpPr>
        <p:spPr>
          <a:xfrm>
            <a:off x="1187280" y="-683640"/>
            <a:ext cx="7385400" cy="75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Calibri"/>
              </a:rPr>
              <a:t>المجال الجنائ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هو التدريب في مصلحة السجون للنساء (سجن الملز للنساء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ff"/>
                </a:solidFill>
                <a:uFillTx/>
                <a:latin typeface="Calibri"/>
              </a:rPr>
              <a:t>المتطلبات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* متابعة حالات فردية (يتم متابعتها في المل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* متابعة حالات تحصل نتيجة الجلوس في السج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* تطبيق برامج تدريبية للموظف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* تطبيق المقاييس ( و خاصة مقياس الـ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MPI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الدوام :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 أيام في الأسبوع من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،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 طالب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عنصر نائب للتاريخ 1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17D6-9477-49F7-AD76-0BF7E27827F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عنصر نائب للتذييل 2"/>
          <p:cNvSpPr/>
          <p:nvPr/>
        </p:nvSpPr>
        <p:spPr>
          <a:xfrm>
            <a:off x="373392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المسارا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"/>
          <p:cNvSpPr/>
          <p:nvPr/>
        </p:nvSpPr>
        <p:spPr>
          <a:xfrm>
            <a:off x="1187280" y="571320"/>
            <a:ext cx="7434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ff"/>
                </a:solidFill>
                <a:uFillTx/>
                <a:latin typeface="Calibri"/>
              </a:rPr>
              <a:t>متطلبات القبول في المسار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الدراية بكيفية استخدام وتطبيق المقايي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تقدير عالي في (علم النفس المرضي – العلاج النفسي-        علم النفس الجنائي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ff"/>
                </a:solidFill>
                <a:uFillTx/>
                <a:latin typeface="Calibri"/>
              </a:rPr>
              <a:t>أماكن التدريب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سجن الملز للنساء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ff"/>
                </a:solidFill>
                <a:uFillTx/>
                <a:latin typeface="Calibri"/>
              </a:rPr>
              <a:t>المشرفة على التدريب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(د/ نعمت الصقعبي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66"/>
                </a:solidFill>
                <a:latin typeface="Calibri"/>
              </a:rPr>
              <a:t>المسار الأسري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476360" y="981000"/>
            <a:ext cx="73137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Calibri"/>
              </a:rPr>
              <a:t>مركز آسيا للاستشارات الأسر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هتم هذا المسار بتدريب الطالبة كأخصائيه نفسيه في المجال الأسري حيث يهتم في قضايا الأسرة من حيث المشكلات الزوجية والأطفال والمراهقين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وجيه الحالات وإرشادها حسب أسس وتوجيه الإرشاد النفسي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طبيق متطلبات التدريب من تطبيق للمقاييس وتشخيص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للحالات ووضع الخطط العلاجية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هتم المركز بتقديم الاستشارات النفسية وهو مركز خاص مدفوع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يقدم المركز الاستشارات حضوريا وهاتفيا وعن طريق الانترنت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99"/>
                </a:solidFill>
                <a:latin typeface="Arial"/>
              </a:rPr>
              <a:t>المسارا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285560" y="1285920"/>
            <a:ext cx="759924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Arial"/>
              </a:rPr>
              <a:t>1- </a:t>
            </a:r>
            <a:r>
              <a:rPr b="0" lang="ar-SA" sz="2800" spc="-1" strike="noStrike">
                <a:solidFill>
                  <a:srgbClr val="ff0066"/>
                </a:solidFill>
                <a:latin typeface="Arial"/>
              </a:rPr>
              <a:t>المسار الإرشادي</a:t>
            </a:r>
            <a:r>
              <a:rPr b="0" lang="ar-SA" sz="2800" spc="-1" strike="noStrike">
                <a:solidFill>
                  <a:srgbClr val="ff00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أ- التدريب بالمدارس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ب- - التدريب بالمجال الأسري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Arial"/>
              </a:rPr>
              <a:t>2- </a:t>
            </a:r>
            <a:r>
              <a:rPr b="0" lang="ar-SA" sz="2800" spc="-1" strike="noStrike">
                <a:solidFill>
                  <a:srgbClr val="ff0066"/>
                </a:solidFill>
                <a:latin typeface="Arial"/>
              </a:rPr>
              <a:t>مسار المؤسسات</a:t>
            </a:r>
            <a:r>
              <a:rPr b="0" lang="ar-SA" sz="28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Arial"/>
              </a:rPr>
              <a:t>3- </a:t>
            </a:r>
            <a:r>
              <a:rPr b="0" lang="ar-SA" sz="2800" spc="-1" strike="noStrike">
                <a:solidFill>
                  <a:srgbClr val="ff0066"/>
                </a:solidFill>
                <a:latin typeface="Arial"/>
              </a:rPr>
              <a:t>المسار الجنائي (سجون):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تدريب بالمستشفي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Arial"/>
              </a:rPr>
              <a:t>4- </a:t>
            </a:r>
            <a:r>
              <a:rPr b="0" lang="ar-SA" sz="2800" spc="-1" strike="noStrike">
                <a:solidFill>
                  <a:srgbClr val="ff0066"/>
                </a:solidFill>
                <a:latin typeface="Arial"/>
              </a:rPr>
              <a:t>المسار العيادي</a:t>
            </a:r>
            <a:r>
              <a:rPr b="0" lang="ar-SA" sz="28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Arial"/>
              </a:rPr>
              <a:t>5- </a:t>
            </a:r>
            <a:r>
              <a:rPr b="0" lang="ar-SA" sz="2800" spc="-1" strike="noStrike">
                <a:solidFill>
                  <a:srgbClr val="ff0066"/>
                </a:solidFill>
                <a:latin typeface="Arial"/>
              </a:rPr>
              <a:t>مسار الفئات الخاصة</a:t>
            </a:r>
            <a:r>
              <a:rPr b="0" lang="ar-SA" sz="2800" spc="-1" strike="noStrike">
                <a:solidFill>
                  <a:srgbClr val="ff00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أ-تعليم التفكير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ب-إعاقات عقلية مختلف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66"/>
                </a:solidFill>
                <a:latin typeface="Arial"/>
              </a:rPr>
              <a:t>6- </a:t>
            </a:r>
            <a:r>
              <a:rPr b="0" lang="ar-SA" sz="2800" spc="-1" strike="noStrike">
                <a:solidFill>
                  <a:srgbClr val="ff0066"/>
                </a:solidFill>
                <a:latin typeface="Arial"/>
              </a:rPr>
              <a:t>مسار التوح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عنصر نائب للتاريخ 3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05684-9A06-4A35-99F6-82BA9153835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عنصر نائب للتذييل 4"/>
          <p:cNvSpPr/>
          <p:nvPr/>
        </p:nvSpPr>
        <p:spPr>
          <a:xfrm>
            <a:off x="373392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المسارا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403280" y="1052640"/>
            <a:ext cx="731376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لزم الطالبات بعدد من الاستشارات عبر الهاتف والانترنت و حالتين حضورية وإرشاد جماعي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دوام يكون في المؤسسة مسائي من الساعة الرابعة وحتى الثامنة والنصف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مكان المؤسسة يقع في طريق الملك عبد الله بقرب مركز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صحارى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ff"/>
                </a:solidFill>
                <a:uFillTx/>
                <a:latin typeface="Calibri"/>
              </a:rPr>
              <a:t>المشرفة على التدريب</a:t>
            </a:r>
            <a:r>
              <a:rPr b="1" lang="ar-SA" sz="2800" spc="-1" strike="noStrike" u="sng">
                <a:solidFill>
                  <a:srgbClr val="0000ff"/>
                </a:solidFill>
                <a:uFillTx/>
                <a:latin typeface="Calibri"/>
              </a:rPr>
              <a:t> </a:t>
            </a:r>
            <a:r>
              <a:rPr b="1" lang="ar-SA" sz="2800" spc="-1" strike="noStrike" u="sng">
                <a:solidFill>
                  <a:srgbClr val="0000ff"/>
                </a:solidFill>
                <a:uFillTx/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د. موضي الدغيث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000000"/>
                </a:solidFill>
                <a:latin typeface="Arial"/>
              </a:rPr>
              <a:t>شكرا لحسن استماعك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عنصر نائب للتاريخ 3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BA953-315A-4CB5-8255-2D8797931FD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عنصر نائب للتذييل 4"/>
          <p:cNvSpPr/>
          <p:nvPr/>
        </p:nvSpPr>
        <p:spPr>
          <a:xfrm>
            <a:off x="373392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المسارا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عنصر نائب للتاريخ 3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EADA6-4F37-4655-939E-C656755E33B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عنصر نائب للتذييل 4"/>
          <p:cNvSpPr/>
          <p:nvPr/>
        </p:nvSpPr>
        <p:spPr>
          <a:xfrm>
            <a:off x="373392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المسارا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619280" y="404640"/>
            <a:ext cx="7138800" cy="7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66"/>
                </a:solidFill>
                <a:latin typeface="Arial"/>
              </a:rPr>
              <a:t>المسار الإرشادي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 rot="16200000">
            <a:off x="-2154960" y="2661120"/>
            <a:ext cx="598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89c4ff"/>
                </a:solidFill>
                <a:latin typeface="Arial"/>
              </a:rPr>
              <a:t>التعريف بمسارات التدريب الميداني</a:t>
            </a:r>
            <a:r>
              <a:rPr b="1" lang="ar-SA" sz="4000" spc="-1" strike="noStrike">
                <a:solidFill>
                  <a:srgbClr val="89c4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1258920" y="1557360"/>
            <a:ext cx="77151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نبذة مختصرة عن المسار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  في هذا المسار يتم تدريب الطالبة على كيفية تحويل مهام الأخصائية النفسية ( المرشدة الطلابية ) إلى الأداء العملي، وتقديم الخدمات الإرشادية للطالبات (وقائية، علاجية) حسب المرحلة التعليمية التي سوف تتعامل معها ( ابتدائي ، متوسط ، ثانوي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عنصر نائب للتاريخ 3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4E27E-8FEA-488C-8C7B-4A3F9F6F40F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عنصر نائب للتذييل 4"/>
          <p:cNvSpPr/>
          <p:nvPr/>
        </p:nvSpPr>
        <p:spPr>
          <a:xfrm>
            <a:off x="373392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المسارا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 rot="16200000">
            <a:off x="-2154960" y="2661120"/>
            <a:ext cx="598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89c4ff"/>
                </a:solidFill>
                <a:latin typeface="Arial"/>
              </a:rPr>
              <a:t>التعريف بمسارات التدريب الميداني</a:t>
            </a:r>
            <a:r>
              <a:rPr b="1" lang="ar-SA" sz="4000" spc="-1" strike="noStrike">
                <a:solidFill>
                  <a:srgbClr val="89c4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177920" y="476280"/>
            <a:ext cx="7715160" cy="63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ff"/>
                </a:solidFill>
                <a:uFillTx/>
                <a:latin typeface="Arial"/>
              </a:rPr>
              <a:t>متطلبات المسار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متابعة الحالات الفردية ووضع الخطة العلاجية المناسبة لها ومن ثم تطبيقه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عمل إرشاد جماعي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تقديم بعض الإرشادات العامة للطالبات والمعلمات والأمهات من خلال المحاضرات، النشرات، المجلات، واللوحات الإرشادي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مشاركة في الأنشطة اللاصفية الخاصة بالمدرسة علما بأن لكل مشرفة متطلبات قد تختلف عن غيره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التزام الجاد بالدوام الرسمي للمدرسة من بداية الطابور الصباحي إلى نهاية الحصة الأخير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التزام بأنظمة المدرسة وقوانينه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عنصر نائب للتاريخ 1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EB183-A008-4446-8E31-A1476BAAA03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عنصر نائب للتذييل 2"/>
          <p:cNvSpPr/>
          <p:nvPr/>
        </p:nvSpPr>
        <p:spPr>
          <a:xfrm>
            <a:off x="373392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المسارا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 rot="16200000">
            <a:off x="-2154960" y="2661120"/>
            <a:ext cx="598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89c4ff"/>
                </a:solidFill>
                <a:latin typeface="Arial"/>
              </a:rPr>
              <a:t>التعريف بمسارات التدريب الميداني</a:t>
            </a:r>
            <a:r>
              <a:rPr b="1" lang="ar-SA" sz="4000" spc="-1" strike="noStrike">
                <a:solidFill>
                  <a:srgbClr val="89c4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468360" y="0"/>
            <a:ext cx="8675640" cy="65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ff"/>
                </a:solidFill>
                <a:uFillTx/>
                <a:latin typeface="Arial"/>
              </a:rPr>
              <a:t>القائمات على التدريب في هذا المسار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- مدرسة في شرق الرياض – الربوة – الثانوية الرابعة (د. حصة العيسى)،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طالبات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100" spc="-1" strike="noStrike">
                <a:solidFill>
                  <a:srgbClr val="000000"/>
                </a:solidFill>
                <a:latin typeface="Arial"/>
              </a:rPr>
              <a:t>- مدرسة في وسط الرياض – المدرسة المتوسطة الثانية لتحفيظ القران والمدرسة الثانوية الثانية لتحفيظ القرآن الكريم (د. فاتن أبو طالب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- مدرسة في الشمال (د. سوسن شلبي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- مدرسة في  المنطقة الجنوبية الحي الغربي (د. غادة عبد الغفار)،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طالبات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- مدرسة في الجنوب أو الغرب (د. وفاء نصار)،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ابتدائية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طالبات، المتوسط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، الثانوية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- مدرسة في الشمال/حي المحمدية”الابتدائية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293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،والمتوسطة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154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“ (د.عفاف المحمدي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- مدرسة في الشمال ”السليمانية العليا“،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مدرسة متوسطة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33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 (د. سارة العواد)، </a:t>
            </a:r>
            <a:r>
              <a:rPr b="1" lang="ar-SA" sz="21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100" spc="-1" strike="noStrike">
                <a:solidFill>
                  <a:srgbClr val="000000"/>
                </a:solidFill>
                <a:latin typeface="Arial"/>
              </a:rPr>
              <a:t> طالبات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- مدرسة في الشمال –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 مدارس/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أو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 طالبة (د. نجلاء السويل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- رياض أطفال الجامعة – عليشة - (د. ربى عبد المطلوب)،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 طالبات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- مدرسة في غرب العليا، المدرسة رقم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 (أ. نوال الموسى)،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 طالبات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- مدرسة في الشمال ”حي النخيل“ (د.جواهر الزي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- مدرسة في الدرعية، الابتدائية  رقم 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71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 في سكن جامعة الملك سعود (د.سامية بكري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- مدرسة في العليا ، (د.مي إدريس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ar-SA" sz="2200" spc="-1" strike="noStrike">
                <a:solidFill>
                  <a:srgbClr val="000000"/>
                </a:solidFill>
                <a:latin typeface="Arial"/>
              </a:rPr>
              <a:t>- مدرسة في العليا أو الغرب ، ( د.هناء الصقير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عنصر نائب للتاريخ 1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2158-C8F2-4C2C-9EE5-CE4A3AC9BBD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عنصر نائب للتذييل 2"/>
          <p:cNvSpPr/>
          <p:nvPr/>
        </p:nvSpPr>
        <p:spPr>
          <a:xfrm>
            <a:off x="373392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المسارا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 rot="16200000">
            <a:off x="-2154960" y="2661120"/>
            <a:ext cx="598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89c4ff"/>
                </a:solidFill>
                <a:latin typeface="Arial"/>
              </a:rPr>
              <a:t>التعريف بمسارات التدريب الميداني</a:t>
            </a:r>
            <a:r>
              <a:rPr b="1" lang="ar-SA" sz="4000" spc="-1" strike="noStrike">
                <a:solidFill>
                  <a:srgbClr val="89c4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1177920" y="476280"/>
            <a:ext cx="7715160" cy="63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1143000" y="1357200"/>
            <a:ext cx="77151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ff"/>
                </a:solidFill>
                <a:uFillTx/>
                <a:latin typeface="Arial"/>
              </a:rPr>
              <a:t>نبذة مختصرة عن المسار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تتعامل الطالبة في هذا المسار مع المشاكل النفسية لفئات المحرومين من أسرهم الطبيعية من المقيمين في المؤسسات الاجتماعية مثل دار رعاية المشلولي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وتضم تلك المؤسسات الأطفال والمراهقات الأيتام وذوي الظروف الخاصة وكذلك أطفال الأسر المفككة والمحرومين من الأسر الطبيع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1619280" y="404640"/>
            <a:ext cx="71388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66"/>
                </a:solidFill>
                <a:latin typeface="Arial"/>
              </a:rPr>
              <a:t>مسار المؤسسات الاجتماعية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عنصر نائب للتاريخ 1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39CB1-E787-4768-B0D9-9303CB6C215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عنصر نائب للتذييل 2"/>
          <p:cNvSpPr/>
          <p:nvPr/>
        </p:nvSpPr>
        <p:spPr>
          <a:xfrm>
            <a:off x="373392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المسارا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 rot="16200000">
            <a:off x="-2154960" y="2661120"/>
            <a:ext cx="598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89c4ff"/>
                </a:solidFill>
                <a:latin typeface="Arial"/>
              </a:rPr>
              <a:t>التعريف بمسارات التدريب الميداني</a:t>
            </a:r>
            <a:r>
              <a:rPr b="1" lang="ar-SA" sz="4000" spc="-1" strike="noStrike">
                <a:solidFill>
                  <a:srgbClr val="89c4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1177920" y="476280"/>
            <a:ext cx="7715160" cy="63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ff"/>
                </a:solidFill>
                <a:uFillTx/>
                <a:latin typeface="Arial"/>
              </a:rPr>
              <a:t>متطلبات المسار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متابعة الحالات وفق ما تعلمتيه من كيفية إجراء دراسة الحال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عمل برامج إرشاد جمعي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تطبيق المقاييس ( ذكاء وشخصية ) على الحالات بحسب ما يقتضيه الحال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وضع الخطط العلاجية للحالات مع الالتزام بتطبيقها وفق ما تعلمتيه من فنيات ومهارا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تقديم إرشادات متنوعة وتوعية للأمهات الحاضنات من خلال المحاضرات وورش العمل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التزام بقوانين وأنظمة الدار ( المؤسسة ) والتي لها الأحقية في إنذار الطالبة ومن ثم إلغاء تدريبها في المؤسسة في حال الإخلال بالقوانين الخاصة بهم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عنصر نائب للتاريخ 1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0E62A-35F5-405F-A11B-2EC6ABED695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عنصر نائب للتذييل 2"/>
          <p:cNvSpPr/>
          <p:nvPr/>
        </p:nvSpPr>
        <p:spPr>
          <a:xfrm>
            <a:off x="373392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المسارا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 rot="16200000">
            <a:off x="-2154960" y="2661120"/>
            <a:ext cx="598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89c4ff"/>
                </a:solidFill>
                <a:latin typeface="Arial"/>
              </a:rPr>
              <a:t>التعريف بمسارات التدريب الميداني</a:t>
            </a:r>
            <a:r>
              <a:rPr b="1" lang="ar-SA" sz="4000" spc="-1" strike="noStrike">
                <a:solidFill>
                  <a:srgbClr val="89c4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785880" y="189000"/>
            <a:ext cx="8358120" cy="59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0000ff"/>
                </a:solidFill>
                <a:uFillTx/>
                <a:latin typeface="Arial"/>
              </a:rPr>
              <a:t>القائمات على التدريب في المسار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دار التربية الاجتماعية للفتيات (مسائي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)  بجوار وزارة الداخلية/ طريق الملك فهد – (د. منال مصطفى)،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طالبا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المؤسسة الاجتماعية للمسنات (صباحي من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) حي الرائد – شمال - ( د. سامية سمير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دار الضيافة د. حنان عطا الل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دار الحضانة الاجتماعية الدرعية مخرج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(أ. إيمان الرواف) صباحي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أو مسائي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،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طالب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دار رعاية المشلولين(عليشة)،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طالبات، (د.منال مصطفى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عنصر نائب للتاريخ 1"/>
          <p:cNvSpPr/>
          <p:nvPr/>
        </p:nvSpPr>
        <p:spPr>
          <a:xfrm>
            <a:off x="14428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45255-08F6-48B7-B87A-4205A3C9E04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عنصر نائب للتذييل 2"/>
          <p:cNvSpPr/>
          <p:nvPr/>
        </p:nvSpPr>
        <p:spPr>
          <a:xfrm>
            <a:off x="373392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المسارا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 rot="16200000">
            <a:off x="-2154960" y="2661120"/>
            <a:ext cx="5981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89c4ff"/>
                </a:solidFill>
                <a:latin typeface="Arial"/>
              </a:rPr>
              <a:t>التعريف بمسارات التدريب الميداني</a:t>
            </a:r>
            <a:r>
              <a:rPr b="1" lang="ar-SA" sz="4000" spc="-1" strike="noStrike">
                <a:solidFill>
                  <a:srgbClr val="89c4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1177920" y="476280"/>
            <a:ext cx="7715160" cy="63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1187280" y="1484280"/>
            <a:ext cx="77155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ff"/>
                </a:solidFill>
                <a:uFillTx/>
                <a:latin typeface="Arial"/>
              </a:rPr>
              <a:t>نبذة مختصرة عن المسار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تتدرب الطالبة في هذا المسار مع الفئات المرضية (ذهان - عصاب) حيث تلتزم الأخصائية النفسية المتدربة بالتعامل مع هذه الفئات كما يلي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* مقابلة الحالات المرضية وقت مواعيد محددة ومقررة مسبقا مع مستشفى التدريب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* تطبيق المقاييس النفسي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* تتدرب الطالبة على بعض المهارات العلاجية التي يمكن لها أن تضعها على الحالات التي تتعامل معها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* تلتزم الطالبة بالمواعيد الزمنية التي تقررها إدارة المستشفى لدوام الطالبات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* كما تلتزم الطالبة بالأنظمة المقررة من قبل المستشفى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1619280" y="404640"/>
            <a:ext cx="7138800" cy="7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66"/>
                </a:solidFill>
                <a:latin typeface="Arial"/>
              </a:rPr>
              <a:t>المسار العيادي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6T17:44:03Z</dcterms:created>
  <dc:creator>User</dc:creator>
  <dc:description/>
  <dc:language>en-US</dc:language>
  <cp:lastModifiedBy>ksu100</cp:lastModifiedBy>
  <dcterms:modified xsi:type="dcterms:W3CDTF">2011-05-14T08:54:33Z</dcterms:modified>
  <cp:revision>102</cp:revision>
  <dc:subject/>
  <dc:title>الشريحة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371025</vt:lpwstr>
  </property>
</Properties>
</file>