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A354-53AD-4F17-A5B0-E8AEA0616F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6CB2-B5FB-4400-9F55-84A2973647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65A5-5596-4375-81C9-27E4BCA90B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0A85-7CCE-4461-9E04-61F718772C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C45-D0A5-4D72-BA45-BFBF1244EB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B625-98DA-434C-9EB8-82FA60F4A9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2E26-EC4E-4940-A58D-2134B15FAA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8C0-A3F8-4835-895F-75AA2D30C7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9288-9FA6-446D-9980-2FCCEE86F0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AE5F-B8BD-4CD3-B65E-BF34F06DD3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CC56-DF68-4AB3-B12E-0D2451F035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E304-B738-4CB1-9BA6-C156F1AE0F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A99-E7B8-4FE8-BC7D-6378B9C910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3E9-0AC7-461B-BAB0-82CADCA1B2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5B7-48B1-4BCB-9A24-E9EFEDF5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053-3837-4CF9-95D6-07437D8B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568-C2A7-49AE-AE1A-A159E8F1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688-35CD-4C36-A14F-6E62A6A7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B4C3-2E4B-48D4-B7F6-F5057CAE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AFBB-0A74-4FE6-A0B1-F3288EB5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1D1E-71C1-4B44-847C-09C801A9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3DA3-61FC-4CD9-8656-81852B4A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E3A2-E9BC-4CE3-9678-51C3A0CD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D63-2169-45B1-9219-FCDD2F73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41B9-2A56-4AC1-BDA5-3D2F047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439-27B2-43EA-832A-780508AF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2832-4037-488D-802E-69C1B47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7A2C-D482-4D71-80CE-3EE020B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E0FB-C11D-4C68-9B61-5FD21E24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821-C32B-4602-8323-97C969B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F15B-A134-4CCC-BD31-B8A89CB8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567-2BC9-45A3-AEFB-DAD61BF1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DC3-E07F-4209-B340-5DDA93FE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94E-78AA-48C8-97A9-2BBCCDC4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2BF-CD8F-45AC-BA2F-3F4CB78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DBF-C715-441F-8C38-34AF52C5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E31-2FC7-43C3-9604-EC27D126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E8E-F86A-4F89-99CE-ED4963A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C740-CE6F-439E-98D8-BB826885C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F0AE-EDA5-4F6B-AF4D-3A3096C3A7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129-678E-43A2-912C-28CF44B57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77F-2F1C-45A0-8254-9B44F938CF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943000"/>
            <a:ext cx="518472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99"/>
                </a:solidFill>
                <a:latin typeface="Arial"/>
              </a:rPr>
              <a:t> التعريف بمسارات التدريب الميداني</a:t>
            </a:r>
            <a:br>
              <a:rPr sz="54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لقسم علم النفس بجامعة الملك سع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032360" y="17175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رض خاص لــ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E87A-683F-4F6F-BE76-0A41D8F040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116000" y="907920"/>
            <a:ext cx="77151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خصية الطالبة وقدرتها على التعامل مع فئات المس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عدل التراكمي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قابلة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473-C519-48C2-A86D-1DC8FBC002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ستطيل 3"/>
          <p:cNvSpPr/>
          <p:nvPr/>
        </p:nvSpPr>
        <p:spPr>
          <a:xfrm>
            <a:off x="285840" y="1413000"/>
            <a:ext cx="885816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ملك خالد الجامعي (د/إيمان السيد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ملك عبد العزيز الجامعي (د/وجدان الكحيم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م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صرا 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صحة النفسية - مجمع الأمل - (د/ وجدان الكحيم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-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صرا/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قوات المسلحة ”العسكري“ بالملز (د/ نعمت الصقعبي)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م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صرا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ركز الأمير سلمان لأمراض الكلى مخرج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أ/ساره السبي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954520" y="907920"/>
            <a:ext cx="67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 في هذا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E122-B971-40D3-8FF6-DCE3A08793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258920" y="1197000"/>
            <a:ext cx="77151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نبذة مختصرة عن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درب الطالبة في هذا المسار في أحد اتجاه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تدرب الطالبة على ممارسة برنامج يهدف إلى تعليم التفكير لطلاب الصف الأول والثاني الابتدائي بالإضافة إلى تدريبها على نظرية الذكاءات المتعددة مع تطبيق إجراءات وأساليب وأدوات تلك النظ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تدرب الطالبة على حالات الضعف العقلي (البسيط، والمتوسط) والحالات المزدوجة ( إعاقة عقلية + جسدية ) وبعض المتلازمات (داون) وذلك في المراكز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مدارس في الشمال (رياض أطفال + ابتدائي) مدرسة المهد الأهلية، مدرسة الفرسان(د. بسمة الحلو). صباحي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جمعية الوفاء الخيرية (العليا) (أ. أمل الوعي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مركز الرعاية النهارية (القدس) (أ.أمل الوعي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مسار الفئات الخاص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8A97-2BB4-4AFB-96EB-A06967AFBD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77920" y="765000"/>
            <a:ext cx="7715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لتزم الطالبة بالتعامل مع الفئات المذكورة سابقاً ك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طبيق مقاييس الذكاء والقد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مل برامج وخطط لتعديل السلو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بالأنظمة والضوابط الخاصة بالمرك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BA7-462E-4FA2-807D-BC73741001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1571760" y="-255240"/>
            <a:ext cx="7215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شروط القبول في مجال التوح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رغبة الجادة والأكيدة للالتحاق بمسار التوحد، وتحمل ما تلاقيه الطالبة من عناء خلال فترة التدريب مع تلك الفئ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ن لا يقل معدل الطالبة ع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3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ن لا يكون مع الطالبة مادة خلال فترة التدر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قابلة الشخصية (ومدى ملائمة الطالبة للتعامل مع فئة التوح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ناك شروط أخرى يتم تحديدها بعد القبول إن شاء الل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CE44-D6BD-4A6B-8A49-6AA4D2F93D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1714680" y="322560"/>
            <a:ext cx="685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متطلبات مجال التوح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خلفية نظرية و لو بسيطة كمدخل للتعريف بالتو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شخصية الطالبة و مدى قدرتها على التعامل مع هذه الفئة من أطفال التو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عدل التراك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قابلة ال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D5F-C31E-45DA-8CDC-5DA138DA65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785960" y="682920"/>
            <a:ext cx="664380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مراكز التدري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لدة الأمير في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عهد التربية الفكرية شر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مراكز أخرى يتم تحديدها لاحق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د.عزة الغام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د.أمل الدو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68E-BD79-4C08-992F-3356E03C5C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187280" y="-683640"/>
            <a:ext cx="738540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لمجال الجنائ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و التدريب في مصلحة السجون للنساء (سجن الملز للنسا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لمتطلب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متابعة حالات فردية (يتم متابعتها في المل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متابعة حالات تحصل نتيجة الجلوس في السج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تطبيق برامج تدريبية للموظف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تطبيق المقاييس ( و خاصة مقياس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PI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وام 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أيام في الأسبوع 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طال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0C09-3D31-4875-8DA2-7F5687A841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187280" y="571320"/>
            <a:ext cx="743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متطلبات القبول في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راية بكيفية استخدام وتطبيق المقايي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دير عالي في (علم النفس المرضي – العلاج النفسي-        علم النفس الجنائي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أماكن التدري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سجن الملز للنس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لمشرفة على التدري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(د/ نعمت الصقعب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Calibri"/>
              </a:rPr>
              <a:t>المسار الأسري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76360" y="981000"/>
            <a:ext cx="7313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مركز آسيا للاستشارات الأس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هتم هذا المسار بتدريب الطالبة كأخصائيه نفسيه في المجال الأسري حيث يهتم في قضايا الأسرة من حيث المشكلات الزوجية والأطفال والمراهقي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جيه الحالات وإرشادها حسب أسس وتوجيه الإرشاد النفس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طبيق متطلبات التدريب من تطبيق للمقاييس وتشخي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لحالات ووضع الخطط العلاج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هتم المركز بتقديم الاستشارات النفسية وهو مركز خاص مدفو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دم المركز الاستشارات حضوريا وهاتفيا وعن طريق الانترن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Arial"/>
              </a:rPr>
              <a:t>المسا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85560" y="1285920"/>
            <a:ext cx="7599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1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المسار الإرشادي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التدريب بالمدار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 - التدريب بالمجال الأسر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2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مسار المؤسسات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3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المسار الجنائي (سجون)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دريب بالمستشف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4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المسار العيادي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5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مسار الفئات الخاصة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تعليم التفكي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إعاقات عقلية مختل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6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مسار التو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B27D-6566-4901-9CAE-E10A0503DC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03280" y="1052640"/>
            <a:ext cx="73137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لزم الطالبات بعدد من الاستشارات عبر الهاتف والانترنت و حالتين حضورية وإرشاد جماع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دوام يكون في المؤسسة مسائي من الساعة الرابعة وحتى الثامنة والنصف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كان المؤسسة يقع في طريق الملك عبد الله بقرب مرك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صحار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لمشرفة على التدريب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د. موضي الدغيث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شكرا لحسن استماعك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566E-D8B3-4318-9903-F977B8764D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786-CCBD-4796-BFDF-F59CF44DDB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المسار الإرشاد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258920" y="1557360"/>
            <a:ext cx="7715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نبذة مختصرة عن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في هذا المسار يتم تدريب الطالبة على كيفية تحويل مهام الأخصائية النفسية ( المرشدة الطلابية ) إلى الأداء العملي، وتقديم الخدمات الإرشادية للطالبات (وقائية، علاجية) حسب المرحلة التعليمية التي سوف تتعامل معها ( ابتدائي ، متوسط ، ثانو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76A-6EC0-4386-AA78-2B79D9FC11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تابعة الحالات الفردية ووضع الخطة العلاجية المناسبة لها ومن ثم تطبيق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مل إرشاد جما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ديم بعض الإرشادات العامة للطالبات والمعلمات والأمهات من خلال المحاضرات، النشرات، المجلات، واللوحات الإرش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شاركة في الأنشطة اللاصفية الخاصة بالمدرسة علما بأن لكل مشرفة متطلبات قد تختلف عن غير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الجاد بالدوام الرسمي للمدرسة من بداية الطابور الصباحي إلى نهاية الحصة الأخي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بأنظمة المدرسة وقواني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764C-D899-428B-8610-DCD18CA732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68360" y="0"/>
            <a:ext cx="86756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 في هذا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شرق الرياض – الربوة – الثانوية الرابعة (د. حصة العيسى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- مدرسة في وسط الرياض – المدرسة المتوسطة الثانية لتحفيظ القران والمدرسة الثانوية الثانية لتحفيظ القرآن الكريم (د. فاتن أبو طالب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(د. سوسن شلبي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 المنطقة الجنوبية الحي الغربي (د. غادة عبد الغفار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جنوب أو الغرب (د. وفاء نصار)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بتدائي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طالبات، المتوسط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، الثانوي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/حي المحمدية”الابتدائية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29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،والمتوسط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“ (د.عفاف المحمدي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”السليمانية العليا“،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درسة متوسطة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(د. سارة العواد)، 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–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مدارس/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أو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طالبة (د. نجلاء السويل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رياض أطفال الجامعة – عليشة - (د. ربى عبد المطلوب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غرب العليا، المدرسة رقم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(أ. نوال الموسى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”حي النخيل“ (د.جواهر الزي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درعية، الابتدائية  رقم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في سكن جامعة الملك سعود (د.سامية بكري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عليا ، (د.مي إدري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عليا أو الغرب ، ( د.هناء الصقي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75E7-E500-4A0A-BE4B-869D4A061B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143000" y="1357200"/>
            <a:ext cx="7715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نبذة مختصرة عن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عامل الطالبة في هذا المسار مع المشاكل النفسية لفئات المحرومين من أسرهم الطبيعية من المقيمين في المؤسسات الاجتماعية مثل دار رعاية المشلول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ضم تلك المؤسسات الأطفال والمراهقات الأيتام وذوي الظروف الخاصة وكذلك أطفال الأسر المفككة والمحرومين من الأسر ال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مسار المؤسسات الاجتماعي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5A6C-7B77-4CF0-AA97-220DAD008BE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تابعة الحالات وفق ما تعلمتيه من كيفية إجراء دراسة الحا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مل برامج إرشاد جم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طبيق المقاييس ( ذكاء وشخصية ) على الحالات بحسب ما يقتضيه الحا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ضع الخطط العلاجية للحالات مع الالتزام بتطبيقها وفق ما تعلمتيه من فنيات ومها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ديم إرشادات متنوعة وتوعية للأمهات الحاضنات من خلال المحاضرات وورش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بقوانين وأنظمة الدار ( المؤسسة ) والتي لها الأحقية في إنذار الطالبة ومن ثم إلغاء تدريبها في المؤسسة في حال الإخلال بالقوانين الخاصة ب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8704-CBCE-4DB5-B058-61A15FA4F37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85880" y="189000"/>
            <a:ext cx="835812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 في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ار التربية الاجتماعية للفتيات (مسائ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 بجوار وزارة الداخلية/ طريق الملك فهد – (د. منال مصطفى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طال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مؤسسة الاجتماعية للمسنات (صباحي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حي الرائد – شمال - ( د. سامية سمي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دار الضيافة د. حنان عطا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دار الحضانة الاجتماعية الدرعية مخرج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(أ. إيمان الرواف) صباح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و مسائ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دار رعاية المشلولين(عليشة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البات، (د.منال مصطف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1219-C348-4DFB-BDAD-3D580FBD3A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87280" y="1484280"/>
            <a:ext cx="7715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نبذة مختصرة عن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درب الطالبة في هذا المسار مع الفئات المرضية (ذهان - عصاب) حيث تلتزم الأخصائية النفسية المتدربة بالتعامل مع هذه الفئات كما يلي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مقابلة الحالات المرضية وقت مواعيد محددة ومقررة مسبقا مع مستشفى التدر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* تطبيق المقاييس النف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تتدرب الطالبة على بعض المهارات العلاجية التي يمكن لها أن تضعها على الحالات التي تتعامل مع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تلتزم الطالبة بالمواعيد الزمنية التي تقررها إدارة المستشفى لدوام الطال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كما تلتزم الطالبة بالأنظمة المقررة من قبل المستشف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المسار العياد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7:44:03Z</dcterms:created>
  <dc:creator>User</dc:creator>
  <dc:description/>
  <dc:language>en-US</dc:language>
  <cp:lastModifiedBy>ksu100</cp:lastModifiedBy>
  <dcterms:modified xsi:type="dcterms:W3CDTF">2011-05-14T08:54:33Z</dcterms:modified>
  <cp:revision>10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25</vt:lpwstr>
  </property>
</Properties>
</file>