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EBF-B513-4551-9FD8-35D829D2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97E-F875-4F4B-906A-11E7F858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D8A-62B5-4DA4-ADF6-C2E6F582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E36-1F3E-4427-9878-7B3C8D8D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773-5558-4B20-8E17-50EE47DC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8F9-FC7A-4605-B9DD-CAEA5AD5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A01-5640-468E-842B-838C31C7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220-A81A-4CAF-AA4F-AC712B60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552-19C1-4C7E-A4A8-DC35E94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09A-936A-4A9B-A1E2-35EE0CC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B6F-8339-4D32-AEB3-46B52C59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43B-BF3E-4ACC-AAB6-471A0F96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75E4-0024-458B-B1F4-C1B8E128681D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9F94-0A0F-4B41-80B6-F97E7E9C96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  <p:sp>
        <p:nvSpPr>
          <p:cNvPr id="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7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اعداد / أ.دنيا العثيم &amp; أ. غادة الرش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Abdulaziz</cp:lastModifiedBy>
  <dcterms:modified xsi:type="dcterms:W3CDTF">2012-05-07T10:02:20Z</dcterms:modified>
  <cp:revision>29</cp:revision>
  <dc:subject/>
  <dc:title>إدارة التسويق</dc:title>
</cp:coreProperties>
</file>