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354-843B-481F-99CD-A1D6BD2A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88D-6A51-40D7-96D2-9DC26A1B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335-B890-40FC-8B07-82D2E531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238-D742-410B-B1AF-40D8E971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6FF-753A-4798-AF93-D007D2B3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801-1FA6-49DD-81F0-C878747D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1C9-F1FB-426E-BDE5-2871AA0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AA5-B665-4173-B27D-D709436C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B06-379E-44C9-97E1-70CCE183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CB5-6D23-4DD8-87F0-61AA080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998-279B-4CE4-BA1C-BE5DE39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092-BDA9-4B36-BA92-3B534740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39B9-2791-48EA-9103-DB0009E75131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58DE-294E-4769-B61E-AED8BBF104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  <p:sp>
        <p:nvSpPr>
          <p:cNvPr id="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7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Abdulaziz</cp:lastModifiedBy>
  <dcterms:modified xsi:type="dcterms:W3CDTF">2012-05-07T10:02:20Z</dcterms:modified>
  <cp:revision>29</cp:revision>
  <dc:subject/>
  <dc:title>إدارة التسويق</dc:title>
</cp:coreProperties>
</file>