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120-4754-4E26-B5EC-8C213E71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71B0-8D87-4164-A550-84FDAA5C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88D-B2D2-42B6-9E61-F19570C2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765-5164-46AD-AF5A-0EB30BF9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FFFF-1CB7-4B01-8DA7-59A3161A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5F5B-DE37-4257-BDCF-7E8967E2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0E1-83EB-4383-9D2C-50F98F44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11F-DD26-412C-B233-66874716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C088-CE4F-48A7-B022-E71C4BCD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ABC5-C5CC-462A-85ED-5AEE22B4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C07-FB99-4C6B-8EB8-3124D2FC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116-77A1-4F96-9224-4BEB8188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563F-4951-4AAB-ABBC-8F33781533B5}" type="slidenum">
              <a:rPr b="0" lang="ar-SA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ar-SA" sz="4000" spc="-1" strike="noStrike">
                <a:solidFill>
                  <a:srgbClr val="cc0000"/>
                </a:solidFill>
                <a:latin typeface="Arial"/>
              </a:rPr>
              <a:t> اضطرابات التعلم والتحصيل الدراسي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ar-KW" sz="2400" spc="-1" strike="noStrike">
                <a:solidFill>
                  <a:srgbClr val="cc0000"/>
                </a:solidFill>
                <a:latin typeface="Arial"/>
              </a:rPr>
              <a:t>فاطمة الحيدر</a:t>
            </a:r>
            <a:br>
              <a:rPr sz="2400"/>
            </a:br>
            <a:r>
              <a:rPr b="0" lang="ar-KW" sz="2400" spc="-1" strike="noStrike">
                <a:solidFill>
                  <a:srgbClr val="cc0000"/>
                </a:solidFill>
                <a:latin typeface="Arial"/>
              </a:rPr>
              <a:t>استاذ واستشارية الطب النفسي للأطفال والمراهقين</a:t>
            </a:r>
            <a:br>
              <a:rPr sz="2400"/>
            </a:br>
            <a:r>
              <a:rPr b="0" lang="ar-KW" sz="2400" spc="-1" strike="noStrike">
                <a:solidFill>
                  <a:srgbClr val="cc0000"/>
                </a:solidFill>
                <a:latin typeface="Arial"/>
              </a:rPr>
              <a:t>كلية الطب/ جامعة الملك سعود</a:t>
            </a:r>
            <a:br>
              <a:rPr sz="2400"/>
            </a:b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cc0000"/>
                </a:solidFill>
                <a:latin typeface="Arial"/>
              </a:rPr>
              <a:t>درجاته حسب مقاييس الذكاء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المقايي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   -------------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ويسك للأطفا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ستاندفورد بينيه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رسم الرج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متاهات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وغيره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الدرجة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-------------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نخفاض بسيط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50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–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70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نخفاض متوسط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35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–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50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نخفاض شديد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20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–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35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عظيم الشدة أقل من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20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ar-SA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i="1" lang="ar-SA" sz="2800" spc="-1" strike="noStrike" u="sng">
                <a:solidFill>
                  <a:srgbClr val="cc0000"/>
                </a:solidFill>
                <a:uFillTx/>
                <a:latin typeface="Arial"/>
              </a:rPr>
              <a:t>المعالجة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حديد المدرسة أو المركز التأهيلي المناسب بناءً على القدرات العقلي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حسين المهارات العامة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عديل السلوك باستخدام البرامج السلوكي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ليس هدف المعالجة آني بل </a:t>
            </a:r>
            <a:r>
              <a:rPr b="0" lang="ar-KW" sz="2400" spc="-1" strike="noStrike">
                <a:solidFill>
                  <a:srgbClr val="0033cc"/>
                </a:solidFill>
                <a:latin typeface="Arial"/>
              </a:rPr>
              <a:t>تدريجي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طويل الأمد</a:t>
            </a:r>
            <a:r>
              <a:rPr b="0" lang="ar-KW" sz="2400" spc="-1" strike="noStrike">
                <a:solidFill>
                  <a:srgbClr val="0033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cc0000"/>
                </a:solidFill>
                <a:latin typeface="Arial"/>
              </a:rPr>
              <a:t>بطء التعلم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قدرات العقلية والمهارات أقل من المتوسط ولكنها أعلى من مستوى انخفاض الذكاء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حسب المقاييس  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71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–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84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السمات العامة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        - تأخر في النمو العام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        - ضعف في التركيز وكثرة الشرود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        - اضطراب العلاقة مع الزملاء قد تكون على شكل عزلة وانزواء أو عدوان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        - شعور بالإحباط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i="1" lang="ar-SA" sz="2800" spc="-1" strike="noStrike">
                <a:solidFill>
                  <a:srgbClr val="cc0000"/>
                </a:solidFill>
                <a:latin typeface="Arial"/>
              </a:rPr>
              <a:t>المعالجة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حديد القدرات العقلية والمهارات العامة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وزيعهم في مجموعات تعليمية صغيرة داخل المدارس الاعتيادي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ستثارة انفعالاتهم وتحفيزهم خلال التعلم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إشراكهم في كل النشاطات المدرسي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حسين المهارات العام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cc0000"/>
                </a:solidFill>
                <a:latin typeface="Arial"/>
              </a:rPr>
              <a:t>صعوبات التعلم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مثل تقريباً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% من طلاب المدارس , ويشكل الذكور ضعف نسبة الإناث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ويقصد به اضطراب في إحدى العمليات التعليمية مثل صعوبة في القراءة , الإملاء , الحساب .............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مما يؤدي إلى ضعف في التحصيل الدراسي في إحدى المواد أو بعضها وليس الكل وفي أحايين قليلة كلها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i="1" lang="ar-SA" sz="2800" spc="-1" strike="noStrike">
                <a:solidFill>
                  <a:srgbClr val="cc0000"/>
                </a:solidFill>
                <a:latin typeface="Arial"/>
              </a:rPr>
              <a:t>العلامات التي قد تدل على المشكلة: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ضعف في مواد تعليمية معينة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أخر عام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شرو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عدم التركيز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سلوك العدواني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عزلة والانطواء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ar-SA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ar-SA" sz="2800" spc="-1" strike="noStrike">
                <a:solidFill>
                  <a:srgbClr val="cc0000"/>
                </a:solidFill>
                <a:latin typeface="Arial"/>
              </a:rPr>
              <a:t>التقييم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قييم عملي من قبل المعلم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قياس الذكاء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مقاييس خاصة بصعوبات التعلم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i="1" lang="ar-SA" sz="2800" spc="-1" strike="noStrike">
                <a:solidFill>
                  <a:srgbClr val="cc0000"/>
                </a:solidFill>
                <a:latin typeface="Arial"/>
              </a:rPr>
              <a:t>المعالجة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تحديد نقاط الضعف التعليمية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الاستفادة من مساعد خارجي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تقوية الثقة بالنفس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تحسين المهارات العامة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العلاج السلوكي للسلوكيات المصاحبة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فصول خاصة داخل المدارس الاعتيادية (زيادة عدد المعلمين مقارنة بالطلبة)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تدريب خاص لنقاط الضعف الدراسي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توفير اختصاصي تخاطب , اختصاصي نفسي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توفير الأجهزة المناسبة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تمديد التعليم الخاص لمراحل عليا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التعليم الخاص (إضافة برامج للتعليم العادي  , وقت جزئي للتعليم الخاص  , وقت كامل لتعليم خاص )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ميزانية خاصة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ar-SA" sz="3600" spc="-1" strike="noStrike">
                <a:solidFill>
                  <a:srgbClr val="cc0000"/>
                </a:solidFill>
                <a:latin typeface="Arial"/>
              </a:rPr>
              <a:t>اضطرابات ترتبط ارتباطا وثيقاً بالتحصيل الدراسي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1" lang="ar-SA" sz="2800" spc="-1" strike="noStrike" u="sng">
                <a:solidFill>
                  <a:srgbClr val="0033cc"/>
                </a:solidFill>
                <a:uFillTx/>
                <a:latin typeface="Arial"/>
              </a:rPr>
              <a:t>فرط الحركة وتشتت الانتباه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وهذا الاضطراب يتداخل تداخلاً كبيراً مع صعوبات التعلم وربما مع انخفاض الذكاء ويعيق التعلم ويؤدي للفشل الدراسي . وما لم  يتعرف المعلم وكذلك الأسرة على العلامات التي تدل عليه، خاصة لو كان من نوع تشتت الانتباه بدون فرط الحركة ومن ثم تقييمه و معالجته لبقي الطفل حبيس الفشل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ولذا سيفرد له وقت للنقاش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Arial"/>
              </a:rPr>
              <a:t>أهمية بحث موضوع اضطراب التعلم والتحصيل الدراسي</a:t>
            </a:r>
            <a:r>
              <a:rPr b="0" lang="ar-SA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cc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- الفشل الدراسي وما يصاحبه من نتائج سلبية حاضراً ومستقبلاً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- الثمار الناتجة من المعالجة والتدخل المبكر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863640" y="3213000"/>
            <a:ext cx="76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رتبطت مسألة التأخر الدراسي في أذهان المعلمين و أولياء الأمور بالمفاهيم الخاطئة كالغباء والتخلف العقلي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إن التأخر الدراسي ظاهرة معقدة،  تتداخل فيها العوامل البيئية مع العوامل الأسرية والمدرسية والفردي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ar-KW" sz="2400" spc="-1" strike="noStrike">
                <a:solidFill>
                  <a:srgbClr val="0033cc"/>
                </a:solidFill>
                <a:latin typeface="Arial"/>
              </a:rPr>
              <a:t>ينبغي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نظر إلى هذه الظاهرة نظرة شمولية وجادة.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cc0000"/>
                </a:solidFill>
                <a:latin typeface="Arial"/>
              </a:rPr>
              <a:t>- الفشل الدراسي وما يصاحبه من نتائج سلبية حاضراً ومستقبلاً.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تأخر الدراسي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خوف من المدرس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قلق الامتحانات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كذب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عناد والعدواني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تبول اللاإرادي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لامبالا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هروب من المدرسة وما يصاحبه من مشاكل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إساءة استخدام العقاقير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مشاكل سلوكية مستقبلي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آثار سلبية مستقبلية على الفرد والأسرة والمجتمع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ar-SA" sz="2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cc0000"/>
                </a:solidFill>
                <a:latin typeface="Arial"/>
              </a:rPr>
              <a:t>- الثمار الناتجة عن المعالجة والتدخل المبكر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cc"/>
                </a:solidFill>
                <a:latin typeface="Arial"/>
              </a:rPr>
              <a:t>مكاسب بشري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cc"/>
                </a:solidFill>
                <a:latin typeface="Arial"/>
              </a:rPr>
              <a:t>مكاسب أسري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cc"/>
                </a:solidFill>
                <a:latin typeface="Arial"/>
              </a:rPr>
              <a:t>مكاسب اقتصادي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cc"/>
                </a:solidFill>
                <a:latin typeface="Arial"/>
              </a:rPr>
              <a:t>مكاسب اجتماعي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cc0000"/>
                </a:solidFill>
                <a:latin typeface="Arial"/>
              </a:rPr>
              <a:t>الصورة العامة لاضطرابات التعلم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748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عام</a:t>
            </a:r>
            <a:r>
              <a:rPr b="1" lang="ar-KW" sz="2800" spc="-1" strike="noStrike">
                <a:solidFill>
                  <a:srgbClr val="0033cc"/>
                </a:solidFill>
                <a:latin typeface="Arial"/>
              </a:rPr>
              <a:t>/ خاص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KW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→----- </a:t>
            </a:r>
            <a:r>
              <a:rPr b="1" lang="ar-SA" sz="3200" spc="-1" strike="noStrike">
                <a:solidFill>
                  <a:srgbClr val="c00000"/>
                </a:solidFill>
                <a:latin typeface="Arial"/>
              </a:rPr>
              <a:t>ضعف تعليمي 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-----←   جديد</a:t>
            </a:r>
            <a:r>
              <a:rPr b="1" lang="ar-KW" sz="2800" spc="-1" strike="noStrike">
                <a:solidFill>
                  <a:srgbClr val="0033cc"/>
                </a:solidFill>
                <a:latin typeface="Arial"/>
              </a:rPr>
              <a:t>/ مزمن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33cc"/>
                </a:solidFill>
                <a:latin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↓</a:t>
            </a:r>
            <a:r>
              <a:rPr b="1" lang="ar-KW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↓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                               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↓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↓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---------------------------------------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     غياب مدرسي                                       سلو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lang="ar-KW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↓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ar-KW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متقطع                                          عدواني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1" lang="ar-KW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متكرر                                         </a:t>
            </a:r>
            <a:r>
              <a:rPr b="1" lang="ar-KW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فرط حرك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1" lang="ar-KW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دائم                                              انطوائية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خج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cc0000"/>
                </a:solidFill>
                <a:latin typeface="Arial"/>
              </a:rPr>
              <a:t>التقييم العام</a:t>
            </a:r>
            <a:r>
              <a:rPr b="1" i="1" lang="ar-KW" sz="3200" spc="-1" strike="noStrike">
                <a:solidFill>
                  <a:srgbClr val="cc0000"/>
                </a:solidFill>
                <a:latin typeface="Arial"/>
              </a:rPr>
              <a:t> و المعالجة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قييم عملي من قبل المعلم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قييم نفسي من قبل المرشد الطلابي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تواصل مع الأسرة لتحديد المشاكل الأسري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قييم الاختصاصي النفسي والاجتماعي عبر الوحدة المدرسية وكذلك الطبيب لتحديد مقاييس الذكاء ودرجتها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إعاقات الجسدية المصاحبة , الحاجة للأدوات المساندة مثل السماعات والنظارات , الحاجة للأدوية والبرامج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تواصل مع اختصاصي تخاطب لو دعت الحاجة لذلك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cc0000"/>
                </a:solidFill>
                <a:latin typeface="Arial"/>
              </a:rPr>
              <a:t>العوامل المحددة للمستقبل الدراسي والمهني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نوع الإعاقة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شدة الإعاقة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تدخل المبكر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سلوكيات المصاحبة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اكتشاف المبكر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دعم المتكامل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36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i="1" lang="ar-SA" sz="3600" spc="-1" strike="noStrike">
                <a:solidFill>
                  <a:srgbClr val="cc0000"/>
                </a:solidFill>
                <a:latin typeface="Arial"/>
              </a:rPr>
              <a:t>والسؤال هنا </a:t>
            </a:r>
            <a:r>
              <a:rPr b="1" i="1" lang="ar-KW" sz="3600" spc="-1" strike="noStrike">
                <a:solidFill>
                  <a:srgbClr val="cc0000"/>
                </a:solidFill>
                <a:latin typeface="Arial"/>
              </a:rPr>
              <a:t>؟؟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cc"/>
                </a:solidFill>
                <a:latin typeface="Arial"/>
              </a:rPr>
              <a:t>لماذا يفشل الأطفال والمراهقون دراسياً 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cc"/>
                </a:solidFill>
                <a:latin typeface="Arial"/>
              </a:rPr>
              <a:t>والإجابات ( وليست الإجابة )  عديدة , والعوامل كثيرة !!!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i="1" lang="ar-SA" sz="3200" spc="-1" strike="noStrike">
                <a:solidFill>
                  <a:srgbClr val="cc0000"/>
                </a:solidFill>
                <a:latin typeface="Arial"/>
              </a:rPr>
              <a:t>عوامل صحية بدنية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ضعف عام ونقص نشاط بسبب سوء التغذية ( الفقر, الجهل بأساسيات الغذاء المتكامل  .... ), أمراض متعددة مثل فقر الدم , الحمى المالطية......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أمراض مزمنة أو متكررة  : ضعف عام أو غياب متكرر مثل الربو , الصرع , الفشل الكلوي, أمراض القلب.....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ضعف الحواس مثل السمع والبصر, تكرار التهابات الأذن الوسطى, تشمع الأذن الخارجية وقصور النظر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مشكلات النطق والتخاطب مثل تأخر اللغة عموما , التأتأة , عسر الكلام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i="1" lang="ar-SA" sz="3200" spc="-1" strike="noStrike">
                <a:solidFill>
                  <a:srgbClr val="cc0000"/>
                </a:solidFill>
                <a:latin typeface="Arial"/>
              </a:rPr>
              <a:t>عوامل نفسية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سمات فردية مثل نقص الثقة بالنفس والخجل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ضطرابات نفسية مثل : الصمت الاختياري , تشتت التركيز وفرط الحركة , رفض الذهاب للمدرسة بسبب (  مشاكل تعليمية , انخفاض مستوى الذكاء , صعوبات التعلم  , القلق العام , قلق الانفصال , الاكتئاب , الهروب من المدرسة , مشاكل أسرية  )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غيرات مرحلية : أحلام اليقظة , تغير الأولويات , الضغط النفسي حول النتائج و المعدل 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i="1" lang="ar-SA" sz="3200" spc="-1" strike="noStrike">
                <a:solidFill>
                  <a:srgbClr val="cc0000"/>
                </a:solidFill>
                <a:latin typeface="Arial"/>
              </a:rPr>
              <a:t>عوامل مدرسية</a:t>
            </a: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عدم توفر الأجواء التربوية المناسبة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مشاكل الإدارة مع المدرسين والمدرسات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عدم إلمام بعض المعلمين بطرق التدريس الصحيح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ضعف العلاقة مع المعلم ( القدوة 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غياب المعلمين و المعلمات وتغيرهم ( إجازات أمومة ونحوها )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روتينية التعليم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انتقال من مدرسة إلى أخرى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انتقال من فصل إلى آخر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انتقال من مرحلة إلى أخرى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عادات الاستذكار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i="1" lang="ar-SA" sz="3200" spc="-1" strike="noStrike">
                <a:solidFill>
                  <a:srgbClr val="cc0000"/>
                </a:solidFill>
                <a:latin typeface="Arial"/>
              </a:rPr>
              <a:t>عوامل أسرية</a:t>
            </a: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نعدام الاستقرار الأسري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وقعات الوالدين غير الواقعية في تحصيل أبنائهم الدراسي (لا يكلف الله نفساً إلا وسعها)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مقارنة الإخوة و الأقران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ar-KW" sz="32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ar-SA" sz="3200" spc="-1" strike="noStrike">
                <a:solidFill>
                  <a:srgbClr val="cc0000"/>
                </a:solidFill>
                <a:latin typeface="Arial"/>
              </a:rPr>
              <a:t>قدرات عقلية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cc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cc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0033cc"/>
                </a:solidFill>
                <a:latin typeface="Arial"/>
              </a:rPr>
              <a:t>                           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نخفاض الذكاء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ar-KW" sz="2400" spc="-1" strike="noStrike">
                <a:solidFill>
                  <a:srgbClr val="0033cc"/>
                </a:solidFill>
                <a:latin typeface="Arial"/>
              </a:rPr>
              <a:t>                      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 بطء التعلم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ar-KW" sz="2400" spc="-1" strike="noStrike">
                <a:solidFill>
                  <a:srgbClr val="0033cc"/>
                </a:solidFill>
                <a:latin typeface="Arial"/>
              </a:rPr>
              <a:t>                      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 صعوبات التعلم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cc0000"/>
                </a:solidFill>
                <a:latin typeface="Arial"/>
              </a:rPr>
              <a:t>انخفاض الذكاء </a:t>
            </a:r>
            <a:r>
              <a:rPr b="0" lang="ar-SA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 rtl="1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يمثل قرابة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2.5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% من أطفال المدارس (الذكور &gt; الإناث  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: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قدرات العقلية أقل من المتوسط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لاحظ قبل عمر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18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سن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عدم القدرة على التكيف مع متطلبات الحياة مثل : خدمة النفس , التواصل مع الآخرين , المهارات العامة , الاستفادة من الخدمات المتاحة, وغيرها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0:59:22Z</dcterms:created>
  <dc:creator>Dr.Fatima</dc:creator>
  <dc:description/>
  <dc:language>en-US</dc:language>
  <cp:lastModifiedBy>Mac</cp:lastModifiedBy>
  <dcterms:modified xsi:type="dcterms:W3CDTF">2013-11-09T10:11:38Z</dcterms:modified>
  <cp:revision>13</cp:revision>
  <dc:subject/>
  <dc:title>       اضطرابات التعلم والتحصيل الدراسي د. فاطمة الحيدر أستاذ مشارك و استشارية طب نفسي أطفال ومراهقين  كلية الطب- جامعة الملك سعود</dc:title>
</cp:coreProperties>
</file>