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CC3-F497-4C72-94EE-8509085A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5F43-DAAB-4E14-A547-B59651F4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B77-3D0F-4FC4-9433-9C124E7AF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0240-06AC-4478-B833-DFCB375C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0A35-48F1-4DDD-9D8F-ADBF83E3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98E8-13EA-4B6D-8920-5574DE1F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3E8F-D155-4228-B900-300ADE25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93AE-261D-4863-8773-B053FB62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3CD-2821-4454-B57F-8E89F8249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7687-11D3-49BC-B1D4-5453078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FE14-0408-4948-BF64-9C3440F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4777-865E-4B3A-A95F-DC538A13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869D1-2A77-452E-A59E-496AB692AA99}" type="slidenum">
              <a:rPr b="0" lang="ar-SA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ar-SA" sz="4000" spc="-1" strike="noStrike">
                <a:solidFill>
                  <a:srgbClr val="cc0000"/>
                </a:solidFill>
                <a:latin typeface="Arial"/>
              </a:rPr>
              <a:t> اضطرابات التعلم والتحصيل الدراسي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ar-KW" sz="2400" spc="-1" strike="noStrike">
                <a:solidFill>
                  <a:srgbClr val="cc0000"/>
                </a:solidFill>
                <a:latin typeface="Arial"/>
              </a:rPr>
              <a:t>فاطمة الحيدر</a:t>
            </a:r>
            <a:br>
              <a:rPr sz="2400"/>
            </a:br>
            <a:r>
              <a:rPr b="0" lang="ar-KW" sz="2400" spc="-1" strike="noStrike">
                <a:solidFill>
                  <a:srgbClr val="cc0000"/>
                </a:solidFill>
                <a:latin typeface="Arial"/>
              </a:rPr>
              <a:t>استاذ واستشارية الطب النفسي للأطفال والمراهقين</a:t>
            </a:r>
            <a:br>
              <a:rPr sz="2400"/>
            </a:br>
            <a:r>
              <a:rPr b="0" lang="ar-KW" sz="2400" spc="-1" strike="noStrike">
                <a:solidFill>
                  <a:srgbClr val="cc0000"/>
                </a:solidFill>
                <a:latin typeface="Arial"/>
              </a:rPr>
              <a:t>كلية الطب/ جامعة الملك سعود</a:t>
            </a:r>
            <a:br>
              <a:rPr sz="2400"/>
            </a:b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درجاته حسب مقاييس الذكاء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المقاييس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   -------------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يسك للأطفا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ستاندفورد بيني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رسم الرج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متاها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غيرها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الدرج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-------------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بسيط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7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متوسط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5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شديد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3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ظيم الشدة أقل من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0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i="1" lang="ar-SA" sz="2800" spc="-1" strike="noStrike" u="sng">
                <a:solidFill>
                  <a:srgbClr val="cc0000"/>
                </a:solidFill>
                <a:uFillTx/>
                <a:latin typeface="Arial"/>
              </a:rPr>
              <a:t>المعالج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ديد المدرسة أو المركز التأهيلي المناسب بناءً على القدرات العقل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سين المهارات العامة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عديل السلوك باستخدام البرامج السلوك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ليس هدف المعالجة آني بل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تدريجي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طويل الأمد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بطء التعلم 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قدرات العقلية والمهارات أقل من المتوسط ولكنها أعلى من مستوى انخفاض الذكاء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حسب المقاييس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71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84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 السمات العامة: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تأخر في النمو العا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ضعف في التركيز وكثرة الشرود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اضطراب العلاقة مع الزملاء قد تكون على شكل عزلة وانزواء أو عدوان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     - شعور بالإحباط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معالج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ديد القدرات العقلية والمهارات العامة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وزيعهم في مجموعات تعليمية صغيرة داخل المدارس الاعتياد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ستثارة انفعالاتهم وتحفيزهم خلال التعلم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إشراكهم في كل النشاطات المدرس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حسين المهارات العام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صعوبات التعلم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مثل تقريباً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% من طلاب المدارس , ويشكل الذكور ضعف نسبة الإناث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يقصد به اضطراب في إحدى العمليات التعليمية مثل صعوبة في القراءة , الإملاء , الحساب ...........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ما يؤدي إلى ضعف في التحصيل الدراسي في إحدى المواد أو بعضها وليس الكل وفي أحايين قليلة كلها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علامات التي قد تدل على المشكلة: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في مواد تعليمية معين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أخر عا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شرود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التركيز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سلوك العدواني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عزلة والانطواء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cc0000"/>
                </a:solidFill>
                <a:latin typeface="Arial"/>
              </a:rPr>
              <a:t>  </a:t>
            </a: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تقييم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عملي من قبل المعل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قياس الذكاء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قاييس خاصة بصعوبات التعل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i="1" lang="ar-SA" sz="2800" spc="-1" strike="noStrike">
                <a:solidFill>
                  <a:srgbClr val="cc0000"/>
                </a:solidFill>
                <a:latin typeface="Arial"/>
              </a:rPr>
              <a:t>المعالجة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حديد نقاط الضعف التعليمي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الاستفادة من مساعد خارجي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قوية الثقة بالنفس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حسين المهارات العام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العلاج السلوكي للسلوكيات المصاحب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فصول خاصة داخل المدارس الاعتيادية (زيادة عدد المعلمين مقارنة بالطلبة)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دريب خاص لنقاط الضعف الدراسي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وفير اختصاصي تخاطب , اختصاصي نفسي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وفير الأجهزة المناسب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تمديد التعليم الخاص لمراحل عليا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التعليم الخاص (إضافة برامج للتعليم العادي  , وقت جزئي للتعليم الخاص  , وقت كامل لتعليم خاص )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ميزانية خاصة.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اضطرابات ترتبط ارتباطا وثيقاً بالتحصيل الدراسي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ar-SA" sz="2800" spc="-1" strike="noStrike" u="sng">
                <a:solidFill>
                  <a:srgbClr val="0033cc"/>
                </a:solidFill>
                <a:uFillTx/>
                <a:latin typeface="Arial"/>
              </a:rPr>
              <a:t>فرط الحركة وتشتت الانتبا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هذا الاضطراب يتداخل تداخلاً كبيراً مع صعوبات التعلم وربما مع انخفاض الذكاء ويعيق التعلم ويؤدي للفشل الدراسي . وما لم  يتعرف المعلم وكذلك الأسرة على العلامات التي تدل عليه، خاصة لو كان من نوع تشتت الانتباه بدون فرط الحركة ومن ثم تقييمه و معالجته لبقي الطفل حبيس الفشل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ولذا سيفرد له وقت للنقاش</a:t>
            </a:r>
            <a:r>
              <a:rPr b="1" lang="ar-SA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00"/>
                </a:solidFill>
                <a:latin typeface="Arial"/>
              </a:rPr>
              <a:t>أهمية بحث موضوع اضطراب التعلم والتحصيل الدراسي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- الفشل الدراسي وما يصاحبه من نتائج سلبية حاضراً ومستقبلاً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- الثمار الناتجة من المعالجة والتدخل المبك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863640" y="3213000"/>
            <a:ext cx="76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 u="sng">
              <a:solidFill>
                <a:srgbClr val="cc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رتبطت مسألة التأخر الدراسي في أذهان المعلمين و أولياء الأمور بالمفاهيم الخاطئة كالغباء والتخلف العقل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إن التأخر الدراسي ظاهرة معقدة،  تتداخل فيها العوامل البيئية مع العوامل الأسرية والمدرسية والفرد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ينبغي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نظر إلى هذه الظاهرة نظرة شمولية وجادة.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- الفشل الدراسي وما يصاحبه من نتائج سلبية حاضراً ومستقبلاً.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أخر الدراس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خوف من المدرس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قلق الامتحانات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كذب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عناد والعدوان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بول اللاإرادي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لامبالا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هروب من المدرسة وما يصاحبه من مشاكل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إساءة استخدام العقاقي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شاكل سلوكية مستقبل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-3394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آثار سلبية مستقبلية على الفرد والأسرة والمجتمع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394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ar-SA" sz="2800" spc="-1" strike="noStrike">
                <a:solidFill>
                  <a:srgbClr val="cc0000"/>
                </a:solidFill>
                <a:latin typeface="Arial"/>
              </a:rPr>
              <a:t>- الثمار الناتجة عن المعالجة والتدخل المبكر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بشر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أسر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اقتصاد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مكاسب اجتماعي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الصورة العامة لاضطرابات التعلم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748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عام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/ خاص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→----- </a:t>
            </a:r>
            <a:r>
              <a:rPr b="1" lang="ar-SA" sz="3200" spc="-1" strike="noStrike">
                <a:solidFill>
                  <a:srgbClr val="c00000"/>
                </a:solidFill>
                <a:latin typeface="Arial"/>
              </a:rPr>
              <a:t>ضعف تعليمي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-----←   جديد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/ مزمن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---------------------------------------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غياب مدرسي                                       سلو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↓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متقطع                                          عدواني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متكرر                             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فرط حرك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</a:t>
            </a:r>
            <a:r>
              <a:rPr b="1" lang="ar-KW" sz="2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دائم                                              انطوائية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خج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       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التقييم العام</a:t>
            </a:r>
            <a:r>
              <a:rPr b="1" i="1" lang="ar-KW" sz="3200" spc="-1" strike="noStrike">
                <a:solidFill>
                  <a:srgbClr val="cc0000"/>
                </a:solidFill>
                <a:latin typeface="Arial"/>
              </a:rPr>
              <a:t> و المعالج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عملي من قبل المعل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نفسي من قبل المرشد الطلاب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واصل مع الأسرة لتحديد المشاكل الأسري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قييم الاختصاصي النفسي والاجتماعي عبر الوحدة المدرسية وكذلك الطبيب لتحديد مقاييس الذكاء ودرجتها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إعاقات الجسدية المصاحبة , الحاجة للأدوات المساندة مثل السماعات والنظارات , الحاجة للأدوية والبرامج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واصل مع اختصاصي تخاطب لو دعت الحاجة لذلك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العوامل المحددة للمستقبل الدراسي والمهني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نوع الإعاقة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شدة الإعاقة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تدخل المبك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سلوكيات المصاحبة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كتشاف المبكر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دعم المتكامل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KW" sz="36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والسؤال هنا </a:t>
            </a:r>
            <a:r>
              <a:rPr b="1" i="1" lang="ar-KW" sz="3600" spc="-1" strike="noStrike">
                <a:solidFill>
                  <a:srgbClr val="cc0000"/>
                </a:solidFill>
                <a:latin typeface="Arial"/>
              </a:rPr>
              <a:t>؟؟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لماذا يفشل الأطفال والمراهقون دراسياً 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33cc"/>
                </a:solidFill>
                <a:latin typeface="Arial"/>
              </a:rPr>
              <a:t>والإجابات ( وليست الإجابة )  عديدة , والعوامل كثيرة !!!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صحية بدنية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عام ونقص نشاط بسبب سوء التغذية ( الفقر, الجهل بأساسيات الغذاء المتكامل  .... ), أمراض متعددة مثل فقر الدم , الحمى المالطية....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أمراض مزمنة أو متكررة  : ضعف عام أو غياب متكرر مثل الربو , الصرع , الفشل الكلوي, أمراض القلب.....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الحواس مثل السمع والبصر, تكرار التهابات الأذن الوسطى, تشمع الأذن الخارجية وقصور النظ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شكلات النطق والتخاطب مثل تأخر اللغة عموما , التأتأة , عسر الكلام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نفسية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سمات فردية مثل نقص الثقة بالنفس والخجل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ضطرابات نفسية مثل : الصمت الاختياري , تشتت التركيز وفرط الحركة , رفض الذهاب للمدرسة بسبب (  مشاكل تعليمية , انخفاض مستوى الذكاء , صعوبات التعلم  , القلق العام , قلق الانفصال , الاكتئاب , الهروب من المدرسة , مشاكل أسرية  )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غيرات مرحلية : أحلام اليقظة , تغير الأولويات , الضغط النفسي حول النتائج و المعدل .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مدرسية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توفر الأجواء التربوية المناسبة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شاكل الإدارة مع المدرسين والمدرسات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إلمام بعض المعلمين بطرق التدريس الصحيح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ضعف العلاقة مع المعلم ( القدوة 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غياب المعلمين و المعلمات وتغيرهم ( إجازات أمومة ونحوها )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روتينية التعليم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نتقال من مدرسة إلى أخرى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نتقال من فصل إلى آخ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انتقال من مرحلة إلى أخرى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ادات الاستذكار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عوامل أسرية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عدام الاستقرار الأسري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وقعات الوالدين غير الواقعية في تحصيل أبنائهم الدراسي (لا يكلف الله نفساً إلا وسعها)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مقارنة الإخوة و الأقران 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ar-KW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0" lang="ar-SA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ar-SA" sz="3200" spc="-1" strike="noStrike">
                <a:solidFill>
                  <a:srgbClr val="cc0000"/>
                </a:solidFill>
                <a:latin typeface="Arial"/>
              </a:rPr>
              <a:t>قدرات عقلي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33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                        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نخفاض الذكا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بطء التعل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ar-KW" sz="2400" spc="-1" strike="noStrike">
                <a:solidFill>
                  <a:srgbClr val="0033cc"/>
                </a:solidFill>
                <a:latin typeface="Arial"/>
              </a:rPr>
              <a:t>                    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 صعوبات التعل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600" spc="-1" strike="noStrike">
                <a:solidFill>
                  <a:srgbClr val="cc0000"/>
                </a:solidFill>
                <a:latin typeface="Arial"/>
              </a:rPr>
              <a:t>انخفاض الذكاء </a:t>
            </a:r>
            <a:r>
              <a:rPr b="0" lang="ar-SA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يمثل قرابة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.5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% من أطفال المدارس (الذكور &gt; الإناث  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: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القدرات العقلية أقل من المتوسط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تلاحظ قبل عمر 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18</a:t>
            </a: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 سنة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 algn="r" rtl="1">
              <a:spcBef>
                <a:spcPts val="601"/>
              </a:spcBef>
              <a:buClr>
                <a:srgbClr val="00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33cc"/>
                </a:solidFill>
                <a:latin typeface="Arial"/>
              </a:rPr>
              <a:t>عدم القدرة على التكيف مع متطلبات الحياة مثل : خدمة النفس , التواصل مع الآخرين , المهارات العامة , الاستفادة من الخدمات المتاحة, وغيرها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0:59:22Z</dcterms:created>
  <dc:creator>Dr.Fatima</dc:creator>
  <dc:description/>
  <dc:language>en-US</dc:language>
  <cp:lastModifiedBy>Mac</cp:lastModifiedBy>
  <dcterms:modified xsi:type="dcterms:W3CDTF">2013-11-09T10:11:38Z</dcterms:modified>
  <cp:revision>13</cp:revision>
  <dc:subject/>
  <dc:title>       اضطرابات التعلم والتحصيل الدراسي د. فاطمة الحيدر أستاذ مشارك و استشارية طب نفسي أطفال ومراهقين  كلية الطب- جامعة الملك سعود</dc:title>
</cp:coreProperties>
</file>