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1.png" ContentType="image/png"/>
  <Override PartName="/ppt/media/image10.wmf" ContentType="image/x-wmf"/>
  <Override PartName="/ppt/media/image4.jpeg" ContentType="image/jpeg"/>
  <Override PartName="/ppt/media/image16.wmf" ContentType="image/x-wmf"/>
  <Override PartName="/ppt/media/image15.png" ContentType="image/png"/>
  <Override PartName="/ppt/media/image14.wmf" ContentType="image/x-wmf"/>
  <Override PartName="/ppt/media/image1.png" ContentType="image/png"/>
  <Override PartName="/ppt/media/image2.wmf" ContentType="image/x-wmf"/>
  <Override PartName="/ppt/media/image3.wmf" ContentType="image/x-wmf"/>
  <Override PartName="/ppt/media/image6.jpeg" ContentType="image/jpeg"/>
  <Override PartName="/ppt/media/image18.wmf" ContentType="image/x-wmf"/>
  <Override PartName="/ppt/media/image7.gif" ContentType="image/gif"/>
  <Override PartName="/ppt/media/image17.wmf" ContentType="image/x-wmf"/>
  <Override PartName="/ppt/media/image9.png" ContentType="image/png"/>
  <Override PartName="/ppt/media/image13.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067F5-86F9-450E-BB81-1582D098F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DD1B7-D638-445A-8A09-FBF25FBC3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94A9E-8664-401B-B3E8-B78F5BBED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02912-9BD4-4E9D-B883-1E84DCB49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B5FB7-EC1D-4CFA-9AD4-5096B8074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0955D-BEDD-4FCA-99B3-648B29228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6E85E-1B73-43DF-A7C2-17DEAC616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62D45-7547-44DE-89BC-8096CD4D3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B8667-BB49-4579-8C72-3486452FF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DB957-00D4-426A-9BBF-B7560E019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1E0C8-EE41-430E-B897-12C07389A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D2734-E699-45E4-899C-D47B0C19F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561A8-2B17-4FB0-A2B0-7E67065DF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070AD-4AF0-4045-92D2-04400BABD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07E3E-C2BB-48D8-8A91-8316A2285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21183-3A8F-42F8-ABB9-0CC72913F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5654D-DEA7-4EB9-B712-106E37FCD9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438DD-6D75-4B3C-9F8E-D332C26E1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178E0-EA23-4D69-87B2-E3F53D05F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442A2-BBFE-432A-BB9E-EB1E9A2AB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1A72C-CD41-4B20-9B90-10816498D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AFDF1-8CC0-4C2D-B21F-552CD4110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12028-AE43-4421-8F08-0D1E8539F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B3E24-5175-4823-BCF8-20FCD091D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E130-6EE1-4FB8-832A-839AC06B513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015E-A437-4FC4-83EB-82C668DF541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3276720" y="2276640"/>
            <a:ext cx="5327640" cy="23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000000"/>
                  </a:solidFill>
                  <a:miter/>
                </a:ln>
                <a:solidFill>
                  <a:srgbClr val="000000"/>
                </a:solidFill>
                <a:latin typeface="Arial Black"/>
              </a:rPr>
              <a:t>نظرية التعلم بالاستبصار</a:t>
            </a:r>
            <a:endParaRPr b="0" lang="en-US" sz="2400" spc="1" strike="noStrike">
              <a:ln w="1260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0000"/>
                </a:solidFill>
                <a:latin typeface="Arial Black"/>
              </a:rPr>
              <a:t>(( </a:t>
            </a:r>
            <a:r>
              <a:rPr b="0" lang="hi-IN" sz="2400" spc="1" strike="noStrike">
                <a:ln w="12600">
                  <a:solidFill>
                    <a:srgbClr val="000000"/>
                  </a:solidFill>
                  <a:miter/>
                </a:ln>
                <a:solidFill>
                  <a:srgbClr val="000000"/>
                </a:solidFill>
                <a:latin typeface="Arial Black"/>
              </a:rPr>
              <a:t>الجشطلت</a:t>
            </a:r>
            <a:r>
              <a:rPr b="0" lang="en-US" sz="2400" spc="1" strike="noStrike">
                <a:ln w="12600">
                  <a:solidFill>
                    <a:srgbClr val="000000"/>
                  </a:solidFill>
                  <a:miter/>
                </a:ln>
                <a:solidFill>
                  <a:srgbClr val="000000"/>
                </a:solidFill>
                <a:latin typeface="Arial Black"/>
              </a:rPr>
              <a:t> </a:t>
            </a:r>
            <a:r>
              <a:rPr b="0" lang="en-US" sz="2400" spc="1" strike="noStrike">
                <a:ln w="12600">
                  <a:solidFill>
                    <a:srgbClr val="000000"/>
                  </a:solidFill>
                  <a:miter/>
                </a:ln>
                <a:solidFill>
                  <a:srgbClr val="000000"/>
                </a:solidFill>
                <a:latin typeface="Arial Black"/>
              </a:rPr>
              <a:t>))</a:t>
            </a:r>
            <a:endParaRPr b="0" lang="en-US" sz="2400" spc="1" strike="noStrike">
              <a:ln w="12600">
                <a:solidFill>
                  <a:srgbClr val="000000"/>
                </a:solidFill>
                <a:miter/>
              </a:ln>
              <a:solidFill>
                <a:srgbClr val="000000"/>
              </a:solidFill>
              <a:latin typeface="Arial Black"/>
              <a:ea typeface="Arial Black"/>
            </a:endParaRPr>
          </a:p>
        </p:txBody>
      </p:sp>
      <p:pic>
        <p:nvPicPr>
          <p:cNvPr id="85" name="" descr=""/>
          <p:cNvPicPr/>
          <p:nvPr/>
        </p:nvPicPr>
        <p:blipFill>
          <a:blip r:embed="rId1"/>
          <a:stretch/>
        </p:blipFill>
        <p:spPr>
          <a:xfrm>
            <a:off x="1332000" y="4365720"/>
            <a:ext cx="2879640" cy="1714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000000"/>
                </a:solidFill>
                <a:latin typeface="Verdana"/>
              </a:rPr>
              <a:t>التطبيقات والمبادئ التربويه في النظريه :</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427320" indent="-427320" algn="ct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لتفكير المنتج :</a:t>
            </a:r>
            <a:endParaRPr b="0" lang="en-US" sz="3000" spc="-1" strike="noStrike">
              <a:solidFill>
                <a:srgbClr val="000000"/>
              </a:solidFill>
              <a:latin typeface="Verdana"/>
            </a:endParaRPr>
          </a:p>
          <a:p>
            <a:pPr marL="42732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1</a:t>
            </a:r>
            <a:r>
              <a:rPr b="0" lang="ar-SA" sz="2600" spc="-1" strike="noStrike">
                <a:solidFill>
                  <a:srgbClr val="000000"/>
                </a:solidFill>
                <a:latin typeface="Verdana"/>
              </a:rPr>
              <a:t>- التفكير المنتج أو حل المشكلات </a:t>
            </a:r>
            <a:r>
              <a:rPr b="0" lang="ar-SA" sz="2600" spc="-1" strike="noStrike">
                <a:solidFill>
                  <a:srgbClr val="000000"/>
                </a:solidFill>
                <a:latin typeface="Verdana"/>
              </a:rPr>
              <a:t>2</a:t>
            </a:r>
            <a:r>
              <a:rPr b="0" lang="ar-SA" sz="2600" spc="-1" strike="noStrike">
                <a:solidFill>
                  <a:srgbClr val="000000"/>
                </a:solidFill>
                <a:latin typeface="Verdana"/>
              </a:rPr>
              <a:t>- الحفظ الصم طريقه غير فعالة</a:t>
            </a:r>
            <a:endParaRPr b="0" lang="en-US" sz="2600" spc="-1" strike="noStrike">
              <a:solidFill>
                <a:srgbClr val="000000"/>
              </a:solidFill>
              <a:latin typeface="Verdana"/>
            </a:endParaRPr>
          </a:p>
          <a:p>
            <a:pPr marL="42732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3</a:t>
            </a:r>
            <a:r>
              <a:rPr b="0" lang="ar-SA" sz="2600" spc="-1" strike="noStrike">
                <a:solidFill>
                  <a:srgbClr val="000000"/>
                </a:solidFill>
                <a:latin typeface="Verdana"/>
              </a:rPr>
              <a:t>- يندر استخدام التعلم في الحياه الواقعيه </a:t>
            </a:r>
            <a:r>
              <a:rPr b="0" lang="ar-SA" sz="2600" spc="-1" strike="noStrike">
                <a:solidFill>
                  <a:srgbClr val="000000"/>
                </a:solidFill>
                <a:latin typeface="Verdana"/>
              </a:rPr>
              <a:t>4</a:t>
            </a:r>
            <a:r>
              <a:rPr b="0" lang="ar-SA" sz="2600" spc="-1" strike="noStrike">
                <a:solidFill>
                  <a:srgbClr val="000000"/>
                </a:solidFill>
                <a:latin typeface="Verdana"/>
              </a:rPr>
              <a:t>- يتعلم معظم الناس الأشياء عن طريق الفهم أي فهم المعنى </a:t>
            </a:r>
            <a:endParaRPr b="0" lang="en-US" sz="2600" spc="-1" strike="noStrike">
              <a:solidFill>
                <a:srgbClr val="000000"/>
              </a:solidFill>
              <a:latin typeface="Verdana"/>
            </a:endParaRPr>
          </a:p>
          <a:p>
            <a:pPr marL="42732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273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لقد برهنت البحوث التي أجراها كاتونا على فائده تعلم القاعده اذا قورنت بالحفظ وفي أحدى الدراسات طلب من المفحوصين علم سلاسل رقميه مثل </a:t>
            </a:r>
            <a:r>
              <a:rPr b="0" lang="ar-SA" sz="2000" spc="-1" strike="noStrike">
                <a:solidFill>
                  <a:srgbClr val="000000"/>
                </a:solidFill>
                <a:latin typeface="Verdana"/>
              </a:rPr>
              <a:t>2561286432168</a:t>
            </a:r>
            <a:r>
              <a:rPr b="0" lang="ar-SA" sz="2000" spc="-1" strike="noStrike">
                <a:solidFill>
                  <a:srgbClr val="000000"/>
                </a:solidFill>
                <a:latin typeface="Verdana"/>
              </a:rPr>
              <a:t> وقد تعلم بعض المفحوصين هذه السلاسل صما بينما زود أخرين بإلماعات تساعدهم على التعلم مثلا أن السلسه تتألف من عدد ومضاعافاته واستطاع الاشخاص الذين توصلو الى القاعده التي تولد هذه السلاسل أن يحتفظو بها على نحو أفضل من الذين حفظوها صما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أن القواعد تؤدي الى تعلم أفضل واحتفاظ بالمادة أفضل مما لو أعتمد على التذكر الآلي . </a:t>
            </a:r>
            <a:r>
              <a:rPr b="0" lang="ar-SA" sz="1800" spc="-1" strike="noStrike">
                <a:solidFill>
                  <a:srgbClr val="cc0000"/>
                </a:solidFill>
                <a:latin typeface="Verdana"/>
              </a:rPr>
              <a:t>لماذا ؟</a:t>
            </a:r>
            <a:endParaRPr b="0" lang="en-US" sz="1800" spc="-1" strike="noStrike">
              <a:solidFill>
                <a:srgbClr val="000000"/>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لأنها تقدم وصفا أبسط للظاهرة وبالتالي فإن المعلومات التي على التلاميذ تعلمها تكون أقل . فأن القواعد تساعد على تنظيم المادة ولكي يسترجع</a:t>
            </a:r>
            <a:r>
              <a:rPr b="0" lang="ar-SA" sz="3200" spc="-1" strike="noStrike">
                <a:solidFill>
                  <a:srgbClr val="000000"/>
                </a:solidFill>
                <a:latin typeface="Verdana"/>
              </a:rPr>
              <a:t> </a:t>
            </a:r>
            <a:r>
              <a:rPr b="0" lang="ar-SA" sz="2400" spc="-1" strike="noStrike">
                <a:solidFill>
                  <a:srgbClr val="000000"/>
                </a:solidFill>
                <a:latin typeface="Verdana"/>
              </a:rPr>
              <a:t>الفرد المعلومات عليه أن يسترجع القاعدة ثم يضع التفاصيل ويقابل هذا الحفظ الآلي يتضمن استرجاع شذرات من المعلومات أكثر عددا</a:t>
            </a:r>
            <a:r>
              <a:rPr b="0" lang="ar-SA" sz="3200" spc="-1" strike="noStrike">
                <a:solidFill>
                  <a:srgbClr val="000000"/>
                </a:solidFill>
                <a:latin typeface="Verdana"/>
              </a:rPr>
              <a:t> .</a:t>
            </a:r>
            <a:endParaRPr b="0" lang="en-US" sz="3200" spc="-1" strike="noStrike">
              <a:solidFill>
                <a:srgbClr val="000000"/>
              </a:solidFill>
              <a:latin typeface="Verdana"/>
            </a:endParaRPr>
          </a:p>
        </p:txBody>
      </p:sp>
      <p:pic>
        <p:nvPicPr>
          <p:cNvPr id="121" name="" descr=""/>
          <p:cNvPicPr/>
          <p:nvPr/>
        </p:nvPicPr>
        <p:blipFill>
          <a:blip r:embed="rId2"/>
          <a:stretch/>
        </p:blipFill>
        <p:spPr>
          <a:xfrm>
            <a:off x="539640" y="4149720"/>
            <a:ext cx="1766880" cy="24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 مشكلات خاصة في التعلم</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أنه من المفيد أن نعرج على بعض المشكلات الخاصة في التعلم التي أهتم بها كوفكا أهتماما بالغاً , وناقشها مناقشهة مستفيضه وهذه المشكلات هي :</a:t>
            </a:r>
            <a:endParaRPr b="0" lang="en-US" sz="2600" spc="-1" strike="noStrike">
              <a:solidFill>
                <a:srgbClr val="000000"/>
              </a:solidFill>
              <a:latin typeface="Verdana"/>
            </a:endParaRPr>
          </a:p>
          <a:p>
            <a:pPr marL="4698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Verdana"/>
              </a:rPr>
              <a:t>أولا :</a:t>
            </a:r>
            <a:r>
              <a:rPr b="0" lang="ar-SA" sz="3000" spc="-1" strike="noStrike">
                <a:solidFill>
                  <a:srgbClr val="000000"/>
                </a:solidFill>
                <a:latin typeface="Verdana"/>
              </a:rPr>
              <a:t>  </a:t>
            </a:r>
            <a:r>
              <a:rPr b="0" lang="ar-SA" sz="2200" spc="-1" strike="noStrike">
                <a:solidFill>
                  <a:srgbClr val="000000"/>
                </a:solidFill>
                <a:latin typeface="Verdana"/>
              </a:rPr>
              <a:t>تأثير الخبرات المبكرة في الفعل الحاضر , ويمكن أن يتم علاج هذه المشكله بدراسة الذاكره التي يظهر الماضي في عملها , ويبرز الحاضر في شكل معين .</a:t>
            </a:r>
            <a:endParaRPr b="0" lang="en-US" sz="2200" spc="-1" strike="noStrike">
              <a:solidFill>
                <a:srgbClr val="000000"/>
              </a:solidFill>
              <a:latin typeface="Verdana"/>
            </a:endParaRPr>
          </a:p>
          <a:p>
            <a:pPr marL="4698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Verdana"/>
              </a:rPr>
              <a:t>ثانيا :</a:t>
            </a:r>
            <a:r>
              <a:rPr b="0" lang="ar-SA" sz="3000" spc="-1" strike="noStrike">
                <a:solidFill>
                  <a:srgbClr val="000000"/>
                </a:solidFill>
                <a:latin typeface="Verdana"/>
              </a:rPr>
              <a:t> </a:t>
            </a:r>
            <a:r>
              <a:rPr b="0" lang="ar-SA" sz="2200" spc="-1" strike="noStrike">
                <a:solidFill>
                  <a:srgbClr val="000000"/>
                </a:solidFill>
                <a:latin typeface="Verdana"/>
              </a:rPr>
              <a:t>هي مشكله إعاده تنظيم المجال كما يحدث في التعلم والاستبصار وفي التفكير المنتج .</a:t>
            </a:r>
            <a:endParaRPr b="0" lang="en-US" sz="2200" spc="-1" strike="noStrike">
              <a:solidFill>
                <a:srgbClr val="000000"/>
              </a:solidFill>
              <a:latin typeface="Verdana"/>
            </a:endParaRPr>
          </a:p>
        </p:txBody>
      </p:sp>
      <p:pic>
        <p:nvPicPr>
          <p:cNvPr id="124" name="" descr=""/>
          <p:cNvPicPr/>
          <p:nvPr/>
        </p:nvPicPr>
        <p:blipFill>
          <a:blip r:embed="rId1"/>
          <a:stretch/>
        </p:blipFill>
        <p:spPr>
          <a:xfrm>
            <a:off x="539640" y="4653000"/>
            <a:ext cx="1368360" cy="1368360"/>
          </a:xfrm>
          <a:prstGeom prst="rect">
            <a:avLst/>
          </a:prstGeom>
          <a:ln w="0">
            <a:noFill/>
          </a:ln>
        </p:spPr>
      </p:pic>
      <p:pic>
        <p:nvPicPr>
          <p:cNvPr id="125" name="" descr=""/>
          <p:cNvPicPr/>
          <p:nvPr/>
        </p:nvPicPr>
        <p:blipFill>
          <a:blip r:embed="rId2"/>
          <a:stretch/>
        </p:blipFill>
        <p:spPr>
          <a:xfrm>
            <a:off x="2124000" y="4653000"/>
            <a:ext cx="136692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000000"/>
                </a:solidFill>
                <a:latin typeface="Verdana"/>
              </a:rPr>
              <a:t>دورة الخبرة الماضية </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9000"/>
          </a:bodyPr>
          <a:p>
            <a:pPr marL="417960" indent="-417960" algn="r" rtl="1">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رأي علماء الجشطلت في الخبرة :</a:t>
            </a:r>
            <a:endParaRPr b="0" lang="en-US" sz="2000" spc="-1" strike="noStrike">
              <a:solidFill>
                <a:srgbClr val="000000"/>
              </a:solidFill>
              <a:latin typeface="Verdana"/>
            </a:endParaRPr>
          </a:p>
          <a:p>
            <a:pPr marL="4179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يفضل أصحاب نظرية الجشطلت أن ينتظروا الى العمليات النفسية على أنها وظيفه للمجال الحاضر .</a:t>
            </a:r>
            <a:endParaRPr b="0" lang="en-US" sz="2000" spc="-1" strike="noStrike">
              <a:solidFill>
                <a:srgbClr val="000000"/>
              </a:solidFill>
              <a:latin typeface="Verdana"/>
            </a:endParaRPr>
          </a:p>
          <a:p>
            <a:pPr marL="417960" indent="-417960" algn="r" rtl="1">
              <a:lnSpc>
                <a:spcPct val="90000"/>
              </a:lnSpc>
              <a:spcBef>
                <a:spcPts val="499"/>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وهم ينكرون أو يحاولون أن ينكروا دور الخبره الماضية وأهميتها في تفسير السلوك الحاضر ولو أن هناك أمثله كثيره تدلل على عكس وجهه نظرهم .</a:t>
            </a:r>
            <a:endParaRPr b="0" lang="en-US" sz="2000" spc="-1" strike="noStrike">
              <a:solidFill>
                <a:srgbClr val="000000"/>
              </a:solidFill>
              <a:latin typeface="Verdana"/>
            </a:endParaRPr>
          </a:p>
          <a:p>
            <a:pPr marL="417960" indent="-417960" algn="r" rtl="1">
              <a:lnSpc>
                <a:spcPct val="90000"/>
              </a:lnSpc>
              <a:spcBef>
                <a:spcPts val="499"/>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ومن التجارب الحبيبة الى نفس علماء الجشطلت والتي ينكررونها كثيرا لكي يدحضو أهميه الخبره . وتتلخص في أنه اذا عرضت </a:t>
            </a:r>
            <a:r>
              <a:rPr b="0" lang="en-US" sz="2000" spc="-1" strike="noStrike">
                <a:solidFill>
                  <a:srgbClr val="000000"/>
                </a:solidFill>
                <a:latin typeface="Verdana"/>
              </a:rPr>
              <a:t>E</a:t>
            </a:r>
            <a:r>
              <a:rPr b="0" lang="ar-SA" sz="2000" spc="-1" strike="noStrike">
                <a:solidFill>
                  <a:srgbClr val="000000"/>
                </a:solidFill>
                <a:latin typeface="Verdana"/>
              </a:rPr>
              <a:t>على شخص ألف مره ثم عرضت عليه صورت نافذه (جزء منها يمثل هذا الحرف ) فهل يستطيع الشخص أن يتعرف على هذا الحرف في شكل النافذه على نحو أسرع وأسهل مما يفعل لو أن حرف </a:t>
            </a:r>
            <a:r>
              <a:rPr b="0" lang="en-US" sz="2000" spc="-1" strike="noStrike">
                <a:solidFill>
                  <a:srgbClr val="000000"/>
                </a:solidFill>
                <a:latin typeface="Verdana"/>
              </a:rPr>
              <a:t>E</a:t>
            </a:r>
            <a:endParaRPr b="0" lang="en-US" sz="2000" spc="-1" strike="noStrike">
              <a:solidFill>
                <a:srgbClr val="000000"/>
              </a:solidFill>
              <a:latin typeface="Verdana"/>
            </a:endParaRPr>
          </a:p>
          <a:p>
            <a:pPr marL="4179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       قد عرض عليه مره واحده ؟ إننا نشك كثيرا في رأي علماء النفس الترابطيين – أن الخبره ستؤدي إلى تمزيق المدرك وتفكيكه ألى أجزاء الممكنه مالم يكن الفرد المدرك باحثا منقبا في الشكل فاذا نظر الى جزء خاف ووجده فان ايجاد هذا الجزء واكتشاف سيكون أكثر سهوله في المرات التاليه . ونتائج مثل هذه التجربه التي أشرنا إليها فيما سبق موضع الجدول وخلاف كبير بين الترابطيين واصحاب نظريه الجشطلت .</a:t>
            </a:r>
            <a:endParaRPr b="0" lang="en-US" sz="2000" spc="-1" strike="noStrike">
              <a:solidFill>
                <a:srgbClr val="000000"/>
              </a:solidFill>
              <a:latin typeface="Verdana"/>
            </a:endParaRPr>
          </a:p>
          <a:p>
            <a:pPr marL="41796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8" name="" descr=""/>
          <p:cNvPicPr/>
          <p:nvPr/>
        </p:nvPicPr>
        <p:blipFill>
          <a:blip r:embed="rId2"/>
          <a:stretch/>
        </p:blipFill>
        <p:spPr>
          <a:xfrm>
            <a:off x="1692360" y="549360"/>
            <a:ext cx="895320" cy="895320"/>
          </a:xfrm>
          <a:prstGeom prst="rect">
            <a:avLst/>
          </a:prstGeom>
          <a:ln w="0">
            <a:noFill/>
          </a:ln>
        </p:spPr>
      </p:pic>
      <p:pic>
        <p:nvPicPr>
          <p:cNvPr id="129" name="" descr=""/>
          <p:cNvPicPr/>
          <p:nvPr/>
        </p:nvPicPr>
        <p:blipFill>
          <a:blip r:embed="rId3"/>
          <a:stretch/>
        </p:blipFill>
        <p:spPr>
          <a:xfrm>
            <a:off x="6588000" y="54936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843280" y="1752480"/>
            <a:ext cx="5976720" cy="4197600"/>
          </a:xfrm>
          <a:prstGeom prst="rect">
            <a:avLst/>
          </a:prstGeom>
          <a:noFill/>
          <a:ln w="0">
            <a:noFill/>
          </a:ln>
        </p:spPr>
        <p:txBody>
          <a:bodyPr lIns="90000" rIns="90000" tIns="46800" bIns="46800" anchor="t">
            <a:normAutofit fontScale="82000"/>
          </a:bodyPr>
          <a:p>
            <a:pPr marL="385200" indent="-385200" algn="r" rtl="1">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Verdana"/>
              </a:rPr>
              <a:t>وليس من السهل على علماء الجشطلت أن ينكروا دور الخبرة السابقة في عمل الذاكره كما ينكرو دورها في اإدراك الحسي ويعتقد كوفكا أن نظرية الأثر في شكل من أشكالها أساسيه ولازمه في التعلم ويهتم بالطريقة التي يمكن بها تنشيط الخبرات الماضيه واستخدامها في العمليات الحاضره  واذا كانت تغيرات في الأثر ( في التذكر ) من نوع منتتظم . فاانها ستدلل على خطأ النظريه المدافعة عن التذكر على أساس ارتباطات تضعف بمضى الزمن  وبتأثير التعلم الجديد .</a:t>
            </a:r>
            <a:endParaRPr b="0" lang="en-US" sz="1900" spc="-1" strike="noStrike">
              <a:solidFill>
                <a:srgbClr val="000000"/>
              </a:solidFill>
              <a:latin typeface="Verdana"/>
            </a:endParaRPr>
          </a:p>
          <a:p>
            <a:pPr marL="385200" indent="0" algn="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Verdana"/>
              </a:rPr>
              <a:t>     ومعروف من تجارب والف </a:t>
            </a:r>
            <a:r>
              <a:rPr b="1" lang="en-US" sz="1900" spc="-1" strike="noStrike">
                <a:solidFill>
                  <a:srgbClr val="000000"/>
                </a:solidFill>
                <a:latin typeface="Verdana"/>
              </a:rPr>
              <a:t>wulf</a:t>
            </a:r>
            <a:r>
              <a:rPr b="1" lang="en-US" sz="1900" spc="-1" strike="noStrike">
                <a:solidFill>
                  <a:srgbClr val="000000"/>
                </a:solidFill>
                <a:latin typeface="Verdana"/>
              </a:rPr>
              <a:t> </a:t>
            </a:r>
            <a:r>
              <a:rPr b="1" lang="ar-SA" sz="1900" spc="-1" strike="noStrike">
                <a:solidFill>
                  <a:srgbClr val="000000"/>
                </a:solidFill>
                <a:latin typeface="Verdana"/>
              </a:rPr>
              <a:t> وتجاربه التي تلت هذه الأشكال المدركة حين يطلب من مدركيها رسمها من الذاكرة فانهم يرسمونها على نحو مايختلف عن الأصل وأن مقارنه هذه الأشكال الجديدة بالأشكال التي سبق أدراكها . يدل على أن التغيير ليس خاضعا للصدفه , بل هو تغير منتظم يسير في اتجاه معين فهذه التغيرات تتفق مع قوانين التنظيم وتتحرك نحو الجشطلت الجيد فالدائره الناقصة تميل الى أن تظهر حين يطلب رسمها بعد أدراكها بفتره على أنها دائره كامله , والشكل غير المتماثل يميل إلى أن يصبح أكثر تماثلا عن ذي قبل .</a:t>
            </a:r>
            <a:endParaRPr b="0" lang="en-US" sz="1900" spc="-1" strike="noStrike">
              <a:solidFill>
                <a:srgbClr val="000000"/>
              </a:solidFill>
              <a:latin typeface="Verdana"/>
            </a:endParaRPr>
          </a:p>
        </p:txBody>
      </p:sp>
      <p:pic>
        <p:nvPicPr>
          <p:cNvPr id="131" name="" descr=""/>
          <p:cNvPicPr/>
          <p:nvPr/>
        </p:nvPicPr>
        <p:blipFill>
          <a:blip r:embed="rId2"/>
          <a:stretch/>
        </p:blipFill>
        <p:spPr>
          <a:xfrm>
            <a:off x="468360" y="1916280"/>
            <a:ext cx="2305080" cy="266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9280" y="549000"/>
            <a:ext cx="8029800" cy="934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Verdana"/>
              </a:rPr>
              <a:t>إعادة تنظيم المجال ( الاستبصار )</a:t>
            </a:r>
            <a:br>
              <a:rPr sz="3000"/>
            </a:br>
            <a:endParaRPr b="0" lang="en-US" sz="30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أن المقارنة بين المحاولة والخطأ من ناحية , وبين الاستبصار من ناحيه أخرى موضع غموض ولبس , ذلك أننا نجد في مجال في مجال النفسي أمرين :</a:t>
            </a: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1</a:t>
            </a:r>
            <a:r>
              <a:rPr b="0" lang="ar-SA" sz="2000" spc="-1" strike="noStrike">
                <a:solidFill>
                  <a:srgbClr val="000000"/>
                </a:solidFill>
                <a:latin typeface="Verdana"/>
              </a:rPr>
              <a:t>- أحدهما حقائق تجريبية لايكثر الاختلاف عليها </a:t>
            </a: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2</a:t>
            </a:r>
            <a:r>
              <a:rPr b="0" lang="ar-SA" sz="2000" spc="-1" strike="noStrike">
                <a:solidFill>
                  <a:srgbClr val="000000"/>
                </a:solidFill>
                <a:latin typeface="Verdana"/>
              </a:rPr>
              <a:t>- نظريات تحاول أن تجمع هذه الحقائق وتفسيرها </a:t>
            </a: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     فاذا نظرنا الى تجارب : التعلم من حيث أنها حقائق تجربيية . </a:t>
            </a: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     نجد أن هناك ثلاثه أنواع من التجارب </a:t>
            </a: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نوع الأول : في قدر كبير من التعييث مع تحسين ضئيل تدريجي وفهم قليل لكيفية حدوث التحسين , يمكن أن نسمي هذا النوع تعلما بالمحاوله والخطأ </a:t>
            </a: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نوع الثاني : يظهر في تجاريه بوضوح أن المتعلم يدرك علاقه بين أجزاء الموقف وأجزاء المشكله تودي به ألى حلها  وتسمي تجربه استبصار </a:t>
            </a: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نوع الثالث : من التجارب أو المواقف وفيها نجد النوعين معا , نجد محاوله وخطأ أعمي</a:t>
            </a:r>
            <a:r>
              <a:rPr b="0" lang="ar-SA" sz="2400" spc="-1" strike="noStrike">
                <a:solidFill>
                  <a:srgbClr val="000000"/>
                </a:solidFill>
                <a:latin typeface="Verdana"/>
              </a:rPr>
              <a:t> </a:t>
            </a:r>
            <a:r>
              <a:rPr b="0" lang="ar-SA" sz="2000" spc="-1" strike="noStrike">
                <a:solidFill>
                  <a:srgbClr val="000000"/>
                </a:solidFill>
                <a:latin typeface="Verdana"/>
              </a:rPr>
              <a:t>, ونجد استبصارا ومن الخطأ أن نحاول تفسير تجارب من النوع الأخير على أساس نظريه واحده تحسن تفسير النوع الأول أو النوع الثاني .</a:t>
            </a:r>
            <a:endParaRPr b="0" lang="en-US" sz="2000" spc="-1" strike="noStrike">
              <a:solidFill>
                <a:srgbClr val="000000"/>
              </a:solidFill>
              <a:latin typeface="Verdana"/>
            </a:endParaRPr>
          </a:p>
        </p:txBody>
      </p:sp>
      <p:pic>
        <p:nvPicPr>
          <p:cNvPr id="134" name="" descr=""/>
          <p:cNvPicPr/>
          <p:nvPr/>
        </p:nvPicPr>
        <p:blipFill>
          <a:blip r:embed="rId1"/>
          <a:stretch/>
        </p:blipFill>
        <p:spPr>
          <a:xfrm>
            <a:off x="250920" y="260280"/>
            <a:ext cx="941400" cy="15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000000"/>
                </a:solidFill>
                <a:latin typeface="Verdana"/>
              </a:rPr>
              <a:t>خصائص وصفية للتعلم بالاستبصار </a:t>
            </a: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rPr>
              <a:t>1</a:t>
            </a:r>
            <a:r>
              <a:rPr b="1" lang="ar-SA" sz="2200" spc="-1" strike="noStrike">
                <a:solidFill>
                  <a:srgbClr val="000000"/>
                </a:solidFill>
                <a:latin typeface="Verdana"/>
              </a:rPr>
              <a:t>- يحتمل أحتمالا كبير أن يستخدم الكائن الحي الاستبصار اذا كان أكثر ذكاء من غيره </a:t>
            </a:r>
            <a:endParaRPr b="0" lang="en-US" sz="2200" spc="-1" strike="noStrike">
              <a:solidFill>
                <a:srgbClr val="000000"/>
              </a:solidFill>
              <a:latin typeface="Verdana"/>
            </a:endParaRPr>
          </a:p>
          <a:p>
            <a:pPr marL="44604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rPr>
              <a:t>2</a:t>
            </a:r>
            <a:r>
              <a:rPr b="1" lang="ar-SA" sz="2200" spc="-1" strike="noStrike">
                <a:solidFill>
                  <a:srgbClr val="000000"/>
                </a:solidFill>
                <a:latin typeface="Verdana"/>
              </a:rPr>
              <a:t>- كلما زادت خبرة المرء زاد احتمال استخدامه للاستبصار في حل المشكلات فلا يستطيع الشخص مثلا أن يحل مسأله جبر أو معادلة رياضية مالم يعرف المعنى المصطلح عليه للرموز المستخدمة , حتى وإن كانت المشكلة مناسبة لقدرته</a:t>
            </a:r>
            <a:endParaRPr b="0" lang="en-US" sz="2200" spc="-1" strike="noStrike">
              <a:solidFill>
                <a:srgbClr val="000000"/>
              </a:solidFill>
              <a:latin typeface="Verdana"/>
            </a:endParaRPr>
          </a:p>
          <a:p>
            <a:pPr marL="4460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rPr>
              <a:t>3</a:t>
            </a:r>
            <a:r>
              <a:rPr b="1" lang="ar-SA" sz="2200" spc="-1" strike="noStrike">
                <a:solidFill>
                  <a:srgbClr val="000000"/>
                </a:solidFill>
                <a:latin typeface="Verdana"/>
              </a:rPr>
              <a:t>- تسهل بعض التنظيمات التجريبية الوصول إلى الحل عن طريق الاستبصار أكثر من غيرها</a:t>
            </a:r>
            <a:r>
              <a:rPr b="1" lang="ar-SA" sz="2600" spc="-1" strike="noStrike">
                <a:solidFill>
                  <a:srgbClr val="000000"/>
                </a:solidFill>
                <a:latin typeface="Verdana"/>
              </a:rPr>
              <a:t> </a:t>
            </a:r>
            <a:endParaRPr b="0" lang="en-US" sz="2600" spc="-1" strike="noStrike">
              <a:solidFill>
                <a:srgbClr val="000000"/>
              </a:solidFill>
              <a:latin typeface="Verdana"/>
            </a:endParaRPr>
          </a:p>
          <a:p>
            <a:pPr marL="44604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rPr>
              <a:t>4</a:t>
            </a:r>
            <a:r>
              <a:rPr b="1" lang="ar-SA" sz="2200" spc="-1" strike="noStrike">
                <a:solidFill>
                  <a:srgbClr val="000000"/>
                </a:solidFill>
                <a:latin typeface="Verdana"/>
              </a:rPr>
              <a:t>- نجد محاولات وأخطاء في طريق الوصول الى الحل بالاستبصار ففي الفتره السابقه على الحل يقوم المتعلم ببديات خاطئه وينشغل بنشاط يمكن أن يتصف بالمحاولة والخطأ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Verdana"/>
              </a:rPr>
              <a:t>تقويم نظرية الجشطت</a:t>
            </a: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ذهب بعض المتطرفين في انتقاداتهم الى أن كلمة الجشطلت لا تعني شيئا جديدا , فقد أعتبر كثيرا من علماء النفس ومازالوا يعتبرون الإدراك الحسي على أنه استجابه موحدة , أو نشاط موحد وفئة قليلة من علماء النفس تنحرف عن هذه الوجهه من النظر وتذهب الى أن الادراك الحسي يتكون من تحمعات بين مثيرات واستجابه خاصة أي عبارة عن حزمه من الاحساسات</a:t>
            </a:r>
            <a:endParaRPr b="0" lang="en-US" sz="2100" spc="-1" strike="noStrike">
              <a:solidFill>
                <a:srgbClr val="000000"/>
              </a:solidFill>
              <a:latin typeface="Verdana"/>
            </a:endParaRPr>
          </a:p>
          <a:p>
            <a:pPr marL="4366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ويتفق علماء النفس من غير أتباع نظريه الجشطلت على أن هذه المدرسه ( الجشطلت ) قد أسهمت مساهمه جديرة بالتنويه والذكر في زياده فهمنا للادراك الحسي ولكنهم يرون أن هذا الاسهام ماهو الا تحصيل لحقائق معروفه , وليس في أساسه كشفا جديدا فالتمييز بين الشكل والارضيه ليس في أساسه فكره مبتكرة ولكن ينبغي أن نقول على أيه حال . إن علماء الجشطلت قد درسوا العلاقه بين الشكل والارضيه ووضحو القوانين التي تحكم هذه العلاقه توضيحا تفصيليا , وتقدمو بها على نحو أفضل مما صنع غيرهم .</a:t>
            </a:r>
            <a:endParaRPr b="0" lang="en-US" sz="2100" spc="-1" strike="noStrike">
              <a:solidFill>
                <a:srgbClr val="000000"/>
              </a:solidFill>
              <a:latin typeface="Verdana"/>
            </a:endParaRPr>
          </a:p>
          <a:p>
            <a:pPr marL="4366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3000"/>
          </a:bodyPr>
          <a:p>
            <a:pPr marL="389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يبدو أن هناك طريقتين لتعريف الاستبصار :</a:t>
            </a:r>
            <a:endParaRPr b="0" lang="en-US" sz="2000" spc="-1" strike="noStrike">
              <a:solidFill>
                <a:srgbClr val="000000"/>
              </a:solidFill>
              <a:latin typeface="Verdana"/>
            </a:endParaRPr>
          </a:p>
          <a:p>
            <a:pPr marL="389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أولى : تبدو من المثال التالي : حين يستخدم الطفل لعبة ميكانيكية جديدة بسرعه وفهم واضح لوظيفتها فاننا نقول أنه يظهر استبصارا</a:t>
            </a:r>
            <a:endParaRPr b="0" lang="en-US" sz="2000" spc="-1" strike="noStrike">
              <a:solidFill>
                <a:srgbClr val="000000"/>
              </a:solidFill>
              <a:latin typeface="Verdana"/>
            </a:endParaRPr>
          </a:p>
          <a:p>
            <a:pPr marL="389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يظهر الاستبصار وفقا لأصحاب هذه النظريه حين يدرك الانسان أو الحيوان أدراكا تاما المبادئ التي يتضمنها عمل يواجهه</a:t>
            </a:r>
            <a:endParaRPr b="0" lang="en-US" sz="2000" spc="-1" strike="noStrike">
              <a:solidFill>
                <a:srgbClr val="000000"/>
              </a:solidFill>
              <a:latin typeface="Verdana"/>
            </a:endParaRPr>
          </a:p>
          <a:p>
            <a:pPr marL="389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أن الاستبصار قد يكون نتيجه لفتره من المحاوله والخطأ ومن السهل أن نشير الى أن الاستبصار الذي أظهرته قردة كوهلر كان الى حد ما وظيفة للأعمال التي وضعت أمام الحيوان </a:t>
            </a:r>
            <a:endParaRPr b="0" lang="en-US" sz="2000" spc="-1" strike="noStrike">
              <a:solidFill>
                <a:srgbClr val="000000"/>
              </a:solidFill>
              <a:latin typeface="Verdana"/>
            </a:endParaRPr>
          </a:p>
          <a:p>
            <a:pPr marL="389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لقد أشرنا على وجه العموم إلى أن نظريه الاستبصار بتأكيدها للفهم كان لها أثر عظيم على النظريه التربويه فلم يعد المعلمون يهتمون كثيرا بالتكرار أو التدريب البسيط , ولقد تحول ثورنديك عن موقفه من التكرار فغير صياغه قانون التمرين بحيث قلل من أهميته في التعلم </a:t>
            </a:r>
            <a:endParaRPr b="0" lang="en-US" sz="2000" spc="-1" strike="noStrike">
              <a:solidFill>
                <a:srgbClr val="000000"/>
              </a:solidFill>
              <a:latin typeface="Verdana"/>
            </a:endParaRPr>
          </a:p>
          <a:p>
            <a:pPr marL="389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لقد أدى توكيد أهميه الاستبصار , وساعد على قيادة المدرسين للكفاح في سبيل ظهور مبادئ عامه وشامله تهتم بانتقال أثر التعلم الى مواقف جديدة منوعه ففكرة الاستبصار تبدو أفضل كمبدأ مرشد في المواقف العمليه وكتعميم شامل من النظره الآلية , أفرض أن معلما أراد أن يعلم فصلا من فصول الدراسه عملية القسمه المطولة</a:t>
            </a:r>
            <a:r>
              <a:rPr b="0" lang="ar-SA"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4320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مالنصيحه التي يستطيع عالم الجشطلت أن يزود بها المعلم علي نحو الدقه ؟</a:t>
            </a:r>
            <a:endParaRPr b="0" lang="en-US" sz="2600" spc="-1" strike="noStrike">
              <a:solidFill>
                <a:srgbClr val="000000"/>
              </a:solidFill>
              <a:latin typeface="Verdana"/>
            </a:endParaRPr>
          </a:p>
          <a:p>
            <a:pPr marL="4320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قد يقول للمدرس ضع هدفا للتلاميذ وشجعهم , زودهم بأعمال أكثر أثارة للأهتمام وأمتاعا .</a:t>
            </a:r>
            <a:endParaRPr b="0" lang="en-US" sz="2600" spc="-1" strike="noStrike">
              <a:solidFill>
                <a:srgbClr val="000000"/>
              </a:solidFill>
              <a:latin typeface="Verdana"/>
            </a:endParaRPr>
          </a:p>
          <a:p>
            <a:pPr marL="4320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ولقد أنتقد البعض كوهلر على أساس أن وجوده كملاحظ في المناسبات المختلفه خلال التجارب – أدخل على الموقف التجريبي عاملا لاضابط له الحيوانات ( القردة ) سريعه الالتقاط , يمكنها أن تتأثر بملاحظ برئ متباعد وفضلا عن ذلك , فإن كثير من تجارب الجشطلت لا تقوم على أساس إحصائي جيد .</a:t>
            </a:r>
            <a:endParaRPr b="0" lang="en-US" sz="2600" spc="-1" strike="noStrike">
              <a:solidFill>
                <a:srgbClr val="000000"/>
              </a:solidFill>
              <a:latin typeface="Verdana"/>
            </a:endParaRPr>
          </a:p>
          <a:p>
            <a:pPr marL="4320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4273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لقد أبرز كوهلر في كتابه دور الاستبصار في التعلم وأعتبره بديلا للتعلم بالمحاوله والخطأ وإن لمينكر إمكان حدوث الأخير , ولقد أبان كيف أن القردة تستطيع أن تحصل على ثواب دون أن تمر بالعمليات المضنية الطويلة من حاولات وأخطاء وتثبيت المحاولات الناجحة والتخلص من المحاولات الخاطئة كما يبدو في نظرية ثورنديك , وفي منحنيات تعلم قططه , فتستطيع القردة أن تستعمل العصي والصناديق كأدوات , وتستطيع أن تتحول من نهاية الشوط أو غايته إلى ماهو وسيلة لهذه الغاية .</a:t>
            </a:r>
            <a:endParaRPr b="0" lang="en-US" sz="3000" spc="-1" strike="noStrike">
              <a:solidFill>
                <a:srgbClr val="000000"/>
              </a:solidFill>
              <a:latin typeface="Verdana"/>
            </a:endParaRPr>
          </a:p>
        </p:txBody>
      </p:sp>
      <p:pic>
        <p:nvPicPr>
          <p:cNvPr id="87" name="" descr=""/>
          <p:cNvPicPr/>
          <p:nvPr/>
        </p:nvPicPr>
        <p:blipFill>
          <a:blip r:embed="rId2"/>
          <a:stretch/>
        </p:blipFill>
        <p:spPr>
          <a:xfrm>
            <a:off x="755640" y="0"/>
            <a:ext cx="1128600" cy="1628640"/>
          </a:xfrm>
          <a:prstGeom prst="rect">
            <a:avLst/>
          </a:prstGeom>
          <a:ln w="0">
            <a:noFill/>
          </a:ln>
        </p:spPr>
      </p:pic>
      <p:sp>
        <p:nvSpPr>
          <p:cNvPr id="8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000000"/>
                </a:solidFill>
                <a:latin typeface="Verdana"/>
              </a:rPr>
              <a:t>المقدمه :</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Verdana"/>
              </a:rPr>
              <a:t>ومن المفيد هما أن نعرض لنوعين من التجارب يتحدث عنهما كوهلر في كتابه :</a:t>
            </a:r>
            <a:endParaRPr b="0" lang="en-US" sz="34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Verdana"/>
              </a:rPr>
              <a:t>تجارب مشكلات الصندوق </a:t>
            </a:r>
            <a:endParaRPr b="0" lang="en-US" sz="3000" spc="-1" strike="noStrike">
              <a:solidFill>
                <a:srgbClr val="000000"/>
              </a:solidFill>
              <a:latin typeface="Verdana"/>
            </a:endParaRPr>
          </a:p>
          <a:p>
            <a:pPr marL="469800" indent="-46980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Verdana"/>
              </a:rPr>
              <a:t>تجارب مشكلات العصي </a:t>
            </a:r>
            <a:endParaRPr b="0" lang="en-US" sz="3000" spc="-1" strike="noStrike">
              <a:solidFill>
                <a:srgbClr val="000000"/>
              </a:solidFill>
              <a:latin typeface="Verdana"/>
            </a:endParaRPr>
          </a:p>
        </p:txBody>
      </p:sp>
      <p:pic>
        <p:nvPicPr>
          <p:cNvPr id="91" name="" descr=""/>
          <p:cNvPicPr/>
          <p:nvPr/>
        </p:nvPicPr>
        <p:blipFill>
          <a:blip r:embed="rId2"/>
          <a:stretch/>
        </p:blipFill>
        <p:spPr>
          <a:xfrm>
            <a:off x="684360" y="2924280"/>
            <a:ext cx="4248000" cy="31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00720" y="260280"/>
            <a:ext cx="431928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Verdana"/>
              </a:rPr>
              <a:t>التجربه الأولى : </a:t>
            </a:r>
            <a:br>
              <a:rPr sz="3400"/>
            </a:br>
            <a:r>
              <a:rPr b="0" lang="ar-SA" sz="3400" spc="-1" strike="noStrike">
                <a:solidFill>
                  <a:srgbClr val="000000"/>
                </a:solidFill>
                <a:latin typeface="Verdana"/>
              </a:rPr>
              <a:t>( تجارب مشكلات الصندوق )</a:t>
            </a:r>
            <a:endParaRPr b="0" lang="en-US" sz="3400" spc="-1" strike="noStrike">
              <a:solidFill>
                <a:srgbClr val="000000"/>
              </a:solidFill>
              <a:latin typeface="Verdana"/>
            </a:endParaRPr>
          </a:p>
        </p:txBody>
      </p:sp>
      <p:sp>
        <p:nvSpPr>
          <p:cNvPr id="93" name="PlaceHolder 2"/>
          <p:cNvSpPr>
            <a:spLocks noGrp="1"/>
          </p:cNvSpPr>
          <p:nvPr>
            <p:ph/>
          </p:nvPr>
        </p:nvSpPr>
        <p:spPr>
          <a:xfrm>
            <a:off x="4500360" y="1752480"/>
            <a:ext cx="4066920" cy="4267440"/>
          </a:xfrm>
          <a:prstGeom prst="rect">
            <a:avLst/>
          </a:prstGeom>
          <a:noFill/>
          <a:ln w="0">
            <a:noFill/>
          </a:ln>
        </p:spPr>
        <p:txBody>
          <a:bodyPr lIns="90000" rIns="90000" tIns="46800" bIns="46800" anchor="t">
            <a:normAutofit fontScale="84000"/>
          </a:bodyPr>
          <a:p>
            <a:pPr marL="394560" indent="-39456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rPr>
              <a:t>وضع الشمبانزي في القفص ، وكان الطعام ( موزة ) معاتمة في سقف القفص بحيث لا يمكن الوصول إليه مباشرة وفي ركن القفص وضع الصندوق .. أخذ الشمبانزي ينظر إلى الفاكهة ويحاول الوصول إليها بمد يده بالوثب ولكنه فشل ثم أخذ ينتظر من ركن إلأى ركن في حيرة . وأخيرا لا حظ الصندوق فنظر إليه ونظر إلى الموزة فوقه ووصل إلى هدفه ، بد أن الحيوان في هذه التجربة أدرك العلاقة بين الصندوق وإمكان الوصول إلى الموزة ..</a:t>
            </a:r>
            <a:r>
              <a:rPr b="1" lang="ar-SA" sz="2600" spc="-1" strike="noStrike">
                <a:solidFill>
                  <a:srgbClr val="000000"/>
                </a:solidFill>
                <a:latin typeface="Verdana"/>
              </a:rPr>
              <a:t> </a:t>
            </a:r>
            <a:endParaRPr b="0" lang="en-US" sz="2600" spc="-1" strike="noStrike">
              <a:solidFill>
                <a:srgbClr val="000000"/>
              </a:solidFill>
              <a:latin typeface="Verdana"/>
            </a:endParaRPr>
          </a:p>
        </p:txBody>
      </p:sp>
      <p:pic>
        <p:nvPicPr>
          <p:cNvPr id="94" name="" descr=""/>
          <p:cNvPicPr/>
          <p:nvPr/>
        </p:nvPicPr>
        <p:blipFill>
          <a:blip r:embed="rId2"/>
          <a:stretch/>
        </p:blipFill>
        <p:spPr>
          <a:xfrm>
            <a:off x="1042920" y="2060640"/>
            <a:ext cx="2881440" cy="2430360"/>
          </a:xfrm>
          <a:prstGeom prst="rect">
            <a:avLst/>
          </a:prstGeom>
          <a:ln w="0">
            <a:noFill/>
          </a:ln>
        </p:spPr>
      </p:pic>
      <p:sp>
        <p:nvSpPr>
          <p:cNvPr id="95" name=""/>
          <p:cNvSpPr/>
          <p:nvPr/>
        </p:nvSpPr>
        <p:spPr>
          <a:xfrm>
            <a:off x="1042920" y="2060640"/>
            <a:ext cx="2881440" cy="2448000"/>
          </a:xfrm>
          <a:prstGeom prst="rect">
            <a:avLst/>
          </a:prstGeom>
          <a:noFill/>
          <a:ln w="76320">
            <a:solidFill>
              <a:srgbClr val="cc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Verdana"/>
              </a:rPr>
              <a:t>التجربه الثانيه:</a:t>
            </a:r>
            <a:br>
              <a:rPr sz="3400"/>
            </a:br>
            <a:r>
              <a:rPr b="0" lang="ar-SA" sz="3400" spc="-1" strike="noStrike">
                <a:solidFill>
                  <a:srgbClr val="000000"/>
                </a:solidFill>
                <a:latin typeface="Verdana"/>
              </a:rPr>
              <a:t> ( تجارب مشكلات العصي )</a:t>
            </a:r>
            <a:endParaRPr b="0" lang="en-US" sz="34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وضع كوهلر داخل القفص عصوين قصيرتين لا تكفي الواحدة منهما لجذب الطعام ، وإنما يمكن إدخال أحدهما في طرف الأخرى لعمل عصا طويلة ، وقد أجرى كوهلر تجربته هذه على أذكى حيواناته </a:t>
            </a:r>
            <a:endParaRPr b="0" lang="en-US" sz="2100" spc="-1" strike="noStrike">
              <a:solidFill>
                <a:srgbClr val="000000"/>
              </a:solidFill>
              <a:latin typeface="Verdana"/>
            </a:endParaRPr>
          </a:p>
          <a:p>
            <a:pPr marL="44136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     ( وهو الشمبانزي سلطان ) إلا أنه لم يستطع أن يحل المشكلة بسهولة ، بل استغرق وقتا طويلا في محاولات بائسة في جذب الطعام باستخدام إحدى العصوين وفي فترة من فترات الراحة جلس ( سلطان )على صندوق داخل القفص وأخذ يلعب بالعصوين ويحركهما ، وأثناء لعبه وضع إحداهما في طرف الأخرى وبمجرد أن وجد الحيوان نفسه وبيده عصا طويلة قفز من مكانه بسرعة ، واستعمل العصا الطويلة في جذب الموزة ونجح في ذلك </a:t>
            </a:r>
            <a:br>
              <a:rPr sz="2100"/>
            </a:br>
            <a:r>
              <a:rPr b="1" lang="ar-SA" sz="2100" spc="-1" strike="noStrike">
                <a:solidFill>
                  <a:srgbClr val="000000"/>
                </a:solidFill>
                <a:latin typeface="Verdana"/>
              </a:rPr>
              <a:t>ويلاحظ هنا أن الحيوان لا بد أنه أدرك العلاقة بين العصوين وأن إحداهما لا تكفي للوصول إلى الطعام ، هذا الادراك ينبني بلا شك على فهم للموقف وإدراك العلاقة بين أجزائه .</a:t>
            </a:r>
            <a:endParaRPr b="0" lang="en-US" sz="2100" spc="-1" strike="noStrike">
              <a:solidFill>
                <a:srgbClr val="000000"/>
              </a:solidFill>
              <a:latin typeface="Verdana"/>
            </a:endParaRPr>
          </a:p>
        </p:txBody>
      </p:sp>
      <p:pic>
        <p:nvPicPr>
          <p:cNvPr id="98" name="" descr=""/>
          <p:cNvPicPr/>
          <p:nvPr/>
        </p:nvPicPr>
        <p:blipFill>
          <a:blip r:embed="rId2"/>
          <a:stretch/>
        </p:blipFill>
        <p:spPr>
          <a:xfrm>
            <a:off x="1042920" y="260280"/>
            <a:ext cx="1511280" cy="1152720"/>
          </a:xfrm>
          <a:prstGeom prst="rect">
            <a:avLst/>
          </a:prstGeom>
          <a:ln w="0">
            <a:noFill/>
          </a:ln>
        </p:spPr>
      </p:pic>
      <p:sp>
        <p:nvSpPr>
          <p:cNvPr id="99" name=""/>
          <p:cNvSpPr/>
          <p:nvPr/>
        </p:nvSpPr>
        <p:spPr>
          <a:xfrm>
            <a:off x="1042920" y="189000"/>
            <a:ext cx="1513080" cy="1295280"/>
          </a:xfrm>
          <a:prstGeom prst="rect">
            <a:avLst/>
          </a:prstGeom>
          <a:noFill/>
          <a:ln w="76320">
            <a:solidFill>
              <a:srgbClr val="cc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قوانين التنظيم :</a:t>
            </a:r>
            <a:endParaRPr b="0" lang="en-US" sz="3800" spc="-1" strike="noStrike">
              <a:solidFill>
                <a:srgbClr val="000000"/>
              </a:solidFill>
              <a:latin typeface="Verdana"/>
            </a:endParaRPr>
          </a:p>
        </p:txBody>
      </p:sp>
      <p:sp>
        <p:nvSpPr>
          <p:cNvPr id="101" name="PlaceHolder 2"/>
          <p:cNvSpPr>
            <a:spLocks noGrp="1"/>
          </p:cNvSpPr>
          <p:nvPr>
            <p:ph/>
          </p:nvPr>
        </p:nvSpPr>
        <p:spPr>
          <a:xfrm>
            <a:off x="566280" y="1844640"/>
            <a:ext cx="8001000" cy="4175280"/>
          </a:xfrm>
          <a:prstGeom prst="rect">
            <a:avLst/>
          </a:prstGeom>
          <a:noFill/>
          <a:ln w="0">
            <a:noFill/>
          </a:ln>
        </p:spPr>
        <p:txBody>
          <a:bodyPr lIns="90000" rIns="90000" tIns="46800" bIns="46800" anchor="t">
            <a:normAutofit fontScale="92000"/>
          </a:bodyPr>
          <a:p>
            <a:pPr marL="4320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لقد بدأ علم نفس الجشطلت بدراسة الإدراك الحسي , وحقق أهظم كشوفه في هذا الميدان , ولقد كانت كشوفه في دور الأرضيه والتنظيم في عمليات الأدراك بالغه في الاقناع بحيث لايستطيع إلا خصم عنيد ينكرها </a:t>
            </a:r>
            <a:endParaRPr b="0" lang="en-US" sz="2200" spc="-1" strike="noStrike">
              <a:solidFill>
                <a:srgbClr val="000000"/>
              </a:solidFill>
              <a:latin typeface="Verdana"/>
            </a:endParaRPr>
          </a:p>
          <a:p>
            <a:pPr marL="4320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ولقد كان الهجوم الأساسي على نظريه الترابط منصبا على نظريه (حزمه الأحساسات ) التي أن المدرك الحسي ماهو الا مجموعه من العناصر الحسية قد ربط بينهما التداعي .</a:t>
            </a:r>
            <a:endParaRPr b="0" lang="en-US" sz="2200" spc="-1" strike="noStrike">
              <a:solidFill>
                <a:srgbClr val="000000"/>
              </a:solidFill>
              <a:latin typeface="Verdana"/>
            </a:endParaRPr>
          </a:p>
          <a:p>
            <a:pPr marL="4320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وعندما تحول اهتمام علماء الجشطلت إلى التعلم ومشكلاته جلبوا إليه ما اكتشفوه في مجال الإدراك واستخدموا في نقد الفعل المنعكس الشرطي نفس الرسائل التي استخدموها في ( نقد الاحساسات ) وعلى الرغم مما لقيته تجارب كوهلر من ذيوع  وانتشار فيمكن القول بأن علماء الجشلطت لا يهتمون الا اهتماما معدلا بالتعلم , وانهم يعتبرون مشكلات التعلم ثانويه بالنسبه لمشكلات الادراك .</a:t>
            </a:r>
            <a:endParaRPr b="0" lang="en-US" sz="2200" spc="-1" strike="noStrike">
              <a:solidFill>
                <a:srgbClr val="000000"/>
              </a:solidFill>
              <a:latin typeface="Verdana"/>
            </a:endParaRPr>
          </a:p>
        </p:txBody>
      </p:sp>
      <p:pic>
        <p:nvPicPr>
          <p:cNvPr id="102" name="" descr=""/>
          <p:cNvPicPr/>
          <p:nvPr/>
        </p:nvPicPr>
        <p:blipFill>
          <a:blip r:embed="rId2"/>
          <a:stretch/>
        </p:blipFill>
        <p:spPr>
          <a:xfrm>
            <a:off x="1692360" y="189000"/>
            <a:ext cx="1520640" cy="156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ولقد كانت نقطه البدايه في معالجه كوفكا للتعلم افتراضه أن قوانين التنظيم في الادراك تنطبق في التعلم . ومما ساعد على هذا الانطباق :</a:t>
            </a:r>
            <a:endParaRPr b="0" lang="en-US" sz="26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أهتمامة بالتكيف الأولي </a:t>
            </a:r>
            <a:endParaRPr b="0" lang="en-US" sz="2600" spc="-1" strike="noStrike">
              <a:solidFill>
                <a:srgbClr val="000000"/>
              </a:solidFill>
              <a:latin typeface="Verdana"/>
            </a:endParaRPr>
          </a:p>
          <a:p>
            <a:pPr marL="469800" indent="-46980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وباكتشاف الاجابة الصحيحة </a:t>
            </a:r>
            <a:endParaRPr b="0" lang="en-US" sz="26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لذلك أن هذا الاكتشاف يتوقف على تكوين المجال وتنظيمه وتتوقف سهوله المشكله أو صعوبتها الى حد كبير على أدراك العلاقة بين العناصر الهامة في الموقف ويمكن أن يقال أن قرود كوهلر واجهت مشكلات أدراكيه فلو رأت الموقف على نحو صحيح , لنشأ عندها استبصار</a:t>
            </a:r>
            <a:r>
              <a:rPr b="0" lang="ar-SA"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hi-IN" sz="2200" spc="-1" strike="noStrike">
                <a:solidFill>
                  <a:srgbClr val="000000"/>
                </a:solidFill>
                <a:latin typeface="Verdana"/>
              </a:rPr>
              <a:t>القوانين :</a:t>
            </a:r>
            <a:br>
              <a:rPr sz="2200"/>
            </a:br>
            <a:endParaRPr b="0" lang="en-US" sz="2200" spc="-1" strike="noStrike">
              <a:solidFill>
                <a:srgbClr val="000000"/>
              </a:solidFill>
              <a:latin typeface="Verdana"/>
            </a:endParaRPr>
          </a:p>
        </p:txBody>
      </p:sp>
      <p:sp>
        <p:nvSpPr>
          <p:cNvPr id="106" name="PlaceHolder 2"/>
          <p:cNvSpPr>
            <a:spLocks noGrp="1"/>
          </p:cNvSpPr>
          <p:nvPr>
            <p:ph/>
          </p:nvPr>
        </p:nvSpPr>
        <p:spPr>
          <a:xfrm>
            <a:off x="4643280" y="1752480"/>
            <a:ext cx="4105440" cy="4700880"/>
          </a:xfrm>
          <a:prstGeom prst="rect">
            <a:avLst/>
          </a:prstGeom>
          <a:noFill/>
          <a:ln w="0">
            <a:noFill/>
          </a:ln>
        </p:spPr>
        <p:txBody>
          <a:bodyPr lIns="90000" rIns="90000" tIns="46800" bIns="46800" anchor="t">
            <a:normAutofit fontScale="97000"/>
          </a:bodyPr>
          <a:p>
            <a:pPr marL="455400" indent="-455400" algn="r" rtl="1">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قانون التنظيم والتوضيح :</a:t>
            </a:r>
            <a:endParaRPr b="0" lang="en-US" sz="1700" spc="-1" strike="noStrike">
              <a:solidFill>
                <a:srgbClr val="000000"/>
              </a:solidFill>
              <a:latin typeface="Verdana"/>
            </a:endParaRPr>
          </a:p>
          <a:p>
            <a:pPr marL="4554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أن التنظيم النفسي يتجهه الى تكوين صيغه إجماليه جيده أو جشطلت جيد </a:t>
            </a:r>
            <a:endParaRPr b="0" lang="en-US" sz="1900" spc="-1" strike="noStrike">
              <a:solidFill>
                <a:srgbClr val="000000"/>
              </a:solidFill>
              <a:latin typeface="Verdana"/>
            </a:endParaRPr>
          </a:p>
          <a:p>
            <a:pPr marL="455400" indent="-455400" algn="r" rtl="1">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قانون التشابه :</a:t>
            </a:r>
            <a:endParaRPr b="0" lang="en-US" sz="1700" spc="-1" strike="noStrike">
              <a:solidFill>
                <a:srgbClr val="000000"/>
              </a:solidFill>
              <a:latin typeface="Verdana"/>
            </a:endParaRPr>
          </a:p>
          <a:p>
            <a:pPr marL="4554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يعتبر مماثلا لقانون الترابط عند الشرطين ولقد ورد القانون والقوانين التاليه في كتاب فرتيمر , ولقد استخدمه ليحدد تكوين الادراك اذ تميل الاشياء المتشابهه إلى أن تتجمع في وحده فتظهر خطوط متشابهه مثلا أو النقط المتماثله على أنها وحده أدراكيه</a:t>
            </a:r>
            <a:endParaRPr b="0" lang="en-US" sz="1900" spc="-1" strike="noStrike">
              <a:solidFill>
                <a:srgbClr val="000000"/>
              </a:solidFill>
              <a:latin typeface="Verdana"/>
            </a:endParaRPr>
          </a:p>
          <a:p>
            <a:pPr marL="455400" indent="-45540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قانون التقارب</a:t>
            </a:r>
            <a:r>
              <a:rPr b="1" lang="ar-SA" sz="1900" spc="-1" strike="noStrike">
                <a:solidFill>
                  <a:srgbClr val="000000"/>
                </a:solidFill>
                <a:latin typeface="Verdana"/>
              </a:rPr>
              <a:t> :</a:t>
            </a:r>
            <a:endParaRPr b="0" lang="en-US" sz="1900" spc="-1" strike="noStrike">
              <a:solidFill>
                <a:srgbClr val="000000"/>
              </a:solidFill>
              <a:latin typeface="Verdana"/>
            </a:endParaRPr>
          </a:p>
          <a:p>
            <a:pPr marL="4554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يساعد تقارب الأشياء على أدراكها كمجموعه أو مجموعات فاذا رسمت عددا من الخطوط المتوازيه غير منتظمه في بعدها الواحد عن الاخر في ورقه بيضاء ,فان الخطوط المتقاربه تميل الى تكوين وحدات على أرضيه على الصفحه البيضاء</a:t>
            </a:r>
            <a:endParaRPr b="0" lang="en-US" sz="1900" spc="-1" strike="noStrike">
              <a:solidFill>
                <a:srgbClr val="000000"/>
              </a:solidFill>
              <a:latin typeface="Verdana"/>
            </a:endParaRPr>
          </a:p>
        </p:txBody>
      </p:sp>
      <p:sp>
        <p:nvSpPr>
          <p:cNvPr id="107" name="PlaceHolder 3"/>
          <p:cNvSpPr>
            <a:spLocks noGrp="1"/>
          </p:cNvSpPr>
          <p:nvPr>
            <p:ph/>
          </p:nvPr>
        </p:nvSpPr>
        <p:spPr>
          <a:xfrm>
            <a:off x="5219280" y="1752480"/>
            <a:ext cx="3924360" cy="4267440"/>
          </a:xfrm>
          <a:prstGeom prst="rect">
            <a:avLst/>
          </a:prstGeom>
          <a:noFill/>
          <a:ln w="0">
            <a:noFill/>
          </a:ln>
        </p:spPr>
        <p:txBody>
          <a:bodyPr lIns="90000" rIns="90000" tIns="46800" bIns="46800" anchor="t">
            <a:normAutofit/>
          </a:bodyPr>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08" name=""/>
          <p:cNvSpPr/>
          <p:nvPr/>
        </p:nvSpPr>
        <p:spPr>
          <a:xfrm>
            <a:off x="4140360" y="1773360"/>
            <a:ext cx="0" cy="792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3851280" y="1773360"/>
            <a:ext cx="0" cy="792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276720" y="1773360"/>
            <a:ext cx="0" cy="792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987640" y="1773360"/>
            <a:ext cx="0" cy="792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411280" y="1773360"/>
            <a:ext cx="0" cy="792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050920" y="1773360"/>
            <a:ext cx="0" cy="792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684360" y="1773360"/>
            <a:ext cx="3924000" cy="4267080"/>
          </a:xfrm>
          <a:prstGeom prst="rect">
            <a:avLst/>
          </a:prstGeom>
          <a:noFill/>
          <a:ln w="0">
            <a:noFill/>
          </a:ln>
        </p:spPr>
        <p:style>
          <a:lnRef idx="0"/>
          <a:fillRef idx="0"/>
          <a:effectRef idx="0"/>
          <a:fontRef idx="minor"/>
        </p:style>
        <p:txBody>
          <a:bodyPr lIns="90000" rIns="90000" tIns="46800" bIns="46800" anchor="t">
            <a:normAutofit fontScale="91000"/>
          </a:bodyPr>
          <a:p>
            <a:pPr marL="427320" indent="-427320" algn="r" rtl="1">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427320" indent="-427320" algn="r" rtl="1">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427320" indent="-42732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427320" indent="-42732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427320" indent="-42732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427320" indent="-42732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Verdana"/>
              </a:rPr>
              <a:t>فالناظر الى هذه الخطوط المقاربه يلا أزواجا بدلا من رؤيه أزواج الخطوط المتباعده , ولما كان مايساعد التنظيم على التعلم والتذكر والحفظ</a:t>
            </a:r>
            <a:endParaRPr b="0" lang="en-US" sz="1700" spc="-1" strike="noStrike">
              <a:solidFill>
                <a:srgbClr val="000000"/>
              </a:solidFill>
              <a:latin typeface="Times New Roman"/>
            </a:endParaRPr>
          </a:p>
          <a:p>
            <a:pPr marL="427320" indent="-42732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Verdana"/>
              </a:rPr>
              <a:t>فان قانون التقارب يصبح عند الجشطلت مايعادل الترابط بالالتصاق والتجاور وتكوين الانماط على أساس التقارب يحدث ايضا في مجال الصوت كتكوين مجموعات من الدقات المتجاوره  المتتابعه وتطبيق هذا القانون على الذاكره يجعله يطابق ويماثل قانون الحداثه وذلك لان الاحداث البعيده أصعب في استدعائها من الاحداث القريبه حيث أن الاثر الحديث أقرب زمنا من الاثر القديم للعمليه الناشطه والحاضره وهي التذكر</a:t>
            </a:r>
            <a:endParaRPr b="0" lang="en-US" sz="1700" spc="-1" strike="noStrike">
              <a:solidFill>
                <a:srgbClr val="000000"/>
              </a:solidFill>
              <a:latin typeface="Times New Roman"/>
            </a:endParaRPr>
          </a:p>
          <a:p>
            <a:pPr marL="427320" indent="-42732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pic>
        <p:nvPicPr>
          <p:cNvPr id="115" name="" descr=""/>
          <p:cNvPicPr/>
          <p:nvPr/>
        </p:nvPicPr>
        <p:blipFill>
          <a:blip r:embed="rId2"/>
          <a:stretch/>
        </p:blipFill>
        <p:spPr>
          <a:xfrm>
            <a:off x="2987640" y="333360"/>
            <a:ext cx="1081080" cy="104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Verdana"/>
              </a:rPr>
              <a:t>تابع</a:t>
            </a:r>
            <a:endParaRPr b="0" lang="en-US" sz="30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0000"/>
          </a:bodyPr>
          <a:p>
            <a:pPr marL="422640" indent="-42264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قانون الإغلاق :</a:t>
            </a:r>
            <a:endParaRPr b="0" lang="en-US" sz="3000" spc="-1" strike="noStrike">
              <a:solidFill>
                <a:srgbClr val="000000"/>
              </a:solidFill>
              <a:latin typeface="Verdana"/>
            </a:endParaRPr>
          </a:p>
          <a:p>
            <a:pPr marL="42264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rPr>
              <a:t>الاشكال الكامله أو المغلقه أكثر ثباتا من الاشكال الناقصه أو المفتوحة , وذلك لأن الاخيره تميل إلى أن تكمل نفسها .</a:t>
            </a:r>
            <a:endParaRPr b="0" lang="en-US" sz="2200" spc="-1" strike="noStrike">
              <a:solidFill>
                <a:srgbClr val="000000"/>
              </a:solidFill>
              <a:latin typeface="Verdana"/>
            </a:endParaRPr>
          </a:p>
          <a:p>
            <a:pPr marL="42264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rPr>
              <a:t>* وتدرك المواقف المشكله على أنها كل ناقص يثير توترا يدفع الكائن الحي الى أكمال النقص ويساعد هذا التوتر على التعلم ويحفز اليه تعلما هدفه الاغلاق الذي يجلب معه إشباعا ورضا وهكذا يبدو الإغلاق بديلا لقانون الأثر عند ثورنديك</a:t>
            </a:r>
            <a:endParaRPr b="0" lang="en-US" sz="2200" spc="-1" strike="noStrike">
              <a:solidFill>
                <a:srgbClr val="000000"/>
              </a:solidFill>
              <a:latin typeface="Verdana"/>
            </a:endParaRPr>
          </a:p>
          <a:p>
            <a:pPr marL="422640" indent="-42264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قانون الاستمرار الجيد :</a:t>
            </a:r>
            <a:endParaRPr b="0" lang="en-US" sz="3000" spc="-1" strike="noStrike">
              <a:solidFill>
                <a:srgbClr val="000000"/>
              </a:solidFill>
              <a:latin typeface="Verdana"/>
            </a:endParaRPr>
          </a:p>
          <a:p>
            <a:pPr marL="42264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rPr>
              <a:t>ومؤدي هذا القانون أن تنظيم المجال الإدراك الحسي يميل إلى أن يحدث على نحو يستمر فيه الخط المستقيم مستقيما والدائرة دائره وهكذا على الرغم من أن هذه المدركات يمكن أن تتخذ أشكالا مختلفه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3:48:08Z</dcterms:created>
  <dc:creator/>
  <dc:description/>
  <dc:language>en-US</dc:language>
  <cp:lastModifiedBy/>
  <dcterms:modified xsi:type="dcterms:W3CDTF">2011-04-19T20:10:02Z</dcterms:modified>
  <cp:revision>21</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