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C46-1C52-442B-AC86-30D6EE118C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089C-FA5E-4F54-8976-C7143870EA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CBE-3F7E-4833-974F-A97A060DA7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423-EBA2-4925-8FFC-48F75964D7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059-5DB1-45C8-9AE8-F131817830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52D8-E195-476C-AA46-43986C432F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93E2-F619-419D-B62A-A89E3DD092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F13-78C3-4998-88B5-BF393EF0E8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9EE-B15A-4B60-8ABA-D68ACC0109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E968-BA04-4ECA-A879-EF63771D31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B396-AC25-467C-A0B0-4EF3B3D6D0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7EA-7A7C-4A3F-99CD-6D4B9E65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A27-E4F9-40AD-98B2-931BE2CE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B93-5065-41B8-A8CB-E8A05F31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CF9-DA39-4194-AAAF-4B32148F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9D12-F002-45A7-9F38-B9BC24A4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DF98-E020-4147-B136-0191D79C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030-A409-4B7B-B8D5-908179A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15F-81C0-4085-BB7B-A1E9DAF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D180-40A8-4EF0-8950-06293E8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804-747F-4985-AF6E-BBA3BCC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E549-C7F8-43F9-9EF7-A2F0E47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02E-20DC-4161-9403-D20381B0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CE40-4C04-4CA3-BC07-B4BE5E5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91A0-2253-400A-857B-F639996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8BB-9B58-48B1-BAD0-5620E319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76BA-42C5-4C93-B1EE-C9E7A0B2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6EB1-933C-4CBA-AF9B-93680EDC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FD8B-F776-4A2E-91A4-99C85A3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AA62-C6E9-4BD4-B6F0-37FD03D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FFDD-963A-4E97-9F96-C0F90A8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DF89-6F9C-4A42-8397-BB2A9718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F940-DE0C-458F-A47A-DEF499B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CA1-317D-47E9-B61D-6C379F8F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F75B-D2AE-4C6E-B2A7-16E303FB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67AB-F2A6-4A0B-967C-81BB6387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8824-2D7B-4592-8B3D-4B8E308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E3EA-9DB1-4CCD-AA90-6D3EF1F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B5AC-A7D1-4D25-9816-49FF8397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B9FF-2724-451C-A98C-071151FB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B977-85DF-4406-AE8C-6D97C21C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0B46-19A4-4199-8F40-AD608726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1BDF-02A3-411F-AFB1-FEFA513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F5BE-A4C3-4694-9A12-87F3FE64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D08-3E53-42F5-91E0-DA224132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CF27-3365-4051-8617-5BCC865D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83E0-89F7-44A8-93B4-FEF0FE2F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EB6B-E5F0-4460-8298-290D2BD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9A155-9412-48E8-9BAA-BB4AE1E3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EBBA-3A18-4C85-AB32-9D9C0E5D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810A-3EA6-433C-986C-C5C755D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E3AE-40E1-472E-9EFD-433D132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5B53-8D39-4583-A097-8332A5A4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72BD-82E6-4314-86B3-EDB7253D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828E-0707-4E22-9927-BB6DAEA4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CAB-8DB1-4FBB-9D28-FFB3EFC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1C9D-2049-49EB-80B1-E8756B80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3C8F-F9A1-452D-991A-04E58CD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E227-94FA-446F-8391-A383C58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7B61-7156-4BDD-81A0-D611F260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1C60-A85B-4294-B826-499A081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7859-298C-4A14-B8B2-A3E0DA4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6BAA-2239-4FBE-A4BA-6033FF4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3B99-5DF8-4ECC-ABD7-04DDF34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D6E0-CDC6-491C-897A-3B08B59D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C937-2C46-4053-9449-AC9F60EE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CD4-A310-4970-BF57-DF128ED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608B-1D92-4E46-B020-5B8F1617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A023-BC97-4DAC-AA34-F1C2ABF2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29C0-328E-4F6D-BBBD-78EE7AD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A2E65-07BE-411F-84BF-521D7E1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AA64-D197-47FA-98F5-B4B3894F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242F-DA95-4A66-87AF-12884053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6404-E9DB-412D-9FA5-DE1F7002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EAA3-BE9C-41F8-8805-52D5A28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679F5-8D11-4BDF-9317-B30C3E8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83A0-85B2-49E6-8604-DEF84E9F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166-DA20-4B60-AB79-35A7ADA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D75E-E0C2-48F6-9D41-9B135B6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2D9B1-99BE-477B-9335-C9466F21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8E9F-0D78-4366-8DFC-7F7FA157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F4BE-5985-4D86-B25A-B224088C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6880-13AB-43B2-B2D7-7BDB024F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6BC0-C9E8-491E-AFAA-F19205B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31A3-B860-4B9F-9570-B2F7286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9C66-8076-4196-9B88-BD0F9927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E1E4-C904-4B3C-A355-7477340F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95F8F-DE67-4017-AC83-BB85A3E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E12-ECF8-4C54-BD92-A667E14E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4B520-240F-4354-86C6-4E62585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C9BC-4C11-4521-93B8-01A031A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EC291-CC09-46F6-9CCE-B1F03D62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6723-CEDF-4952-955F-FE598126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2FFF-836D-493F-818A-CC4F0F3B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17FB-3B68-4188-994E-9917ED75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A7801-3029-47C7-A373-90EAEC8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5726-C72D-4B99-A6A9-1F52EEC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8CBAF-5A55-4015-9667-699EA20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5BE7-2134-47E7-87A6-330D0D4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6C6-7CA4-417C-B932-08898A7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62E4D-1D8F-48BF-B1C4-16E0E4F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07B60-68B2-41D9-9EDA-1957243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EEA46-BBF7-4052-9B69-F6804E5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6EDD-870D-460A-BE87-E025C30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10555-9200-4964-B164-9C795FA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B5910-7FEA-4ACF-BD67-69296C1D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DC0B-629C-46A6-B403-BD2596D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BAE-B4D8-4F5A-B969-13F12924872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شكل حر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شكل حر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شكل حر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رابط مستقيم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e8f0f4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7B9-93E5-4F43-8C87-35234346FA3C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B946-F81E-42E9-B764-C674921A4BE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EA8D-2BAC-4DE2-8014-B042EB7210F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E5F4-EC45-4DBE-8B17-7CF079FBC21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4B94-1FDC-49AC-80B9-67C8C8F4E4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8F13-5921-4E1F-80C2-E7633B9DDBC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شكل حر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شكل حر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مثلث قائم الزاوية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رابط مستقيم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740-C5E6-4A91-ACBD-881A89F30F3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عنوان 5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عنصر نائب للتذييل 3"/>
          <p:cNvSpPr/>
          <p:nvPr/>
        </p:nvSpPr>
        <p:spPr>
          <a:xfrm>
            <a:off x="651672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e8f0f4"/>
                </a:solidFill>
                <a:latin typeface="Verdana"/>
              </a:rPr>
              <a:t>أ.أريج الهويد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النقاط الاساسية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لتعبير عن الاحاسيس و الشعور و الحدس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ا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ن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طالب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شرح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أ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سباب مشاعرنا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شعور داخلي مبني على خبراتنا و تجاربنا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4" descr=""/>
          <p:cNvPicPr/>
          <p:nvPr/>
        </p:nvPicPr>
        <p:blipFill>
          <a:blip r:embed="rId1"/>
          <a:stretch/>
        </p:blipFill>
        <p:spPr>
          <a:xfrm>
            <a:off x="2262240" y="298440"/>
            <a:ext cx="632124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Object 10"/>
          <p:cNvGraphicFramePr/>
          <p:nvPr/>
        </p:nvGraphicFramePr>
        <p:xfrm>
          <a:off x="755640" y="260280"/>
          <a:ext cx="12952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60280"/>
                    <a:ext cx="129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عنصر نائب للتذييل 6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908000" y="1483920"/>
            <a:ext cx="629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عند بحث فكرة قائمة تعتبر مثار للجدل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وجود تشاؤم او تفاؤل غير مبرر حول فكر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جس نب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ض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المجموعة حول قرار تم اتخاذه</a:t>
            </a:r>
            <a:r>
              <a:rPr b="1" lang="en-US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901880" y="298440"/>
            <a:ext cx="668160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4"/>
          <p:cNvGraphicFramePr/>
          <p:nvPr/>
        </p:nvGraphicFramePr>
        <p:xfrm>
          <a:off x="0" y="333360"/>
          <a:ext cx="24382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3360"/>
                    <a:ext cx="2438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تفكير غير مناسب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الحذ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المشاكل الاساسي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Lucida Sans Unicode"/>
              </a:rPr>
              <a:t>اخطاء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 المنط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النقد والرفض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Rectangle 4" descr=""/>
          <p:cNvPicPr/>
          <p:nvPr/>
        </p:nvPicPr>
        <p:blipFill>
          <a:blip r:embed="rId1"/>
          <a:stretch/>
        </p:blipFill>
        <p:spPr>
          <a:xfrm>
            <a:off x="2408400" y="298440"/>
            <a:ext cx="5340240" cy="1225440"/>
          </a:xfrm>
          <a:prstGeom prst="rect">
            <a:avLst/>
          </a:prstGeom>
          <a:ln w="0">
            <a:noFill/>
          </a:ln>
        </p:spPr>
      </p:pic>
      <p:sp>
        <p:nvSpPr>
          <p:cNvPr id="424" name="عنصر نائب للتذييل 5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ا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ت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حل المشاكل تحت القبعة السوداء فورا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ها قيمة و فائدة و ضرور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منع وقوع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اخطاء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الس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طحي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تفصل و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تبين الصعوبات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سبب مشاكل جمة اذا زاد استخدامها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4" descr=""/>
          <p:cNvPicPr/>
          <p:nvPr/>
        </p:nvPicPr>
        <p:blipFill>
          <a:blip r:embed="rId1"/>
          <a:stretch/>
        </p:blipFill>
        <p:spPr>
          <a:xfrm>
            <a:off x="2114640" y="298440"/>
            <a:ext cx="446220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Object 8"/>
          <p:cNvGraphicFramePr/>
          <p:nvPr/>
        </p:nvGraphicFramePr>
        <p:xfrm>
          <a:off x="324000" y="260280"/>
          <a:ext cx="167616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0280"/>
                    <a:ext cx="1676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عنصر نائب للتذييل 6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تركز على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إيجابي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و الفوائد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جدوى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مكاني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تطبيق المفهوم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و الفكر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تطلب بذل بعض الجهد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شجع الافكار الابداعية المبتكرة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قل تلقائية مقارنة بالقبعة السوداء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4" descr=""/>
          <p:cNvPicPr/>
          <p:nvPr/>
        </p:nvPicPr>
        <p:blipFill>
          <a:blip r:embed="rId1"/>
          <a:stretch/>
        </p:blipFill>
        <p:spPr>
          <a:xfrm>
            <a:off x="3054240" y="237960"/>
            <a:ext cx="3456000" cy="1146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Clown%20-%20yellow%20hat"/>
          <p:cNvPicPr/>
          <p:nvPr/>
        </p:nvPicPr>
        <p:blipFill>
          <a:blip r:embed="rId2"/>
          <a:stretch/>
        </p:blipFill>
        <p:spPr>
          <a:xfrm>
            <a:off x="179280" y="177336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437" name="عنصر نائب للتذييل 6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66640" y="1752480"/>
            <a:ext cx="71740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تركز على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بذل جهد ابداعي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عد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 الافكار و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زال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الاخطاء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تشجيع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ابتكا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Rectangle 4" descr=""/>
          <p:cNvPicPr/>
          <p:nvPr/>
        </p:nvPicPr>
        <p:blipFill>
          <a:blip r:embed="rId1"/>
          <a:stretch/>
        </p:blipFill>
        <p:spPr>
          <a:xfrm>
            <a:off x="2835360" y="328680"/>
            <a:ext cx="3962160" cy="1225440"/>
          </a:xfrm>
          <a:prstGeom prst="rect">
            <a:avLst/>
          </a:prstGeom>
          <a:ln w="0">
            <a:noFill/>
          </a:ln>
        </p:spPr>
      </p:pic>
      <p:sp>
        <p:nvSpPr>
          <p:cNvPr id="442" name="عنصر نائب للتذييل 5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في المواقف التال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عندما يصبح التطور و التحسين شيئا مهما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وجود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ضرورة لطرح بدائل و خيار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ضرورة طرح افكار جديد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طرح رؤية مختلفة تجاه امر ما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698040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4"/>
          <p:cNvGraphicFramePr/>
          <p:nvPr/>
        </p:nvGraphicFramePr>
        <p:xfrm>
          <a:off x="395280" y="836640"/>
          <a:ext cx="20574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لون محايد موضوعي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تختص ب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أرقام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و البيانات والمعلومات والإحصاء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3127320" y="109440"/>
            <a:ext cx="3548160" cy="1013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white-hat-seo"/>
          <p:cNvPicPr/>
          <p:nvPr/>
        </p:nvPicPr>
        <p:blipFill>
          <a:blip r:embed="rId2"/>
          <a:stretch/>
        </p:blipFill>
        <p:spPr>
          <a:xfrm>
            <a:off x="468360" y="1844640"/>
            <a:ext cx="2762280" cy="2521080"/>
          </a:xfrm>
          <a:prstGeom prst="rect">
            <a:avLst/>
          </a:prstGeom>
          <a:ln w="0">
            <a:noFill/>
          </a:ln>
        </p:spPr>
      </p:pic>
      <p:sp>
        <p:nvSpPr>
          <p:cNvPr id="451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في المواقف التال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طرح موقف جديد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ا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خاذ قرار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ذا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أ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صبح التفكير غير واقعي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سوية خلافات و اراء متباين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دارس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عرض ما او مفاوضته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895320" y="182520"/>
            <a:ext cx="67676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4" name="Object 4"/>
          <p:cNvGraphicFramePr/>
          <p:nvPr/>
        </p:nvGraphicFramePr>
        <p:xfrm>
          <a:off x="755640" y="476280"/>
          <a:ext cx="198108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76280"/>
                    <a:ext cx="1981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عنصر نائب للتذييل 4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في المواقف التال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نشوب نزاع او اختلاف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تخاذ قرار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وقت عامل حاسم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بحث و استقصاء امر ما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تفكير غير مركزا</a:t>
            </a:r>
            <a:r>
              <a:rPr b="1" lang="en-US" sz="3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66200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untitled"/>
          <p:cNvPicPr/>
          <p:nvPr/>
        </p:nvPicPr>
        <p:blipFill>
          <a:blip r:embed="rId2"/>
          <a:stretch/>
        </p:blipFill>
        <p:spPr>
          <a:xfrm>
            <a:off x="395280" y="1916280"/>
            <a:ext cx="3276720" cy="4176720"/>
          </a:xfrm>
          <a:prstGeom prst="rect">
            <a:avLst/>
          </a:prstGeom>
          <a:ln w="0">
            <a:noFill/>
          </a:ln>
        </p:spPr>
      </p:pic>
      <p:sp>
        <p:nvSpPr>
          <p:cNvPr id="460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2"/>
          <p:cNvSpPr txBox="1"/>
          <p:nvPr/>
        </p:nvSpPr>
        <p:spPr>
          <a:xfrm>
            <a:off x="2050920" y="2421000"/>
            <a:ext cx="504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ا هو التفكير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1" name="عنصر نائب للتذييل 2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115640" y="2525760"/>
            <a:ext cx="69850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تفكير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هو جهد أو نشاط عقلي يبذله الفرد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دون توقف عند النظر إلى الامور و يأخذ هذا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جهد صورا مختلفة كالمقارنة و الاستنباط و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تحليل و التركيب و التقويم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755720" y="347760"/>
            <a:ext cx="5632560" cy="1036440"/>
          </a:xfrm>
          <a:prstGeom prst="rect">
            <a:avLst/>
          </a:prstGeom>
          <a:ln w="0">
            <a:noFill/>
          </a:ln>
        </p:spPr>
      </p:pic>
      <p:sp>
        <p:nvSpPr>
          <p:cNvPr id="384" name="عنصر نائب للتذييل 3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0920" y="1773000"/>
            <a:ext cx="4583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700" spc="-1" strike="noStrike">
                <a:solidFill>
                  <a:srgbClr val="000000"/>
                </a:solidFill>
                <a:latin typeface="Lucida Sans Unicode"/>
              </a:rPr>
              <a:t>التفكير عند البشر مقسم الى ستة انماط تسمى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700" spc="-1" strike="noStrike">
                <a:solidFill>
                  <a:srgbClr val="000000"/>
                </a:solidFill>
                <a:latin typeface="Lucida Sans Unicode"/>
              </a:rPr>
              <a:t>        ”أنماط التفكير الست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700" spc="-1" strike="noStrike">
                <a:solidFill>
                  <a:srgbClr val="000000"/>
                </a:solidFill>
                <a:latin typeface="Lucida Sans Unicode"/>
              </a:rPr>
              <a:t>لكل نمط تفكير قبعة بلون محدد يرتديها الشخص حسب طريقة تفكيره في لحظة ما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603360" y="165240"/>
            <a:ext cx="8016840" cy="1073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6a00e54fafb9508834010535cfe543970b-800wi"/>
          <p:cNvPicPr/>
          <p:nvPr/>
        </p:nvPicPr>
        <p:blipFill>
          <a:blip r:embed="rId2"/>
          <a:stretch/>
        </p:blipFill>
        <p:spPr>
          <a:xfrm>
            <a:off x="5292720" y="1628640"/>
            <a:ext cx="3527280" cy="4321440"/>
          </a:xfrm>
          <a:prstGeom prst="rect">
            <a:avLst/>
          </a:prstGeom>
          <a:ln w="0">
            <a:noFill/>
          </a:ln>
        </p:spPr>
      </p:pic>
      <p:sp>
        <p:nvSpPr>
          <p:cNvPr id="388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دكتوراه  الطب و علم النفس و الفلسفة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مبتدع برنامج كورت لتطوير تفكير الاطفال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مبتدع تعبير و وسائل التفكير الابداعي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ستشاري لكثير من المؤسسات و الحكومات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4" descr=""/>
          <p:cNvPicPr/>
          <p:nvPr/>
        </p:nvPicPr>
        <p:blipFill>
          <a:blip r:embed="rId1"/>
          <a:stretch/>
        </p:blipFill>
        <p:spPr>
          <a:xfrm>
            <a:off x="2462040" y="328680"/>
            <a:ext cx="7871040" cy="115236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عنصر نائب للتذييل 6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4" descr=""/>
          <p:cNvPicPr/>
          <p:nvPr/>
        </p:nvPicPr>
        <p:blipFill>
          <a:blip r:embed="rId1"/>
          <a:stretch/>
        </p:blipFill>
        <p:spPr>
          <a:xfrm>
            <a:off x="407880" y="1047600"/>
            <a:ext cx="8169480" cy="1159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79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64646"/>
                </a:solidFill>
                <a:latin typeface="Akhbar MT"/>
              </a:rPr>
              <a:t>ادوارد</a:t>
            </a:r>
            <a:r>
              <a:rPr b="1" lang="ar-SA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ar-SA" sz="3600" spc="-1" strike="noStrike">
                <a:solidFill>
                  <a:srgbClr val="464646"/>
                </a:solidFill>
                <a:latin typeface="Akhbar MT"/>
              </a:rPr>
              <a:t>دي</a:t>
            </a:r>
            <a:r>
              <a:rPr b="1" lang="ar-SA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ar-SA" sz="3600" spc="-1" strike="noStrike">
                <a:solidFill>
                  <a:srgbClr val="464646"/>
                </a:solidFill>
                <a:latin typeface="Akhbar MT"/>
              </a:rPr>
              <a:t>بونو</a:t>
            </a: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عنصر نائب للتذييل 6"/>
          <p:cNvSpPr/>
          <p:nvPr/>
        </p:nvSpPr>
        <p:spPr>
          <a:xfrm>
            <a:off x="651672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e8f0f4"/>
                </a:solidFill>
                <a:latin typeface="Verdana"/>
              </a:rPr>
              <a:t>أ.أريج الهويد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616040" y="122400"/>
            <a:ext cx="6418440" cy="1438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2007010801110301"/>
          <p:cNvPicPr/>
          <p:nvPr/>
        </p:nvPicPr>
        <p:blipFill>
          <a:blip r:embed="rId2"/>
          <a:stretch/>
        </p:blipFill>
        <p:spPr>
          <a:xfrm>
            <a:off x="2050920" y="1052640"/>
            <a:ext cx="4838760" cy="5308560"/>
          </a:xfrm>
          <a:prstGeom prst="rect">
            <a:avLst/>
          </a:prstGeom>
          <a:ln w="0">
            <a:noFill/>
          </a:ln>
        </p:spPr>
      </p:pic>
      <p:sp>
        <p:nvSpPr>
          <p:cNvPr id="401" name="عنصر نائب للتذييل 3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6280" y="2525760"/>
            <a:ext cx="80010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رتباط القبعة بالرأس منطقة العقل والتفكي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سهولة ارتداء وخلع القبع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مرونة وإمكانية التبديل بين القبع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ربط التفكير برمز ولون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تسهيل التفكير وتبسيطه ولاكتساب الوق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مرونة في الطرح والتفكي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إعطاء المشاعر والعواطف دورا في التفكي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تنمية التفكير الابداعي الخلا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لتعرف على أنواع وأنماط التفكير المختلف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تحسين الاتصال مع الآخرين والتقليل من الخلاف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189160" y="146160"/>
            <a:ext cx="5559480" cy="1122120"/>
          </a:xfrm>
          <a:prstGeom prst="rect">
            <a:avLst/>
          </a:prstGeom>
          <a:ln w="0">
            <a:noFill/>
          </a:ln>
        </p:spPr>
      </p:pic>
      <p:sp>
        <p:nvSpPr>
          <p:cNvPr id="407" name="عنصر نائب للتذييل 3"/>
          <p:cNvSpPr/>
          <p:nvPr/>
        </p:nvSpPr>
        <p:spPr>
          <a:xfrm>
            <a:off x="6516720" y="6165720"/>
            <a:ext cx="235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12-18T19:10:48Z</dcterms:modified>
  <cp:revision>2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