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0C0-884E-41A8-B301-872C7003B5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313F-8FE6-40F8-BE14-26F4051DF7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216-45B6-4C62-9865-9AF5C8686A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78AA-7960-40AA-87AD-5FE8F272A5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3995-F5DC-4943-A841-6625DFC287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B81F-064F-4A87-A6F9-ECB13A01BA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89B-9C6A-4DD9-8C9E-ACE8FBF030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AF44-C7F9-4C75-9F86-7674738C09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527B-52CB-48BD-9B29-193E454C91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12E5-22BC-4E0F-9179-644E26A3C3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4E06-8CBD-4E3F-8AE0-3E930D819F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96D-0645-4949-844E-629B48D5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2B6-F9F3-4D30-B052-E20B6AC7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2B4-64B2-4DD6-81C0-1A8B6903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6D8-1171-4ADB-BA17-A964542E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2A7-2796-4B75-A281-2E1E76F0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5FB7-B87B-4815-A152-5E8BA273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53A8-7586-41A5-B2A6-142365A1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8B46-A882-4FCD-A1A5-2FB0B533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CA25-AA54-4C52-A548-65DBC7D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75FD-E42D-476A-93EB-1C83DA1F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BCA9-C9C1-4893-A08F-CA4E212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4B6-26F2-43ED-96C1-1D9D04E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F3BE-B7B6-4885-8BE0-EC00E71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DAB4-5498-4EC3-B85F-52B3640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8CF2-1A9D-40C7-887F-2D21BEF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1FD7-8F71-4AE5-B1B8-58771956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034E-9E21-4239-87ED-456126D1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F31F-AA1F-45F4-9882-838DF308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52B0-C7CE-4A03-96B9-A13ACA2C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6E44-4D64-40DE-879F-DB57883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721E-FEA2-4D63-98E4-B6FE0057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D180-441A-444C-B3B9-3F06C44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E7C-300B-4B91-881D-ACF8EFD1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4E91-A9C7-4FCE-BEF3-541BFBCC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5E21-E358-4164-9AA9-B7121863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E80A-1A52-40FC-9E02-35C9114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3D9D-E9EB-4B35-8470-45D0101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0813-5679-419B-B475-C9D67ABB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522A-8F0E-48F2-8F2E-287089C5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48FC-FBEB-4268-B7FB-DC8F87C6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9EBF-3C38-42BD-9B28-81C6A3C2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695F-E160-4F07-941E-A730610D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CAC4-FA07-4D18-9124-CCDB8F35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996-D6C1-4BF2-B3BC-C9DD57E4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5734-C332-4D25-9D0E-8BCC9F8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790F-D918-4744-9CFB-D9A30BB2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89B6-586A-418E-915F-34FFDEE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FCFF-2718-4DE2-8825-F63990D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5FA2-C005-4ED5-A558-7754CDB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5F79-30BD-45FA-BD5F-272B972A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B57F-B6FE-4EBE-A5D9-D29C4DF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0AF8-63F3-4D5F-88D1-D57101BE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0DAA-9BDF-48B4-8629-58ACD009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7ED82-0BDF-43F1-AA4C-321A935F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16A-C2DA-431E-B396-6B8AD84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0D40-2FB5-489A-A701-F03D0F0E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009C-1CF3-42BD-9AA2-4A5BED17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A3220-B7B5-4CC1-A4FA-256C2E5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3AB7-05FE-4EE5-A77B-64A8D702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4497B-FD46-4930-86E8-B116782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B92B-53CD-4EDF-A13B-B80C8FC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E512-8431-496F-8815-274B99E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838EE-E23B-45BB-96A2-5340C15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FBE6-FD0A-415B-AC1A-5508BD0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0ED5-202B-4A70-A190-EA765829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D3F-9C64-4E99-B02E-7DECF7E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884F-C813-477D-9928-701A9C8B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C753-26D0-41DD-8403-D97A462E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4057-ACF3-471C-84FA-3DAD56E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5B8E4-99F3-45B8-9D66-C67F289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C156-3D73-483D-A647-59AD3897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418D-9BED-4BAC-BB14-92C82EC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435F-1515-477A-85AD-76132F0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664B5-CE5B-491F-9F12-77DE9EF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39DA-80A0-4C4C-8B13-A69CD72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462E-9437-4B9A-91B8-E0C8997C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CDF-62BB-4C27-92AD-0714447C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42E4-09C4-4801-813F-14948CFB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2FEA-EFEE-437B-8FF0-8180AEA0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1B03-F73B-4593-B351-204EFAD2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90D23-7F33-43C6-94A1-C1C08E91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618B1-0F2B-4E23-829F-2E209118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E896-844F-4F5D-971C-F012EB7B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2710-24B6-45F5-9DD2-2DE87A9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0F25-79F7-407E-BF4E-6BB32DD0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4E32-D4F5-406D-9409-D52234C5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1671-E0C9-4EA7-8366-ECAF7B1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303-315D-48F6-BB0D-42C91D9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B5D5-D108-45C4-B3B7-639ADD5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7C76-7959-4216-961A-12A55A82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0717-EB77-4FE3-A19F-98CF545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9DB6D-B47A-4213-84C4-9D5CF5B4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5281-1C14-462B-9EF1-6EF8A6B6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527A1-224F-4B92-BDD7-46AC07C7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8EFA-B130-4B5F-96CB-035E545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32940-B1E4-4C53-ABF6-CDFCD246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AE2D-D14D-4F94-A5AF-C418BF1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96F3-283F-4925-A546-57FC319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050-E719-4385-8EE2-9CE2862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66923-B941-425B-BD77-0A82486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BBD3-3FFC-4D25-8B00-E3467104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F8E4E-8A1C-46A8-A517-253D0FFD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1F29-7BA4-4A6D-829D-64E0254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9C60A-8321-4930-BE9B-D7100D7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6DC6-DED5-4B01-805E-796E87FA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5944-3A30-4642-9518-EF592796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B43F-662B-4E84-B1B0-22CC265C5D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شكل حر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شكل حر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شكل حر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رابط مستقيم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e8f0f4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182E-5487-49C3-A1FE-5E57DA9ADD6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6BF8-CDB8-40AA-B7F4-E08AB8705FE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197-A87A-4F2E-B650-2A99B077921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D133-20AC-4F89-BF88-1275C35841B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شكل حر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شكل حر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DEC-98BB-42FC-9A51-C25A26F8365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2E2B-01E7-44EE-83C3-89692AF051B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شكل حر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شكل حر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مثلث قائم الزاوية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رابط مستقيم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288-4D68-4720-B078-2791D1F25D7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عنوان 5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عنصر نائب للتذييل 3"/>
          <p:cNvSpPr/>
          <p:nvPr/>
        </p:nvSpPr>
        <p:spPr>
          <a:xfrm>
            <a:off x="651672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e8f0f4"/>
                </a:solidFill>
                <a:latin typeface="Verdana"/>
              </a:rPr>
              <a:t>أ.أريج الهويد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النقاط الاساسية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لتعبير عن الاحاسيس و الشعور و الحدس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ا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ن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طالب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شرح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أ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سباب مشاعرنا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شعور داخلي مبني على خبراتنا و تجاربنا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4" descr=""/>
          <p:cNvPicPr/>
          <p:nvPr/>
        </p:nvPicPr>
        <p:blipFill>
          <a:blip r:embed="rId1"/>
          <a:stretch/>
        </p:blipFill>
        <p:spPr>
          <a:xfrm>
            <a:off x="2262240" y="298440"/>
            <a:ext cx="632124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Object 10"/>
          <p:cNvGraphicFramePr/>
          <p:nvPr/>
        </p:nvGraphicFramePr>
        <p:xfrm>
          <a:off x="755640" y="260280"/>
          <a:ext cx="12952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60280"/>
                    <a:ext cx="129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عنصر نائب للتذييل 6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908000" y="1483920"/>
            <a:ext cx="629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عند بحث فكرة قائمة تعتبر مثار للجدل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وجود تشاؤم او تفاؤل غير مبرر حول فكر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جس نب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ض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المجموعة حول قرار تم اتخاذه</a:t>
            </a:r>
            <a:r>
              <a:rPr b="1" lang="en-US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901880" y="298440"/>
            <a:ext cx="668160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4"/>
          <p:cNvGraphicFramePr/>
          <p:nvPr/>
        </p:nvGraphicFramePr>
        <p:xfrm>
          <a:off x="0" y="333360"/>
          <a:ext cx="24382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3360"/>
                    <a:ext cx="2438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تفكير غير مناسب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الحذ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المشاكل الاساسي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Lucida Sans Unicode"/>
              </a:rPr>
              <a:t>اخطاء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 المنط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</a:rPr>
              <a:t>النقد والرفض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Rectangle 4" descr=""/>
          <p:cNvPicPr/>
          <p:nvPr/>
        </p:nvPicPr>
        <p:blipFill>
          <a:blip r:embed="rId1"/>
          <a:stretch/>
        </p:blipFill>
        <p:spPr>
          <a:xfrm>
            <a:off x="2408400" y="298440"/>
            <a:ext cx="5340240" cy="1225440"/>
          </a:xfrm>
          <a:prstGeom prst="rect">
            <a:avLst/>
          </a:prstGeom>
          <a:ln w="0">
            <a:noFill/>
          </a:ln>
        </p:spPr>
      </p:pic>
      <p:sp>
        <p:nvSpPr>
          <p:cNvPr id="424" name="عنصر نائب للتذييل 5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ا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ت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حل المشاكل تحت القبعة السوداء فورا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ها قيمة و فائدة و ضرور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منع وقوع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اخطاء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الس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طحي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تفصل و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تبين الصعوبات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سبب مشاكل جمة اذا زاد استخدامها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4" descr=""/>
          <p:cNvPicPr/>
          <p:nvPr/>
        </p:nvPicPr>
        <p:blipFill>
          <a:blip r:embed="rId1"/>
          <a:stretch/>
        </p:blipFill>
        <p:spPr>
          <a:xfrm>
            <a:off x="2114640" y="298440"/>
            <a:ext cx="446220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Object 8"/>
          <p:cNvGraphicFramePr/>
          <p:nvPr/>
        </p:nvGraphicFramePr>
        <p:xfrm>
          <a:off x="324000" y="260280"/>
          <a:ext cx="167616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0280"/>
                    <a:ext cx="1676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عنصر نائب للتذييل 6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تركز على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إيجابي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و الفوائد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جدوى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مكاني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تطبيق المفهوم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و الفكر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تطلب بذل بعض الجهد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شجع الافكار الابداعية المبتكرة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قل تلقائية مقارنة بالقبعة السوداء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4" descr=""/>
          <p:cNvPicPr/>
          <p:nvPr/>
        </p:nvPicPr>
        <p:blipFill>
          <a:blip r:embed="rId1"/>
          <a:stretch/>
        </p:blipFill>
        <p:spPr>
          <a:xfrm>
            <a:off x="3054240" y="237960"/>
            <a:ext cx="3456000" cy="1146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Clown%20-%20yellow%20hat"/>
          <p:cNvPicPr/>
          <p:nvPr/>
        </p:nvPicPr>
        <p:blipFill>
          <a:blip r:embed="rId2"/>
          <a:stretch/>
        </p:blipFill>
        <p:spPr>
          <a:xfrm>
            <a:off x="179280" y="177336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437" name="عنصر نائب للتذييل 6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66640" y="1752480"/>
            <a:ext cx="71740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تركز على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بذل جهد ابداعي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عد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 الافكار و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زال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الاخطاء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تشجيع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ابتكا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Rectangle 4" descr=""/>
          <p:cNvPicPr/>
          <p:nvPr/>
        </p:nvPicPr>
        <p:blipFill>
          <a:blip r:embed="rId1"/>
          <a:stretch/>
        </p:blipFill>
        <p:spPr>
          <a:xfrm>
            <a:off x="2835360" y="328680"/>
            <a:ext cx="3962160" cy="1225440"/>
          </a:xfrm>
          <a:prstGeom prst="rect">
            <a:avLst/>
          </a:prstGeom>
          <a:ln w="0">
            <a:noFill/>
          </a:ln>
        </p:spPr>
      </p:pic>
      <p:sp>
        <p:nvSpPr>
          <p:cNvPr id="442" name="عنصر نائب للتذييل 5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في المواقف التال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عندما يصبح التطور و التحسين شيئا مهما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وجود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ضرورة لطرح بدائل و خيار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ضرورة طرح افكار جديد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طرح رؤية مختلفة تجاه امر ما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698040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4"/>
          <p:cNvGraphicFramePr/>
          <p:nvPr/>
        </p:nvGraphicFramePr>
        <p:xfrm>
          <a:off x="395280" y="836640"/>
          <a:ext cx="20574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لون محايد موضوعي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تختص ب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أرقام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و البيانات والمعلومات والإحصاء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3127320" y="109440"/>
            <a:ext cx="3548160" cy="1013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white-hat-seo"/>
          <p:cNvPicPr/>
          <p:nvPr/>
        </p:nvPicPr>
        <p:blipFill>
          <a:blip r:embed="rId2"/>
          <a:stretch/>
        </p:blipFill>
        <p:spPr>
          <a:xfrm>
            <a:off x="468360" y="1844640"/>
            <a:ext cx="2762280" cy="2521080"/>
          </a:xfrm>
          <a:prstGeom prst="rect">
            <a:avLst/>
          </a:prstGeom>
          <a:ln w="0">
            <a:noFill/>
          </a:ln>
        </p:spPr>
      </p:pic>
      <p:sp>
        <p:nvSpPr>
          <p:cNvPr id="451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في المواقف التال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طرح موقف جديد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ا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خاذ قرار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ذا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أ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صبح التفكير غير واقعي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سوية خلافات و اراء متباين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دارس</a:t>
            </a: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ة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 عرض ما او مفاوضته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895320" y="182520"/>
            <a:ext cx="67676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4" name="Object 4"/>
          <p:cNvGraphicFramePr/>
          <p:nvPr/>
        </p:nvGraphicFramePr>
        <p:xfrm>
          <a:off x="755640" y="476280"/>
          <a:ext cx="198108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76280"/>
                    <a:ext cx="1981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عنصر نائب للتذييل 4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في المواقف التالية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نشوب نزاع او اختلاف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تخاذ قرار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وقت عامل حاسم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لبحث و استقصاء امر ما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تفكير غير مركزا</a:t>
            </a:r>
            <a:r>
              <a:rPr b="1" lang="en-US" sz="3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66200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untitled"/>
          <p:cNvPicPr/>
          <p:nvPr/>
        </p:nvPicPr>
        <p:blipFill>
          <a:blip r:embed="rId2"/>
          <a:stretch/>
        </p:blipFill>
        <p:spPr>
          <a:xfrm>
            <a:off x="395280" y="1916280"/>
            <a:ext cx="3276720" cy="4176720"/>
          </a:xfrm>
          <a:prstGeom prst="rect">
            <a:avLst/>
          </a:prstGeom>
          <a:ln w="0">
            <a:noFill/>
          </a:ln>
        </p:spPr>
      </p:pic>
      <p:sp>
        <p:nvSpPr>
          <p:cNvPr id="460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2"/>
          <p:cNvSpPr txBox="1"/>
          <p:nvPr/>
        </p:nvSpPr>
        <p:spPr>
          <a:xfrm>
            <a:off x="2050920" y="2421000"/>
            <a:ext cx="504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ا هو التفكير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1" name="عنصر نائب للتذييل 2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115640" y="2525760"/>
            <a:ext cx="69850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تفكير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هو جهد أو نشاط عقلي يبذله الفرد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دون توقف عند النظر إلى الامور و يأخذ هذا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جهد صورا مختلفة كالمقارنة و الاستنباط و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التحليل و التركيب و التقويم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755720" y="347760"/>
            <a:ext cx="5632560" cy="1036440"/>
          </a:xfrm>
          <a:prstGeom prst="rect">
            <a:avLst/>
          </a:prstGeom>
          <a:ln w="0">
            <a:noFill/>
          </a:ln>
        </p:spPr>
      </p:pic>
      <p:sp>
        <p:nvSpPr>
          <p:cNvPr id="384" name="عنصر نائب للتذييل 3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0920" y="1773000"/>
            <a:ext cx="4583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700" spc="-1" strike="noStrike">
                <a:solidFill>
                  <a:srgbClr val="000000"/>
                </a:solidFill>
                <a:latin typeface="Lucida Sans Unicode"/>
              </a:rPr>
              <a:t>التفكير عند البشر مقسم الى ستة انماط تسمى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700" spc="-1" strike="noStrike">
                <a:solidFill>
                  <a:srgbClr val="000000"/>
                </a:solidFill>
                <a:latin typeface="Lucida Sans Unicode"/>
              </a:rPr>
              <a:t>        ”أنماط التفكير الست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700" spc="-1" strike="noStrike">
                <a:solidFill>
                  <a:srgbClr val="000000"/>
                </a:solidFill>
                <a:latin typeface="Lucida Sans Unicode"/>
              </a:rPr>
              <a:t>لكل نمط تفكير قبعة بلون محدد يرتديها الشخص حسب طريقة تفكيره في لحظة ما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603360" y="165240"/>
            <a:ext cx="8016840" cy="1073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6a00e54fafb9508834010535cfe543970b-800wi"/>
          <p:cNvPicPr/>
          <p:nvPr/>
        </p:nvPicPr>
        <p:blipFill>
          <a:blip r:embed="rId2"/>
          <a:stretch/>
        </p:blipFill>
        <p:spPr>
          <a:xfrm>
            <a:off x="5292720" y="1628640"/>
            <a:ext cx="3527280" cy="4321440"/>
          </a:xfrm>
          <a:prstGeom prst="rect">
            <a:avLst/>
          </a:prstGeom>
          <a:ln w="0">
            <a:noFill/>
          </a:ln>
        </p:spPr>
      </p:pic>
      <p:sp>
        <p:nvSpPr>
          <p:cNvPr id="388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دكتوراه  الطب و علم النفس و الفلسفة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مبتدع برنامج كورت لتطوير تفكير الاطفال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مبتدع تعبير و وسائل التفكير الابداعي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ستشاري لكثير من المؤسسات و الحكومات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4" descr=""/>
          <p:cNvPicPr/>
          <p:nvPr/>
        </p:nvPicPr>
        <p:blipFill>
          <a:blip r:embed="rId1"/>
          <a:stretch/>
        </p:blipFill>
        <p:spPr>
          <a:xfrm>
            <a:off x="2462040" y="328680"/>
            <a:ext cx="7871040" cy="115236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عنصر نائب للتذييل 6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4" descr=""/>
          <p:cNvPicPr/>
          <p:nvPr/>
        </p:nvPicPr>
        <p:blipFill>
          <a:blip r:embed="rId1"/>
          <a:stretch/>
        </p:blipFill>
        <p:spPr>
          <a:xfrm>
            <a:off x="407880" y="1047600"/>
            <a:ext cx="8169480" cy="1159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79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64646"/>
                </a:solidFill>
                <a:latin typeface="Akhbar MT"/>
              </a:rPr>
              <a:t>ادوارد</a:t>
            </a:r>
            <a:r>
              <a:rPr b="1" lang="ar-SA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ar-SA" sz="3600" spc="-1" strike="noStrike">
                <a:solidFill>
                  <a:srgbClr val="464646"/>
                </a:solidFill>
                <a:latin typeface="Akhbar MT"/>
              </a:rPr>
              <a:t>دي</a:t>
            </a:r>
            <a:r>
              <a:rPr b="1" lang="ar-SA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ar-SA" sz="3600" spc="-1" strike="noStrike">
                <a:solidFill>
                  <a:srgbClr val="464646"/>
                </a:solidFill>
                <a:latin typeface="Akhbar MT"/>
              </a:rPr>
              <a:t>بونو</a:t>
            </a: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عنصر نائب للتذييل 6"/>
          <p:cNvSpPr/>
          <p:nvPr/>
        </p:nvSpPr>
        <p:spPr>
          <a:xfrm>
            <a:off x="651672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e8f0f4"/>
                </a:solidFill>
                <a:latin typeface="Verdana"/>
              </a:rPr>
              <a:t>أ.أريج الهويد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616040" y="122400"/>
            <a:ext cx="6418440" cy="1438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2007010801110301"/>
          <p:cNvPicPr/>
          <p:nvPr/>
        </p:nvPicPr>
        <p:blipFill>
          <a:blip r:embed="rId2"/>
          <a:stretch/>
        </p:blipFill>
        <p:spPr>
          <a:xfrm>
            <a:off x="2050920" y="1052640"/>
            <a:ext cx="4838760" cy="5308560"/>
          </a:xfrm>
          <a:prstGeom prst="rect">
            <a:avLst/>
          </a:prstGeom>
          <a:ln w="0">
            <a:noFill/>
          </a:ln>
        </p:spPr>
      </p:pic>
      <p:sp>
        <p:nvSpPr>
          <p:cNvPr id="401" name="عنصر نائب للتذييل 3"/>
          <p:cNvSpPr/>
          <p:nvPr/>
        </p:nvSpPr>
        <p:spPr>
          <a:xfrm>
            <a:off x="6588000" y="623736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6280" y="2525760"/>
            <a:ext cx="80010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رتباط القبعة بالرأس منطقة العقل والتفكي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سهولة ارتداء وخلع القبع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مرونة وإمكانية التبديل بين القبع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ربط التفكير برمز ولون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عنصر نائب للتذييل 4"/>
          <p:cNvSpPr/>
          <p:nvPr/>
        </p:nvSpPr>
        <p:spPr>
          <a:xfrm>
            <a:off x="6588000" y="6308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تسهيل التفكير وتبسيطه ولاكتساب الوق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المرونة في الطرح والتفكي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إعطاء المشاعر والعواطف دورا في التفكير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تنمية التفكير الابداعي الخلا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لتعرف على أنواع وأنماط التفكير المختلف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Lucida Sans Unicode"/>
              </a:rPr>
              <a:t>لتحسين الاتصال مع الآخرين والتقليل من الخلافات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189160" y="146160"/>
            <a:ext cx="5559480" cy="1122120"/>
          </a:xfrm>
          <a:prstGeom prst="rect">
            <a:avLst/>
          </a:prstGeom>
          <a:ln w="0">
            <a:noFill/>
          </a:ln>
        </p:spPr>
      </p:pic>
      <p:sp>
        <p:nvSpPr>
          <p:cNvPr id="407" name="عنصر نائب للتذييل 3"/>
          <p:cNvSpPr/>
          <p:nvPr/>
        </p:nvSpPr>
        <p:spPr>
          <a:xfrm>
            <a:off x="6516720" y="6165720"/>
            <a:ext cx="235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Verdana"/>
              </a:rPr>
              <a:t>أ.أريج الهويدي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12-18T19:10:48Z</dcterms:modified>
  <cp:revision>2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