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AD6-91E2-426A-AAFF-8EF9A594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90B-6D26-4C41-8979-CD509DE5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8E0-F6E3-4A57-81C8-15EE0CCF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D33-BDBF-48DC-893B-48217EA2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142-DC0D-413D-BCE5-BC38723D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5AD-ABAB-4CC1-B5F6-BF48C2C7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290C-E50A-4693-BDD2-7A53AFF5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6E0-95D4-46B3-97E6-C01789EE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3F6-BA1A-4BE9-84CA-A1C1CE00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0BD-E628-422D-8EEF-BA2EA911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76C-6D30-4441-9EE2-D4683F3B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0AF-9791-4EBB-9EF2-6EF4EF6D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7ACF-B679-4892-A4CC-4D92099A3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صل الثالث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نموذج كينز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836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ميزانية المتوازن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ذا فرضت الدولة ضريبة ثابتة بنفس مقدار الزيادة في الإنفاق الحكومي سيتم تغير الدخل بنفس المقادار أي أن مضاعف الميزانية المتوازنة يساوي واح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539640" y="2852640"/>
                <a:ext cx="4248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360" y="1197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سياسة المالية والتوازن الاقتصادي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فجوة الانكماشية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ذا كان الاقتصاد يعاني من فجوة انكماشية فإن الدولة تطبق سياسة مالية توسعية عن طريق زيادة الإنفاق الحكومي أو تخفيض الضرائب مما يؤدي إلى زيادة الإنفاق الكلي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فجوة التضخمية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ذا كان الاقتصاد يعاني من فجوة تضخمية فإن الدولة تطبق سياسة مالية انكماشية عن طريق تخفيض الإنفاق الحكومي أو زيادة الضرائب مما يؤدي إلى انخفاض الإنفاق الكلي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765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تحقق التوازن في نموذج كينز البسيط عندما يتساوى الطلب الكلي (الإنفاق الكلي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مع العرض الكلي ( الناتج المحلي أو الدخل المحلي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ويتم التعبير عن شرط التوازن هذا بأحد الصيغتين التاليتي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جمالي الدخل المحلي  أو إجمالي الناتج المحلي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يساوي الإنفاق الكلي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=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=C+I+G+X-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حقن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+G+X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) = التسرب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+T+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تحديد مستوى التوازن في اقتصاد مفتوح وضريبة ثابت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3"/>
              <p:cNvSpPr txBox="1"/>
              <p:nvPr/>
            </p:nvSpPr>
            <p:spPr>
              <a:xfrm>
                <a:off x="826920" y="1557360"/>
                <a:ext cx="4537080" cy="439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مضاعفات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إنفاق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يوضح مقدار التغير في الدخل إذا تغير أحد المتغيرات التالية: الاستثمار، الإنفاق الحكومي والصادر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واردات: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يوضح مقدار التغير في الدخل إذا تغيرت الوارد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ضريبة الثابت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يوضح مقدار التغير في الدخل إذا تغيرت الضريبة الثابت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2"/>
              <p:cNvSpPr txBox="1"/>
              <p:nvPr/>
            </p:nvSpPr>
            <p:spPr>
              <a:xfrm>
                <a:off x="684360" y="1773360"/>
                <a:ext cx="22320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684360" y="3716280"/>
                <a:ext cx="19429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7"/>
              <p:cNvSpPr txBox="1"/>
              <p:nvPr/>
            </p:nvSpPr>
            <p:spPr>
              <a:xfrm>
                <a:off x="611280" y="5084640"/>
                <a:ext cx="1657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8360" y="69228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تحديد مستوى التوازن في اقتصاد مفتوح وضريبة نسب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684360" y="1484280"/>
                <a:ext cx="5182920" cy="40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مضاعفات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إنفاق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يوضح مقدار التغير في الدخل إذا تغير أحد المتغيرات التالية: الاستثمار، الإنفاق الحكومي والصادر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واردات: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يوضح مقدار التغير في الدخل إذا تغيرت الوارد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ضريبة النسبي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يوضح مقدار التغير في الدخل إذا تغيرت الضريبة النسب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"/>
              <p:cNvSpPr txBox="1"/>
              <p:nvPr/>
            </p:nvSpPr>
            <p:spPr>
              <a:xfrm>
                <a:off x="826920" y="1916280"/>
                <a:ext cx="237672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900000" y="3860640"/>
                <a:ext cx="1871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ΔG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1116000" y="5229360"/>
                <a:ext cx="20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765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نزحاف دالة الإنفاق الكلي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بشكل عام فإن زيادة كل من الاستثمار، الإنفاق الحكومي والصادرات سوف، يؤدي إلى إنزحاف دالة لإنفاق الكلي إلى أعلى وبشكل متوازي، والعكس صحي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زيادة الواردات والضريبة الثابتة، يؤدي إلى إنزحاف دالة لإنفاق الكلي إلى أسفل وبشكل متوازي، والعكس صحي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زيادة الضريبة النسبية، يؤدي إلى إنزحاف دالة لإنفاق الكلي إلى أسفل وبشكل غير متوازي، والعكس صحي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تحديد مستوى التوازن في اقتصاد مفتوح وضريبة مزدوج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684360" y="1484280"/>
                <a:ext cx="4824360" cy="374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y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مضاعف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إنفاق: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يوضح مقدار التغير في الدخل إذا تغير أحد المتغيرات التالية: الاستثمار، الإنفاق الحكومي والصادر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واردات: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وضح مقدار التغير في الدخل إذا تغيرت الوارد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611280" y="1844640"/>
                <a:ext cx="252072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539640" y="4437000"/>
                <a:ext cx="2303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0:30:42Z</dcterms:created>
  <dc:creator>help</dc:creator>
  <dc:description/>
  <dc:language>en-US</dc:language>
  <cp:lastModifiedBy>HELP</cp:lastModifiedBy>
  <dcterms:modified xsi:type="dcterms:W3CDTF">2014-01-18T17:42:07Z</dcterms:modified>
  <cp:revision>15</cp:revision>
  <dc:subject/>
  <dc:title>الفصل الثالث  نموذج كينز البسيط</dc:title>
</cp:coreProperties>
</file>