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F2E-F1E7-41C0-88D3-29938E00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A322-EA9C-403B-A6BE-B6C6998D2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F728-DAB1-441A-872A-BBBB445DB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66F5-4AA7-493B-9273-BE7BF92E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81C-A6C8-4AA2-B0DF-EAAC50EE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46F3-62CF-495B-A757-2F607B42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2B0-678E-4242-BC0B-DE642961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158B-4E09-41D9-BE23-744B66ED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159F-F27C-405F-8FDB-3D1D34E8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370-9E11-4F97-A65F-65AD3F45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84C-9A35-43F9-B778-B3CF9C32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CBC-CFE6-49A1-93BC-EC2F179B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8C88-DDE4-4C71-82A3-A627D560B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الفصل الثالث 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Calibri"/>
                <a:cs typeface="Times New Roman"/>
              </a:rPr>
              <a:t>نموذج كينز البسي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836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ميزانية المتوازن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ذا فرضت الدولة ضريبة ثابتة بنفس مقدار الزيادة في الإنفاق الحكومي سيتم تغير الدخل بنفس المقادار أي أن مضاعف الميزانية المتوازنة يساوي واح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2"/>
              <p:cNvSpPr txBox="1"/>
              <p:nvPr/>
            </p:nvSpPr>
            <p:spPr>
              <a:xfrm>
                <a:off x="539640" y="2852640"/>
                <a:ext cx="4248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360" y="119700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سياسة المالية والتوازن الاقتصادي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فجوة الانكماشية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ذا كان الاقتصاد يعاني من فجوة انكماشية فإن الدولة تطبق سياسة مالية توسعية عن طريق زيادة الإنفاق الحكومي أو تخفيض الضرائب مما يؤدي إلى زيادة الإنفاق الكلي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فجوة التضخمية: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ذا كان الاقتصاد يعاني من فجوة تضخمية فإن الدولة تطبق سياسة مالية انكماشية عن طريق تخفيض الإنفاق الحكومي أو زيادة الضرائب مما يؤدي إلى انخفاض الإنفاق الكلي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 algn="just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76500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يتحقق التوازن في نموذج كينز البسيط عندما يتساوى الطلب الكلي (الإنفاق الكلي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مع العرض الكلي ( الناتج المحلي أو الدخل المحلي)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ويتم التعبير عن شرط التوازن هذا بأحد الصيغتين التاليتين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إجمالي الدخل المحلي  أو إجمالي الناتج المحلي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 يساوي الإنفاق الكلي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=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=C+I+G+X-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الحقن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+G+X</a:t>
            </a:r>
            <a:r>
              <a:rPr b="0" lang="ar-SA" sz="2800" spc="-1" strike="noStrike">
                <a:solidFill>
                  <a:srgbClr val="000000"/>
                </a:solidFill>
                <a:latin typeface="Calibri"/>
                <a:ea typeface="Arial"/>
              </a:rPr>
              <a:t>) = التسرب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+T+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تحديد مستوى التوازن في اقتصاد مفتوح وضريبة ثابت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3"/>
              <p:cNvSpPr txBox="1"/>
              <p:nvPr/>
            </p:nvSpPr>
            <p:spPr>
              <a:xfrm>
                <a:off x="826920" y="1557360"/>
                <a:ext cx="4537080" cy="439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691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مضاعفات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إنفاق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يوضح مقدار التغير في الدخل إذا تغير أحد المتغيرات التالية: الاستثمار، الإنفاق الحكومي والصادر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واردات: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يوضح مقدار التغير في الدخل إذا تغيرت الوارد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ضريبة الثابت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يوضح مقدار التغير في الدخل إذا تغيرت الضريبة الثابت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2"/>
              <p:cNvSpPr txBox="1"/>
              <p:nvPr/>
            </p:nvSpPr>
            <p:spPr>
              <a:xfrm>
                <a:off x="684360" y="1773360"/>
                <a:ext cx="223200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4"/>
              <p:cNvSpPr txBox="1"/>
              <p:nvPr/>
            </p:nvSpPr>
            <p:spPr>
              <a:xfrm>
                <a:off x="684360" y="3716280"/>
                <a:ext cx="19429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7"/>
              <p:cNvSpPr txBox="1"/>
              <p:nvPr/>
            </p:nvSpPr>
            <p:spPr>
              <a:xfrm>
                <a:off x="611280" y="5084640"/>
                <a:ext cx="1657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68360" y="69228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تحديد مستوى التوازن في اقتصاد مفتوح وضريبة نسبية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684360" y="1484280"/>
                <a:ext cx="5182920" cy="40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مضاعفات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إنفاق: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يوضح مقدار التغير في الدخل إذا تغير أحد المتغيرات التالية: الاستثمار، الإنفاق الحكومي والصادر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واردات: 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cs typeface="Arial"/>
              </a:rPr>
              <a:t>يوضح مقدار التغير في الدخل إذا تغيرت الواردا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ضريبة النسبية</a:t>
            </a:r>
            <a:r>
              <a:rPr b="0" lang="ar-SA" sz="1800" spc="-1" strike="noStrike">
                <a:solidFill>
                  <a:srgbClr val="000000"/>
                </a:solidFill>
                <a:latin typeface="Calibri"/>
                <a:ea typeface="Arial"/>
              </a:rPr>
              <a:t>: يوضح مقدار التغير في الدخل إذا تغيرت الضريبة النسبي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"/>
              <p:cNvSpPr txBox="1"/>
              <p:nvPr/>
            </p:nvSpPr>
            <p:spPr>
              <a:xfrm>
                <a:off x="826920" y="1916280"/>
                <a:ext cx="2376720" cy="15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5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6"/>
              <p:cNvSpPr txBox="1"/>
              <p:nvPr/>
            </p:nvSpPr>
            <p:spPr>
              <a:xfrm>
                <a:off x="900000" y="3860640"/>
                <a:ext cx="187164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ΔG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7"/>
              <p:cNvSpPr txBox="1"/>
              <p:nvPr/>
            </p:nvSpPr>
            <p:spPr>
              <a:xfrm>
                <a:off x="1116000" y="5229360"/>
                <a:ext cx="2087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765000"/>
            <a:ext cx="822960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نزحاف دالة الإنفاق الكلي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بشكل عام فإن زيادة كل من الاستثمار، الإنفاق الحكومي والصادرات سوف، يؤدي إلى إنزحاف دالة لإنفاق الكلي إلى أعلى وبشكل متوازي، والعكس صحي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زيادة الواردات والضريبة الثابتة، يؤدي إلى إنزحاف دالة لإنفاق الكلي إلى أسفل وبشكل متوازي، والعكس صحي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 rtl="1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alibri"/>
                <a:cs typeface="Arial"/>
              </a:rPr>
              <a:t>زيادة الضريبة النسبية، يؤدي إلى إنزحاف دالة لإنفاق الكلي إلى أسفل وبشكل غير متوازي، والعكس صحي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 algn="just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تحديد مستوى التوازن في اقتصاد مفتوح وضريبة مزدوجة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2"/>
              <p:cNvSpPr txBox="1"/>
              <p:nvPr/>
            </p:nvSpPr>
            <p:spPr>
              <a:xfrm>
                <a:off x="684360" y="1484280"/>
                <a:ext cx="4824360" cy="374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M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T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y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Y</m:t>
                        </m:r>
                      </m:e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∘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المضاعفات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إنفاق: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ea typeface="Arial"/>
              </a:rPr>
              <a:t> يوضح مقدار التغير في الدخل إذا تغير أحد المتغيرات التالية: الاستثمار، الإنفاق الحكومي والصادر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60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Calibri"/>
                <a:cs typeface="Arial"/>
              </a:rPr>
              <a:t>مضاعف الواردات: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  <a:cs typeface="Arial"/>
              </a:rPr>
              <a:t>يوضح مقدار التغير في الدخل إذا تغيرت الوارد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2"/>
              <p:cNvSpPr txBox="1"/>
              <p:nvPr/>
            </p:nvSpPr>
            <p:spPr>
              <a:xfrm>
                <a:off x="611280" y="1844640"/>
                <a:ext cx="252072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I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G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f>
                          <m:num>
                            <m:r>
                              <m:t xml:space="preserve">ΔY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539640" y="4437000"/>
                <a:ext cx="2303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Y</m:t>
                        </m:r>
                      </m:num>
                      <m:den>
                        <m:r>
                          <m:t xml:space="preserve">ΔM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0:30:42Z</dcterms:created>
  <dc:creator>help</dc:creator>
  <dc:description/>
  <dc:language>en-US</dc:language>
  <cp:lastModifiedBy>HELP</cp:lastModifiedBy>
  <dcterms:modified xsi:type="dcterms:W3CDTF">2014-01-18T17:42:07Z</dcterms:modified>
  <cp:revision>15</cp:revision>
  <dc:subject/>
  <dc:title>الفصل الثالث  نموذج كينز البسيط</dc:title>
</cp:coreProperties>
</file>