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837-22CF-49AC-B2E4-888EFB62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FFB-FD69-4846-B189-365F451C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0AE-CD14-4D20-B158-9831DE20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F9D-922D-448C-BE62-440A9166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CF0B-DD37-411C-95C1-39A88E0C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BF13-1799-4C04-AA4D-014A802B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EC16-4FC4-483F-8D88-7885B40F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C25D-836F-4870-A6AE-7BF2397D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1702-F7EB-4107-BA21-D1ED672F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ABD7-6970-467E-A5D3-5B1D4A17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831-1335-4186-ACF7-2BD81C09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B71-1289-4CA9-92CC-3572E847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5021-ECE9-4EC0-854B-9F1258BC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7C33-BBFA-4ABD-94F5-D6E3F479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B56E-91CD-4678-B3F5-8BC16944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4999-EA34-455E-A3E5-F38AFAD3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AB9F-95AA-4CC5-9AE8-E929F0B9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FBC-3844-43FB-8178-D0DABDCA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FBF-DBF0-490E-A688-68FA9548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924-6840-46FC-A328-FE0E73E3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A10-5CEB-4A56-8615-72CC0F55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FF5-8752-4206-A055-18A93C2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297-252D-4C2E-9A59-A534FB0D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1DC-150A-4E69-B37C-5A69CDA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D2C5-C68C-4B10-BF93-D5910A72DFD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1D9B-099C-47F1-8B4B-530AD87A28F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200" spc="-1" strike="noStrike">
                <a:solidFill>
                  <a:srgbClr val="ffffff"/>
                </a:solidFill>
                <a:latin typeface="Arial"/>
              </a:rPr>
              <a:t>السلام عليكم   هل تحبين الزهور؟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زهرة 1"/>
          <p:cNvPicPr/>
          <p:nvPr/>
        </p:nvPicPr>
        <p:blipFill>
          <a:blip r:embed="rId1"/>
          <a:stretch/>
        </p:blipFill>
        <p:spPr>
          <a:xfrm>
            <a:off x="380880" y="1295280"/>
            <a:ext cx="8153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اجراءات و الانشطة الرقاب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مقابلة المخاطر المحيطة بأهداف المنظ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ها الاجراءات و الانشطة المحيطة بالسياسات المالية م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حص ، المعالجة للبيانات ، حماية الوجود الفعلي ، الفصل بين المسئوليات و السلط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ثال : النظام المحاسبي به العديد من وسائل الضبط الداخلي مثل دليل الحسابات ،الحسابات الاجمالية ، موازين المراجع ، مذكرة الج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متابعة و التحديث للإجراء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قييم جودة عملية الرقابة الداخلية باستمرار او بصفة غير منتظمة و بين التفرقة ب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هادفة الي الوقاية من الاخطاء المتعمدة و غير المتعمدة مثل (مسار مراجعة ، الاجراءات ، الفصل بين المهام ، حماية الاصول ، المراجعة الداخلية ، تقارير الاداء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هادفة الي اكتشاف الاخطاء مثل التكاليف المعيارية – محاسبة المسئولية – التقرير بالاستثناء  ”تحليل الانحرافات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سائل الرقابة المصححة ”العلاج ” التسوي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لاحظة من المسئول عن الرقابة ؟؟؟؟؟؟؟؟؟؟؟؟؟ ص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في نظم المعلومات المحاسبية ص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299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العامة ( البيئة  الموارد البشر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مدخ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تشغ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المخرج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راءات الرقابة علي قواعد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علي اجهزة الحاسبات الشخصية  ص 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وحة المفات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رقام الس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شف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لحم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م ترك الجهاز في مكان يسهل الوصول ال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كتشاف الاخط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اجراءات الرقابية علي الشبك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كزية و لا مركزية ا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رامج الحما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صل بين المه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اقبة الدخ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اقبة الوص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اجراءات الرقابية في ظل تطورات تكنولوجيا المعلومات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فهوم تكنولوجيا المعلوم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مفهوم امن المعلومات و عناص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خطط امن المعلوم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خطط امن المعلومات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ذي نريد ان نحميه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مخاطر التي تتطلب منه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 يتم توفير الحماي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 العمل ان تحقق المخاطر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ين تتجه المخاطر و التهديدات في بيئة المعلومات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ولا : في الغش و التلاعب  - الوس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انيا : التلف ل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الثا : تلف الاجه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ابعا : الشبك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امسا : مخاطر عا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Users\user\Desktop\الرقابة الداخلية.jpg"/>
          <p:cNvPicPr/>
          <p:nvPr/>
        </p:nvPicPr>
        <p:blipFill>
          <a:blip r:embed="rId1"/>
          <a:stretch/>
        </p:blipFill>
        <p:spPr>
          <a:xfrm>
            <a:off x="533520" y="1676520"/>
            <a:ext cx="7391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وحدة المراجع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C:\Users\user\Desktop\وحدة المراجعة الداخلية.gif"/>
          <p:cNvPicPr/>
          <p:nvPr/>
        </p:nvPicPr>
        <p:blipFill>
          <a:blip r:embed="rId1"/>
          <a:stretch/>
        </p:blipFill>
        <p:spPr>
          <a:xfrm>
            <a:off x="1677960" y="1600200"/>
            <a:ext cx="5788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200" spc="-1" strike="noStrike">
                <a:solidFill>
                  <a:srgbClr val="ffffff"/>
                </a:solidFill>
                <a:latin typeface="Arial"/>
              </a:rPr>
              <a:t>ايهما اجمل  هذه الورود ام تلك الزهور ؟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زهرة 4"/>
          <p:cNvPicPr/>
          <p:nvPr/>
        </p:nvPicPr>
        <p:blipFill>
          <a:blip r:embed="rId1"/>
          <a:stretch/>
        </p:blipFill>
        <p:spPr>
          <a:xfrm>
            <a:off x="0" y="152388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C:\Users\user\Desktop\نظام الرقابة الداخلية.png"/>
          <p:cNvPicPr/>
          <p:nvPr/>
        </p:nvPicPr>
        <p:blipFill>
          <a:blip r:embed="rId1"/>
          <a:stretch/>
        </p:blipFill>
        <p:spPr>
          <a:xfrm>
            <a:off x="787320" y="1600200"/>
            <a:ext cx="756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مراجعة و تقيي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C:\Users\user\Desktop\المراجعة و تقييم الرقابة الداخلية.jpg"/>
          <p:cNvPicPr/>
          <p:nvPr/>
        </p:nvPicPr>
        <p:blipFill>
          <a:blip r:embed="rId1"/>
          <a:stretch/>
        </p:blipFill>
        <p:spPr>
          <a:xfrm>
            <a:off x="0" y="16002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Arial"/>
              </a:rPr>
              <a:t>الفصل الثامن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ظمة الرقابة الداخ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انظمة الرقابة و الامن و الحماية لنظم المعلومات المحاسبية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nt"/>
          <p:cNvSpPr/>
          <p:nvPr/>
        </p:nvSpPr>
        <p:spPr>
          <a:xfrm>
            <a:off x="1371600" y="5181480"/>
            <a:ext cx="2286000" cy="1371600"/>
          </a:xfrm>
          <a:custGeom>
            <a:avLst/>
            <a:gdLst>
              <a:gd name="textAreaLeft" fmla="*/ 751320 w 2286000"/>
              <a:gd name="textAreaRight" fmla="*/ 1539360 w 2286000"/>
              <a:gd name="textAreaTop" fmla="*/ 640800 h 1371600"/>
              <a:gd name="textAreaBottom" fmla="*/ 861840 h 13716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oor"/>
          <p:cNvSpPr/>
          <p:nvPr/>
        </p:nvSpPr>
        <p:spPr>
          <a:xfrm>
            <a:off x="4119480" y="5867280"/>
            <a:ext cx="2281320" cy="609840"/>
          </a:xfrm>
          <a:custGeom>
            <a:avLst/>
            <a:gdLst>
              <a:gd name="textAreaLeft" fmla="*/ 281520 w 2281320"/>
              <a:gd name="textAreaRight" fmla="*/ 1415880 w 2281320"/>
              <a:gd name="textAreaTop" fmla="*/ 315720 h 609840"/>
              <a:gd name="textAreaBottom" fmla="*/ 5688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6007" y="127"/>
                </a:lnTo>
                <a:lnTo>
                  <a:pt x="4665" y="2541"/>
                </a:lnTo>
                <a:lnTo>
                  <a:pt x="3579" y="5209"/>
                </a:lnTo>
                <a:lnTo>
                  <a:pt x="2492" y="8259"/>
                </a:lnTo>
                <a:lnTo>
                  <a:pt x="1598" y="11308"/>
                </a:lnTo>
                <a:lnTo>
                  <a:pt x="959" y="14739"/>
                </a:lnTo>
                <a:lnTo>
                  <a:pt x="383" y="18169"/>
                </a:lnTo>
                <a:lnTo>
                  <a:pt x="0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rewall"/>
          <p:cNvSpPr/>
          <p:nvPr/>
        </p:nvSpPr>
        <p:spPr>
          <a:xfrm>
            <a:off x="6781680" y="5943600"/>
            <a:ext cx="1067040" cy="533520"/>
          </a:xfrm>
          <a:custGeom>
            <a:avLst/>
            <a:gdLst>
              <a:gd name="textAreaLeft" fmla="*/ 37440 w 1067040"/>
              <a:gd name="textAreaRight" fmla="*/ 1041120 w 1067040"/>
              <a:gd name="textAreaTop" fmla="*/ 554760 h 533520"/>
              <a:gd name="textAreaBottom" fmla="*/ 797760 h 53352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المحتوي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ريف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قومات  نظام الرقابة الداخ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كونات نظام الرقابة الداخ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اجراءات الرقابية في اربعة محا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IS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علي اجهزة الحاسب الشخص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علي الشبك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ظل تكنولوجيا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irewall"/>
          <p:cNvSpPr/>
          <p:nvPr/>
        </p:nvSpPr>
        <p:spPr>
          <a:xfrm>
            <a:off x="762120" y="2971800"/>
            <a:ext cx="2819160" cy="2743200"/>
          </a:xfrm>
          <a:custGeom>
            <a:avLst/>
            <a:gdLst>
              <a:gd name="textAreaLeft" fmla="*/ 99000 w 2819160"/>
              <a:gd name="textAreaRight" fmla="*/ 2750040 w 2819160"/>
              <a:gd name="textAreaTop" fmla="*/ 2851920 h 2743200"/>
              <a:gd name="textAreaBottom" fmla="*/ 4100040 h 274320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تعريف نظام الرقابة الداخلية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يع الوسائل التي توفرها المنشاة لتحقيق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اهداف الرقابة المحاس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اهداف الرقابة  الادا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ذكر الاهداف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irewall"/>
          <p:cNvSpPr/>
          <p:nvPr/>
        </p:nvSpPr>
        <p:spPr>
          <a:xfrm>
            <a:off x="1523880" y="2286000"/>
            <a:ext cx="2362320" cy="3276720"/>
          </a:xfrm>
          <a:custGeom>
            <a:avLst/>
            <a:gdLst>
              <a:gd name="textAreaLeft" fmla="*/ 83160 w 2362320"/>
              <a:gd name="textAreaRight" fmla="*/ 2304360 w 2362320"/>
              <a:gd name="textAreaTop" fmla="*/ 3406320 h 3276720"/>
              <a:gd name="textAreaBottom" fmla="*/ 4897440 h 327672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قومات 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- الخطة التنظيمية  (الخصائص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- العناصر البشرية المؤه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- نظام محاسبي متكامل و فع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- انظمة الضبط الداخ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 خصائ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1143360" y="1614600"/>
            <a:ext cx="1299960" cy="3628440"/>
            <a:chOff x="1143360" y="1614600"/>
            <a:chExt cx="1299960" cy="3628440"/>
          </a:xfrm>
        </p:grpSpPr>
        <p:sp>
          <p:nvSpPr>
            <p:cNvPr id="111" name="Gear"/>
            <p:cNvSpPr/>
            <p:nvPr/>
          </p:nvSpPr>
          <p:spPr>
            <a:xfrm flipH="1">
              <a:off x="1143000" y="1614600"/>
              <a:ext cx="579240" cy="1663560"/>
            </a:xfrm>
            <a:custGeom>
              <a:avLst/>
              <a:gdLst>
                <a:gd name="textAreaLeft" fmla="*/ 117360 w 579240"/>
                <a:gd name="textAreaRight" fmla="*/ 478440 w 579240"/>
                <a:gd name="textAreaTop" fmla="*/ 304560 h 1663560"/>
                <a:gd name="textAreaBottom" fmla="*/ 1359000 h 16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7"/>
            <p:cNvSpPr/>
            <p:nvPr/>
          </p:nvSpPr>
          <p:spPr>
            <a:xfrm flipH="1">
              <a:off x="1750680" y="2300040"/>
              <a:ext cx="692640" cy="1989000"/>
            </a:xfrm>
            <a:custGeom>
              <a:avLst/>
              <a:gdLst>
                <a:gd name="textAreaLeft" fmla="*/ 140040 w 692640"/>
                <a:gd name="textAreaRight" fmla="*/ 572040 w 692640"/>
                <a:gd name="textAreaTop" fmla="*/ 365040 h 1989000"/>
                <a:gd name="textAreaBottom" fmla="*/ 1623960 h 19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/>
            <p:cNvSpPr/>
            <p:nvPr/>
          </p:nvSpPr>
          <p:spPr>
            <a:xfrm flipH="1">
              <a:off x="1223640" y="3033720"/>
              <a:ext cx="770040" cy="2209320"/>
            </a:xfrm>
            <a:custGeom>
              <a:avLst/>
              <a:gdLst>
                <a:gd name="textAreaLeft" fmla="*/ 155880 w 770040"/>
                <a:gd name="textAreaRight" fmla="*/ 636480 w 770040"/>
                <a:gd name="textAreaTop" fmla="*/ 404640 h 2209320"/>
                <a:gd name="textAreaBottom" fmla="*/ 1803240 h 220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- مكونات نظام الرقابة الداخلية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يئة الرقا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مخاط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جراءات الرقابية ف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نظم المعلوم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الحاسب الشخص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الشبك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Arial"/>
              </a:rPr>
              <a:t>في ظل التطور التكنولوج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تابعة و تحديث الاجراءات (المراجعة الداخل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irewall"/>
          <p:cNvSpPr/>
          <p:nvPr/>
        </p:nvSpPr>
        <p:spPr>
          <a:xfrm>
            <a:off x="990720" y="2976480"/>
            <a:ext cx="2666880" cy="2205000"/>
          </a:xfrm>
          <a:custGeom>
            <a:avLst/>
            <a:gdLst>
              <a:gd name="textAreaLeft" fmla="*/ 93960 w 2666880"/>
              <a:gd name="textAreaRight" fmla="*/ 2601360 w 2666880"/>
              <a:gd name="textAreaTop" fmla="*/ 2292480 h 2205000"/>
              <a:gd name="textAreaBottom" fmla="*/ 3295800 h 220500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1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البيئة الرقابية  (المكونات)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وامل التي تشملها البيئة الرقاب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شراف و المتابعة ( فسم المراجعة الداخل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هيكل التنظيم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رق و نظم  الاتصال و نظم المعلومات  الفاعل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فلسفة الادارة و اسلوب العم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قسام و لجان المراجعة الداخلية  ( المهام ) تقوم بحصر الانحرافات و تحلي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سياسات و اجراءات الموظفين ( التنمية البشر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ؤثرات الخارجية ( نظام الشركات – هيئة سوق المال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مانة و القيم الاخلاقية الذاتية ( الرقابة الذاتية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4-2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</a:rPr>
              <a:t> تحديد و تقييم المخاطر ( المكونات )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نظمة تواجه مخاطر من الداخل او الخارج او كلاهم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مخاطر التي تؤثر علي الاهداف يجب التقرير عنها  ( مخاطر التقرير المالي“ أي مشكلة يؤدي الي عدم تحقيق الارباح تسمي خطر 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قدير  المخاطر و ادارة هذه المخاطر = تحديد المخاطر و تحليلها و تصميم الوسائل و الطرق الكفيلة بتخفيف اثارها و القضاء عليها اذا امك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اعدة كلما ذادت سيولة الاصل زادت درجة المخاطرة لسوء الاستخدام = يجب انشاء وسائل رقابية اكثر حماية ، وهذا يعتمد علي تحليل التكلفة و المنفعة عند بناء نظام رقابة داخلي خاص بالأصول التي ترتبط بسوء الاستغل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3:50:55Z</dcterms:created>
  <dc:creator>HOME</dc:creator>
  <dc:description/>
  <dc:language>en-US</dc:language>
  <cp:lastModifiedBy>user</cp:lastModifiedBy>
  <dcterms:modified xsi:type="dcterms:W3CDTF">2013-04-10T07:11:00Z</dcterms:modified>
  <cp:revision>10</cp:revision>
  <dc:subject/>
  <dc:title>الفصل الثامن</dc:title>
</cp:coreProperties>
</file>