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5810-21ED-40C6-B68A-C87DE9C9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8A0A-A0C3-4CCA-A284-BD9E5060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9996-8462-40BA-9DA8-A9B8D40E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833-624C-43BF-AB07-F388F1D6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3CD7-29BE-4E92-846C-32688AC5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BF8B-60DC-4FEA-A1AE-19F7B598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2EE1-D81B-42FB-BEA2-6CCA02EF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0521-933D-40F1-AFEB-D125112B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C638-DF8D-48B7-9D41-2856C57E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11A8-9E63-451E-948D-5C8538E0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0251-D0BE-4C8F-BDFC-CCEEF232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93FE-47B7-4AD7-AF8E-01072FE4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8318-A9F2-4DEA-8C88-0B72D9C4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AE19-C061-473F-B5EB-4AFE33D5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8E34-CB52-408A-A018-68C39D67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AAEC-3A3F-4F66-AAF0-98AD8EC3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9687-A202-48BF-971A-60C29E3C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4CFE-CD37-4EB8-B9BE-CD241EE9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CD05-82A8-4198-AF61-1B7D0D2E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406-8EBE-4665-9ACD-50FAC777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6F8-8410-4AD6-A2DA-BE554204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FDF9-A597-4B57-A4F7-95838591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55D-79AF-4DFB-98CC-84762BA9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406-AAD6-4FF5-9ED5-4E32299D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86CE-80FA-4FD5-967E-D1E49D3E56D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844C-60C0-4F64-A963-EA82CED6139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200" spc="-1" strike="noStrike">
                <a:solidFill>
                  <a:srgbClr val="ffffff"/>
                </a:solidFill>
                <a:latin typeface="Arial"/>
              </a:rPr>
              <a:t>السلام عليكم   هل تحبين الزهور؟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زهرة 1"/>
          <p:cNvPicPr/>
          <p:nvPr/>
        </p:nvPicPr>
        <p:blipFill>
          <a:blip r:embed="rId1"/>
          <a:stretch/>
        </p:blipFill>
        <p:spPr>
          <a:xfrm>
            <a:off x="380880" y="1295280"/>
            <a:ext cx="8153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-3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الاجراءات و الانشطة الرقاب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مقابلة المخاطر المحيطة بأهداف المنظ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ها الاجراءات و الانشطة المحيطة بالسياسات المالية م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فحص ، المعالجة للبيانات ، حماية الوجود الفعلي ، الفصل بين المسئوليات و السلط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ثال : النظام المحاسبي به العديد من وسائل الضبط الداخلي مثل دليل الحسابات ،الحسابات الاجمالية ، موازين المراجع ، مذكرة الج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-4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المتابعة و التحديث للإجراء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قييم جودة عملية الرقابة الداخلية باستمرار او بصفة غير منتظمة و بين التفرقة ب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سائل الرقابة الهادفة الي الوقاية من الاخطاء المتعمدة و غير المتعمدة مثل (مسار مراجعة ، الاجراءات ، الفصل بين المهام ، حماية الاصول ، المراجعة الداخلية ، تقارير الاداء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سائل الرقابة الهادفة الي اكتشاف الاخطاء مثل التكاليف المعيارية – محاسبة المسئولية – التقرير بالاستثناء  ”تحليل الانحرافات 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سائل الرقابة المصححة ”العلاج ” التسوي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لاحظة من المسئول عن الرقابة ؟؟؟؟؟؟؟؟؟؟؟؟؟ ص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الاجراءات الرقابية في نظم المعلومات المحاسبية ص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299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الرقابة العامة ( البيئة  الموارد البشر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الرقابة علي المدخل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الرقابة علي التشغ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الرقابة علي المخرج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الرقابة علي قواعد البيا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الاجراءات الرقابية علي اجهزة الحاسبات الشخصية  ص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وحة المفاتي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رقام الس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شف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مج الحما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دم ترك الجهاز في مكان يسهل الوصول ال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مج اكتشاف الاخط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اجراءات الرقابية علي الشبك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ركزية و لا مركزية المل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مج الحما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فصل بين المه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راقبة الدخ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راقبة الوص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الاجراءات الرقابية في ظل تطورات تكنولوجيا المعلومات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فهوم تكنولوجيا المعلوم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مفهوم امن المعلومات و عناص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خطط امن المعلومات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خطط امن المعلوم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ذي نريد ان نحميه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مخاطر التي تتطلب منها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يف يتم توفير الحماية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عمل ان تحقق المخاطر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اين تتجه المخاطر و التهديدات في بيئة المعلومات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ولا : في الغش و التلاعب  - الوسائ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انيا : التلف للمل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الثا : تلف الاجهز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بعا : الشبك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امسا : مخاطر عا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رقاب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C:\Users\user\Desktop\الرقابة الداخلية.jpg"/>
          <p:cNvPicPr/>
          <p:nvPr/>
        </p:nvPicPr>
        <p:blipFill>
          <a:blip r:embed="rId1"/>
          <a:stretch/>
        </p:blipFill>
        <p:spPr>
          <a:xfrm>
            <a:off x="533520" y="1676520"/>
            <a:ext cx="73911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وحدة المراجع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C:\Users\user\Desktop\وحدة المراجعة الداخلية.gif"/>
          <p:cNvPicPr/>
          <p:nvPr/>
        </p:nvPicPr>
        <p:blipFill>
          <a:blip r:embed="rId1"/>
          <a:stretch/>
        </p:blipFill>
        <p:spPr>
          <a:xfrm>
            <a:off x="1677960" y="1600200"/>
            <a:ext cx="5788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200" spc="-1" strike="noStrike">
                <a:solidFill>
                  <a:srgbClr val="ffffff"/>
                </a:solidFill>
                <a:latin typeface="Arial"/>
              </a:rPr>
              <a:t>ايهما اجمل  هذه الورود ام تلك الزهور ؟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زهرة 4"/>
          <p:cNvPicPr/>
          <p:nvPr/>
        </p:nvPicPr>
        <p:blipFill>
          <a:blip r:embed="rId1"/>
          <a:stretch/>
        </p:blipFill>
        <p:spPr>
          <a:xfrm>
            <a:off x="0" y="1523880"/>
            <a:ext cx="8686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نظام الرقاب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" descr="C:\Users\user\Desktop\نظام الرقابة الداخلية.png"/>
          <p:cNvPicPr/>
          <p:nvPr/>
        </p:nvPicPr>
        <p:blipFill>
          <a:blip r:embed="rId1"/>
          <a:stretch/>
        </p:blipFill>
        <p:spPr>
          <a:xfrm>
            <a:off x="787320" y="1600200"/>
            <a:ext cx="7569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مراجعة و تقييم الرقاب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C:\Users\user\Desktop\المراجعة و تقييم الرقابة الداخلية.jpg"/>
          <p:cNvPicPr/>
          <p:nvPr/>
        </p:nvPicPr>
        <p:blipFill>
          <a:blip r:embed="rId1"/>
          <a:stretch/>
        </p:blipFill>
        <p:spPr>
          <a:xfrm>
            <a:off x="0" y="16002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Arial"/>
              </a:rPr>
              <a:t>الفصل الثامن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ظمة الرقابة الداخ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” انظمة الرقابة و الامن و الحماية لنظم المعلومات المحاسبية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nt"/>
          <p:cNvSpPr/>
          <p:nvPr/>
        </p:nvSpPr>
        <p:spPr>
          <a:xfrm>
            <a:off x="1371600" y="5181480"/>
            <a:ext cx="2286000" cy="1371600"/>
          </a:xfrm>
          <a:custGeom>
            <a:avLst/>
            <a:gdLst>
              <a:gd name="textAreaLeft" fmla="*/ 751320 w 2286000"/>
              <a:gd name="textAreaRight" fmla="*/ 1539360 w 2286000"/>
              <a:gd name="textAreaTop" fmla="*/ 640800 h 1371600"/>
              <a:gd name="textAreaBottom" fmla="*/ 861840 h 13716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oor"/>
          <p:cNvSpPr/>
          <p:nvPr/>
        </p:nvSpPr>
        <p:spPr>
          <a:xfrm>
            <a:off x="4119480" y="5867280"/>
            <a:ext cx="2281320" cy="609840"/>
          </a:xfrm>
          <a:custGeom>
            <a:avLst/>
            <a:gdLst>
              <a:gd name="textAreaLeft" fmla="*/ 281520 w 2281320"/>
              <a:gd name="textAreaRight" fmla="*/ 1415880 w 2281320"/>
              <a:gd name="textAreaTop" fmla="*/ 315720 h 609840"/>
              <a:gd name="textAreaBottom" fmla="*/ 5688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irewall"/>
          <p:cNvSpPr/>
          <p:nvPr/>
        </p:nvSpPr>
        <p:spPr>
          <a:xfrm>
            <a:off x="6781680" y="5943600"/>
            <a:ext cx="1067040" cy="533520"/>
          </a:xfrm>
          <a:custGeom>
            <a:avLst/>
            <a:gdLst>
              <a:gd name="textAreaLeft" fmla="*/ 37440 w 1067040"/>
              <a:gd name="textAreaRight" fmla="*/ 1041120 w 1067040"/>
              <a:gd name="textAreaTop" fmla="*/ 554760 h 533520"/>
              <a:gd name="textAreaBottom" fmla="*/ 797760 h 53352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محتوي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ريف نظام الرقابة الداخ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مقومات  نظام الرقابة الداخ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مكونات نظام الرقابة الداخ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الاجراءات الرقابية في اربعة محاو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AIS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علي اجهزة الحاسب الشخص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علي الشبك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في ظل تكنولوجيا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irewall"/>
          <p:cNvSpPr/>
          <p:nvPr/>
        </p:nvSpPr>
        <p:spPr>
          <a:xfrm>
            <a:off x="762120" y="2971800"/>
            <a:ext cx="2819160" cy="2743200"/>
          </a:xfrm>
          <a:custGeom>
            <a:avLst/>
            <a:gdLst>
              <a:gd name="textAreaLeft" fmla="*/ 99000 w 2819160"/>
              <a:gd name="textAreaRight" fmla="*/ 2750040 w 2819160"/>
              <a:gd name="textAreaTop" fmla="*/ 2851920 h 2743200"/>
              <a:gd name="textAreaBottom" fmla="*/ 4100040 h 274320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تعريف نظام الرقابة الداخلية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ميع الوسائل التي توفرها المنشاة لتحقيق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اهداف الرقابة المحاسب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اهداف الرقابة  الادار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ذكر الاهداف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irewall"/>
          <p:cNvSpPr/>
          <p:nvPr/>
        </p:nvSpPr>
        <p:spPr>
          <a:xfrm>
            <a:off x="1523880" y="2286000"/>
            <a:ext cx="2362320" cy="3276720"/>
          </a:xfrm>
          <a:custGeom>
            <a:avLst/>
            <a:gdLst>
              <a:gd name="textAreaLeft" fmla="*/ 83160 w 2362320"/>
              <a:gd name="textAreaRight" fmla="*/ 2304360 w 2362320"/>
              <a:gd name="textAreaTop" fmla="*/ 3406320 h 3276720"/>
              <a:gd name="textAreaBottom" fmla="*/ 4897440 h 327672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مقومات نظام الرقاب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- الخطة التنظيمية  (الخصائص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8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خصائ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- العناصر البشرية المؤه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خصائ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- نظام محاسبي متكامل و فع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- انظمة الضبط الداخ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خصائ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1143360" y="1614600"/>
            <a:ext cx="1299960" cy="3628440"/>
            <a:chOff x="1143360" y="1614600"/>
            <a:chExt cx="1299960" cy="3628440"/>
          </a:xfrm>
        </p:grpSpPr>
        <p:sp>
          <p:nvSpPr>
            <p:cNvPr id="111" name="Gear"/>
            <p:cNvSpPr/>
            <p:nvPr/>
          </p:nvSpPr>
          <p:spPr>
            <a:xfrm flipH="1">
              <a:off x="1143000" y="1614600"/>
              <a:ext cx="579240" cy="1663560"/>
            </a:xfrm>
            <a:custGeom>
              <a:avLst/>
              <a:gdLst>
                <a:gd name="textAreaLeft" fmla="*/ 117360 w 579240"/>
                <a:gd name="textAreaRight" fmla="*/ 478440 w 579240"/>
                <a:gd name="textAreaTop" fmla="*/ 304560 h 1663560"/>
                <a:gd name="textAreaBottom" fmla="*/ 1359000 h 16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7"/>
            <p:cNvSpPr/>
            <p:nvPr/>
          </p:nvSpPr>
          <p:spPr>
            <a:xfrm flipH="1">
              <a:off x="1750680" y="2300040"/>
              <a:ext cx="692640" cy="1989000"/>
            </a:xfrm>
            <a:custGeom>
              <a:avLst/>
              <a:gdLst>
                <a:gd name="textAreaLeft" fmla="*/ 140040 w 692640"/>
                <a:gd name="textAreaRight" fmla="*/ 572040 w 692640"/>
                <a:gd name="textAreaTop" fmla="*/ 365040 h 1989000"/>
                <a:gd name="textAreaBottom" fmla="*/ 1623960 h 198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8"/>
            <p:cNvSpPr/>
            <p:nvPr/>
          </p:nvSpPr>
          <p:spPr>
            <a:xfrm flipH="1">
              <a:off x="1223640" y="3033720"/>
              <a:ext cx="770040" cy="2209320"/>
            </a:xfrm>
            <a:custGeom>
              <a:avLst/>
              <a:gdLst>
                <a:gd name="textAreaLeft" fmla="*/ 155880 w 770040"/>
                <a:gd name="textAreaRight" fmla="*/ 636480 w 770040"/>
                <a:gd name="textAreaTop" fmla="*/ 404640 h 2209320"/>
                <a:gd name="textAreaBottom" fmla="*/ 1803240 h 220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مكونات نظام الرقاب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بيئة الرقا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ديد المخاط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جراءات الرقابية ف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في نظم المعلوم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في الحاسب الشخص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في الشبك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في ظل التطور التكنولوج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تابعة و تحديث الاجراءات (المراجعة الداخل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irewall"/>
          <p:cNvSpPr/>
          <p:nvPr/>
        </p:nvSpPr>
        <p:spPr>
          <a:xfrm>
            <a:off x="990720" y="2976480"/>
            <a:ext cx="2666880" cy="2205000"/>
          </a:xfrm>
          <a:custGeom>
            <a:avLst/>
            <a:gdLst>
              <a:gd name="textAreaLeft" fmla="*/ 93960 w 2666880"/>
              <a:gd name="textAreaRight" fmla="*/ 2601360 w 2666880"/>
              <a:gd name="textAreaTop" fmla="*/ 2292480 h 2205000"/>
              <a:gd name="textAreaBottom" fmla="*/ 3295800 h 220500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-1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البيئة الرقابية  (المكونات)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عوامل التي تشملها البيئة الرقاب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اشراف و المتابعة ( فسم المراجعة الداخلية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هيكل التنظيم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طرق و نظم  الاتصال و نظم المعلومات  الفاع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فلسفة الادارة و اسلوب العم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قسام و لجان المراجعة الداخلية  ( المهام ) تقوم بحصر الانحرافات و تحليل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سياسات و اجراءات الموظفين ( التنمية البشرية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مؤثرات الخارجية ( نظام الشركات – هيئة سوق المال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امانة و القيم الاخلاقية الذاتية ( الرقابة الذاتية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-2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تحديد و تقييم المخاطر ( المكونات )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منظمة تواجه مخاطر من الداخل او الخارج او كلاهم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مخاطر التي تؤثر علي الاهداف يجب التقرير عنها  ( مخاطر التقرير المالي“ أي مشكلة يؤدي الي عدم تحقيق الارباح تسمي خطر 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قدير  المخاطر و ادارة هذه المخاطر = تحديد المخاطر و تحليلها و تصميم الوسائل و الطرق الكفيلة بتخفيف اثارها و القضاء عليها اذا امك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قاعدة كلما ذادت سيولة الاصل زادت درجة المخاطرة لسوء الاستخدام = يجب انشاء وسائل رقابية اكثر حماية ، وهذا يعتمد علي تحليل التكلفة و المنفعة عند بناء نظام رقابة داخلي خاص بالأصول التي ترتبط بسوء الاستغل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3:50:55Z</dcterms:created>
  <dc:creator>HOME</dc:creator>
  <dc:description/>
  <dc:language>en-US</dc:language>
  <cp:lastModifiedBy>user</cp:lastModifiedBy>
  <dcterms:modified xsi:type="dcterms:W3CDTF">2013-04-10T07:11:00Z</dcterms:modified>
  <cp:revision>10</cp:revision>
  <dc:subject/>
  <dc:title>الفصل الثامن</dc:title>
</cp:coreProperties>
</file>