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EAF89-9CDF-4A82-AFE1-637447104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DFB4-382C-4C56-B2F2-63CEBDD49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261D8-8CFA-4174-87EA-AB904A1CF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A37DE-AF1F-4169-8B26-ADDC1BAC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9AD6A-C07E-4063-84FA-D3BAC41F6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E64A7-9C5E-4D94-861D-BBCF40268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76BAD-7FCD-4942-8676-C5462416B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C6FBC-445F-4C79-AFE6-8986340FC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54778-DE74-4702-94F9-6B7F5B1A6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4BAA-577E-49C4-9275-B29D9EB4D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17092-D2DD-4ED5-860E-79BBC8BC6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14B19-3FE1-4631-8F3C-09B80F73E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CF587-241D-458F-B148-4BD5310C9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C77D0-95C5-4CAA-9645-6CAE60EB2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3E544-2E3A-4E11-B711-C362364E9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21639-9F1F-46D2-96D3-477BAF568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06D10-63A4-48C4-AF95-228BB9E1A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2A699-EC18-4337-B78B-F30EE5AB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78970-35B3-4CCA-A598-EEB989CCC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AE6AC-7CAD-4669-B6DD-A2ACEAF8B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F53C-4A6F-40CE-9F87-3CCCEA810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876C-6535-45B3-B2D5-6EE4B6091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67F3-C5E5-415D-9F67-49C1BAF1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3164-D15A-4530-9ECF-5B4B0DFAC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DC9D-021D-4AF0-96BE-9DBF0DD92EAC}"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E664-C5A9-405D-9CBC-36593F37FA9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47640" y="2060640"/>
            <a:ext cx="647712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500" spc="-1" strike="noStrike">
                <a:solidFill>
                  <a:srgbClr val="996600"/>
                </a:solidFill>
                <a:latin typeface="Garamond"/>
              </a:rPr>
              <a:t>الحمل</a:t>
            </a:r>
            <a:endParaRPr b="0" lang="en-US" sz="7500" spc="-1" strike="noStrike">
              <a:solidFill>
                <a:srgbClr val="006633"/>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ابع 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خامس : يبدأ الجنين بالنشاط ويحرك اطرافه ويمكن سماع نبض قلبه ، ويبدأ الشعر بالنمو ، كما يبدأ الأيض الجنيني.</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الشهر السادس : تبدأ معالم الجنين وتبدأ حواجبه بالنمو ويزداد الزغب ع جسمه ، ويكون اكثر نشاطا ويغير وضعه باستمرار.</a:t>
            </a:r>
            <a:endParaRPr b="0" lang="en-US" sz="3000" spc="-1" strike="noStrike">
              <a:solidFill>
                <a:srgbClr val="000000"/>
              </a:solidFill>
              <a:latin typeface="Arial"/>
            </a:endParaRPr>
          </a:p>
          <a:p>
            <a:pPr marL="315360" indent="-3153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سابع : يكون الجلد متغصناً وشفافاً ووردياً بعض الشيء ، وتظهر علامات تحكم الدماغ بالأعضاء الوظيفية ، كما ان قابلية الحياة في هذه المرحلة بنسبة </a:t>
            </a:r>
            <a:r>
              <a:rPr b="0" lang="en-US" sz="3000" spc="-1" strike="noStrike">
                <a:solidFill>
                  <a:srgbClr val="000000"/>
                </a:solidFill>
                <a:latin typeface="Arial"/>
              </a:rPr>
              <a:t>67</a:t>
            </a:r>
            <a:r>
              <a:rPr b="0" lang="en-US" sz="3000" spc="-1" strike="noStrike">
                <a:solidFill>
                  <a:srgbClr val="000000"/>
                </a:solidFill>
                <a:latin typeface="Arial"/>
              </a:rPr>
              <a:t>% لان الرئتين لا تزالان غير متطورتي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ابع 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Arial"/>
              </a:rPr>
              <a:t>الشهر الثامن : ادمة الجلد تبدأ بالتطور وتختفي التجاعيد ، ويبدأ الجهاز السمعي بالاستجابة حيث يكون في حالة اكتمال شبة تام، وتصبح وظائف الجهاز العضلي والعصبي اكثر نشاطاً .  </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الشهر التاسع : تكتمل وظائف الرئتين تماماً ، وتكون الاطراف مستديرة وكاملة اكثر ، حيث يكتمل تكوين الجنين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شاكل الناجمة عن مراحل الحمل(</a:t>
            </a:r>
            <a:r>
              <a:rPr b="0" lang="en-US" sz="4200" spc="-1" strike="noStrike">
                <a:solidFill>
                  <a:srgbClr val="006633"/>
                </a:solidFill>
                <a:latin typeface="Garamond"/>
              </a:rPr>
              <a:t>6</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فرط القيء لدى الحوامل : ويكون بسبب زيادة نسبة هرمون الإستروجين و الجوناتوتروبين وتكون شائعة فالحمل الاول والحمل في اكثر من جنين.</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حمل خارج الرحم : وهذا يعني ان البيضة الملقحة تتعلق في مكان غير الرحم وغالبا ما يكون في قناة فالوب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اجهاض : ويكون نتيجة مشاكل في كروموسومات الجنين .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ولادة المبكرة : ويمكن للحمال الولادة المبكرة لأسباب عديدة منها { ضعف الوزن ، ازمة مزمنة لدى الحامل ، عيب فالرحم ، مشاكل في المشيمة ... } وغيرها . </a:t>
            </a:r>
            <a:endParaRPr b="0" lang="en-US" sz="2600" spc="-1" strike="noStrike">
              <a:solidFill>
                <a:srgbClr val="000000"/>
              </a:solidFill>
              <a:latin typeface="Arial"/>
            </a:endParaRPr>
          </a:p>
          <a:p>
            <a:pPr marL="318960" indent="-31896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تساع عنق الرحم : ويكون باتساع عنق الرحم قبل وصول الحمل الى النهاية .</a:t>
            </a:r>
            <a:endParaRPr b="0" lang="en-US" sz="2600" spc="-1" strike="noStrike">
              <a:solidFill>
                <a:srgbClr val="000000"/>
              </a:solidFill>
              <a:latin typeface="Arial"/>
            </a:endParaRPr>
          </a:p>
          <a:p>
            <a:pPr marL="31896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اعتقادات الخاطئة في الحمل والولادة(</a:t>
            </a:r>
            <a:r>
              <a:rPr b="0" lang="en-US" sz="4200" spc="-1" strike="noStrike">
                <a:solidFill>
                  <a:srgbClr val="006633"/>
                </a:solidFill>
                <a:latin typeface="Garamond"/>
              </a:rPr>
              <a:t>7</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إذا كانت الولادات السابقه سهله- خاصة الأولي - فان الولادات التالية تكون أسهل :لكل ولادة ظروفها خاصة إذا كبر سن المرأة فقد يكون وضع الجنين في الولادة التالية غير طبيعي وقد لا يتسع عنق الرحم أو يكون حجم الجنين كبيرا أو يحدث خمول في انقباضات الرحم مما لم يحدث في الولادة السابقه الامر الذي قد يؤدي إلي تعثر الولادة عن الولادات السابقه .</a:t>
            </a:r>
            <a:endParaRPr b="0" lang="en-US" sz="2000" spc="-1" strike="noStrike">
              <a:solidFill>
                <a:srgbClr val="000000"/>
              </a:solidFill>
              <a:latin typeface="Arial"/>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عمليه القيصريه توجب الراحة التامة بعدها في السرير :البقاء راقدة علي الظهر لمده طويلة وبلا حركه يؤذي الاوردة وقد يؤدي إلي تكون جلطه في الساق ,لذلك الحركة هامه جدا وكلما زادت الحركة كلما كان الشفاء اسرع .</a:t>
            </a:r>
            <a:endParaRPr b="0" lang="en-US" sz="2000" spc="-1" strike="noStrike">
              <a:solidFill>
                <a:srgbClr val="000000"/>
              </a:solidFill>
              <a:latin typeface="Arial"/>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زيادة وزن الحامل يعطي مدلولا علي صحة ووزن المولود :من الطبيعي أن تزيد المرآة في الوزن أثناء الحمل من </a:t>
            </a:r>
            <a:r>
              <a:rPr b="0" lang="en-US" sz="2000" spc="-1" strike="noStrike">
                <a:solidFill>
                  <a:srgbClr val="000000"/>
                </a:solidFill>
                <a:latin typeface="Arial"/>
              </a:rPr>
              <a:t>7</a:t>
            </a:r>
            <a:r>
              <a:rPr b="0" lang="en-US" sz="2000" spc="-1" strike="noStrike">
                <a:solidFill>
                  <a:srgbClr val="000000"/>
                </a:solidFill>
                <a:latin typeface="Arial"/>
              </a:rPr>
              <a:t> إلي </a:t>
            </a:r>
            <a:r>
              <a:rPr b="0" lang="en-US" sz="2000" spc="-1" strike="noStrike">
                <a:solidFill>
                  <a:srgbClr val="000000"/>
                </a:solidFill>
                <a:latin typeface="Arial"/>
              </a:rPr>
              <a:t>13</a:t>
            </a:r>
            <a:r>
              <a:rPr b="0" lang="en-US" sz="2000" spc="-1" strike="noStrike">
                <a:solidFill>
                  <a:srgbClr val="000000"/>
                </a:solidFill>
                <a:latin typeface="Arial"/>
              </a:rPr>
              <a:t> كيلو جرام, أما الزيادة فوق ذلك فتستدعي العرض علي الطبيب حيث إن الزيادة المبالغ فيها قد تكون مؤشر لحدوث تسمم الحمل نتيجة احتباس السوائل في الجسم وارتفاع الضغط, وعلي صعيد آخر فإنه لا توجد علاقة بين وزن الام ووزن جنينها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05280" indent="-305280" algn="r" rtl="1">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ميه الاكل في الحمل يجب ان تكون الضعف لأنها تأكل لنفسها ولجنينها :إن نوعيه الاكل وليست كميته هي التي يجب التركيز عليها أثناء الحمل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تابع الاعتقادات الخاطئة في الحمل والولادة(</a:t>
            </a:r>
            <a:r>
              <a:rPr b="0" lang="en-US" sz="4200" spc="-1" strike="noStrike">
                <a:solidFill>
                  <a:srgbClr val="006633"/>
                </a:solidFill>
                <a:latin typeface="Garamond"/>
              </a:rPr>
              <a:t>7</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الحذق عند بدأ الولادة يسرعها :قيام السيدات بالحذق منذ بداية الاحساس بالطلق لفترات طويلة يسبب لهن وللجنين الاجهاد والإرهاق ,والأفضل أن يكون الحذق في المرحله الثانيه منها عند اتساع عنق الرحم الكامل ويكون لفترات قصيرة وبإرشاد الطبيب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تناول اي دواء اثناء الحمل يسبب بالضرورة تشوهات للجنين :قد يكون ذلك صحيح في بعض الادوية وليس كلها ولكن يفضل ألا تأخذ الحامل أي دواء إلا لضرورة وتحت اشراف طبي , والتشوه قد يحدث نتيجة مرض معدي مثل الحصبة الالماني أو لعامل وراثي أو بسبب التعرض لإشعاع أو مواد كيماويه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322200" algn="r" rtl="1">
              <a:lnSpc>
                <a:spcPct val="80000"/>
              </a:lnSpc>
              <a:spcBef>
                <a:spcPts val="5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000000"/>
                </a:solidFill>
                <a:latin typeface="Arial"/>
              </a:rPr>
              <a:t>شعور الحامل يحرقان المعده ناتج من شعر الجنين :تنتج الحموضة نتيجة لزيادة إفراز الحامض من المعده أو نتيجة ارتجاع الحمض إلي المري  لضعف العضله مما يؤدي إلي التهاب المري المعروف بالحموضة وليس من شعر الجنين .</a:t>
            </a:r>
            <a:br>
              <a:rPr sz="2300"/>
            </a:br>
            <a:r>
              <a:rPr b="0" lang="en-US" sz="2300" spc="-1" strike="noStrike">
                <a:solidFill>
                  <a:srgbClr val="000000"/>
                </a:solidFill>
                <a:latin typeface="Arial"/>
              </a:rPr>
              <a:t> </a:t>
            </a:r>
            <a:endParaRPr b="0" lang="en-US" sz="2300" spc="-1" strike="noStrike">
              <a:solidFill>
                <a:srgbClr val="000000"/>
              </a:solidFill>
              <a:latin typeface="Arial"/>
            </a:endParaRPr>
          </a:p>
          <a:p>
            <a:pPr marL="322200" indent="0" algn="r" rtl="1">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نصائح والإرشادات التي تقدم للأم الحامل(</a:t>
            </a:r>
            <a:r>
              <a:rPr b="0" lang="en-US" sz="4200" spc="-1" strike="noStrike">
                <a:solidFill>
                  <a:srgbClr val="006633"/>
                </a:solidFill>
                <a:latin typeface="Garamond"/>
              </a:rPr>
              <a:t>8</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توفير توازناً غذائياً دقيقاً واحتوائه ع العناصر الاساسية من بروتينات وفيتامينات والجلوكوز وغيرها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تحذير من محاولة تطبيق نظام رجيم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تحذير من المجهودات الجسمانية الكبيرة وعدم حمل الاشياء الثقيلة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خذ قسطاً من الراحة ومراعاة النوم </a:t>
            </a:r>
            <a:r>
              <a:rPr b="0" lang="en-US" sz="2600" spc="-1" strike="noStrike">
                <a:solidFill>
                  <a:srgbClr val="000000"/>
                </a:solidFill>
                <a:latin typeface="Arial"/>
              </a:rPr>
              <a:t>8</a:t>
            </a:r>
            <a:r>
              <a:rPr b="0" lang="en-US" sz="2600" spc="-1" strike="noStrike">
                <a:solidFill>
                  <a:srgbClr val="000000"/>
                </a:solidFill>
                <a:latin typeface="Arial"/>
              </a:rPr>
              <a:t> ساعات ليلاً وساعتين نهاراُ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ممارسة رياضة المشي والإكثار منها خلال الشهر السابع الى نهاية الحمل . </a:t>
            </a:r>
            <a:endParaRPr b="0" lang="en-US" sz="2600" spc="-1" strike="noStrike">
              <a:solidFill>
                <a:srgbClr val="000000"/>
              </a:solidFill>
              <a:latin typeface="Arial"/>
            </a:endParaRPr>
          </a:p>
          <a:p>
            <a:pPr lvl="1" marL="622800" indent="-302400" algn="r" rtl="1">
              <a:spcBef>
                <a:spcPts val="64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تجنب الاتصال الجنسي خلال الشهر التاسع تفاديا لحدوث الأخطاء . </a:t>
            </a:r>
            <a:endParaRPr b="0" lang="en-US" sz="2600" spc="-1" strike="noStrike">
              <a:solidFill>
                <a:srgbClr val="000000"/>
              </a:solidFill>
              <a:latin typeface="Arial"/>
            </a:endParaRPr>
          </a:p>
          <a:p>
            <a:pPr lvl="1" marL="62280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بعد النفسي للحمل(</a:t>
            </a:r>
            <a:r>
              <a:rPr b="0" lang="en-US" sz="4200" spc="-1" strike="noStrike">
                <a:solidFill>
                  <a:srgbClr val="006633"/>
                </a:solidFill>
                <a:latin typeface="Garamond"/>
              </a:rPr>
              <a:t>9</a:t>
            </a:r>
            <a:r>
              <a:rPr b="0" lang="en-US" sz="4200" spc="-1" strike="noStrike">
                <a:solidFill>
                  <a:srgbClr val="006633"/>
                </a:solidFill>
                <a:latin typeface="Garamond"/>
              </a:rPr>
              <a:t>)</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من الممكن ان تصاب الحامل بأمراض نفسية ومن اهمها اكتئاب الولادة ومشاعر الخوف والقلق والتوتر من الولادة وآلامها وخوفها من الموت أثناء الولادة هذه من اهم المشاكل النفسية التي من الممكن ان تأتي للمرأة الحامل وتحدث مشاكل  في هرموناتها ويزداد إفراز هرمون الاكتئاب ويبدأ يؤثر في نفسيتها بشكل كبير وهنا بحاجة إلى بعض التدريبات النفسية التي تساعدها على تخطي حالتها النفسية مهما كانت .</a:t>
            </a:r>
            <a:br>
              <a:rPr sz="2600"/>
            </a:br>
            <a:r>
              <a:rPr b="0" lang="hi-IN" sz="2600" spc="-1" strike="noStrike">
                <a:solidFill>
                  <a:srgbClr val="000000"/>
                </a:solidFill>
                <a:latin typeface="Arial"/>
              </a:rPr>
              <a:t>اما بالنسبة للطفل الذي تحمله فأنه يتأثر بالحالة النفسية وتظهر لديه مشاكل نفسية كالاكتئاب أو القلق والتوتر الذي يبان بالبكاء والعصبية وغيرها من المشاعر السلبية.</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اجع </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1</a:t>
            </a:r>
            <a:r>
              <a:rPr b="0" lang="en-US" sz="2600" spc="-1" strike="noStrike">
                <a:solidFill>
                  <a:srgbClr val="000000"/>
                </a:solidFill>
                <a:latin typeface="Arial"/>
              </a:rPr>
              <a:t>) علم نفس المراحل العمرية لـ د / عمر عبدالرحمن المفدى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2</a:t>
            </a:r>
            <a:r>
              <a:rPr b="0" lang="en-US" sz="2600" spc="-1" strike="noStrike">
                <a:solidFill>
                  <a:srgbClr val="000000"/>
                </a:solidFill>
                <a:latin typeface="Arial"/>
              </a:rPr>
              <a:t>) منتدى عالم الحياة الزوجية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3</a:t>
            </a:r>
            <a:r>
              <a:rPr b="0" lang="en-US" sz="2600" spc="-1" strike="noStrike">
                <a:solidFill>
                  <a:srgbClr val="000000"/>
                </a:solidFill>
                <a:latin typeface="Arial"/>
              </a:rPr>
              <a:t>) مكنون الاعجاز العلمي مقال البروفسور / مارشال جونسون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4</a:t>
            </a:r>
            <a:r>
              <a:rPr b="0" lang="en-US" sz="2600" spc="-1" strike="noStrike">
                <a:solidFill>
                  <a:srgbClr val="000000"/>
                </a:solidFill>
                <a:latin typeface="Arial"/>
              </a:rPr>
              <a:t>) رحلة الانسان في مراحل الخلق لـ / عبدالدائم الكحيل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5</a:t>
            </a:r>
            <a:r>
              <a:rPr b="0" lang="en-US" sz="2600" spc="-1" strike="noStrike">
                <a:solidFill>
                  <a:srgbClr val="000000"/>
                </a:solidFill>
                <a:latin typeface="Arial"/>
              </a:rPr>
              <a:t>) منتديات بيت حواء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6</a:t>
            </a:r>
            <a:r>
              <a:rPr b="0" lang="en-US" sz="2600" spc="-1" strike="noStrike">
                <a:solidFill>
                  <a:srgbClr val="000000"/>
                </a:solidFill>
                <a:latin typeface="Arial"/>
              </a:rPr>
              <a:t>) موقع فيدو مقال مشاكل الحمل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7</a:t>
            </a:r>
            <a:r>
              <a:rPr b="0" lang="en-US" sz="2600" spc="-1" strike="noStrike">
                <a:solidFill>
                  <a:srgbClr val="000000"/>
                </a:solidFill>
                <a:latin typeface="Arial"/>
              </a:rPr>
              <a:t>) منتدى سولان الكويتية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8</a:t>
            </a:r>
            <a:r>
              <a:rPr b="0" lang="en-US" sz="2600" spc="-1" strike="noStrike">
                <a:solidFill>
                  <a:srgbClr val="000000"/>
                </a:solidFill>
                <a:latin typeface="Arial"/>
              </a:rPr>
              <a:t>)جريدة </a:t>
            </a:r>
            <a:r>
              <a:rPr b="0" lang="en-US" sz="2600" spc="-1" strike="noStrike">
                <a:solidFill>
                  <a:srgbClr val="000000"/>
                </a:solidFill>
                <a:latin typeface="Arial"/>
              </a:rPr>
              <a:t>14</a:t>
            </a:r>
            <a:r>
              <a:rPr b="0" lang="en-US" sz="2600" spc="-1" strike="noStrike">
                <a:solidFill>
                  <a:srgbClr val="000000"/>
                </a:solidFill>
                <a:latin typeface="Arial"/>
              </a:rPr>
              <a:t> اكتوبر اليمنية بقلم الدكتورين اكرام عبدالسلام و احمد التاجي .</a:t>
            </a:r>
            <a:endParaRPr b="0" lang="en-US" sz="2600" spc="-1" strike="noStrike">
              <a:solidFill>
                <a:srgbClr val="000000"/>
              </a:solidFill>
              <a:latin typeface="Arial"/>
            </a:endParaRPr>
          </a:p>
          <a:p>
            <a:pPr marL="312120" indent="-31212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9</a:t>
            </a:r>
            <a:r>
              <a:rPr b="0" lang="en-US" sz="2600" spc="-1" strike="noStrike">
                <a:solidFill>
                  <a:srgbClr val="000000"/>
                </a:solidFill>
                <a:latin typeface="Arial"/>
              </a:rPr>
              <a:t>) منتديات مياسة عيادة الدكتور وليد الزهراني الإلكترونية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1557360"/>
            <a:ext cx="7623360" cy="1752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000" spc="-1" strike="noStrike">
                <a:solidFill>
                  <a:srgbClr val="006633"/>
                </a:solidFill>
                <a:latin typeface="Garamond"/>
              </a:rPr>
              <a:t>مدخل الى الحمل</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979280" y="3933360"/>
            <a:ext cx="6553080" cy="175284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ي اخطر المراحل نمو الانسان لان اعضاءه المختلفة تتكون خلالها .... بحيث يكون أي اختلال في هذي المرحلة يعتبر خلل في عملية النمو ويبقى مع الشخص طيلة حياته .</a:t>
            </a:r>
            <a:r>
              <a:rPr b="0" lang="en-US" sz="2800" spc="-1" strike="noStrike">
                <a:solidFill>
                  <a:srgbClr val="000000"/>
                </a:solidFill>
                <a:latin typeface="Arial"/>
              </a:rPr>
              <a:t>(</a:t>
            </a:r>
            <a:r>
              <a:rPr b="0" lang="en-US" sz="2800" spc="-1" strike="noStrike">
                <a:solidFill>
                  <a:srgbClr val="000000"/>
                </a:solidFill>
                <a:latin typeface="Arial"/>
              </a:rPr>
              <a:t>¹</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تعريف الحمل</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يقول عريب ابن سعيد القرطبي ,أن» مدة الحمل تدوم في الغالب تسعة اشهر.أي الوقت بين اكتمال القمر و بداية الشهر القادم و يستمر الحمل إلى </a:t>
            </a:r>
            <a:r>
              <a:rPr b="0" lang="ar-SA" sz="3000" spc="-1" strike="noStrike">
                <a:solidFill>
                  <a:srgbClr val="000000"/>
                </a:solidFill>
                <a:latin typeface="Arial"/>
              </a:rPr>
              <a:t>265</a:t>
            </a:r>
            <a:r>
              <a:rPr b="0" lang="ar-SA" sz="3000" spc="-1" strike="noStrike">
                <a:solidFill>
                  <a:srgbClr val="000000"/>
                </a:solidFill>
                <a:latin typeface="Arial"/>
              </a:rPr>
              <a:t>يوم ونصف. وهناك فرق بين أن يولد المولود بعد ثمانية اشهر و بين انه يكمل الشهر التاسع«.</a:t>
            </a:r>
            <a:br>
              <a:rPr sz="3000"/>
            </a:br>
            <a:r>
              <a:rPr b="0" lang="ar-SA"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²</a:t>
            </a:r>
            <a:r>
              <a:rPr b="0" lang="en-US" sz="3000" spc="-1" strike="noStrike">
                <a:solidFill>
                  <a:srgbClr val="000000"/>
                </a:solidFill>
                <a:latin typeface="Arial"/>
              </a:rPr>
              <a:t>)</a:t>
            </a:r>
            <a:r>
              <a:rPr b="0" lang="ar-SA" sz="3000" spc="-1" strike="noStrike">
                <a:solidFill>
                  <a:srgbClr val="000000"/>
                </a:solidFill>
                <a:latin typeface="Arial"/>
              </a:rPr>
              <a:t> </a:t>
            </a:r>
            <a:endParaRPr b="0" lang="en-US" sz="3000" spc="-1" strike="noStrike">
              <a:solidFill>
                <a:srgbClr val="000000"/>
              </a:solidFill>
              <a:latin typeface="Arial"/>
            </a:endParaRPr>
          </a:p>
          <a:p>
            <a:pPr marL="318960" indent="-31896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كما يرى محي الدين العلبي أن الحمل هو» حالة طبيعية مؤقتة تتلاءم معها المرأة الحامل لوجود كائن جديد في رحمها نتيجة لقاح نطفة الرجل مع البيضة الخاصة . </a:t>
            </a:r>
            <a:r>
              <a:rPr b="0" lang="en-US" sz="3000" spc="-1" strike="noStrike">
                <a:solidFill>
                  <a:srgbClr val="000000"/>
                </a:solidFill>
                <a:latin typeface="Arial"/>
              </a:rPr>
              <a:t>(</a:t>
            </a:r>
            <a:r>
              <a:rPr b="0" lang="en-US" sz="3000" spc="-1" strike="noStrike">
                <a:solidFill>
                  <a:srgbClr val="000000"/>
                </a:solidFill>
                <a:latin typeface="Arial"/>
              </a:rPr>
              <a:t>²</a:t>
            </a:r>
            <a:r>
              <a:rPr b="0" lang="en-US" sz="3000" spc="-1" strike="noStrike">
                <a:solidFill>
                  <a:srgbClr val="000000"/>
                </a:solidFill>
                <a:latin typeface="Arial"/>
              </a:rPr>
              <a:t>)</a:t>
            </a:r>
            <a:r>
              <a:rPr b="0" lang="ar-SA" sz="3000" spc="-1" strike="noStrike">
                <a:solidFill>
                  <a:srgbClr val="000000"/>
                </a:solidFill>
                <a:latin typeface="Arial"/>
              </a:rPr>
              <a:t> </a:t>
            </a:r>
            <a:br>
              <a:rPr sz="3000"/>
            </a:b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كيفية حدوث الحمل </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عملية الإخصاب والحمل ليست بالمهمة السهلة فالرحلة التي يجب على النطاف ان تقوم بها في المسالك الجنسية للمرأة حتى تصل إلى البويضة شاقة وطويلة. بالإضافة إلى أن مغامرات البويضة في محاولتها النمو تحت تأثير الهرمونات الأنثوية في النصف الأول من الدورة حتى تصبح على استعداد لاستضافة النطفة بعد خروجها من المبيض لاستقباله ثم محاولة نهاية البوق .يتم لقاء النطفة والبويضة في قناة فالوب وتحدث عملية التلقيح. تبدأ بعدها رحلة جديدة للبويضة الملقحة داخل الأنبوب في طريقها إلى الرحم سكنها الجديد، حيث تحاول أن تعيش في جدار بطانة الرحم الذي يكون قد استعد هو الآخر في تزامن عجيب بقدرة الله سبحانه وتعالى أن يهيئ الظروف لكي تغرس فيه البويضة الملقحة. إن فشل البويضة أو النطفة في ان تحقق أي مرحلة من تلك المراحل سيؤدي بالضرورة الى عدم حدوث الحمل. (</a:t>
            </a:r>
            <a:r>
              <a:rPr b="0" lang="en-US" sz="2600" spc="-1" strike="noStrike">
                <a:solidFill>
                  <a:srgbClr val="000000"/>
                </a:solidFill>
                <a:latin typeface="Arial"/>
              </a:rPr>
              <a:t>5</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مراحل الحمل </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نطفة الأمشاج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جنينية الاولى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مرحلة الجنينية الثانية . </a:t>
            </a:r>
            <a:r>
              <a:rPr b="0" lang="en-US" sz="3000" spc="-1" strike="noStrike">
                <a:solidFill>
                  <a:srgbClr val="000000"/>
                </a:solidFill>
                <a:latin typeface="Arial"/>
              </a:rPr>
              <a:t>(</a:t>
            </a:r>
            <a:r>
              <a:rPr b="0" lang="en-US" sz="3000" spc="-1" strike="noStrike">
                <a:solidFill>
                  <a:srgbClr val="000000"/>
                </a:solidFill>
                <a:latin typeface="Arial"/>
              </a:rPr>
              <a:t>¹</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نطفة الأمشاج </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حيث تستمر هذه المرحلة لمدة اسبوعين ، وتأخذ البيضة الملحقه شكل قطره وهذا يتفق تماماً مع  لفظ     { نطفة الأمشاج } والتي تعني اختلاط مائيين كما هو موضح بالصورة . (</a:t>
            </a:r>
            <a:r>
              <a:rPr b="0" lang="en-US" sz="3000" spc="-1" strike="noStrike">
                <a:solidFill>
                  <a:srgbClr val="000000"/>
                </a:solidFill>
                <a:latin typeface="Arial"/>
              </a:rPr>
              <a:t>³</a:t>
            </a:r>
            <a:r>
              <a:rPr b="0" lang="ar-SA" sz="3000" spc="-1" strike="noStrike">
                <a:solidFill>
                  <a:srgbClr val="000000"/>
                </a:solidFill>
                <a:latin typeface="Arial"/>
              </a:rPr>
              <a:t>)</a:t>
            </a: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7" name="" descr=""/>
          <p:cNvPicPr/>
          <p:nvPr/>
        </p:nvPicPr>
        <p:blipFill>
          <a:blip r:embed="rId1"/>
          <a:stretch/>
        </p:blipFill>
        <p:spPr>
          <a:xfrm>
            <a:off x="3851280" y="3284640"/>
            <a:ext cx="1197000" cy="281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جنينية الاولى </a:t>
            </a:r>
            <a:endParaRPr b="0" lang="en-US" sz="4200" spc="-1" strike="noStrike">
              <a:solidFill>
                <a:srgbClr val="006633"/>
              </a:solidFill>
              <a:latin typeface="Garamond"/>
            </a:endParaRPr>
          </a:p>
        </p:txBody>
      </p:sp>
      <p:sp>
        <p:nvSpPr>
          <p:cNvPr id="99"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تستمر الى نهاية الأسبوع الثامن [ نهاية الشهر الثاني تقريباً ] </a:t>
            </a:r>
            <a:r>
              <a:rPr b="0" lang="ar-SY" sz="3000" spc="-1" strike="noStrike">
                <a:solidFill>
                  <a:srgbClr val="000000"/>
                </a:solidFill>
                <a:latin typeface="Arial"/>
              </a:rPr>
              <a:t>في هذه المرحلة تبدأ الأجهزة المهمة بالتخلُّق مثل الجهاز العصبي والقلب</a:t>
            </a:r>
            <a:r>
              <a:rPr b="0" lang="ar-SA" sz="3000" spc="-1" strike="noStrike">
                <a:solidFill>
                  <a:srgbClr val="000000"/>
                </a:solidFill>
                <a:latin typeface="Arial"/>
              </a:rPr>
              <a:t> والدماغ، وتبدأ بعض الملامح بالظهور، يبدأ القلب ينبض، وتبدأ كثير من الأجهزة مثل الجهاز التنفسي والكليتين والكبد بالنمو السريع                                  وتنمو فيها العظام .(</a:t>
            </a:r>
            <a:r>
              <a:rPr b="0" lang="ar-SA" sz="3000" spc="-1" strike="noStrike">
                <a:solidFill>
                  <a:srgbClr val="000000"/>
                </a:solidFill>
                <a:latin typeface="Arial"/>
              </a:rPr>
              <a:t>4</a:t>
            </a:r>
            <a:r>
              <a:rPr b="0" lang="ar-SA" sz="3000" spc="-1" strike="noStrike">
                <a:solidFill>
                  <a:srgbClr val="000000"/>
                </a:solidFill>
                <a:latin typeface="Arial"/>
              </a:rPr>
              <a:t>)</a:t>
            </a:r>
            <a:endParaRPr b="0" lang="en-US" sz="3000" spc="-1" strike="noStrike">
              <a:solidFill>
                <a:srgbClr val="000000"/>
              </a:solidFill>
              <a:latin typeface="Arial"/>
            </a:endParaRPr>
          </a:p>
          <a:p>
            <a:pPr marL="34308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0" name="" descr=""/>
          <p:cNvPicPr/>
          <p:nvPr/>
        </p:nvPicPr>
        <p:blipFill>
          <a:blip r:embed="rId1"/>
          <a:stretch/>
        </p:blipFill>
        <p:spPr>
          <a:xfrm>
            <a:off x="1979640" y="3573360"/>
            <a:ext cx="1762200" cy="23036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6633"/>
                </a:solidFill>
                <a:latin typeface="Garamond"/>
              </a:rPr>
              <a:t>المرحلة الجنينية الثانية </a:t>
            </a:r>
            <a:endParaRPr b="0" lang="en-US" sz="4200" spc="-1" strike="noStrike">
              <a:solidFill>
                <a:srgbClr val="006633"/>
              </a:solidFill>
              <a:latin typeface="Garamond"/>
            </a:endParaRPr>
          </a:p>
        </p:txBody>
      </p:sp>
      <p:sp>
        <p:nvSpPr>
          <p:cNvPr id="102"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وهي من بداية الشهر الثالث الى نهاية الحمل ، </a:t>
            </a:r>
            <a:r>
              <a:rPr b="0" lang="ar-SY" sz="3000" spc="-1" strike="noStrike">
                <a:solidFill>
                  <a:srgbClr val="000000"/>
                </a:solidFill>
                <a:latin typeface="Arial"/>
              </a:rPr>
              <a:t>في هذه المرحلة يأخذ الجنين ملامحه النهائية، فتظهر الأطراف والعيون والأذنين وبقية أعضاء الجسد </a:t>
            </a:r>
            <a:r>
              <a:rPr b="0" lang="ar-SA" sz="3000" spc="-1" strike="noStrike">
                <a:solidFill>
                  <a:srgbClr val="000000"/>
                </a:solidFill>
                <a:latin typeface="Arial"/>
              </a:rPr>
              <a:t>وتبدأ الحركة ويبدأ النشاط الكهربائي للقلب.(</a:t>
            </a:r>
            <a:r>
              <a:rPr b="0" lang="ar-SA" sz="3000" spc="-1" strike="noStrike">
                <a:solidFill>
                  <a:srgbClr val="000000"/>
                </a:solidFill>
                <a:latin typeface="Arial"/>
              </a:rPr>
              <a:t>4</a:t>
            </a:r>
            <a:r>
              <a:rPr b="0" lang="ar-SA" sz="3000" spc="-1" strike="noStrike">
                <a:solidFill>
                  <a:srgbClr val="000000"/>
                </a:solidFill>
                <a:latin typeface="Arial"/>
              </a:rPr>
              <a:t>) </a:t>
            </a:r>
            <a:endParaRPr b="0" lang="en-US" sz="3000" spc="-1" strike="noStrike">
              <a:solidFill>
                <a:srgbClr val="000000"/>
              </a:solidFill>
              <a:latin typeface="Arial"/>
            </a:endParaRPr>
          </a:p>
        </p:txBody>
      </p:sp>
      <p:pic>
        <p:nvPicPr>
          <p:cNvPr id="103" name="" descr=""/>
          <p:cNvPicPr/>
          <p:nvPr/>
        </p:nvPicPr>
        <p:blipFill>
          <a:blip r:embed="rId1">
            <a:lum bright="-12000"/>
          </a:blip>
          <a:stretch/>
        </p:blipFill>
        <p:spPr>
          <a:xfrm>
            <a:off x="1619280" y="4797360"/>
            <a:ext cx="1368360" cy="924120"/>
          </a:xfrm>
          <a:prstGeom prst="rect">
            <a:avLst/>
          </a:prstGeom>
          <a:ln w="9360">
            <a:solidFill>
              <a:srgbClr val="ffff00"/>
            </a:solidFill>
            <a:miter/>
          </a:ln>
        </p:spPr>
      </p:pic>
      <p:pic>
        <p:nvPicPr>
          <p:cNvPr id="104" name="" descr=""/>
          <p:cNvPicPr/>
          <p:nvPr/>
        </p:nvPicPr>
        <p:blipFill>
          <a:blip r:embed="rId2">
            <a:lum bright="-6000"/>
          </a:blip>
          <a:stretch/>
        </p:blipFill>
        <p:spPr>
          <a:xfrm>
            <a:off x="3492360" y="4797360"/>
            <a:ext cx="1368720" cy="1027080"/>
          </a:xfrm>
          <a:prstGeom prst="rect">
            <a:avLst/>
          </a:prstGeom>
          <a:ln w="9360">
            <a:solidFill>
              <a:srgbClr val="ff0000"/>
            </a:solidFill>
            <a:miter/>
          </a:ln>
        </p:spPr>
      </p:pic>
      <p:pic>
        <p:nvPicPr>
          <p:cNvPr id="105" name="" descr=""/>
          <p:cNvPicPr/>
          <p:nvPr/>
        </p:nvPicPr>
        <p:blipFill>
          <a:blip r:embed="rId3">
            <a:lum bright="-6000"/>
          </a:blip>
          <a:stretch/>
        </p:blipFill>
        <p:spPr>
          <a:xfrm>
            <a:off x="5219640" y="4653000"/>
            <a:ext cx="1258920" cy="129708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6633"/>
                </a:solidFill>
                <a:latin typeface="Garamond"/>
              </a:rPr>
              <a:t>تطور الجنين من خلال الشهور </a:t>
            </a:r>
            <a:r>
              <a:rPr b="0" lang="en-US" sz="4200" spc="-1" strike="noStrike">
                <a:solidFill>
                  <a:srgbClr val="006633"/>
                </a:solidFill>
                <a:latin typeface="Garamond"/>
              </a:rPr>
              <a:t>(</a:t>
            </a:r>
            <a:r>
              <a:rPr b="0" lang="en-US" sz="4200" spc="-1" strike="noStrike">
                <a:solidFill>
                  <a:srgbClr val="006633"/>
                </a:solidFill>
                <a:latin typeface="Garamond"/>
              </a:rPr>
              <a:t>²</a:t>
            </a:r>
            <a:r>
              <a:rPr b="0" lang="en-US" sz="4200" spc="-1" strike="noStrike">
                <a:solidFill>
                  <a:srgbClr val="006633"/>
                </a:solidFill>
                <a:latin typeface="Garamond"/>
              </a:rPr>
              <a:t>)</a:t>
            </a:r>
            <a:r>
              <a:rPr b="0" lang="ar-SA" sz="4200" spc="-1" strike="noStrike">
                <a:solidFill>
                  <a:srgbClr val="006633"/>
                </a:solidFill>
                <a:latin typeface="Garamond"/>
              </a:rPr>
              <a:t> </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اول : في خلال هذا الشهر يتم الاخصاب و الإباضة وتنغرز البيضة في جدار الرحم ويبدأ الانبوب النخاعي وأنبوب القلب والدماغ البدائي والكلية بالتشكل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ثاني : يمكن رؤية الذراعين والقدمين والوجه بشكل واضح ، ويبدأ الدماغ بالنمو السريع ويصل حجمه نصف حجم الجسم تقريباً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ثالث : تتشكل قاعدة الأظافر ويصغر حجم الرأس نسبياً عن المرحلة السابقه . </a:t>
            </a:r>
            <a:endParaRPr b="0" lang="en-US" sz="2600" spc="-1" strike="noStrike">
              <a:solidFill>
                <a:srgbClr val="000000"/>
              </a:solidFill>
              <a:latin typeface="Arial"/>
            </a:endParaRPr>
          </a:p>
          <a:p>
            <a:pPr marL="329040" indent="-329040" algn="r" rtl="1">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600" spc="-1" strike="noStrike">
                <a:solidFill>
                  <a:srgbClr val="000000"/>
                </a:solidFill>
                <a:latin typeface="Arial"/>
              </a:rPr>
              <a:t>الشهر الرابع : تتطور المشيمة تطوراً كاملاً ويعوم الجنين بنشاط فالسائل الامنيوسي الموجود في الكيس الامنيوسي وتتطور الاعضاء وفروه الشعر ايضاً . </a:t>
            </a:r>
            <a:endParaRPr b="0" lang="en-US" sz="2600" spc="-1" strike="noStrike">
              <a:solidFill>
                <a:srgbClr val="000000"/>
              </a:solidFill>
              <a:latin typeface="Arial"/>
            </a:endParaRPr>
          </a:p>
          <a:p>
            <a:pPr marL="32904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30T09:04:48Z</dcterms:created>
  <dc:creator>user</dc:creator>
  <dc:description/>
  <dc:language>en-US</dc:language>
  <cp:lastModifiedBy>PC_Station</cp:lastModifiedBy>
  <dcterms:modified xsi:type="dcterms:W3CDTF">2010-12-18T18:13:23Z</dcterms:modified>
  <cp:revision>3</cp:revision>
  <dc:subject/>
  <dc:title>الحمل</dc:title>
</cp:coreProperties>
</file>