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AE3F-B47E-4922-B9AA-047D10EB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67D-1328-4387-A82D-CFAD7286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812-44BD-4629-ACC4-C7A119A4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A8DE-1461-4BC2-AC4B-4D7D74D4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BD54-180D-4BCB-908E-35ED698A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2853-B8EC-4503-9C8F-1125C2B2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0184-63D3-4FFB-921D-6A69B689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64DE-156A-4806-A9CD-8560F8EE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E0C9-DB11-4D36-A14A-DAD34C48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396C-E0E2-442C-BD49-6F557889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6C9D-B900-43ED-AD66-904F7187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689-6B46-46BD-B2C5-4556DBD3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4F0B-1B0F-48C8-BC82-E0B4900C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F39A-A8E6-453D-8FC6-A4163727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D139-619D-462B-B6C5-A65DB5E2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AFAB-0876-490A-AF6A-9E8DF19C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FD67-1009-4053-B059-660C615F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E5AC-1CB4-41A7-9C53-FCAB5A5B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888-45DC-4105-A16E-2AC08ACF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58D-F8B4-4D3A-BB79-4EB51EAF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C5C1-6DA6-423C-B572-1D5B8B4C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54D-4C3A-4196-B798-13BE71F9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4E0-5A94-46C5-AD32-2B0BB1C3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EC7E-5006-46A6-AA5B-E9E5D8CA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3222-922D-4D65-A230-3A7279457F1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582C-4832-44C1-BD0D-8F80B4A76CF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Arial"/>
              </a:rPr>
              <a:t>الفصل الخامس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واعد البيا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واعد ال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دارة قواعد البيانات ( برامج قواعد البيان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هياكل قاعدة البيانات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هرم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شبك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لائقي سنتناوله بالشر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نظم ادارة قواعد البيانات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عريف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عما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يفية ادارة قواعد البيانات رسم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ستخدام قواعد البيان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قالة و التدري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نتيجة الاختبار الفصلي الاول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عنصر نائب للمحتوى 3" descr=""/>
          <p:cNvPicPr/>
          <p:nvPr/>
        </p:nvPicPr>
        <p:blipFill>
          <a:blip r:embed="rId1"/>
          <a:stretch/>
        </p:blipFill>
        <p:spPr>
          <a:xfrm>
            <a:off x="558720" y="1549440"/>
            <a:ext cx="802656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مفهوم قاعدة البيانات و اهميتها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اعدة (الهيكل او التسلسل 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 ث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سم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ل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سج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ق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نص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وحدة الب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همية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قاط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نشاء قاعدة بيانات (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ces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new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nk A. D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Tables( tables – new- field- type – description ) f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a prima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انشاء جدول عن طريق المعالج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izard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in my new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– prima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ble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ablishing a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ablishing a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قواميس البيانات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ه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هام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غرض من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9:20:56Z</dcterms:created>
  <dc:creator>HOME</dc:creator>
  <dc:description/>
  <dc:language>en-US</dc:language>
  <cp:lastModifiedBy>Goodluck</cp:lastModifiedBy>
  <dcterms:modified xsi:type="dcterms:W3CDTF">2013-10-30T09:16:02Z</dcterms:modified>
  <cp:revision>12</cp:revision>
  <dc:subject/>
  <dc:title>الفصل الخامس </dc:title>
</cp:coreProperties>
</file>