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1DD-FCA9-45A9-A5EE-95463B37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4F5-5BBD-40F5-B217-4485D60C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28FE-26C0-411C-8274-2D1D37AA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99A-DD42-43B8-A4B4-BD50AA18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8D31-EF5C-42FA-943A-32FDC794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F368-5709-40D2-A088-00E6344A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375B-F1AE-4526-B730-C3E58C35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EEDF-81BE-4615-8983-E5BFBECB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FAF7-3CB1-4B89-9BC6-DB485707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2014-6C91-44BB-A14D-BCDA6573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DC21-78EC-4DB8-805C-383AD73E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5D0E-8672-4E71-999B-B08099F4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89C9-EAD4-4692-810D-D69BE1E9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271D-8917-4198-9122-BBCCD96E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2666-BA37-4AFD-8899-FA729F62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2EDF-780C-4E88-9CC2-761B1E68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3259-FF45-4ABC-A668-EA8B3788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F13-2C86-48CB-BF57-51161B9A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873B-99BE-4102-AE8F-F66F341E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546-7C2C-4E60-8A7A-0CA6D8A1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754-F744-44A7-BE41-52E7C168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A90E-AC7B-47D6-947D-84AA919B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59F1-7A97-49E2-A78A-FBEE4909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136-F7CC-4D39-B48A-FC14A9F7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EEBF-B142-4BA3-9814-15F44578048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4D46-DABA-44E8-B26D-039A074178A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Arial"/>
              </a:rPr>
              <a:t>الفصل الخامس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واعد البيا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واعد ال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دارة قواعد البيانات ( برامج قواعد البيان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هياكل قاعدة البيانات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هرم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شبك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لائقي سنتناوله بالشر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نظم ادارة قواعد البيانات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عريف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عما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يفية ادارة قواعد البيانات رسم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ستخدام قواعد البيان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قالة و التدري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نتيجة الاختبار الفصلي الاول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عنصر نائب للمحتوى 3" descr=""/>
          <p:cNvPicPr/>
          <p:nvPr/>
        </p:nvPicPr>
        <p:blipFill>
          <a:blip r:embed="rId1"/>
          <a:stretch/>
        </p:blipFill>
        <p:spPr>
          <a:xfrm>
            <a:off x="558720" y="1549440"/>
            <a:ext cx="802656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مفهوم قاعدة البيانات و اهميتها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اعدة (الهيكل او التسلسل 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 ث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سم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ل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سج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ق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نص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وحدة الب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همية 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قاط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نشاء قاعدة بيانات (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ces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new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nk A. D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Tables( tables – new- field- type – description ) f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a prima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انشاء جدول عن طريق المعالج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izard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in my new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– prima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ble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ablishing a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ablishing a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قواميس البيانات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ه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هام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غرض من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9:20:56Z</dcterms:created>
  <dc:creator>HOME</dc:creator>
  <dc:description/>
  <dc:language>en-US</dc:language>
  <cp:lastModifiedBy>Goodluck</cp:lastModifiedBy>
  <dcterms:modified xsi:type="dcterms:W3CDTF">2013-10-30T09:16:02Z</dcterms:modified>
  <cp:revision>12</cp:revision>
  <dc:subject/>
  <dc:title>الفصل الخامس </dc:title>
</cp:coreProperties>
</file>