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764-FEF8-4B5C-89C3-917FAF28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97F-55EE-4017-807F-BDD6B504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938-CCA4-493F-9BD6-8CFD4CC3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C39-1852-4059-8AC7-077CE2C0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64FE-F629-4DFD-8BDC-398CF30A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A782-82BE-4BCF-98F7-A6348534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E070-EAFD-4576-8CC1-BC9AFB09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38BE-E57C-44D5-A3B9-E6ECA5BA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A572-68D5-4AF5-9945-392FFE1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3DD-51DF-457D-A5FE-05D6D090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C6AC-BBE0-4FD2-B6D6-D187D761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9FD-6F2C-409D-BFFF-7440CBA0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4FCD-C16B-47F8-A739-847DD2A7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F3AB-7AF0-4B1C-908E-B569F43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105E-1355-4A04-9577-77C1A4AD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26AE-8DC3-47AC-B90F-AE822C49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3BC2-8D56-4F5E-8D65-D2F3169A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D44-C4C5-4023-800C-E46311F9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D38-ABBD-4398-A784-557FF09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F27-E385-4968-8833-E6387927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2D4-9C02-4FAC-9F21-E594D5C7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20D-0DA4-4E47-AAD7-1C0DE3C9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AA6-F062-470A-8783-32F54608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0F3-DA8F-4127-89F3-3BFB1911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DB42-A67D-4EFA-AE61-B3DEEEAEA64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73AA-D239-414B-8F7D-6525B6C24BB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الفصل الخامس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اعد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اعد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دارة قواعد البيانات ( برامج قواعد البيان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هياكل قاعدة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رم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ب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لائقي سنتناوله بالش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ظم ادارة قواعد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ي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ا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ية ادارة قواعد البيانات رس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ستخدام قواعد البيان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قالة و التدر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تيجة الاختبار الفصلي الاو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58720" y="1549440"/>
            <a:ext cx="80265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فهوم قاعدة البيانات و اهميته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اعدة (الهيكل او التسلسل 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 ث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سم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ل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ج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ق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نص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حدة ال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هم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قاط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نشاء قاعدة بيانات (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 A.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ables( tables – new- field- type – description )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a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نشاء جدول عن طريق المعالج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izard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in my new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– 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blishing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blishing a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قواميس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م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غرض من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9:20:56Z</dcterms:created>
  <dc:creator>HOME</dc:creator>
  <dc:description/>
  <dc:language>en-US</dc:language>
  <cp:lastModifiedBy>Goodluck</cp:lastModifiedBy>
  <dcterms:modified xsi:type="dcterms:W3CDTF">2013-10-30T09:16:02Z</dcterms:modified>
  <cp:revision>12</cp:revision>
  <dc:subject/>
  <dc:title>الفصل الخامس </dc:title>
</cp:coreProperties>
</file>