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4F9-2178-4A61-84C3-3EC4A1A5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96E-5453-41A5-B29D-C66DBBA3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C19-1529-4551-831C-FE629ABB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2F5-E7B0-4DB3-B4A4-30217CD0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DD76-88FE-43F0-86F5-8EB3CD6D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154F-49E1-4270-A761-E97DCD9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DCA9-A92C-4BD3-8793-4C5174D6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255B-B721-4423-B789-E3F157F2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0405-B12C-4129-A904-98A62963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D7F3-BAB1-48C5-A468-6265F209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D0E2-33CE-4688-96EA-D1C31BDD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069-D6DF-45A8-9D26-5F447871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F8D-803D-4772-ADED-D909331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E91B-1E73-429B-85AE-97D69A1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0B61-B061-4D62-ACE5-6E5C04B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0ECB-43D9-480E-9AB1-94918136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713C-1B60-4368-8178-BD476452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6B7-5FA3-41B2-B983-0B73E108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0F3-4D23-4B02-AB11-5EB4C0AA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5D8-079A-45F7-B3DA-E965A940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DD3-7153-485E-ABF3-29512716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0AC-3455-495C-8378-9F22AE3A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80B-AD03-4C24-8E14-64533F25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374-E485-4C46-A07F-6C564964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5541-476A-4554-B1C1-E13D9F54D91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F931-4FEF-4814-B258-DD37C019599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الفصل الخامس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اعد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اعد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دارة قواعد البيانات ( برامج قواعد البيان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هياكل قاعدة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رم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ب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لائقي سنتناوله بالش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ظم ادارة قواعد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ي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ا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ية ادارة قواعد البيانات رس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ستخدام قواعد البيان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قالة و التدر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تيجة الاختبار الفصلي الاو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58720" y="1549440"/>
            <a:ext cx="80265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فهوم قاعدة البيانات و اهميته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اعدة (الهيكل او التسلسل 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 ث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سم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ل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ج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ق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نص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حدة ال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هم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قاط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نشاء قاعدة بيانات (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 A.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ables( tables – new- field- type – description )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a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نشاء جدول عن طريق المعالج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izard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in my new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– 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blishing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blishing a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قواميس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م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غرض من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9:20:56Z</dcterms:created>
  <dc:creator>HOME</dc:creator>
  <dc:description/>
  <dc:language>en-US</dc:language>
  <cp:lastModifiedBy>Goodluck</cp:lastModifiedBy>
  <dcterms:modified xsi:type="dcterms:W3CDTF">2013-10-30T09:16:02Z</dcterms:modified>
  <cp:revision>12</cp:revision>
  <dc:subject/>
  <dc:title>الفصل الخامس </dc:title>
</cp:coreProperties>
</file>