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16A-F114-4132-A1C7-F0DC305D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DBF-9646-45C4-AF66-7650F0D3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308-E278-4806-B34A-054B0542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017-EAEA-43C0-B207-FC7D7197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1123-BFB2-4456-B89F-F628F580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6290-3069-439E-85EA-4CC40C55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F5CB-FB92-4C21-9C87-58E70744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2306-6531-47BB-9EE4-A2AB68AE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E467-18DE-4B56-B406-216758B4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B2CA-FAFA-4660-A1B1-2D245F02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538F-DB56-4090-90E1-167198B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F34-E2BE-4D84-B78F-2D38175E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A579-06B2-41B3-897A-55BBC3A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574B-22BD-4216-A9B8-6A1CB92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80D1-90C7-4A6B-848C-13BD7298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D953-45F4-4412-93A5-EFB5F9AC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2CE1-149E-4EB9-98CC-957DFACC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17A7A-E920-43C9-8EE0-ECB71F7C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F3266-C348-4FBE-99E4-FE16EF34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CA106-6EBB-4480-97FF-A6A7CD2A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0EAFB-0820-44AA-A648-298D5278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9E837-D29C-4ED6-9217-1C41B301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2F0-DCF3-4FF9-841C-FFD62CCE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CBAE0-05F9-4C45-8E45-AE122A79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CB0BE-874E-449A-9F2F-6B6CAF8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4F806-9BAD-459A-9279-B05D3C5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72B5D-FB2D-430A-82F6-339987C6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F5281-913E-4A0A-8077-E2313ABF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173F7-84A6-4F0F-9413-A396DDF6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7EE63-7AF3-4F79-A471-893C0B10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E86B0-453C-46C8-84AE-52520BB0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394B0-65F5-47BD-B5E1-AAAF6EB9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B78EE-3BDC-4E77-9DEB-262E6D1F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E7C-5B15-41C5-853D-3AF2085C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2CC51-A347-4234-9DBA-0B88C919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F55C5-CA6F-4E82-B9AE-8CD69827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B9D69-2996-46C8-AC63-74EF7106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79D27-DA28-4B7C-8615-C500F16B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280C5-E2DB-4892-B07C-A7B20F50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F5896-DFD0-4337-8BC4-1088C83F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C8B88-D031-4FB0-A1C9-B9709229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D477C-9B15-4950-BAE6-E425D4A6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03FA9-F368-440A-AA92-C4CCDB9D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9ADFC-6BD5-4AED-936B-312B723B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00D-11A3-4E41-8D2E-6BF04942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6EA78-B3DC-4919-A503-26373706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05C33-E3A2-4893-8317-763E8818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A2598-0C2C-432D-851E-BDB72743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5F38F-FF55-4EA8-A995-2C78584C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F6B29-FAB4-4E56-AFF1-9997ABE4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E098D-CE47-4599-BFAA-3DBB70F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61BC7-389A-483A-BA06-D14779F3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F1319-31D7-4948-A251-9F28E344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F35B2-1794-4354-8FE8-CF173716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A630E-3844-4881-9D96-551B6F69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C85-C9E1-49C8-84F2-E5A50C11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66CE5-D9EC-48D1-93EB-C28F00ED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6D052-7F83-4634-B305-45D9D74C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24A36-6B0E-48A7-9017-9167CE93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17258-8BA8-4FBA-A5BD-9D77130B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7CB5-2F32-4EDD-9EEC-2679A567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81C11-5ACA-41DC-B76A-2E39D4A9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7CBD-C136-424D-B08D-80190E3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1ABA-1475-4182-9B37-7CBCFB09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B3115-52B4-4968-BC3E-9D4090F6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A6BD-9FC1-48C8-B84D-88F7842C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4ED-3543-493E-A2B9-0A9794BF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8F51E-3C48-41DD-AD30-CA944816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5C278-F9F4-489B-A00B-E315488C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AA6EC-8A79-4EBE-A8AA-F0F9526A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63FCC-C686-453B-AFD5-2BE4493F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0D718-136C-4435-BC3D-83666BFF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BAF4E-C689-4432-A9CD-5FCE4AF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617E8-870D-4CC2-B8D2-C81ECA1C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9C369-666D-4A22-AF19-78DF61D0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CC566-3EEC-4AB6-950D-46258C38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F87A1-1B65-455E-B9DB-BBC36D9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A6F-A6EA-477B-AD86-D591DDB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F0E49-57A8-4BFE-93C2-EBE0AB5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9C967-911B-43E9-A991-B3C0BF4A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641FB-C42B-45F7-A7EA-1563018D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81353-6280-461F-9A99-E22D03A8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21EA3-E468-4149-B21D-01B46446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4534-6DC1-4B98-B11F-10F0F12D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921D5-8173-4A9D-B088-B214050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B54E0-2990-42B2-83B9-F16FC3A1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6EEE-BEBA-44E2-A1CE-8DA342A6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CC462-6EDF-483E-8AA3-FE8CAE36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D71-353E-49FD-9724-CB070453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8F1EA-2178-4C56-8EBD-604B4D62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A6777-918B-48CC-88A1-9F7F907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12A5-E3FC-4539-A22E-C5413A8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A41F1-6D8B-418A-8E9B-56F68127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1705E-346F-45F5-B9FC-8CB32B0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3EEC0-6FBC-45F3-96AB-EAB3F9A9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FC59C-986B-4245-BC46-B7F6C900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84F8-BB70-4E54-8F5A-38078A369EB9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164-FB6C-473F-BDA6-33C42778EEFD}" type="slidenum">
              <a:rPr b="1" lang="ar-SA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EE45-36F1-482E-B47E-1AA7BDFEA04F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23AE-1269-4AF2-9745-E3F9A4542A2C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62E9-AD70-4BEE-B924-A3D40E544E93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BAE8-4CED-4BE6-A13F-45BACDBEA0B4}" type="slidenum">
              <a:rPr b="1" lang="ar-SA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BE53-4FAD-4911-B2B3-FBD0AD19F0F9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DCE3-FBED-449F-8221-E477D40C69E5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920" y="23493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def5fa"/>
                </a:solidFill>
                <a:latin typeface="Tw Cen MT"/>
                <a:cs typeface="PT Simple Bold Ruled"/>
              </a:rPr>
              <a:t>مقياسي تايلور و بيك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اييس الشخصيــة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تايلور للقلق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77336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2da2bf"/>
                </a:solidFill>
                <a:latin typeface="Tw Cen MT"/>
                <a:cs typeface="PT Bold Heading"/>
              </a:rPr>
              <a:t>ماهو القلق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يعرف القلق بأنه انفعال مركب من الخوف وتوقع الشر والخطر أو العقاب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أعدت المقياس (</a:t>
            </a:r>
            <a:r>
              <a:rPr b="1" lang="ar-SA" sz="2900" spc="-1" strike="noStrike">
                <a:solidFill>
                  <a:srgbClr val="c00000"/>
                </a:solidFill>
                <a:latin typeface="Tw Cen MT"/>
              </a:rPr>
              <a:t>جانيت تايلور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ويتكون المقياس من 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5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عبارة تقيس القلق الصريح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2da2bf"/>
                </a:solidFill>
                <a:latin typeface="Tw Cen MT"/>
                <a:cs typeface="PT Bold Heading"/>
              </a:rPr>
              <a:t>طريقة التطبيق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يطبق المقياس على الأشخاص البالغين من 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1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سنوات فأكثر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من بين الـ 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5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عبارة هناك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1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عبارات عكسية تصحح بشكل مختلف وهي 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3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13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17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20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22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29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32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38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48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5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تايلور للقلق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1773000"/>
            <a:ext cx="82976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في العبارات الطبيعية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نعم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تأخذ درجة واحدة،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لا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تأخذ صفر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أما في العبارات العكسية،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نعم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تأخذ صفر،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لا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تأخذ درجة واحد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كل عبارة أمامها بديلين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صحيح، خطأ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يتم اختيار من بينها ما يراه المفحوص مناسباً له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أخيراً تجمع الدرجات وتصنف وفق الجدول ,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971640" y="4005360"/>
          <a:ext cx="7200720" cy="517320"/>
        </p:xfrm>
        <a:graphic>
          <a:graphicData uri="http://schemas.openxmlformats.org/drawingml/2006/table">
            <a:tbl>
              <a:tblPr/>
              <a:tblGrid>
                <a:gridCol w="581040"/>
                <a:gridCol w="893520"/>
                <a:gridCol w="763560"/>
                <a:gridCol w="979560"/>
                <a:gridCol w="3633840"/>
                <a:gridCol w="3492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صحي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تثير قلقي أمور العمل والعم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بيك للاكتئاب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99920"/>
            <a:ext cx="815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2da2bf"/>
                </a:solidFill>
                <a:latin typeface="Tw Cen MT"/>
                <a:cs typeface="PT Bold Heading"/>
              </a:rPr>
              <a:t>ماهو الاكتئاب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464646"/>
                </a:solidFill>
                <a:latin typeface="Tw Cen MT"/>
              </a:rPr>
              <a:t> 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حالة مزاجية هابطة، لاتوقف سير حياة الفرد الطبيعية، لكنها تصعب الأمور على الفرد، وفي أصعب حالاته قد يدفع الاكتئاب الفرد إلى التفكير في إنهاء حياته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قام بوضع المقياس الطبيب النفسي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آرون بيك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، وترجم هذا المقياس إلى العربية الدكتور عبدالستار ابراهيم، ويتكون المقياس من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21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لكل سؤال سلسلة متدرجة من أربع بدائل مرتبة حسب شدتها، والتي تمثل أعراضاً للاكتئاب، وتستخدم الأرقام من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0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-</a:t>
            </a:r>
            <a:r>
              <a:rPr b="1" lang="ar-SA" sz="2400" spc="-1" strike="noStrike">
                <a:solidFill>
                  <a:srgbClr val="464646"/>
                </a:solidFill>
                <a:latin typeface="Tw Cen MT"/>
              </a:rPr>
              <a:t> 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3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لتوضيح مدى شدة الأعراض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بيك للاكتئاب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يطبق المقياس على الأشخاص البالغين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15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سنة فأكثر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يختار المفحوص أحدى البدائل الأنسب لوضعه الحالي، بوضع دائرة حولها أو خط تحت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درجة كل سؤال هي رقم العبارة، التي اختارها المفحوص، فمثلاً إذا اختار المفحوص البديل رقم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3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فإن درجته لهذا السؤال هي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3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0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- </a:t>
            </a:r>
            <a:r>
              <a:rPr b="1" lang="ar-SA" sz="2900" spc="-1" strike="noStrike">
                <a:solidFill>
                  <a:srgbClr val="2da2bf"/>
                </a:solidFill>
                <a:latin typeface="Tw Cen MT"/>
              </a:rPr>
              <a:t>لا أشعر بأني أتلقى عقاباً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da1f28"/>
                </a:solidFill>
                <a:uFillTx/>
                <a:latin typeface="Tw Cen MT"/>
              </a:rPr>
              <a:t>1</a:t>
            </a:r>
            <a:r>
              <a:rPr b="1" lang="ar-SA" sz="2400" spc="-1" strike="noStrike" u="sng">
                <a:solidFill>
                  <a:srgbClr val="da1f28"/>
                </a:solidFill>
                <a:uFillTx/>
                <a:latin typeface="Tw Cen MT"/>
              </a:rPr>
              <a:t>-</a:t>
            </a:r>
            <a:r>
              <a:rPr b="1" lang="ar-SA" sz="2900" spc="-1" strike="noStrike" u="sng">
                <a:solidFill>
                  <a:srgbClr val="da1f28"/>
                </a:solidFill>
                <a:uFillTx/>
                <a:latin typeface="Tw Cen MT"/>
              </a:rPr>
              <a:t> أشعر بأني قد أتعرض للعقاب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2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-</a:t>
            </a:r>
            <a:r>
              <a:rPr b="1" lang="ar-SA" sz="2900" spc="-1" strike="noStrike">
                <a:solidFill>
                  <a:srgbClr val="2da2bf"/>
                </a:solidFill>
                <a:latin typeface="Tw Cen MT"/>
              </a:rPr>
              <a:t> أتوقع أن أعاقب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3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-</a:t>
            </a:r>
            <a:r>
              <a:rPr b="1" lang="ar-SA" sz="2900" spc="-1" strike="noStrike">
                <a:solidFill>
                  <a:srgbClr val="2da2bf"/>
                </a:solidFill>
                <a:latin typeface="Tw Cen MT"/>
              </a:rPr>
              <a:t> أشعر بأني أتلقى عقاباً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بيك للاكتئاب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773000"/>
            <a:ext cx="8153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2da2bf"/>
                </a:solidFill>
                <a:latin typeface="Tw Cen MT"/>
                <a:cs typeface="PT Bold Heading"/>
              </a:rPr>
              <a:t>ملاحظة/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(في السؤال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19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يُسأل المفحوص هل هو خاضع حالياً لبرنامج لتخسيس؟ فإذا كان الجواب نعم، يعطى صفراً، وإذا كان لا، يعطى الدرجة بحسب اختياره من البدائل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ثم تجمع الدرجة الكلية وتصنف وفقاً للجدول ,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48:50Z</dcterms:created>
  <dc:creator>Micro</dc:creator>
  <dc:description/>
  <dc:language>en-US</dc:language>
  <cp:lastModifiedBy>Last Need</cp:lastModifiedBy>
  <dcterms:modified xsi:type="dcterms:W3CDTF">2012-02-09T06:51:16Z</dcterms:modified>
  <cp:revision>13</cp:revision>
  <dc:subject/>
  <dc:title>كتابة التقرير مقياسي تايلور و بيك</dc:title>
</cp:coreProperties>
</file>