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3B08-C460-4CEF-8885-D7C827E4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181C-15E0-4FA1-8AAF-BAF3234A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D066-FCF9-445E-BB9C-F63D7BDC5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91C6-5A38-4F3A-B361-C2A9A304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489E-11DD-4CC9-A09E-F1F15AD86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1FC0-5994-4DDB-9413-6590607D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D861-1E5D-47CE-8E79-E6EEF612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2DE3-9924-426E-A4AE-A24ACD58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61224-5BC9-4EF7-91F3-8AE4FC34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B364-2908-4F53-85DA-4D1A1580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A169-C024-4539-92B3-AAAC079D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31D-B40C-432A-B4D9-A37A0AA0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701D-2342-42E3-BCFC-B3CC3C09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B0EE-DE16-44CE-9C1E-6D3A52A1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A610-3D48-4AAF-8654-6D4CA68BE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B3D9-0ED9-4120-9A7D-F0A438232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2EFC0-E929-4DAD-995B-1414E2CB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870EA-A8D4-4786-A9EA-546DFCCF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85218-AB4D-436C-8242-79F1E65C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A6B6F-CC6D-4C22-B44C-7741317D3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42F7B6-49C4-437C-B704-1B6FFFBE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75C24-F578-4D59-AB1D-9E55A616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934C-3493-45BC-AE9E-0991CDBD8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B3B37-1AEA-48AB-A20E-D43D25DF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575902-17B7-4AE3-AF4D-215BE3A1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214F84-F3B6-40A6-8000-366EED3A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C4B7FA-D57D-488B-B10C-768C35C0F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26B456-06B2-4552-9096-963B6AFF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C1DE4-DCCF-48DA-97D7-2649F15C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63933-D0B2-4EA8-B982-5B6A3D61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0C15B0-96E8-4F7B-B7B8-16B39FA7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0C9363-9FD8-4379-A1F6-F26EFAB95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EC2F60-A537-4AE6-A10A-4622203D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38DB-A7E9-4D56-AB26-EA6C9B62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1AC162-9010-4B47-96AA-105BB0F2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06AA5B-4239-444E-9D4C-07E28970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4BC506-1BDF-40FB-A7C3-9A6F475C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EC6D91-8170-4CA5-9668-186A413C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05AB22-A23C-43C1-AD80-FE5263B1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76A313-5357-410B-ADDA-1D53A36E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34F026-225D-47F4-8AE8-F8A6FFB6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39AA25-5581-4AE7-8FA9-9024C7D7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239EBC-AC15-4D88-93AC-355BE760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055184-D0B4-43D9-85AE-860F08164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1CE1-4EDA-48B4-A261-1FFC8075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CC740D-289D-4BC6-97D4-7580CE75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64527C-D090-49F8-A63C-BCA57C55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54518F-7A4A-429C-ABA6-D07F5679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5DDE8-B205-402C-ADFE-E151C31E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BE545-A512-40D9-972B-4A19EFD36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30AEF2-8408-47B9-A707-74C02C02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E42962-CEF3-47F7-BCCF-22BAC9C1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D61C67-ECBB-4E7F-818F-05CE93BC8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EADF66-4011-4004-A4E5-133459A2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45C9C-ED59-4AB3-A9C6-AB96AD844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A0F-F22A-41CB-8167-89FD63DF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56FA51-1803-476C-AA53-1F0566705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9C337-601B-4441-AFC5-CA59E814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3E9F4-DB4B-4448-AF8C-4411C9E3F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44271-1BE7-4667-BB87-F28CBDD4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6DBD0-BCA8-4BB6-958B-DB015D53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D4E62-9B51-4670-978A-33690CE9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42578-1A7C-4C37-90D5-AA7B9928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50B36-3467-4C99-8ADF-41F59391C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2DA26-453E-462B-A52D-B8A969AB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EBD40-9678-4CE3-B3EB-D59A4F21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963-855D-4BF3-B946-54754DFC0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8D1DC-72A5-4176-B168-F3E2932E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5D4DF-BD75-4007-B57C-D1803EC8E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65579-4C23-4FAB-9C14-2B72DEBA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CE5348-1CF2-40A7-ACC0-B7755F550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E40CCE-0D42-411B-9044-CC56DD76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37CE2D-EB77-4FBF-991A-93358690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217249-7DDA-4A24-9B5F-7D27A2847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5D20EE-E31D-4DCB-8DCD-BF7C7386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3FE5C3-AE18-468D-8AF3-E823727A5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BA6231-02BA-404D-8316-7B75B50A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64A4-C66F-44BC-8E8F-3B6DCB98F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D0D7E2-60D6-4DC9-86A7-F21AD94A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DCAA90-7630-4353-8F95-CAFF6B1E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DE4B7C-AEDC-431E-9CE2-97BAF202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4BC04A-DF03-4107-AA04-F012565E6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08E15B-D89B-4AE8-8801-3007632A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C259ED-ADBB-492C-94A7-82C5102EF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262B0-9C61-4A05-A755-E224D842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FBB32-9CF4-4663-AC84-E02F374D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272D6-A434-4E22-888C-E7F80073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4A4242-D9B6-4444-9882-0FF42E01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0D5-03B0-4C04-8800-0699AB4B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4FDB8-8A27-4CFE-81EF-DD172C3C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9C91D-D4EA-4013-ABB9-4CFB3F73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3C57A-326D-4C00-99F9-E27893EA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60C6A-3398-4C7A-8B7B-91B8C060A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E8765-1BBA-4253-A570-07ED772E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CAD2E-CA08-4971-9E4E-1EE5AB1C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11F63-B777-46DE-B7C8-F26010BD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9CC1-0040-4A89-B25D-1CFC70916BF4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مستطيل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ef5fa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def5fa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86E2-86F8-4695-9576-367E585765F8}" type="slidenum">
              <a:rPr b="1" lang="ar-SA" sz="1400" spc="-1" strike="noStrike">
                <a:solidFill>
                  <a:srgbClr val="def5fa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مستطيل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مستطيل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مستطيل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58C7-A4C6-49C4-ACDB-B6C74D0E9818}" type="slidenum">
              <a:rPr b="1" lang="ar-S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BC13-BE5F-4B0C-ACB2-12BA9DB4FED4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مستطيل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مستطيل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مستطيل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C3B4-E56F-4A47-A26D-DF965EA52340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DF41E-ABD9-444B-9980-BA44F78CE15F}" type="slidenum">
              <a:rPr b="1" lang="ar-SA" sz="1400" spc="-1" strike="noStrike">
                <a:solidFill>
                  <a:srgbClr val="464646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مستطيل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مستطيل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مستطيل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مستطيل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0DCB-E20C-4C97-9B8A-FFF1ECC5F78B}" type="slidenum">
              <a:rPr b="1" lang="ar-S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مستطيل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مستطيل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مستطيل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6464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 algn="r" rtl="1">
              <a:spcBef>
                <a:spcPts val="700"/>
              </a:spcBef>
              <a:buClr>
                <a:srgbClr val="2da2bf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 algn="r" rtl="1">
              <a:spcBef>
                <a:spcPts val="700"/>
              </a:spcBef>
              <a:buClr>
                <a:srgbClr val="da1f2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 algn="r" rtl="1">
              <a:spcBef>
                <a:spcPts val="700"/>
              </a:spcBef>
              <a:buClr>
                <a:srgbClr val="eb641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 algn="r" rtl="1">
              <a:spcBef>
                <a:spcPts val="700"/>
              </a:spcBef>
              <a:buClr>
                <a:srgbClr val="39639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 algn="r" rtl="1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464646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46464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ar-S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1784-EC5A-4AFA-B748-91F6EDEBF4D8}" type="slidenum">
              <a:rPr b="1" lang="ar-S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58920" y="234936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def5fa"/>
                </a:solidFill>
                <a:latin typeface="Tw Cen MT"/>
                <a:cs typeface="PT Simple Bold Ruled"/>
              </a:rPr>
              <a:t>مقياسي تايلور و بيك</a:t>
            </a:r>
            <a:endParaRPr b="0" lang="en-US" sz="4400" spc="-1" strike="noStrike">
              <a:solidFill>
                <a:srgbClr val="def5fa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ffff"/>
                </a:solidFill>
                <a:latin typeface="Tw Cen MT"/>
              </a:rPr>
              <a:t>مقاييس الشخصيــة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a1f28"/>
                </a:solidFill>
                <a:latin typeface="Tw Cen MT"/>
                <a:cs typeface="PT Bold Heading"/>
              </a:rPr>
              <a:t>مقياس تايلور للقلق</a:t>
            </a:r>
            <a:endParaRPr b="0" lang="en-US" sz="40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12720" y="1773360"/>
            <a:ext cx="8153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73960" indent="-273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2da2bf"/>
                </a:solidFill>
                <a:latin typeface="Tw Cen MT"/>
                <a:cs typeface="PT Bold Heading"/>
              </a:rPr>
              <a:t>ماهو القلق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يعرف القلق بأنه انفعال مركب من الخوف وتوقع الشر والخطر أو العقاب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أعدت المقياس (</a:t>
            </a:r>
            <a:r>
              <a:rPr b="1" lang="ar-SA" sz="2900" spc="-1" strike="noStrike">
                <a:solidFill>
                  <a:srgbClr val="c00000"/>
                </a:solidFill>
                <a:latin typeface="Tw Cen MT"/>
              </a:rPr>
              <a:t>جانيت تايلور</a:t>
            </a: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) ويتكون المقياس من (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50</a:t>
            </a: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) عبارة تقيس القلق الصريح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2da2bf"/>
                </a:solidFill>
                <a:latin typeface="Tw Cen MT"/>
                <a:cs typeface="PT Bold Heading"/>
              </a:rPr>
              <a:t>طريقة التطبيق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يطبق المقياس على الأشخاص البالغين من (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10</a:t>
            </a: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) سنوات فأكثر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من بين الـ (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50</a:t>
            </a: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) عبارة هناك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(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10</a:t>
            </a: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) عبارات عكسية تصحح بشكل مختلف وهي (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3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،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13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،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17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،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20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،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22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،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29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،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32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،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38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،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48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، </a:t>
            </a:r>
            <a:r>
              <a:rPr b="1" lang="ar-SA" sz="2400" spc="-1" strike="noStrike">
                <a:solidFill>
                  <a:srgbClr val="353535"/>
                </a:solidFill>
                <a:latin typeface="Tw Cen MT"/>
              </a:rPr>
              <a:t>50</a:t>
            </a:r>
            <a:r>
              <a:rPr b="1" lang="ar-SA" sz="2900" spc="-1" strike="noStrike">
                <a:solidFill>
                  <a:srgbClr val="353535"/>
                </a:solidFill>
                <a:latin typeface="Tw Cen MT"/>
              </a:rPr>
              <a:t>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73960" indent="-273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a1f28"/>
                </a:solidFill>
                <a:latin typeface="Tw Cen MT"/>
                <a:cs typeface="PT Bold Heading"/>
              </a:rPr>
              <a:t>مقياس تايلور للقلق</a:t>
            </a:r>
            <a:endParaRPr b="0" lang="en-US" sz="40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000" y="1773000"/>
            <a:ext cx="82976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02760" indent="-3027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في العبارات الطبيعية (</a:t>
            </a:r>
            <a:r>
              <a:rPr b="1" lang="ar-SA" sz="2900" spc="-1" strike="noStrike">
                <a:solidFill>
                  <a:srgbClr val="da1f28"/>
                </a:solidFill>
                <a:latin typeface="Tw Cen MT"/>
              </a:rPr>
              <a:t>نعم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 تأخذ درجة واحدة، (</a:t>
            </a:r>
            <a:r>
              <a:rPr b="1" lang="ar-SA" sz="2900" spc="-1" strike="noStrike">
                <a:solidFill>
                  <a:srgbClr val="da1f28"/>
                </a:solidFill>
                <a:latin typeface="Tw Cen MT"/>
              </a:rPr>
              <a:t>لا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 تأخذ صفر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أما في العبارات العكسية، (</a:t>
            </a:r>
            <a:r>
              <a:rPr b="1" lang="ar-SA" sz="2900" spc="-1" strike="noStrike">
                <a:solidFill>
                  <a:srgbClr val="da1f28"/>
                </a:solidFill>
                <a:latin typeface="Tw Cen MT"/>
              </a:rPr>
              <a:t>نعم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 تأخذ صفر، (</a:t>
            </a:r>
            <a:r>
              <a:rPr b="1" lang="ar-SA" sz="2900" spc="-1" strike="noStrike">
                <a:solidFill>
                  <a:srgbClr val="da1f28"/>
                </a:solidFill>
                <a:latin typeface="Tw Cen MT"/>
              </a:rPr>
              <a:t>لا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 تأخذ درجة واحدة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كل عبارة أمامها بديلين (</a:t>
            </a:r>
            <a:r>
              <a:rPr b="1" lang="ar-SA" sz="2900" spc="-1" strike="noStrike">
                <a:solidFill>
                  <a:srgbClr val="da1f28"/>
                </a:solidFill>
                <a:latin typeface="Tw Cen MT"/>
              </a:rPr>
              <a:t>صحيح، خطأ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 يتم اختيار من بينها ما يراه المفحوص مناسباً له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أخيراً تجمع الدرجات وتصنف وفق الجدول ,,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2760" indent="-30276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971640" y="4005360"/>
          <a:ext cx="7200720" cy="517320"/>
        </p:xfrm>
        <a:graphic>
          <a:graphicData uri="http://schemas.openxmlformats.org/drawingml/2006/table">
            <a:tbl>
              <a:tblPr/>
              <a:tblGrid>
                <a:gridCol w="581040"/>
                <a:gridCol w="893520"/>
                <a:gridCol w="763560"/>
                <a:gridCol w="979560"/>
                <a:gridCol w="3633840"/>
                <a:gridCol w="3492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1f28"/>
                      </a:solidFill>
                    </a:lnL>
                    <a:lnR w="5760">
                      <a:solidFill>
                        <a:srgbClr val="da1f28"/>
                      </a:solidFill>
                    </a:lnR>
                    <a:lnT w="5760">
                      <a:solidFill>
                        <a:srgbClr val="da1f28"/>
                      </a:solidFill>
                    </a:lnT>
                    <a:lnB w="5760">
                      <a:solidFill>
                        <a:srgbClr val="da1f28"/>
                      </a:solidFill>
                    </a:lnB>
                    <a:solidFill>
                      <a:srgbClr val="f8e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464646"/>
                          </a:solidFill>
                          <a:latin typeface="Tw Cen MT"/>
                        </a:rPr>
                        <a:t>خط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1f28"/>
                      </a:solidFill>
                    </a:lnL>
                    <a:lnR w="5760">
                      <a:solidFill>
                        <a:srgbClr val="da1f28"/>
                      </a:solidFill>
                    </a:lnR>
                    <a:lnT w="5760">
                      <a:solidFill>
                        <a:srgbClr val="da1f28"/>
                      </a:solidFill>
                    </a:lnT>
                    <a:lnB w="5760">
                      <a:solidFill>
                        <a:srgbClr val="da1f28"/>
                      </a:solidFill>
                    </a:lnB>
                    <a:solidFill>
                      <a:srgbClr val="f8e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464646"/>
                          </a:solidFill>
                          <a:latin typeface="Tw Cen MT"/>
                        </a:rPr>
                        <a:t>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1f28"/>
                      </a:solidFill>
                    </a:lnL>
                    <a:lnR w="5760">
                      <a:solidFill>
                        <a:srgbClr val="da1f28"/>
                      </a:solidFill>
                    </a:lnR>
                    <a:lnT w="5760">
                      <a:solidFill>
                        <a:srgbClr val="da1f28"/>
                      </a:solidFill>
                    </a:lnT>
                    <a:lnB w="5760">
                      <a:solidFill>
                        <a:srgbClr val="da1f28"/>
                      </a:solidFill>
                    </a:lnB>
                    <a:solidFill>
                      <a:srgbClr val="f8e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464646"/>
                          </a:solidFill>
                          <a:latin typeface="Tw Cen MT"/>
                        </a:rPr>
                        <a:t>صحي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1f28"/>
                      </a:solidFill>
                    </a:lnL>
                    <a:lnR w="5760">
                      <a:solidFill>
                        <a:srgbClr val="da1f28"/>
                      </a:solidFill>
                    </a:lnR>
                    <a:lnT w="5760">
                      <a:solidFill>
                        <a:srgbClr val="da1f28"/>
                      </a:solidFill>
                    </a:lnT>
                    <a:lnB w="5760">
                      <a:solidFill>
                        <a:srgbClr val="da1f28"/>
                      </a:solidFill>
                    </a:lnB>
                    <a:solidFill>
                      <a:srgbClr val="f8e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464646"/>
                          </a:solidFill>
                          <a:latin typeface="Tw Cen MT"/>
                        </a:rPr>
                        <a:t>تثير قلقي أمور العمل والعم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1f28"/>
                      </a:solidFill>
                    </a:lnL>
                    <a:lnR w="5760">
                      <a:solidFill>
                        <a:srgbClr val="da1f28"/>
                      </a:solidFill>
                    </a:lnR>
                    <a:lnT w="5760">
                      <a:solidFill>
                        <a:srgbClr val="da1f28"/>
                      </a:solidFill>
                    </a:lnT>
                    <a:lnB w="5760">
                      <a:solidFill>
                        <a:srgbClr val="da1f28"/>
                      </a:solidFill>
                    </a:lnB>
                    <a:solidFill>
                      <a:srgbClr val="f8e7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464646"/>
                          </a:solidFill>
                          <a:latin typeface="Tw Cen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da1f28"/>
                      </a:solidFill>
                    </a:lnL>
                    <a:lnR w="5760">
                      <a:solidFill>
                        <a:srgbClr val="da1f28"/>
                      </a:solidFill>
                    </a:lnR>
                    <a:lnT w="5760">
                      <a:solidFill>
                        <a:srgbClr val="da1f28"/>
                      </a:solidFill>
                    </a:lnT>
                    <a:lnB w="5760">
                      <a:solidFill>
                        <a:srgbClr val="da1f28"/>
                      </a:solidFill>
                    </a:lnB>
                    <a:solidFill>
                      <a:srgbClr val="f8e7e8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a1f28"/>
                </a:solidFill>
                <a:latin typeface="Tw Cen MT"/>
                <a:cs typeface="PT Bold Heading"/>
              </a:rPr>
              <a:t>مقياس بيك للاكتئاب</a:t>
            </a:r>
            <a:endParaRPr b="0" lang="en-US" sz="40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12720" y="1699920"/>
            <a:ext cx="81532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2da2bf"/>
                </a:solidFill>
                <a:latin typeface="Tw Cen MT"/>
                <a:cs typeface="PT Bold Heading"/>
              </a:rPr>
              <a:t>ماهو الاكتئاب؟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464646"/>
                </a:solidFill>
                <a:latin typeface="Tw Cen MT"/>
              </a:rPr>
              <a:t> 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حالة مزاجية هابطة، لاتوقف سير حياة الفرد الطبيعية، لكنها تصعب الأمور على الفرد، وفي أصعب حالاته قد يدفع الاكتئاب الفرد إلى التفكير في إنهاء حياته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قام بوضع المقياس الطبيب النفسي (</a:t>
            </a:r>
            <a:r>
              <a:rPr b="1" lang="ar-SA" sz="2900" spc="-1" strike="noStrike">
                <a:solidFill>
                  <a:srgbClr val="da1f28"/>
                </a:solidFill>
                <a:latin typeface="Tw Cen MT"/>
              </a:rPr>
              <a:t>آرون بيك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، وترجم هذا المقياس إلى العربية الدكتور عبدالستار ابراهيم، ويتكون المقياس من (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21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لكل سؤال سلسلة متدرجة من أربع بدائل مرتبة حسب شدتها، والتي تمثل أعراضاً للاكتئاب، وتستخدم الأرقام من (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0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-</a:t>
            </a:r>
            <a:r>
              <a:rPr b="1" lang="ar-SA" sz="2400" spc="-1" strike="noStrike">
                <a:solidFill>
                  <a:srgbClr val="464646"/>
                </a:solidFill>
                <a:latin typeface="Tw Cen MT"/>
              </a:rPr>
              <a:t> 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3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 لتوضيح مدى شدة الأعراض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a1f28"/>
                </a:solidFill>
                <a:latin typeface="Tw Cen MT"/>
                <a:cs typeface="PT Bold Heading"/>
              </a:rPr>
              <a:t>مقياس بيك للاكتئاب</a:t>
            </a:r>
            <a:endParaRPr b="0" lang="en-US" sz="40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12720" y="1600200"/>
            <a:ext cx="81532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يطبق المقياس على الأشخاص البالغين (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15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 سنة فأكثر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يختار المفحوص أحدى البدائل الأنسب لوضعه الحالي، بوضع دائرة حولها أو خط تحتها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درجة كل سؤال هي رقم العبارة، التي اختارها المفحوص، فمثلاً إذا اختار المفحوص البديل رقم (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3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 فإن درجته لهذا السؤال هي (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3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0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- </a:t>
            </a:r>
            <a:r>
              <a:rPr b="1" lang="ar-SA" sz="2900" spc="-1" strike="noStrike">
                <a:solidFill>
                  <a:srgbClr val="2da2bf"/>
                </a:solidFill>
                <a:latin typeface="Tw Cen MT"/>
              </a:rPr>
              <a:t>لا أشعر بأني أتلقى عقاباً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da1f28"/>
                </a:solidFill>
                <a:uFillTx/>
                <a:latin typeface="Tw Cen MT"/>
              </a:rPr>
              <a:t>1</a:t>
            </a:r>
            <a:r>
              <a:rPr b="1" lang="ar-SA" sz="2400" spc="-1" strike="noStrike" u="sng">
                <a:solidFill>
                  <a:srgbClr val="da1f28"/>
                </a:solidFill>
                <a:uFillTx/>
                <a:latin typeface="Tw Cen MT"/>
              </a:rPr>
              <a:t>-</a:t>
            </a:r>
            <a:r>
              <a:rPr b="1" lang="ar-SA" sz="2900" spc="-1" strike="noStrike" u="sng">
                <a:solidFill>
                  <a:srgbClr val="da1f28"/>
                </a:solidFill>
                <a:uFillTx/>
                <a:latin typeface="Tw Cen MT"/>
              </a:rPr>
              <a:t> أشعر بأني قد أتعرض للعقاب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2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-</a:t>
            </a:r>
            <a:r>
              <a:rPr b="1" lang="ar-SA" sz="2900" spc="-1" strike="noStrike">
                <a:solidFill>
                  <a:srgbClr val="2da2bf"/>
                </a:solidFill>
                <a:latin typeface="Tw Cen MT"/>
              </a:rPr>
              <a:t> أتوقع أن أعاقب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3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-</a:t>
            </a:r>
            <a:r>
              <a:rPr b="1" lang="ar-SA" sz="2900" spc="-1" strike="noStrike">
                <a:solidFill>
                  <a:srgbClr val="2da2bf"/>
                </a:solidFill>
                <a:latin typeface="Tw Cen MT"/>
              </a:rPr>
              <a:t> أشعر بأني أتلقى عقاباً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 algn="r" rtl="1">
              <a:lnSpc>
                <a:spcPct val="90000"/>
              </a:lnSpc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da1f28"/>
                </a:solidFill>
                <a:latin typeface="Tw Cen MT"/>
                <a:cs typeface="PT Bold Heading"/>
              </a:rPr>
              <a:t>مقياس بيك للاكتئاب</a:t>
            </a:r>
            <a:endParaRPr b="0" lang="en-US" sz="4000" spc="-1" strike="noStrike">
              <a:solidFill>
                <a:srgbClr val="464646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773000"/>
            <a:ext cx="81532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900" spc="-1" strike="noStrike">
                <a:solidFill>
                  <a:srgbClr val="2da2bf"/>
                </a:solidFill>
                <a:latin typeface="Tw Cen MT"/>
                <a:cs typeface="PT Bold Heading"/>
              </a:rPr>
              <a:t>ملاحظة/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(في السؤال (</a:t>
            </a:r>
            <a:r>
              <a:rPr b="1" lang="ar-SA" sz="2400" spc="-1" strike="noStrike">
                <a:solidFill>
                  <a:srgbClr val="da1f28"/>
                </a:solidFill>
                <a:latin typeface="Tw Cen MT"/>
              </a:rPr>
              <a:t>19</a:t>
            </a: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) يُسأل المفحوص هل هو خاضع حالياً لبرنامج لتخسيس؟ فإذا كان الجواب نعم، يعطى صفراً، وإذا كان لا، يعطى الدرجة بحسب اختياره من البدائل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r" rtl="1">
              <a:spcBef>
                <a:spcPts val="700"/>
              </a:spcBef>
              <a:buClr>
                <a:srgbClr val="da1f28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900" spc="-1" strike="noStrike">
                <a:solidFill>
                  <a:srgbClr val="464646"/>
                </a:solidFill>
                <a:latin typeface="Tw Cen MT"/>
              </a:rPr>
              <a:t>ثم تجمع الدرجة الكلية وتصنف وفقاً للجدول ,,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5T09:48:50Z</dcterms:created>
  <dc:creator>Micro</dc:creator>
  <dc:description/>
  <dc:language>en-US</dc:language>
  <cp:lastModifiedBy>Last Need</cp:lastModifiedBy>
  <dcterms:modified xsi:type="dcterms:W3CDTF">2012-02-09T06:51:16Z</dcterms:modified>
  <cp:revision>13</cp:revision>
  <dc:subject/>
  <dc:title>كتابة التقرير مقياسي تايلور و بيك</dc:title>
</cp:coreProperties>
</file>