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2.png" ContentType="image/png"/>
  <Override PartName="/ppt/media/image3.jpeg" ContentType="image/jpeg"/>
  <Override PartName="/ppt/media/image24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C9F3-CA13-413C-8C8C-7EFCA4723E2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A528-4A80-49C6-9E22-ED0E532E8D0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FCC6-867F-4700-90D0-A9F13F52722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5EC-5E5F-48D8-8CE2-58D13C14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6BF-62FF-4E3B-89BF-7241CC15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631-BEAE-4E61-8C85-AC7B45B6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466-8954-4580-B699-66C9944C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0D43-D11F-47A5-8701-43890BBC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6822-1942-4951-B099-A499202D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1A97-02EF-4BA9-A1D3-94474600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E611-89FD-4145-B7AE-B25AB0FB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6F66-96C7-4D1E-BD1C-92CA533D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F2B6-775B-4695-8139-EF077678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1280-652A-4C55-B097-28157C6C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271-5295-45D9-B5D0-777BA43C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16EF-E10F-4DBE-AE15-EA0AFBCD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4DB3-A8D5-44D2-9E11-B2BAE3C2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4879-5435-4BF7-AED5-AD0768C0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7409-D684-448A-A80F-0A6A8C35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5FEB-9E37-4D2B-94FB-6133EC19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60F8C-9DDD-4151-B9B6-B7F4C009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C5D7-BF62-4EB1-968E-F45F8A0A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2F14-DD23-425D-975D-94EA5C78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40EB4-28D9-41B4-8C68-A58E57C0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B109-241A-40EE-B95C-B264A4FF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783-E38E-4A7B-B3D6-0E59679D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0501-BB7D-4500-94C2-BDA471B5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E76D-935F-444E-BD32-969B1263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C6E3B-1B0F-4B9B-82D4-95543192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4095-D6DD-458D-A4D0-929B2709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49221-0EA5-4D55-A9F2-66B0E239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18A9-FDAE-4587-AC65-63433898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D62D-9C56-4A3A-98B4-27AB8811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78B8-A7A0-4B35-ABEE-0CBE8424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0203A-965B-48F9-8490-2E828CE7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06B29-C908-42E8-8455-8BE7034E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81B-19F3-4D52-B9CA-E8851E99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A3907-D2E2-4EED-8EEA-E8B5831D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0269-8874-45A4-84FA-45DAA66F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321A-F895-40F5-9054-CA761A29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EC63A-808B-456A-889D-0D5BEF53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399E7-D744-4F6D-BD57-8C51F8BB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006F-FACD-412E-8BC0-E5BB3FF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266EE-F6F8-493F-A1DA-E9C4E723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7AED3-3D81-421E-991E-28619588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6062-754B-4FA2-A4AF-B5FDC1FA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5E205-63CF-494E-AB0B-ECAB49A7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8A3-8ED6-4556-9DEF-DB0B6C7F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1D8C6-2394-4558-AC2A-5BACDF8A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F9E2B-C8AC-4002-ABE0-94CB1714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EF971-0D48-4CC8-B47A-B9B59E32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5900A-2427-4E00-9DF4-9CD34927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93329-6725-4669-B32E-A4586682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290BB-49FA-4EF1-B322-9A9E0700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1EC92-28E1-4198-81D3-03413A0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A2257-F30D-4E46-BCD2-8802A74B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E0B0-6CF1-4C69-9E5D-D4FD6226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07BC-642B-4146-8944-66AF0FE5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E7E-A71B-4E4E-B181-42F26B87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1A75B-BD73-435F-95FF-F3DE6B6C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E7956-4F7D-4066-B0AE-B95D076F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25C4E-5D00-44A8-95B5-55BDBEE1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23A91-49ED-423C-A9C8-085E1E64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AF8EF-5DAC-4F46-9D8D-A341B30C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B3F00-BF95-4280-9535-D8D40A4E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0554-5E71-46CC-9296-F9195DDD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15AB-FB5E-498E-A993-584F4D37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FE0A-CC59-449A-992B-A7E9F2A0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9624-698E-48B7-8E27-B41952B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352-9D80-47D5-8AB1-713BADA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1BC9-57D3-471C-A08F-6286BD18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F870D-EC82-4BB6-80AC-BE648435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3A629-6C73-4227-A1F4-F2BD4717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C43-3337-40E4-9EBD-ACE30E8A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00FD-6687-41A3-B538-53052FD8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71C5-8004-4315-8DED-43D47E081FF9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٤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0220-0FB1-45CA-80DD-613AD73EC6F0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3F20-33A2-4F30-9FC5-D4620EDA8523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4AE3-4311-4473-B11F-67D2807BC5AA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E793-1A39-49C7-B075-B6DF549A0737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E03E-1EFE-49B8-B011-D352371393B9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7782-B386-43BF-A21F-E9AB02B22FE6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٤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80F5-A97C-4A26-9632-DE4E45D291F9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841C-FDC9-4875-8FB1-0A9DEEA12F46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٤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CB37-7380-4F0C-9017-8D9093F84F4A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1017-02E8-4C8C-B3D1-50D6A01EE763}" type="datetime"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١٤٤٨/٠٢/١٤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1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 ـ 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1432</a:t>
            </a:r>
            <a:r>
              <a:rPr b="0" lang="ar-SA" sz="1000" spc="-1" strike="noStrike">
                <a:solidFill>
                  <a:srgbClr val="9b9a98"/>
                </a:solidFill>
                <a:latin typeface="Times New Roman"/>
                <a:cs typeface="Tahoma"/>
              </a:rPr>
              <a:t>هـ دورة المناهج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3D3E-5F37-4407-BF8E-D064A550B434}" type="slidenum">
              <a:rPr b="0" lang="ar-SA" sz="1000" spc="-1" strike="noStrike">
                <a:solidFill>
                  <a:srgbClr val="9b9a98"/>
                </a:solidFill>
                <a:latin typeface="Times New Roman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dwedar.ps/vb/showthread.php?t=865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605;&#1604;&#1601;:Zaka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ohn_Dewey.j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عنوان 1" descr=""/>
          <p:cNvPicPr/>
          <p:nvPr/>
        </p:nvPicPr>
        <p:blipFill>
          <a:blip r:embed="rId1"/>
          <a:stretch/>
        </p:blipFill>
        <p:spPr>
          <a:xfrm>
            <a:off x="1085760" y="2567160"/>
            <a:ext cx="6491520" cy="2309760"/>
          </a:xfrm>
          <a:prstGeom prst="rect">
            <a:avLst/>
          </a:prstGeom>
          <a:ln w="0">
            <a:noFill/>
          </a:ln>
        </p:spPr>
      </p:pic>
      <p:sp>
        <p:nvSpPr>
          <p:cNvPr id="302" name="عنوان فرعي 2"/>
          <p:cNvSpPr/>
          <p:nvPr/>
        </p:nvSpPr>
        <p:spPr>
          <a:xfrm>
            <a:off x="2143080" y="0"/>
            <a:ext cx="4214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0" bIns="0" anchor="ctr">
            <a:noAutofit/>
          </a:bodyPr>
          <a:p>
            <a:pPr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cs typeface="Tahoma"/>
              </a:rPr>
              <a:t>بسم الله الرحمن الرحي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0ADB-DB4B-4AA4-ADC4-F6CE406167D9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5954-5416-4586-9CD0-603020D2B20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467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ثورنداي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ذكاء محدد بشبة عصب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4" descr="iStock_000003912674XSmall"/>
          <p:cNvPicPr/>
          <p:nvPr/>
        </p:nvPicPr>
        <p:blipFill>
          <a:blip r:embed="rId1"/>
          <a:stretch/>
        </p:blipFill>
        <p:spPr>
          <a:xfrm>
            <a:off x="1214280" y="1714680"/>
            <a:ext cx="2229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6329-CE6A-4F46-A80E-0C98F225EEE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467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ثورستو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قدرات العقلية الاول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iStock_000003912674XSmall"/>
          <p:cNvPicPr/>
          <p:nvPr/>
        </p:nvPicPr>
        <p:blipFill>
          <a:blip r:embed="rId1"/>
          <a:stretch/>
        </p:blipFill>
        <p:spPr>
          <a:xfrm>
            <a:off x="1214280" y="1714680"/>
            <a:ext cx="2229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4357800"/>
            <a:ext cx="113832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Franklin Gothic Book"/>
              </a:rPr>
              <a:t>الفرد بينية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143160" y="928800"/>
            <a:ext cx="4967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بينيه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INET – 190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القدرة على الابتكار والفهم والحكم الصحيح والتوجه الهادف للسلو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عنوان 1"/>
          <p:cNvSpPr/>
          <p:nvPr/>
        </p:nvSpPr>
        <p:spPr>
          <a:xfrm>
            <a:off x="1371600" y="426960"/>
            <a:ext cx="65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  <a:cs typeface="Tahoma"/>
              </a:rPr>
              <a:t>الذكا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صورة 6" descr="http://www.mawhiba.org/portal_images/mental4.png"/>
          <p:cNvPicPr/>
          <p:nvPr/>
        </p:nvPicPr>
        <p:blipFill>
          <a:blip r:embed="rId1"/>
          <a:stretch/>
        </p:blipFill>
        <p:spPr>
          <a:xfrm>
            <a:off x="857160" y="2143080"/>
            <a:ext cx="1857600" cy="2019240"/>
          </a:xfrm>
          <a:prstGeom prst="rect">
            <a:avLst/>
          </a:prstGeom>
          <a:ln w="0">
            <a:noFill/>
          </a:ln>
        </p:spPr>
      </p:pic>
      <p:sp>
        <p:nvSpPr>
          <p:cNvPr id="337" name="عنصر نائب لرقم الشريحة 9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FB03-CBFF-43B2-9C00-8F306449EE5C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143160" y="1600200"/>
            <a:ext cx="478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تيرمان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ERMAN – 192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درة على التفكير المج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صورة 3" descr="http://www.mawhiba.org/Portal_Images/mental7.png"/>
          <p:cNvPicPr/>
          <p:nvPr/>
        </p:nvPicPr>
        <p:blipFill>
          <a:blip r:embed="rId1"/>
          <a:stretch/>
        </p:blipFill>
        <p:spPr>
          <a:xfrm>
            <a:off x="928800" y="1500120"/>
            <a:ext cx="1857240" cy="2324160"/>
          </a:xfrm>
          <a:prstGeom prst="rect">
            <a:avLst/>
          </a:prstGeom>
          <a:ln w="0">
            <a:noFill/>
          </a:ln>
        </p:spPr>
      </p:pic>
      <p:sp>
        <p:nvSpPr>
          <p:cNvPr id="341" name="مربع نص 4"/>
          <p:cNvSpPr/>
          <p:nvPr/>
        </p:nvSpPr>
        <p:spPr>
          <a:xfrm>
            <a:off x="1143000" y="39290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  <a:cs typeface="Tahoma"/>
              </a:rPr>
              <a:t>لويس تيرما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1203-14A0-400F-86A8-587D2AAF955E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وكسلر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CHSLER – 195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قدرة الكلية للفرد على العمل الهادف والتفكير المنطقي والتفاعل الناجع مع البيئ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D3B4-E4B4-4AB9-B417-32C9FAC58D0A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قياس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571480" y="1600200"/>
            <a:ext cx="535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قد بدأت محاولات العلماء لقياس الذكاء الإنساني بشكل علمي مع نهايات القرن التاسع الميلادي على يد العالم الانجليزي السير فرانسيس جالتون الذي اعتقد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أن ذكاء الفرد يرتبط بحواسه كالسمع والبصر وزمن رد الفعل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صورة 4" descr="http://www.mawhiba.org/portal_images/mental3.png"/>
          <p:cNvPicPr/>
          <p:nvPr/>
        </p:nvPicPr>
        <p:blipFill>
          <a:blip r:embed="rId1"/>
          <a:stretch/>
        </p:blipFill>
        <p:spPr>
          <a:xfrm>
            <a:off x="785880" y="1857240"/>
            <a:ext cx="1500120" cy="1686240"/>
          </a:xfrm>
          <a:prstGeom prst="rect">
            <a:avLst/>
          </a:prstGeom>
          <a:ln w="0">
            <a:noFill/>
          </a:ln>
        </p:spPr>
      </p:pic>
      <p:sp>
        <p:nvSpPr>
          <p:cNvPr id="349" name="مربع نص 5"/>
          <p:cNvSpPr/>
          <p:nvPr/>
        </p:nvSpPr>
        <p:spPr>
          <a:xfrm>
            <a:off x="714240" y="364320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cs typeface="Tahoma"/>
              </a:rPr>
              <a:t>فرانسس جالتو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143B-3B9B-4DDF-B85C-7B924319A343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قياس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0040" y="1804680"/>
            <a:ext cx="804384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أول من قام بقياس الذكاء هو بينيه ومساعده سيمون ، وقد توصل بينيه إلى فكرة العمر العقلي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spcAft>
                <a:spcPts val="1800"/>
              </a:spcAft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عمر العقلي هو قدرة الطفل الإجابة عن أسئلة يجيب عنها متوسطو الذكاء في سن معينة مثلا : طفل في سن السادسة (عمر زمني)، يستطيع الإجابة عن أسئلة الأطفال في سن ثمان  سنوات، فعمره العقلي هو ثمان سنوات 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CCAB-1FED-4120-BBB2-CC58FF46F8FD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معادلة 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285720" y="1600200"/>
            <a:ext cx="46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ولكي نحصل على معامل </a:t>
            </a:r>
            <a:r>
              <a:rPr b="0" lang="ar-SA" sz="3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الذكاء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نتبع المعادلة التالية وهي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Picture 6" descr="brain-small"/>
          <p:cNvPicPr/>
          <p:nvPr/>
        </p:nvPicPr>
        <p:blipFill>
          <a:blip r:embed="rId2"/>
          <a:stretch/>
        </p:blipFill>
        <p:spPr>
          <a:xfrm>
            <a:off x="844560" y="1643040"/>
            <a:ext cx="2227320" cy="2227320"/>
          </a:xfrm>
          <a:prstGeom prst="rect">
            <a:avLst/>
          </a:prstGeom>
          <a:ln w="0">
            <a:noFill/>
          </a:ln>
        </p:spPr>
      </p:pic>
      <p:sp>
        <p:nvSpPr>
          <p:cNvPr id="357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BB85-E90E-4C20-AB2E-04D8B260C2E2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مستطيل مستدير الزوايا 8" descr=""/>
          <p:cNvPicPr/>
          <p:nvPr/>
        </p:nvPicPr>
        <p:blipFill>
          <a:blip r:embed="rId3"/>
          <a:stretch/>
        </p:blipFill>
        <p:spPr>
          <a:xfrm>
            <a:off x="2004840" y="4248000"/>
            <a:ext cx="6127920" cy="2670480"/>
          </a:xfrm>
          <a:prstGeom prst="rect">
            <a:avLst/>
          </a:prstGeom>
          <a:ln w="0">
            <a:noFill/>
          </a:ln>
        </p:spPr>
      </p:pic>
      <p:sp>
        <p:nvSpPr>
          <p:cNvPr id="359" name="مربع نص 9"/>
          <p:cNvSpPr/>
          <p:nvPr/>
        </p:nvSpPr>
        <p:spPr>
          <a:xfrm>
            <a:off x="2000160" y="4643280"/>
            <a:ext cx="578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d0d0d"/>
                </a:solidFill>
                <a:latin typeface="Arial"/>
                <a:cs typeface="Tahoma"/>
              </a:rPr>
              <a:t>العمر العقلي ÷ العمر الزمني × 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  <a:ea typeface="Tahoma"/>
              </a:rPr>
              <a:t>100</a:t>
            </a:r>
            <a:r>
              <a:rPr b="0" lang="ar-SA" sz="2000" spc="-1" strike="noStrike">
                <a:solidFill>
                  <a:srgbClr val="0d0d0d"/>
                </a:solidFill>
                <a:latin typeface="Arial"/>
                <a:ea typeface="Tahoma"/>
              </a:rPr>
              <a:t> = معامل الذكاء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أنواع اختبارات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r" rtl="1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da0000"/>
                </a:solidFill>
                <a:latin typeface="Arial"/>
              </a:rPr>
              <a:t>أنواعها حسب موضوع الاختبار 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 algn="r" rtl="1">
              <a:spcBef>
                <a:spcPts val="624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b0f0"/>
                </a:solidFill>
                <a:latin typeface="Arial"/>
              </a:rPr>
              <a:t>اختبارات لفظية :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وهي مكونة من اللغة والألفاظ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 algn="r" rtl="1">
              <a:spcBef>
                <a:spcPts val="624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اختبارات غير لفظية : وهي لا تستخدم اللغة في غير التفاهم المألوف من أجل شرح طريقة الاختبار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511920" indent="-511920" algn="r" rtl="1">
              <a:spcBef>
                <a:spcPts val="6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da0000"/>
                </a:solidFill>
                <a:latin typeface="Arial"/>
              </a:rPr>
              <a:t>أنواعها من حيث طريقة إجراء الاختبار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 algn="r" rtl="1">
              <a:spcBef>
                <a:spcPts val="624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b0f0"/>
                </a:solidFill>
                <a:latin typeface="Arial"/>
              </a:rPr>
              <a:t>الاختبارات الفردية : </a:t>
            </a: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وهي التي لا يمكن إجراؤها على أكثر من فرد واحد في نفس الوقت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 algn="r" rtl="1">
              <a:spcBef>
                <a:spcPts val="624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اختبارات جمعية : وهي التي يمكن إجراؤها على مجموعة من الأفراد في نفس الوقت من قبل فاحص واحد 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4" descr="iStock_000002055573Small"/>
          <p:cNvPicPr/>
          <p:nvPr/>
        </p:nvPicPr>
        <p:blipFill>
          <a:blip r:embed="rId1"/>
          <a:stretch/>
        </p:blipFill>
        <p:spPr>
          <a:xfrm>
            <a:off x="822240" y="214200"/>
            <a:ext cx="2249640" cy="1803600"/>
          </a:xfrm>
          <a:prstGeom prst="rect">
            <a:avLst/>
          </a:prstGeom>
          <a:ln w="0">
            <a:noFill/>
          </a:ln>
        </p:spPr>
      </p:pic>
      <p:sp>
        <p:nvSpPr>
          <p:cNvPr id="363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5F11-9062-42B6-94ED-F6C9C5742EAA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نموذج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20462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 نموذج لأحد فقرات اختبارات الذكا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عنصر نائب للمحتوى 3" descr="http://www.mawhiba.org/Portal_Images/mental2.png"/>
          <p:cNvPicPr/>
          <p:nvPr/>
        </p:nvPicPr>
        <p:blipFill>
          <a:blip r:embed="rId1"/>
          <a:stretch/>
        </p:blipFill>
        <p:spPr>
          <a:xfrm>
            <a:off x="3214800" y="1643040"/>
            <a:ext cx="2562120" cy="2685960"/>
          </a:xfrm>
          <a:prstGeom prst="rect">
            <a:avLst/>
          </a:prstGeom>
          <a:ln w="0">
            <a:noFill/>
          </a:ln>
        </p:spPr>
      </p:pic>
      <p:sp>
        <p:nvSpPr>
          <p:cNvPr id="367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3BBB-51C6-46D5-87B9-E27907DB7645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عنوان 1" descr=""/>
          <p:cNvPicPr/>
          <p:nvPr/>
        </p:nvPicPr>
        <p:blipFill>
          <a:blip r:embed="rId1"/>
          <a:stretch/>
        </p:blipFill>
        <p:spPr>
          <a:xfrm>
            <a:off x="3206880" y="1054080"/>
            <a:ext cx="5083200" cy="302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thinking_abstract"/>
          <p:cNvPicPr/>
          <p:nvPr/>
        </p:nvPicPr>
        <p:blipFill>
          <a:blip r:embed="rId2"/>
          <a:stretch/>
        </p:blipFill>
        <p:spPr>
          <a:xfrm>
            <a:off x="1143000" y="857160"/>
            <a:ext cx="2571840" cy="3021120"/>
          </a:xfrm>
          <a:prstGeom prst="rect">
            <a:avLst/>
          </a:prstGeom>
          <a:ln w="0">
            <a:noFill/>
          </a:ln>
        </p:spPr>
      </p:pic>
      <p:sp>
        <p:nvSpPr>
          <p:cNvPr id="306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DEFD-5570-47D2-8D2B-A410121BD417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95FC-FFA4-40D3-A16C-3853C483317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هل اختبارات الذكاء لها ضرورة؟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90000"/>
              </a:lnSpc>
              <a:spcBef>
                <a:spcPts val="15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</a:rPr>
              <a:t>نع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و كان الهدف منها هو تحديد المستوى الراهن للفرد وقياس إمكاناته المستقب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90000"/>
              </a:lnSpc>
              <a:spcBef>
                <a:spcPts val="15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</a:rPr>
              <a:t>لا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و كان الهدف هو تحديد ذكاء كل فرد كى نحدد مصيره فى حياته التعليمية والمهن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b0f0"/>
                </a:solidFill>
                <a:latin typeface="Franklin Gothic Book"/>
              </a:rPr>
              <a:t>المنحنى الاعتدالي لتوزيع القدرة العقلية</a:t>
            </a:r>
            <a:r>
              <a:rPr b="0" lang="ar-SA" sz="4100" spc="-1" strike="noStrike">
                <a:solidFill>
                  <a:srgbClr val="00b0f0"/>
                </a:solidFill>
                <a:latin typeface="Franklin Gothic Book"/>
              </a:rPr>
              <a:t> 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2" name="صورة 4" descr="http://www.mawhiba.org/Portal_Images/mental1.png"/>
          <p:cNvPicPr/>
          <p:nvPr/>
        </p:nvPicPr>
        <p:blipFill>
          <a:blip r:embed="rId1"/>
          <a:stretch/>
        </p:blipFill>
        <p:spPr>
          <a:xfrm>
            <a:off x="500040" y="1881360"/>
            <a:ext cx="7515360" cy="3904920"/>
          </a:xfrm>
          <a:prstGeom prst="rect">
            <a:avLst/>
          </a:prstGeom>
          <a:ln w="0">
            <a:noFill/>
          </a:ln>
        </p:spPr>
      </p:pic>
      <p:sp>
        <p:nvSpPr>
          <p:cNvPr id="373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5F69-6EEF-45EF-A67A-2AF2DB3A8DDE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b0f0"/>
                </a:solidFill>
                <a:latin typeface="Franklin Gothic Book"/>
              </a:rPr>
              <a:t>المنحنى الاعتدالي لتوزيع القدرة العقلية</a:t>
            </a:r>
            <a:r>
              <a:rPr b="0" lang="ar-SA" sz="4100" spc="-1" strike="noStrike">
                <a:solidFill>
                  <a:srgbClr val="00b0f0"/>
                </a:solidFill>
                <a:latin typeface="Franklin Gothic Book"/>
              </a:rPr>
              <a:t> 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57400" y="1999800"/>
            <a:ext cx="406692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ملك أغلب الأفراد نسبة ذكاء متوسطة, بينما يقل تدريجيا عدد من يملك نسب ذكاء عالية أو متدني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عنصر نائب للمحتوى 3" descr="http://upload.wikimedia.org/wikipedia/ar/thumb/2/24/Zakaa.jpg/220px-Zaka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785960"/>
            <a:ext cx="3571920" cy="3214800"/>
          </a:xfrm>
          <a:prstGeom prst="rect">
            <a:avLst/>
          </a:prstGeom>
          <a:ln w="0">
            <a:noFill/>
          </a:ln>
        </p:spPr>
      </p:pic>
      <p:sp>
        <p:nvSpPr>
          <p:cNvPr id="377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71EB-753B-4C52-A90D-11679A4A2248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فروق الفردية في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إن الذكاء موزع توزيعا اعتداليا بين الناس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 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أي أن الغالبية العظمى من الناس يقعون في المستوى المتوسط  (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68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%)، وقليل منهم فيما فوق المتوسط  (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%)، ومثلهم فيما دون المتوسط (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%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C137-94DC-4D19-82E7-265B9771774F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31880" y="509760"/>
            <a:ext cx="79884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تصنيفات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089000" y="1506600"/>
          <a:ext cx="6411960" cy="4422600"/>
        </p:xfrm>
        <a:graphic>
          <a:graphicData uri="http://schemas.openxmlformats.org/drawingml/2006/table">
            <a:tbl>
              <a:tblPr/>
              <a:tblGrid>
                <a:gridCol w="2136960"/>
                <a:gridCol w="2138040"/>
                <a:gridCol w="2136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سبة المئوية لعدد الأفرا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سبة الذكا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رتب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أكث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0</a:t>
                      </a:r>
                      <a:r>
                        <a:rPr b="1" lang="ar-SA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– </a:t>
                      </a:r>
                      <a:r>
                        <a:rPr b="1" lang="ar-SA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قل من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بقر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كي جدا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ذكي (فوق المتوسط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عاد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دون المتوسط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حد البين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ضعف عقلي خفي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ضعف عقلي متوسط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ضعف عقلي شدي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عمر الذي يقف عنده الذكاء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اختلف علماء النفس في تحديدهم السن التي يف عندها الذكاء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فالبعض قال إن الذكاء يصل إلى أقصاه في سن 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15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أو 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16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سن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C94D-FE92-4A2C-90BF-6BCD281826FC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دور الوراثة والبيئة في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 algn="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تحدد الوراثة السقف الأعلى للقدرات 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r" rtl="1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وتلعب البيئة الدور الفاعل في استغلال طاقات الفرد أو إهمالها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435D-9E64-43EE-AAC3-07F1D062A155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b0f0"/>
                </a:solidFill>
                <a:latin typeface="Franklin Gothic Book"/>
              </a:rPr>
              <a:t>بعض العوامل البيئية المؤثرة في الذكاء</a:t>
            </a:r>
            <a:endParaRPr b="0" lang="en-US" sz="3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832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a0000"/>
                </a:solidFill>
                <a:latin typeface="Arial"/>
              </a:rPr>
              <a:t>1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– الكيماويات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إن نقص الأكسجين عند الولادة يؤثر سلبا على القدرات العقلي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2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– الغذاء والمرض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سوء التغذية للجنين تؤدي لضعف الدماغ ضعفا لا يمكن تعويضه في المراحل العمرية التالي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494-9667-4554-9E1A-657DF18E68A0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b0f0"/>
                </a:solidFill>
                <a:latin typeface="Franklin Gothic Book"/>
              </a:rPr>
              <a:t>بعض العوامل البيئية المؤثرة في الذكاء</a:t>
            </a:r>
            <a:endParaRPr b="0" lang="en-US" sz="3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a0000"/>
                </a:solidFill>
                <a:latin typeface="Arial"/>
              </a:rPr>
              <a:t>3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– المستوى الاقتصادي والاجتماعي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ناك ارتباط إيجابي بين الذكاء والمستوى الاقتصادي والاجتماعي ومستوى تعليم الأبوين ومهنهم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4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–</a:t>
            </a:r>
            <a:r>
              <a:rPr b="0" lang="ar-SA" sz="4000" spc="-1" strike="noStrike">
                <a:solidFill>
                  <a:srgbClr val="da0000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الحرمان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- إن الحرمان من المثيرات الحسية يؤدي لانخفاض مستوى الذكاء خاصة إذا كان في مرحلة ما قبل المدرس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6D1-0A86-4A0B-838F-908C8FA46B27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b0f0"/>
                </a:solidFill>
                <a:latin typeface="Franklin Gothic Book"/>
              </a:rPr>
              <a:t>بعض العوامل البيئية المؤثرة في الذكاء </a:t>
            </a:r>
            <a:endParaRPr b="0" lang="en-US" sz="35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5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– التعليم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للتعليم النظامي أثر إيجابي  على مستوى الذكاء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6</a:t>
            </a:r>
            <a:r>
              <a:rPr b="0" lang="ar-SA" sz="3000" spc="-1" strike="noStrike">
                <a:solidFill>
                  <a:srgbClr val="da0000"/>
                </a:solidFill>
                <a:latin typeface="Arial"/>
              </a:rPr>
              <a:t> – الأقران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- كثيرا ما ترتفع نسبة الذكاء عند الطفل أو تنخفض ليصبح في مستوى ذكاء أقرانه والمجموعة التي ينتمي إليها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 algn="r" rtl="1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ED0A-BB9E-492D-8016-57BF00BD2814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FB54-97EB-423C-9D71-D57A0738134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Franklin Gothic Book"/>
              </a:rPr>
              <a:t>المحاولة الأولى لدراسة </a:t>
            </a:r>
            <a:r>
              <a:rPr b="0" lang="ar-SA" sz="2800" spc="-1" strike="noStrike">
                <a:solidFill>
                  <a:srgbClr val="00b0f0"/>
                </a:solidFill>
                <a:latin typeface="Franklin Gothic Book"/>
              </a:rPr>
              <a:t>النشاط العقلى </a:t>
            </a:r>
            <a:r>
              <a:rPr b="0" lang="ar-SA" sz="2800" spc="-1" strike="noStrike">
                <a:solidFill>
                  <a:srgbClr val="0070c0"/>
                </a:solidFill>
                <a:latin typeface="Franklin Gothic Book"/>
              </a:rPr>
              <a:t>كانت على يد الفيلسوف </a:t>
            </a:r>
            <a:r>
              <a:rPr b="0" i="1" lang="ar-SA" sz="2800" spc="-1" strike="noStrike">
                <a:solidFill>
                  <a:srgbClr val="0070c0"/>
                </a:solidFill>
                <a:latin typeface="Franklin Gothic Book"/>
              </a:rPr>
              <a:t>افلاطون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814040"/>
            <a:ext cx="746748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Arial"/>
              </a:rPr>
              <a:t>قسم افلاطون النفس البشرية إلى ثلاث مكونات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عق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شه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Arial"/>
              </a:rPr>
              <a:t>وهى تقابل في علم النفس المعاصر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إدرا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نفع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نز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فروق بين الجنسين في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لا توجد فروق دالة بين الجنسين في مستوى الذكاء العام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و في المقابل توجد فروق بين الجنسين في القدرات العقلية الخاصة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تفوق الإناث في : القدرة اللغوية والذاكرة وسرعة الإدراك والتحصيل الدراسي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فوق الذكور في : القدرات العددية وإدراك المسافات والقدرة الميكانيكية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261C-7063-4C56-8B9E-2FB1BD2613E7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أنواع 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500280" y="1600200"/>
            <a:ext cx="525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bfbfbf"/>
                </a:solidFill>
                <a:latin typeface="Arial"/>
              </a:rPr>
              <a:t>الذكاء اللفظي (اللغوي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b0f0"/>
                </a:solidFill>
                <a:latin typeface="Arial"/>
              </a:rPr>
              <a:t> – الذكاء المنطقي (الرياضي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 – </a:t>
            </a:r>
            <a:r>
              <a:rPr b="0" lang="ar-SA" sz="2800" spc="-1" strike="noStrike">
                <a:solidFill>
                  <a:srgbClr val="ff9900"/>
                </a:solidFill>
                <a:latin typeface="Arial"/>
              </a:rPr>
              <a:t>الذكاء الحسي (الحرك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 – </a:t>
            </a:r>
            <a:r>
              <a:rPr b="0" lang="ar-SA" sz="2800" spc="-1" strike="noStrike">
                <a:solidFill>
                  <a:srgbClr val="ffff00"/>
                </a:solidFill>
                <a:latin typeface="Arial"/>
              </a:rPr>
              <a:t>الذكاء التفاعلي(الاجتماع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15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ff3b3b"/>
                </a:solidFill>
                <a:latin typeface="Arial"/>
              </a:rPr>
              <a:t> – </a:t>
            </a:r>
            <a:r>
              <a:rPr b="0" lang="ar-SA" sz="2800" spc="-1" strike="noStrike">
                <a:solidFill>
                  <a:srgbClr val="ca06ae"/>
                </a:solidFill>
                <a:latin typeface="Arial"/>
              </a:rPr>
              <a:t>الذكاء الذاتي (الفردي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7" descr="piechart"/>
          <p:cNvPicPr/>
          <p:nvPr/>
        </p:nvPicPr>
        <p:blipFill>
          <a:blip r:embed="rId1"/>
          <a:stretch/>
        </p:blipFill>
        <p:spPr>
          <a:xfrm>
            <a:off x="142920" y="1874880"/>
            <a:ext cx="3929040" cy="3054240"/>
          </a:xfrm>
          <a:prstGeom prst="rect">
            <a:avLst/>
          </a:prstGeom>
          <a:ln w="0">
            <a:noFill/>
          </a:ln>
        </p:spPr>
      </p:pic>
      <p:sp>
        <p:nvSpPr>
          <p:cNvPr id="404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5A24-A8C4-44A9-A491-2209C02A0BD4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6"/>
          <p:cNvSpPr/>
          <p:nvPr/>
        </p:nvSpPr>
        <p:spPr>
          <a:xfrm>
            <a:off x="380880" y="2162160"/>
            <a:ext cx="3048120" cy="308628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لفظي (اللغوي)</a:t>
            </a:r>
            <a:br>
              <a:rPr sz="3600"/>
            </a:b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Linguistic Intelligen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35200" y="1661760"/>
            <a:ext cx="522288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لفظي (اللغوي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الحساسية للغة المنطوقة والمكتوبة، والقدرة على تعلم اللغات، واستخدامها في التعبير عن النفس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سم بهذا الذكاء : الكتاب والشعراء، والمحامون والخطباء.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نجيب محفو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8" descr="Verbal Linguistic"/>
          <p:cNvPicPr/>
          <p:nvPr/>
        </p:nvPicPr>
        <p:blipFill>
          <a:blip r:embed="rId1"/>
          <a:stretch/>
        </p:blipFill>
        <p:spPr>
          <a:xfrm>
            <a:off x="552600" y="2352600"/>
            <a:ext cx="2724120" cy="2724120"/>
          </a:xfrm>
          <a:prstGeom prst="rect">
            <a:avLst/>
          </a:prstGeom>
          <a:ln w="0">
            <a:noFill/>
          </a:ln>
        </p:spPr>
      </p:pic>
      <p:sp>
        <p:nvSpPr>
          <p:cNvPr id="409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E62C-B53E-48D6-A6FB-D6F45A0524B3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6"/>
          <p:cNvSpPr/>
          <p:nvPr/>
        </p:nvSpPr>
        <p:spPr>
          <a:xfrm>
            <a:off x="309600" y="2200320"/>
            <a:ext cx="2895480" cy="251460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منطقي (الرياضي)</a:t>
            </a:r>
            <a:br>
              <a:rPr sz="3200"/>
            </a:b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Logical-Mathematical Intelligence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227040" y="1661760"/>
            <a:ext cx="553068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منطقي (الرياضي)</a:t>
            </a:r>
            <a:r>
              <a:rPr b="0" lang="en-US" sz="3000" spc="-1" strike="noStrike">
                <a:solidFill>
                  <a:srgbClr val="ff3b3b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القدرة على تحليل المشكلات منطقياً، وإتمام العمليات الحسابية المعقدة، والقدرة على التقصي والبحث العلمي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سم بهذا الذكاء : المهندسون، العلماء، الإقتصاديون، المحاسبون،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انشتاين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8" descr="Logical Mathematical"/>
          <p:cNvPicPr/>
          <p:nvPr/>
        </p:nvPicPr>
        <p:blipFill>
          <a:blip r:embed="rId1"/>
          <a:stretch/>
        </p:blipFill>
        <p:spPr>
          <a:xfrm>
            <a:off x="528480" y="2422440"/>
            <a:ext cx="2448000" cy="2076480"/>
          </a:xfrm>
          <a:prstGeom prst="rect">
            <a:avLst/>
          </a:prstGeom>
          <a:ln w="0">
            <a:noFill/>
          </a:ln>
        </p:spPr>
      </p:pic>
      <p:sp>
        <p:nvSpPr>
          <p:cNvPr id="414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D052-DAED-44BC-9B0A-A064C61BE52C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8"/>
          <p:cNvSpPr/>
          <p:nvPr/>
        </p:nvSpPr>
        <p:spPr>
          <a:xfrm>
            <a:off x="157320" y="2046240"/>
            <a:ext cx="3128760" cy="320040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حسي (الحركي)</a:t>
            </a:r>
            <a:br>
              <a:rPr sz="3200"/>
            </a:b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Bodily-Kinesthetic Intelligen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457440" y="1661760"/>
            <a:ext cx="530064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حسي (الحركي )</a:t>
            </a:r>
            <a:r>
              <a:rPr b="0" lang="ar-SA" sz="3000" spc="-1" strike="noStrike">
                <a:solidFill>
                  <a:srgbClr val="8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القدرة على التنسيق والمواءمة بين حركات الجسم من أجل تحقيق أهداف معين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سم بهذا الذكاء :الرياضيون، الراقصون، الممثلون،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مارادونا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7" descr="Body Kinaesthetic"/>
          <p:cNvPicPr/>
          <p:nvPr/>
        </p:nvPicPr>
        <p:blipFill>
          <a:blip r:embed="rId1"/>
          <a:stretch/>
        </p:blipFill>
        <p:spPr>
          <a:xfrm>
            <a:off x="285840" y="2246400"/>
            <a:ext cx="2857320" cy="2847960"/>
          </a:xfrm>
          <a:prstGeom prst="rect">
            <a:avLst/>
          </a:prstGeom>
          <a:ln w="0">
            <a:noFill/>
          </a:ln>
        </p:spPr>
      </p:pic>
      <p:sp>
        <p:nvSpPr>
          <p:cNvPr id="419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DA39-648C-4B0D-93E0-C9BC88D92939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217440" y="2276640"/>
            <a:ext cx="2971800" cy="259056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تفاعلي (الاجتماعي)</a:t>
            </a:r>
            <a:br>
              <a:rPr sz="3200"/>
            </a:b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Interpersonal (Social) Intelligen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150720" y="1661760"/>
            <a:ext cx="56070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تفاعلي (الاجتماعي)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القدرة على فهم دوافع ورغبات الآخرين، والقدرة على العمل معهم والتأثير فيهم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عادة ما يتصف بهذا الذكاء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القادة، والمعلمون، والمرشدون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9" descr="Interpersonal"/>
          <p:cNvPicPr/>
          <p:nvPr/>
        </p:nvPicPr>
        <p:blipFill>
          <a:blip r:embed="rId1"/>
          <a:stretch/>
        </p:blipFill>
        <p:spPr>
          <a:xfrm>
            <a:off x="369720" y="2527200"/>
            <a:ext cx="2667240" cy="2035440"/>
          </a:xfrm>
          <a:prstGeom prst="rect">
            <a:avLst/>
          </a:prstGeom>
          <a:ln w="0">
            <a:noFill/>
          </a:ln>
        </p:spPr>
      </p:pic>
      <p:sp>
        <p:nvSpPr>
          <p:cNvPr id="424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9AB2-DD86-4EE4-B36B-BC4A078BB1D9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152280" y="2084400"/>
            <a:ext cx="3200400" cy="3200400"/>
          </a:xfrm>
          <a:prstGeom prst="rect">
            <a:avLst/>
          </a:prstGeom>
          <a:solidFill>
            <a:srgbClr val="00006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Franklin Gothic Book"/>
              </a:rPr>
              <a:t>الذكاء الذاتي (الفردي)</a:t>
            </a:r>
            <a:br>
              <a:rPr sz="3600"/>
            </a:br>
            <a:r>
              <a:rPr b="0" lang="ar-SA" sz="36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00b0f0"/>
                </a:solidFill>
                <a:latin typeface="Franklin Gothic Book"/>
              </a:rPr>
              <a:t>Intrapersonal Intelligence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381120" y="1661760"/>
            <a:ext cx="5376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3b3b"/>
                </a:solidFill>
                <a:latin typeface="Arial"/>
              </a:rPr>
              <a:t>الذكاء الذاتي (الفردي)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هو قدرة الفرد على فهم نفسه، والتعرف على أحاسيسه ومخاوفه ودوافعه، ورسم نموذج فعال لشخصيته، والقدرة على الاستفادة من إمكاناته ومعلوماته في تطوير ذاته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8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تسم بهذا الذكاء :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فلاسفة، المستشارون.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أفلاطون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5" descr="intrapersonal"/>
          <p:cNvPicPr/>
          <p:nvPr/>
        </p:nvPicPr>
        <p:blipFill>
          <a:blip r:embed="rId1"/>
          <a:stretch/>
        </p:blipFill>
        <p:spPr>
          <a:xfrm>
            <a:off x="380880" y="2313000"/>
            <a:ext cx="2743200" cy="2716200"/>
          </a:xfrm>
          <a:prstGeom prst="rect">
            <a:avLst/>
          </a:prstGeom>
          <a:ln w="0">
            <a:noFill/>
          </a:ln>
        </p:spPr>
      </p:pic>
      <p:sp>
        <p:nvSpPr>
          <p:cNvPr id="429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246C-2A99-4787-B861-FFD70761F711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9680" y="509760"/>
            <a:ext cx="798804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شقين الايمن والايسر في الدماغ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28760" y="2571840"/>
            <a:ext cx="26161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ff"/>
                </a:solidFill>
                <a:latin typeface="Arial"/>
              </a:rPr>
              <a:t>   تفعّل الشقين الايمن والايسر في الدماغ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4" descr="4"/>
          <p:cNvPicPr/>
          <p:nvPr/>
        </p:nvPicPr>
        <p:blipFill>
          <a:blip r:embed="rId1"/>
          <a:stretch/>
        </p:blipFill>
        <p:spPr>
          <a:xfrm>
            <a:off x="1000080" y="1428840"/>
            <a:ext cx="3813120" cy="457200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6"/>
          <p:cNvSpPr/>
          <p:nvPr/>
        </p:nvSpPr>
        <p:spPr>
          <a:xfrm>
            <a:off x="3876480" y="1500120"/>
            <a:ext cx="8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3a"/>
                </a:solidFill>
                <a:latin typeface="Arial"/>
                <a:cs typeface="Tahoma"/>
              </a:rPr>
              <a:t>الش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3a"/>
                </a:solidFill>
                <a:latin typeface="Arial"/>
                <a:cs typeface="Tahoma"/>
              </a:rPr>
              <a:t>الأيم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1090440" y="1500120"/>
            <a:ext cx="8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3a"/>
                </a:solidFill>
                <a:latin typeface="Arial"/>
                <a:cs typeface="Tahoma"/>
              </a:rPr>
              <a:t>الش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3a"/>
                </a:solidFill>
                <a:latin typeface="Arial"/>
                <a:cs typeface="Tahoma"/>
              </a:rPr>
              <a:t>الأيس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عنصر نائب لرقم الشريحة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F170-59F8-4C42-A515-95A8D24EF4FB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5" descr="0201specialreport"/>
          <p:cNvPicPr/>
          <p:nvPr/>
        </p:nvPicPr>
        <p:blipFill>
          <a:blip r:embed="rId1"/>
          <a:stretch/>
        </p:blipFill>
        <p:spPr>
          <a:xfrm>
            <a:off x="2127240" y="2517840"/>
            <a:ext cx="4664160" cy="454824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19800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b0f0"/>
                </a:solidFill>
                <a:latin typeface="Franklin Gothic Book"/>
              </a:rPr>
              <a:t>تفعّل وتشغّل الشقين الايمن والايسر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438" name="AutoShape 15"/>
          <p:cNvGrpSpPr/>
          <p:nvPr/>
        </p:nvGrpSpPr>
        <p:grpSpPr>
          <a:xfrm>
            <a:off x="5230800" y="2182680"/>
            <a:ext cx="3170160" cy="1865520"/>
            <a:chOff x="5230800" y="2182680"/>
            <a:chExt cx="3170160" cy="1865520"/>
          </a:xfrm>
        </p:grpSpPr>
        <p:pic>
          <p:nvPicPr>
            <p:cNvPr id="439" name="AutoShape 15" descr=""/>
            <p:cNvPicPr/>
            <p:nvPr/>
          </p:nvPicPr>
          <p:blipFill>
            <a:blip r:embed="rId2"/>
            <a:stretch/>
          </p:blipFill>
          <p:spPr>
            <a:xfrm>
              <a:off x="5230800" y="2182680"/>
              <a:ext cx="317016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661000" y="2646360"/>
              <a:ext cx="25542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جزء الأيسر من الم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: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قوائم، الحسابات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منطق، الأرقام، التفكي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1" name="AutoShape 16"/>
          <p:cNvGrpSpPr/>
          <p:nvPr/>
        </p:nvGrpSpPr>
        <p:grpSpPr>
          <a:xfrm>
            <a:off x="652320" y="2114640"/>
            <a:ext cx="3029040" cy="1976400"/>
            <a:chOff x="652320" y="2114640"/>
            <a:chExt cx="3029040" cy="1976400"/>
          </a:xfrm>
        </p:grpSpPr>
        <p:pic>
          <p:nvPicPr>
            <p:cNvPr id="442" name="AutoShape 16" descr=""/>
            <p:cNvPicPr/>
            <p:nvPr/>
          </p:nvPicPr>
          <p:blipFill>
            <a:blip r:embed="rId3"/>
            <a:stretch/>
          </p:blipFill>
          <p:spPr>
            <a:xfrm>
              <a:off x="652320" y="2114640"/>
              <a:ext cx="302904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857160" y="2603520"/>
              <a:ext cx="241956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جزء الأيمن من المخ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: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خيال، الألوان، الرسم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  <a:ea typeface="Tahoma"/>
                </a:rPr>
                <a:t> الأصوات، المشاع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عنصر نائب لرقم الشريحة 8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6336-B5DC-48F7-B261-D0E021DE3B1C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علاقة بين التفكير و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43280" y="1662120"/>
            <a:ext cx="58435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يعرف العالم الإيطالي الشهير </a:t>
            </a:r>
            <a:r>
              <a:rPr b="0" lang="ar-SA" sz="3000" spc="-1" strike="noStrike">
                <a:solidFill>
                  <a:srgbClr val="fa0000"/>
                </a:solidFill>
                <a:latin typeface="Arial"/>
              </a:rPr>
              <a:t>دي بونو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التفكير بأنه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استخدام المعرفة لتحقيق هدف ما لا يمكن الوصول إليه مباشرةً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ويعرّفه </a:t>
            </a:r>
            <a:r>
              <a:rPr b="0" lang="ar-SA" sz="3000" spc="-1" strike="noStrike">
                <a:solidFill>
                  <a:srgbClr val="fa0000"/>
                </a:solidFill>
                <a:latin typeface="Arial"/>
              </a:rPr>
              <a:t>جون ديوي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بأنه </a:t>
            </a:r>
            <a:r>
              <a:rPr b="0" lang="ar-SA" sz="3000" spc="-1" strike="noStrike">
                <a:solidFill>
                  <a:srgbClr val="00b0f0"/>
                </a:solidFill>
                <a:latin typeface="Arial"/>
              </a:rPr>
              <a:t>الأداة الصالحة لمعالجة المشاكل والتغلب عليها وتبسيطها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200px-John_Dew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58840" y="4081320"/>
            <a:ext cx="1465200" cy="1844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De%20Bono"/>
          <p:cNvPicPr/>
          <p:nvPr/>
        </p:nvPicPr>
        <p:blipFill>
          <a:blip r:embed="rId3"/>
          <a:stretch/>
        </p:blipFill>
        <p:spPr>
          <a:xfrm>
            <a:off x="1116000" y="1585800"/>
            <a:ext cx="1368360" cy="1882800"/>
          </a:xfrm>
          <a:prstGeom prst="rect">
            <a:avLst/>
          </a:prstGeom>
          <a:ln w="0">
            <a:noFill/>
          </a:ln>
        </p:spPr>
      </p:pic>
      <p:sp>
        <p:nvSpPr>
          <p:cNvPr id="449" name="عنصر نائب لرقم الشريحة 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51B4-C787-4652-B818-96BC7AD88654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43D7-B3F6-468C-BF14-02AD4E5FB3D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ماذا عن أرسطو؟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ختزل أرسطو مفهوم أفلاطون إلى مظهرين أساسين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 الأول: العقل المعرفي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 الثاني: الانفعال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نخلص من ذلك إلى ان الفلسفة اليونانية استخدمت النشاط العقلي للفرد كمرادف للذكاء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العلاقة بين التفكير و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57160" y="2028600"/>
            <a:ext cx="76312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ذكاء هو شيءُ نولد معه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تَفْكير مهارة يجب أنْ نتعلمها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دوارد دي بون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عنصر نائب لرقم الشريحة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FA9F-8529-4B16-8CD6-2B9EA8B9DF92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6" descr="psychology4a[1](edited)"/>
          <p:cNvPicPr/>
          <p:nvPr/>
        </p:nvPicPr>
        <p:blipFill>
          <a:blip r:embed="rId1"/>
          <a:stretch/>
        </p:blipFill>
        <p:spPr>
          <a:xfrm>
            <a:off x="785880" y="1839960"/>
            <a:ext cx="2357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علاقة بين التفكير و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357800" y="1662120"/>
            <a:ext cx="436248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ahoma"/>
              </a:rPr>
              <a:t>التفكير هو مهارة التشغيل التي يتولى بها الذكاء معالجة معطيات الخبرة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  <a:cs typeface="Tahoma"/>
              </a:rPr>
              <a:t>وقد شبه دي بونو الذكاء والتفكير بالسيارة والسائق . فالسيارة هي قدرات وقيادتها مهارة . 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5"/>
          <p:cNvGrpSpPr/>
          <p:nvPr/>
        </p:nvGrpSpPr>
        <p:grpSpPr>
          <a:xfrm>
            <a:off x="714240" y="3714840"/>
            <a:ext cx="3286440" cy="2214000"/>
            <a:chOff x="714240" y="3714840"/>
            <a:chExt cx="3286440" cy="2214000"/>
          </a:xfrm>
        </p:grpSpPr>
        <p:pic>
          <p:nvPicPr>
            <p:cNvPr id="457" name="Picture 6" descr="120407_1"/>
            <p:cNvPicPr/>
            <p:nvPr/>
          </p:nvPicPr>
          <p:blipFill>
            <a:blip r:embed="rId1"/>
            <a:stretch/>
          </p:blipFill>
          <p:spPr>
            <a:xfrm>
              <a:off x="714240" y="3714840"/>
              <a:ext cx="3286440" cy="221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7"/>
            <p:cNvSpPr/>
            <p:nvPr/>
          </p:nvSpPr>
          <p:spPr>
            <a:xfrm>
              <a:off x="2041560" y="4889520"/>
              <a:ext cx="177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ذكاء قدر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2705760" y="3952080"/>
              <a:ext cx="117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التفك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ea typeface="Tahoma"/>
                </a:rPr>
                <a:t> مهار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9"/>
            <p:cNvSpPr/>
            <p:nvPr/>
          </p:nvSpPr>
          <p:spPr>
            <a:xfrm flipH="1">
              <a:off x="3038400" y="4663800"/>
              <a:ext cx="149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عنصر نائب لرقم الشريحة 10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CB7C-2C9B-4EEF-8BA6-9F13C0E1086D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1880" y="509760"/>
            <a:ext cx="7988400" cy="83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علاقة بين التفكير والذكاء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114640" y="1623960"/>
          <a:ext cx="5151240" cy="4032360"/>
        </p:xfrm>
        <a:graphic>
          <a:graphicData uri="http://schemas.openxmlformats.org/drawingml/2006/table">
            <a:tbl>
              <a:tblPr/>
              <a:tblGrid>
                <a:gridCol w="2576520"/>
                <a:gridCol w="2574720"/>
              </a:tblGrid>
              <a:tr h="2016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ذكاء مرتف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تفكير منخف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(موهوب لم يستغل موهبت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cs typeface="Arabic Transparent"/>
                        </a:rPr>
                        <a:t>عليه أن ينتقل إلى </a:t>
                      </a:r>
                      <a:r>
                        <a:rPr b="0" lang="en-US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Q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ذكاء مرتف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تفكير مرتف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cs typeface="Arabic Transparent"/>
                        </a:rPr>
                        <a:t>شخص ناجح يوظف موهبته ويطور مهارات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ذكاء منخف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تفكير منخف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(شخص غير ناجح)</a:t>
                      </a:r>
                      <a:r>
                        <a:rPr b="0" lang="ar-SA" sz="20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cs typeface="Arabic Transparent"/>
                        </a:rPr>
                        <a:t>عليه أن ينتقل إلى </a:t>
                      </a:r>
                      <a:r>
                        <a:rPr b="0" lang="en-US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Q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ذكاء منخف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ff3b3b"/>
                          </a:solidFill>
                          <a:latin typeface="Arial"/>
                          <a:cs typeface="Arabic Transparent"/>
                        </a:rPr>
                        <a:t>تفكير مرتف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a7a7"/>
                          </a:solidFill>
                          <a:latin typeface="Arial"/>
                          <a:ea typeface="Arabic Transparent"/>
                        </a:rPr>
                        <a:t>(شخص ناجح يعرف كيف يطور مهاراته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Line 18"/>
          <p:cNvSpPr/>
          <p:nvPr/>
        </p:nvSpPr>
        <p:spPr>
          <a:xfrm flipV="1">
            <a:off x="1768320" y="2890440"/>
            <a:ext cx="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19"/>
          <p:cNvSpPr/>
          <p:nvPr/>
        </p:nvSpPr>
        <p:spPr>
          <a:xfrm rot="16200000">
            <a:off x="59040" y="334728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مستوى الذك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0"/>
          <p:cNvSpPr/>
          <p:nvPr/>
        </p:nvSpPr>
        <p:spPr>
          <a:xfrm>
            <a:off x="3995640" y="5925960"/>
            <a:ext cx="14590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2656800" y="594360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مستوى قدرات التفك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4"/>
          <p:cNvSpPr/>
          <p:nvPr/>
        </p:nvSpPr>
        <p:spPr>
          <a:xfrm>
            <a:off x="3189240" y="546408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37"/>
          <p:cNvSpPr/>
          <p:nvPr/>
        </p:nvSpPr>
        <p:spPr>
          <a:xfrm>
            <a:off x="2115360" y="167472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a0b0"/>
                </a:solidFill>
                <a:latin typeface="Arial"/>
                <a:ea typeface="Tahoma"/>
              </a:rPr>
              <a:t>Q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38"/>
          <p:cNvSpPr/>
          <p:nvPr/>
        </p:nvSpPr>
        <p:spPr>
          <a:xfrm>
            <a:off x="2191320" y="3736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a0b0"/>
                </a:solidFill>
                <a:latin typeface="Arial"/>
                <a:ea typeface="Tahoma"/>
              </a:rPr>
              <a:t>Q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39"/>
          <p:cNvSpPr/>
          <p:nvPr/>
        </p:nvSpPr>
        <p:spPr>
          <a:xfrm>
            <a:off x="4764960" y="17002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a0b0"/>
                </a:solidFill>
                <a:latin typeface="Arial"/>
                <a:ea typeface="Tahoma"/>
              </a:rPr>
              <a:t>Q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764960" y="3697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ea0b0"/>
                </a:solidFill>
                <a:latin typeface="Arial"/>
                <a:ea typeface="Tahoma"/>
              </a:rPr>
              <a:t>Q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41"/>
          <p:cNvSpPr/>
          <p:nvPr/>
        </p:nvSpPr>
        <p:spPr>
          <a:xfrm>
            <a:off x="3151080" y="342900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من ألغاز التفكير الجانبي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31520" y="4214880"/>
            <a:ext cx="80262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َتضمّنُ إحدى ألغازِ التفكير الجانبي الكلاسيكيةِ تسع نقاطِ، كما في المثالِ فوق. يكمن التحدي أَنْ توصل النقاط كُلّها في أربعة خطوطِ مستقيمةِ، بدون رَفْع القلمِ مِنْ الصفحةِ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5608800" y="2071800"/>
            <a:ext cx="1536480" cy="1306440"/>
            <a:chOff x="5608800" y="2071800"/>
            <a:chExt cx="1536480" cy="1306440"/>
          </a:xfrm>
        </p:grpSpPr>
        <p:sp>
          <p:nvSpPr>
            <p:cNvPr id="477" name="Oval 5"/>
            <p:cNvSpPr/>
            <p:nvPr/>
          </p:nvSpPr>
          <p:spPr>
            <a:xfrm>
              <a:off x="6953400" y="2071800"/>
              <a:ext cx="19188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6"/>
            <p:cNvSpPr/>
            <p:nvPr/>
          </p:nvSpPr>
          <p:spPr>
            <a:xfrm>
              <a:off x="6953400" y="2610000"/>
              <a:ext cx="19188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7"/>
            <p:cNvSpPr/>
            <p:nvPr/>
          </p:nvSpPr>
          <p:spPr>
            <a:xfrm>
              <a:off x="6953400" y="3186360"/>
              <a:ext cx="191880" cy="19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8"/>
            <p:cNvSpPr/>
            <p:nvPr/>
          </p:nvSpPr>
          <p:spPr>
            <a:xfrm>
              <a:off x="6300720" y="2071800"/>
              <a:ext cx="19224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262560" y="2610000"/>
              <a:ext cx="19224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6300720" y="3148200"/>
              <a:ext cx="192240" cy="19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5608800" y="2071800"/>
              <a:ext cx="19188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2"/>
            <p:cNvSpPr/>
            <p:nvPr/>
          </p:nvSpPr>
          <p:spPr>
            <a:xfrm>
              <a:off x="5608800" y="2610000"/>
              <a:ext cx="191880" cy="192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3"/>
            <p:cNvSpPr/>
            <p:nvPr/>
          </p:nvSpPr>
          <p:spPr>
            <a:xfrm>
              <a:off x="5608800" y="3148200"/>
              <a:ext cx="191880" cy="191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Line 14"/>
          <p:cNvSpPr/>
          <p:nvPr/>
        </p:nvSpPr>
        <p:spPr>
          <a:xfrm flipH="1" flipV="1">
            <a:off x="5686560" y="2143080"/>
            <a:ext cx="1766880" cy="15350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5"/>
          <p:cNvSpPr/>
          <p:nvPr/>
        </p:nvSpPr>
        <p:spPr>
          <a:xfrm flipH="1" flipV="1">
            <a:off x="5686200" y="2143080"/>
            <a:ext cx="37800" cy="161280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16"/>
          <p:cNvSpPr/>
          <p:nvPr/>
        </p:nvSpPr>
        <p:spPr>
          <a:xfrm flipH="1">
            <a:off x="5724360" y="2143080"/>
            <a:ext cx="2035440" cy="16113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17"/>
          <p:cNvSpPr/>
          <p:nvPr/>
        </p:nvSpPr>
        <p:spPr>
          <a:xfrm flipH="1">
            <a:off x="5686200" y="2143080"/>
            <a:ext cx="20732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18" descr="LateralThinking"/>
          <p:cNvPicPr/>
          <p:nvPr/>
        </p:nvPicPr>
        <p:blipFill>
          <a:blip r:embed="rId1"/>
          <a:stretch/>
        </p:blipFill>
        <p:spPr>
          <a:xfrm>
            <a:off x="1384200" y="1857240"/>
            <a:ext cx="2286000" cy="20466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19"/>
          <p:cNvSpPr/>
          <p:nvPr/>
        </p:nvSpPr>
        <p:spPr>
          <a:xfrm>
            <a:off x="4241520" y="3041640"/>
            <a:ext cx="4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Tahoma"/>
              </a:rPr>
              <a:t>أ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عنصر نائب لرقم الشريحة 2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8EAD-13C4-4AA4-A5F2-16B7AF3FCF17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7440" y="1277640"/>
            <a:ext cx="76374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000"/>
                </a:solidFill>
                <a:latin typeface="Arial"/>
                <a:ea typeface="Arabic Transparent"/>
              </a:rPr>
              <a:t>"معظم دول العالم تعيش على ثروات تقع تحت أقدامها وتنضب بمرور الزمن ، أما نحن فنعيش على ثروة فوق أرجلنا تزداد وتعطي بقدر ما نأخذ منها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فكر يابا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عنصر نائب لرقم الشريحة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422-8201-4AF7-8E74-2A6A5F40C404}" type="slidenum">
              <a:rPr b="0" lang="ar-SA" sz="1000" spc="-1" strike="noStrike">
                <a:solidFill>
                  <a:srgbClr val="9b9a98"/>
                </a:solidFill>
                <a:latin typeface="Arial"/>
                <a:ea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6388-CC16-4B56-8F03-83E550925D3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الذكاء قدرة،</a:t>
            </a: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وهذا متفق عليه من الأغلبية، إلا أن ما هو مختلف عليه هو عدم الاتفاق على ما تشير إليه القدرة.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ولكون الذكاء صفة وليس كينونه فهو يصعب تحديده، فهو لا وجود له ككينونة، وإنما هو نوع من الوسم أو الوصف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6379-AA6E-4A0A-8979-5FDA57287808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عوامل غموض الذكاء</a:t>
            </a: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1</a:t>
            </a: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. حصيلة الخبرات التعليمية للفرد.</a:t>
            </a: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2</a:t>
            </a: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. تعدد المعاني المرتبطة به، كالوراثة، والبيئة (السلوك: تعلم ، تفكير)، والنتائج التي يمكن الحصول عليها من خلال اختبارات الذكاء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4E97-96D5-4BE5-B955-FE7C69355EB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رغم صعوبة تعريف الذكاء الا اننه يمكن تحديده بالقدرات الاتية: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قدرة على التفكير المجرد.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قدرة على التعلم.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قدرة على حل المشكلات.</a:t>
            </a:r>
            <a:br>
              <a:rPr sz="4000"/>
            </a:br>
            <a:r>
              <a:rPr b="0" lang="ar-SA" sz="4000" spc="-1" strike="noStrike">
                <a:solidFill>
                  <a:srgbClr val="ffffff"/>
                </a:solidFill>
                <a:latin typeface="Franklin Gothic Book"/>
              </a:rPr>
              <a:t>القدرة على التكيف والارتباط بالبيئة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D964-EE98-49B4-A8CE-98FE12488444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2800" spc="-1" strike="noStrike">
                <a:solidFill>
                  <a:srgbClr val="00b0f0"/>
                </a:solidFill>
                <a:latin typeface="Franklin Gothic Book"/>
              </a:rPr>
              <a:t>يميز ستودارد الذكاء بالخصائص الآتية:</a:t>
            </a:r>
            <a:br>
              <a:rPr sz="2800"/>
            </a:br>
            <a:r>
              <a:rPr b="0" lang="ar-SA" sz="2800" spc="-1" strike="noStrike">
                <a:solidFill>
                  <a:srgbClr val="00b0f0"/>
                </a:solidFill>
                <a:latin typeface="Franklin Gothic Book"/>
              </a:rPr>
              <a:t>1</a:t>
            </a:r>
            <a:r>
              <a:rPr b="0" lang="ar-SA" sz="2800" spc="-1" strike="noStrike">
                <a:solidFill>
                  <a:srgbClr val="00b0f0"/>
                </a:solidFill>
                <a:latin typeface="Franklin Gothic Book"/>
              </a:rPr>
              <a:t>. 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الصعوبة: صعوبة الأسئلة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2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تعقيد: عدد الاستجابات الصحيحة في المستويات المتدرجة للصعوبة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3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تجريد: التعميم والتمييز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4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اقتصاد: سرعة الفرد في الأداء الصحيح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5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تكيف الهادف: توجيه السلوك نحو الهدف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6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قيمة الاجتماعية: أي مقارنة أداء الفرد بمتوسط أداء الجماعة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7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الابتكار: استنباط حلول جديدة من مواقف غير مألوفة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8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تركيز الطاقة: الانتباه.</a:t>
            </a:r>
            <a:br>
              <a:rPr sz="2800"/>
            </a:b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Franklin Gothic Book"/>
              </a:rPr>
              <a:t>. مقاومة القوى الانفعالية: الاتزان الانفعالي.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Franklin Gothic Book"/>
              </a:rPr>
              <a:t>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عنصر نائب لرقم الشريحة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56F1-0BA2-4D3E-9F9B-19413FF700E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b0f0"/>
                </a:solidFill>
                <a:latin typeface="Franklin Gothic Book"/>
              </a:rPr>
              <a:t>الذكاء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4240" y="1285920"/>
            <a:ext cx="7467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تعريف سبيرمان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القدرة على ادرك العلاقات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 ( الصعبة أو الخفية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4" descr="iStock_000003912674XSmall"/>
          <p:cNvPicPr/>
          <p:nvPr/>
        </p:nvPicPr>
        <p:blipFill>
          <a:blip r:embed="rId1"/>
          <a:stretch/>
        </p:blipFill>
        <p:spPr>
          <a:xfrm>
            <a:off x="1214280" y="1714680"/>
            <a:ext cx="2229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17:31:31Z</dcterms:created>
  <dc:creator>SAMEERSHA</dc:creator>
  <dc:description/>
  <dc:language>en-US</dc:language>
  <cp:lastModifiedBy>user</cp:lastModifiedBy>
  <dcterms:modified xsi:type="dcterms:W3CDTF">2011-02-27T22:07:18Z</dcterms:modified>
  <cp:revision>104</cp:revision>
  <dc:subject/>
  <dc:title>الشريحة 1</dc:title>
</cp:coreProperties>
</file>