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6BB6-F695-4E4D-BC59-2DC8EDDDE5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B623-CF96-484A-A06A-A015945E1B6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8B41-DE3C-4F87-9F25-C44304C88D4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A67-73E3-46CD-8AF3-2E075C16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6D4-A1A3-4CF3-96E2-A5B2D350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C1C-A585-400D-9703-1957EEC1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9C6-1A68-4FE9-8F7B-B66F1503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6F3C-3679-4663-8CF5-D137D138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F19F-0FE4-4805-B5CC-68EC51A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F3DE-D3DE-4ADF-A50E-AC84808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BCA-9E01-4DF2-8943-2B302ED1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F143-F12C-474D-9516-4D0DACC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59E-7B10-4F27-8563-4DBF973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8110-147B-46C3-80A4-8D2B841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FAF-6078-402D-9E09-C0053982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1A50-95C0-4401-B077-78DB4E1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6D68-B24C-4269-8041-5FE3947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D064-FB17-477C-9892-B8DEDB93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5032-0DB7-4B76-BCBC-25A511BD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A8E4-90D0-4505-B166-C4A81EAB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9EBC-FD70-4E27-8156-D3EECF8D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F4D3-E57F-42A7-90A2-EE22598C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8104-B793-43BC-B09E-9E3C44C5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CA23-B87D-4585-A4D5-1D09AF2F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31E4-896E-4743-BD43-D6FC1CB1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2BC-6DDF-41E0-8C6E-87E23FA8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B371-949D-4C5D-96A7-9954CAAD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C807-A121-4F4B-BA8B-04A9735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EF85-1F8A-4277-8CDB-72EF605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1979-4B70-4F11-AD1B-B309B9A5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1AD7-3E46-4E42-8B5F-819777B7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EF91-9ABD-4B75-9298-57CFB0B6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7015-7096-4A63-AB9E-38CA78FB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79FB-4DA5-4ED1-95B0-ABF105A4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8932-DA8D-4D19-A11E-98FEEAC7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3F02-843C-4653-9E0E-3A13B2A0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1B8-C77B-4E21-9FA6-956C29FB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0138-4C0B-4C58-B02B-1A5E5669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BF4C-8421-4AD1-B50D-58EB98EA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9F11-DF49-47E3-8F8E-06255B82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BBEB-73BC-40BC-8A6B-572CB44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AE06-B68E-40FF-8848-EE86CF0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B7AC-FF33-4545-8560-586B1C1A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F9F3-80B0-4809-A0A4-61DB7339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ECF2-823D-4E68-9AC7-43F4AD07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7306-332E-49EC-A972-D84D6A01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4B45F-E329-4A34-8F53-5F7EA16D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A81-AABE-40D7-B695-1AA2E847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0D8EA-387C-43F4-9D7D-3414CF1E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26C2-B1DC-4B91-85B9-F7869F11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E7AF-4A40-44A5-950A-7DB68932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A53BD-2FC0-49C0-901A-7DF51BCA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74DA9-81DE-4CC8-ACB6-4F9C539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568D-4352-4ECA-BF5C-5178F1A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D771-630A-4E11-99BC-0E67E33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78D67-B8C4-4B33-B59D-20D9CF4D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A05DB-8B0A-400D-9716-C9F3E22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9E502-4EF2-480E-940A-BD1A69AA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1F4-C915-4E91-9C18-5C178AA2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A19F-E871-46D4-AC87-BE0FF203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2CFC-1BA7-47A4-B8C1-D1FD1072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C978-C5EF-452C-AC1B-490296CC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DC44-5119-403B-BD48-69FBBB2B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6664-A1FB-469F-809A-EC1A5658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8F28D-731B-4A78-8D25-DDBBCC3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317C6-57E3-4315-885A-0F79DE1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3B749-3B12-45AD-B97F-0F988C11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5988-CC25-425E-8C61-5D86A67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66EB-F6CF-46B2-B04F-E5596E5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E67-EAB0-4092-8B1B-9D58F28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C579F-51B5-4F32-A193-EB0CAE95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6298E-9CF0-455E-B4E5-882B1431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EBCA-9A0E-4432-B306-93D504B1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005-F067-49F3-90A3-1EDBD96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FC1-57F8-469B-979D-B0EA48CF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790-B745-4B06-8D80-F4EA00C1CF30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٥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8809-2A1F-4CA9-8E60-62AD488E8B51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235-5B48-4CF7-97DD-6B14334050E2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3C2D-7ED4-437D-BEFD-17326E279E87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F613-51DC-402C-B645-D145CA2EE695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A58D-8CA7-4941-8AE1-70BDEEB555A9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8DA8-29D1-48C7-B36C-96A7271BFD2B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٥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2317-74E9-46B3-B3D7-3B7BA927BC6E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735-52FE-45EC-83F4-B544727C8055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٥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F9A-F0B1-41B6-9021-C71127AE0CCC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D1C1-486D-48DB-834D-BA8410216D37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٥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8B2-3111-463A-A982-8A3D11107AD9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wedar.ps/vb/showthread.php?t=865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Zaka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Dewey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عنوان 1" descr=""/>
          <p:cNvPicPr/>
          <p:nvPr/>
        </p:nvPicPr>
        <p:blipFill>
          <a:blip r:embed="rId1"/>
          <a:stretch/>
        </p:blipFill>
        <p:spPr>
          <a:xfrm>
            <a:off x="1085760" y="2567160"/>
            <a:ext cx="6491520" cy="2309760"/>
          </a:xfrm>
          <a:prstGeom prst="rect">
            <a:avLst/>
          </a:prstGeom>
          <a:ln w="0">
            <a:noFill/>
          </a:ln>
        </p:spPr>
      </p:pic>
      <p:sp>
        <p:nvSpPr>
          <p:cNvPr id="302" name="عنوان فرعي 2"/>
          <p:cNvSpPr/>
          <p:nvPr/>
        </p:nvSpPr>
        <p:spPr>
          <a:xfrm>
            <a:off x="2143080" y="0"/>
            <a:ext cx="4214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cs typeface="Tahoma"/>
              </a:rPr>
              <a:t>بسم الله الرحمن الرحي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360D-81D1-4690-8547-55E568A14900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6A9C-F833-4166-BC94-D579EE4207F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467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ثورنداي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ذكاء محدد بشبة عصب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4" descr="iStock_000003912674XSmall"/>
          <p:cNvPicPr/>
          <p:nvPr/>
        </p:nvPicPr>
        <p:blipFill>
          <a:blip r:embed="rId1"/>
          <a:stretch/>
        </p:blipFill>
        <p:spPr>
          <a:xfrm>
            <a:off x="1214280" y="1714680"/>
            <a:ext cx="2229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2904-70CF-4414-8082-43F70EEA5B8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467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ثورست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قدرات العقلية الا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iStock_000003912674XSmall"/>
          <p:cNvPicPr/>
          <p:nvPr/>
        </p:nvPicPr>
        <p:blipFill>
          <a:blip r:embed="rId1"/>
          <a:stretch/>
        </p:blipFill>
        <p:spPr>
          <a:xfrm>
            <a:off x="1214280" y="1714680"/>
            <a:ext cx="2229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4357800"/>
            <a:ext cx="113832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Franklin Gothic Book"/>
              </a:rPr>
              <a:t>الفرد بينية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143160" y="928800"/>
            <a:ext cx="4967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بينيه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NET – 190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القدرة على الابتكار والفهم والحكم الصحيح والتوجه الهادف للسلو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عنوان 1"/>
          <p:cNvSpPr/>
          <p:nvPr/>
        </p:nvSpPr>
        <p:spPr>
          <a:xfrm>
            <a:off x="1371600" y="426960"/>
            <a:ext cx="65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  <a:cs typeface="Tahoma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صورة 6" descr="http://www.mawhiba.org/portal_images/mental4.png"/>
          <p:cNvPicPr/>
          <p:nvPr/>
        </p:nvPicPr>
        <p:blipFill>
          <a:blip r:embed="rId1"/>
          <a:stretch/>
        </p:blipFill>
        <p:spPr>
          <a:xfrm>
            <a:off x="857160" y="2143080"/>
            <a:ext cx="1857600" cy="2019240"/>
          </a:xfrm>
          <a:prstGeom prst="rect">
            <a:avLst/>
          </a:prstGeom>
          <a:ln w="0">
            <a:noFill/>
          </a:ln>
        </p:spPr>
      </p:pic>
      <p:sp>
        <p:nvSpPr>
          <p:cNvPr id="337" name="عنصر نائب لرقم الشريحة 9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4865-3947-4D61-B0E9-5072E28F570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143160" y="1600200"/>
            <a:ext cx="478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تيرمان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RMAN – 192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درة على التفكير المج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صورة 3" descr="http://www.mawhiba.org/Portal_Images/mental7.png"/>
          <p:cNvPicPr/>
          <p:nvPr/>
        </p:nvPicPr>
        <p:blipFill>
          <a:blip r:embed="rId1"/>
          <a:stretch/>
        </p:blipFill>
        <p:spPr>
          <a:xfrm>
            <a:off x="928800" y="1500120"/>
            <a:ext cx="1857240" cy="2324160"/>
          </a:xfrm>
          <a:prstGeom prst="rect">
            <a:avLst/>
          </a:prstGeom>
          <a:ln w="0">
            <a:noFill/>
          </a:ln>
        </p:spPr>
      </p:pic>
      <p:sp>
        <p:nvSpPr>
          <p:cNvPr id="341" name="مربع نص 4"/>
          <p:cNvSpPr/>
          <p:nvPr/>
        </p:nvSpPr>
        <p:spPr>
          <a:xfrm>
            <a:off x="1143000" y="39290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ahoma"/>
              </a:rPr>
              <a:t>لويس تيرما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210-513A-4582-B08A-47365A8C7553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وكسلر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CHSLER – 195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قدرة الكلية للفرد على العمل الهادف والتفكير المنطقي والتفاعل الناجع مع البيئ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7E42-7050-482E-B7CC-B5D8841C81D8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قياس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571480" y="1600200"/>
            <a:ext cx="535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قد بدأت محاولات العلماء لقياس الذكاء الإنساني بشكل علمي مع نهايات القرن التاسع الميلادي على يد العالم الانجليزي السير فرانسيس جالتون الذي اعتقد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أن ذكاء الفرد يرتبط بحواسه كالسمع والبصر وزمن رد الفع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صورة 4" descr="http://www.mawhiba.org/portal_images/mental3.png"/>
          <p:cNvPicPr/>
          <p:nvPr/>
        </p:nvPicPr>
        <p:blipFill>
          <a:blip r:embed="rId1"/>
          <a:stretch/>
        </p:blipFill>
        <p:spPr>
          <a:xfrm>
            <a:off x="785880" y="1857240"/>
            <a:ext cx="1500120" cy="1686240"/>
          </a:xfrm>
          <a:prstGeom prst="rect">
            <a:avLst/>
          </a:prstGeom>
          <a:ln w="0">
            <a:noFill/>
          </a:ln>
        </p:spPr>
      </p:pic>
      <p:sp>
        <p:nvSpPr>
          <p:cNvPr id="349" name="مربع نص 5"/>
          <p:cNvSpPr/>
          <p:nvPr/>
        </p:nvSpPr>
        <p:spPr>
          <a:xfrm>
            <a:off x="714240" y="364320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cs typeface="Tahoma"/>
              </a:rPr>
              <a:t>فرانسس جالت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8686-92C3-4BA4-9649-4C7B87250DA8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قياس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0040" y="1804680"/>
            <a:ext cx="804384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أول من قام بقياس الذكاء هو بينيه ومساعده سيمون ، وقد توصل بينيه إلى فكرة العمر العقل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spcAft>
                <a:spcPts val="1800"/>
              </a:spcAft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عمر العقلي هو قدرة الطفل الإجابة عن أسئلة يجيب عنها متوسطو الذكاء في سن معينة مثلا : طفل في سن السادسة (عمر زمني)، يستطيع الإجابة عن أسئلة الأطفال في سن ثمان  سنوات، فعمره العقلي هو ثمان سنوات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4387-13D1-4D4F-902A-F076C9C8FA23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معادلة 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85720" y="1600200"/>
            <a:ext cx="46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ولكي نحصل على معامل </a:t>
            </a:r>
            <a:r>
              <a:rPr b="0" lang="ar-SA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الذكاء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نتبع المعادلة التالية وهي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6" descr="brain-small"/>
          <p:cNvPicPr/>
          <p:nvPr/>
        </p:nvPicPr>
        <p:blipFill>
          <a:blip r:embed="rId2"/>
          <a:stretch/>
        </p:blipFill>
        <p:spPr>
          <a:xfrm>
            <a:off x="844560" y="1643040"/>
            <a:ext cx="2227320" cy="2227320"/>
          </a:xfrm>
          <a:prstGeom prst="rect">
            <a:avLst/>
          </a:prstGeom>
          <a:ln w="0">
            <a:noFill/>
          </a:ln>
        </p:spPr>
      </p:pic>
      <p:sp>
        <p:nvSpPr>
          <p:cNvPr id="357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8914-74E9-4FB6-A5E1-5F13EE2FE81E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مستطيل مستدير الزوايا 8" descr=""/>
          <p:cNvPicPr/>
          <p:nvPr/>
        </p:nvPicPr>
        <p:blipFill>
          <a:blip r:embed="rId3"/>
          <a:stretch/>
        </p:blipFill>
        <p:spPr>
          <a:xfrm>
            <a:off x="2004840" y="4248000"/>
            <a:ext cx="6127920" cy="2670480"/>
          </a:xfrm>
          <a:prstGeom prst="rect">
            <a:avLst/>
          </a:prstGeom>
          <a:ln w="0">
            <a:noFill/>
          </a:ln>
        </p:spPr>
      </p:pic>
      <p:sp>
        <p:nvSpPr>
          <p:cNvPr id="359" name="مربع نص 9"/>
          <p:cNvSpPr/>
          <p:nvPr/>
        </p:nvSpPr>
        <p:spPr>
          <a:xfrm>
            <a:off x="2000160" y="4643280"/>
            <a:ext cx="578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d0d0d"/>
                </a:solidFill>
                <a:latin typeface="Arial"/>
                <a:cs typeface="Tahoma"/>
              </a:rPr>
              <a:t>العمر العقلي ÷ العمر الزمني × 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  <a:ea typeface="Tahoma"/>
              </a:rPr>
              <a:t>100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  <a:ea typeface="Tahoma"/>
              </a:rPr>
              <a:t> = معامل الذكا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أنواع اختبارات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r" rtl="1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da0000"/>
                </a:solidFill>
                <a:latin typeface="Arial"/>
              </a:rPr>
              <a:t>أنواعها حسب موضوع الاختبار 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f0"/>
                </a:solidFill>
                <a:latin typeface="Arial"/>
              </a:rPr>
              <a:t>اختبارات لفظية :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وهي مكونة من اللغة والألفاظ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اختبارات غير لفظية : وهي لا تستخدم اللغة في غير التفاهم المألوف من أجل شرح طريقة الاختبار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 algn="r" rtl="1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da0000"/>
                </a:solidFill>
                <a:latin typeface="Arial"/>
              </a:rPr>
              <a:t>أنواعها من حيث طريقة إجراء الاختبار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f0"/>
                </a:solidFill>
                <a:latin typeface="Arial"/>
              </a:rPr>
              <a:t>الاختبارات الفردية : 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وهي التي لا يمكن إجراؤها على أكثر من فرد واحد في نفس الوقت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اختبارات جمعية : وهي التي يمكن إجراؤها على مجموعة من الأفراد في نفس الوقت من قبل فاحص واحد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iStock_000002055573Small"/>
          <p:cNvPicPr/>
          <p:nvPr/>
        </p:nvPicPr>
        <p:blipFill>
          <a:blip r:embed="rId1"/>
          <a:stretch/>
        </p:blipFill>
        <p:spPr>
          <a:xfrm>
            <a:off x="822240" y="214200"/>
            <a:ext cx="2249640" cy="1803600"/>
          </a:xfrm>
          <a:prstGeom prst="rect">
            <a:avLst/>
          </a:prstGeom>
          <a:ln w="0">
            <a:noFill/>
          </a:ln>
        </p:spPr>
      </p:pic>
      <p:sp>
        <p:nvSpPr>
          <p:cNvPr id="363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DE9B-E258-4CC6-A644-A3250A714D07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نموذج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20462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نموذج لأحد فقرات اختبارات الذكا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عنصر نائب للمحتوى 3" descr="http://www.mawhiba.org/Portal_Images/mental2.png"/>
          <p:cNvPicPr/>
          <p:nvPr/>
        </p:nvPicPr>
        <p:blipFill>
          <a:blip r:embed="rId1"/>
          <a:stretch/>
        </p:blipFill>
        <p:spPr>
          <a:xfrm>
            <a:off x="3214800" y="1643040"/>
            <a:ext cx="2562120" cy="2685960"/>
          </a:xfrm>
          <a:prstGeom prst="rect">
            <a:avLst/>
          </a:prstGeom>
          <a:ln w="0">
            <a:noFill/>
          </a:ln>
        </p:spPr>
      </p:pic>
      <p:sp>
        <p:nvSpPr>
          <p:cNvPr id="367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F274-FE14-49AE-8AA8-686E8BF74C28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عنوان 1" descr=""/>
          <p:cNvPicPr/>
          <p:nvPr/>
        </p:nvPicPr>
        <p:blipFill>
          <a:blip r:embed="rId1"/>
          <a:stretch/>
        </p:blipFill>
        <p:spPr>
          <a:xfrm>
            <a:off x="3206880" y="1054080"/>
            <a:ext cx="5083200" cy="302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thinking_abstract"/>
          <p:cNvPicPr/>
          <p:nvPr/>
        </p:nvPicPr>
        <p:blipFill>
          <a:blip r:embed="rId2"/>
          <a:stretch/>
        </p:blipFill>
        <p:spPr>
          <a:xfrm>
            <a:off x="1143000" y="857160"/>
            <a:ext cx="2571840" cy="3021120"/>
          </a:xfrm>
          <a:prstGeom prst="rect">
            <a:avLst/>
          </a:prstGeom>
          <a:ln w="0">
            <a:noFill/>
          </a:ln>
        </p:spPr>
      </p:pic>
      <p:sp>
        <p:nvSpPr>
          <p:cNvPr id="306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F27-08E7-4C4A-9802-59B407B79AEC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F913-5085-434F-B8F4-D5A4604E183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هل اختبارات الذكاء لها ضرورة؟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90000"/>
              </a:lnSpc>
              <a:spcBef>
                <a:spcPts val="15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نع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و كان الهدف منها هو تحديد المستوى الراهن للفرد وقياس إمكاناته المستقب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15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ل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و كان الهدف هو تحديد ذكاء كل فرد كى نحدد مصيره فى حياته التعليمية والمهن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b0f0"/>
                </a:solidFill>
                <a:latin typeface="Franklin Gothic Book"/>
              </a:rPr>
              <a:t>المنحنى الاعتدالي لتوزيع القدرة العقلية</a:t>
            </a:r>
            <a:r>
              <a:rPr b="0" lang="ar-SA" sz="4100" spc="-1" strike="noStrike">
                <a:solidFill>
                  <a:srgbClr val="00b0f0"/>
                </a:solidFill>
                <a:latin typeface="Franklin Gothic Book"/>
              </a:rPr>
              <a:t> 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2" name="صورة 4" descr="http://www.mawhiba.org/Portal_Images/mental1.png"/>
          <p:cNvPicPr/>
          <p:nvPr/>
        </p:nvPicPr>
        <p:blipFill>
          <a:blip r:embed="rId1"/>
          <a:stretch/>
        </p:blipFill>
        <p:spPr>
          <a:xfrm>
            <a:off x="500040" y="1881360"/>
            <a:ext cx="7515360" cy="3904920"/>
          </a:xfrm>
          <a:prstGeom prst="rect">
            <a:avLst/>
          </a:prstGeom>
          <a:ln w="0">
            <a:noFill/>
          </a:ln>
        </p:spPr>
      </p:pic>
      <p:sp>
        <p:nvSpPr>
          <p:cNvPr id="373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3B8-76CF-41BC-B1FA-6FD32282A5D5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b0f0"/>
                </a:solidFill>
                <a:latin typeface="Franklin Gothic Book"/>
              </a:rPr>
              <a:t>المنحنى الاعتدالي لتوزيع القدرة العقلية</a:t>
            </a:r>
            <a:r>
              <a:rPr b="0" lang="ar-SA" sz="4100" spc="-1" strike="noStrike">
                <a:solidFill>
                  <a:srgbClr val="00b0f0"/>
                </a:solidFill>
                <a:latin typeface="Franklin Gothic Book"/>
              </a:rPr>
              <a:t> 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57400" y="1999800"/>
            <a:ext cx="406692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ملك أغلب الأفراد نسبة ذكاء متوسطة, بينما يقل تدريجيا عدد من يملك نسب ذكاء عالية أو متدن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عنصر نائب للمحتوى 3" descr="http://upload.wikimedia.org/wikipedia/ar/thumb/2/24/Zakaa.jpg/220px-Zaka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785960"/>
            <a:ext cx="3571920" cy="3214800"/>
          </a:xfrm>
          <a:prstGeom prst="rect">
            <a:avLst/>
          </a:prstGeom>
          <a:ln w="0">
            <a:noFill/>
          </a:ln>
        </p:spPr>
      </p:pic>
      <p:sp>
        <p:nvSpPr>
          <p:cNvPr id="377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DED3-5A48-412C-A623-5CBE12D35F00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فروق الفردية في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إن الذكاء موزع توزيعا اعتداليا بين الناس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 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أي أن الغالبية العظمى من الناس يقعون في المستوى المتوسط  (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%)، وقليل منهم فيما فوق المتوسط  (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%)، ومثلهم فيما دون المتوسط (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%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B542-89D2-4BEF-B6A8-9818858E6FFD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31880" y="509760"/>
            <a:ext cx="7988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تصنيفات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89000" y="1506600"/>
          <a:ext cx="6411960" cy="4422600"/>
        </p:xfrm>
        <a:graphic>
          <a:graphicData uri="http://schemas.openxmlformats.org/drawingml/2006/table">
            <a:tbl>
              <a:tblPr/>
              <a:tblGrid>
                <a:gridCol w="2136960"/>
                <a:gridCol w="2138040"/>
                <a:gridCol w="2136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سبة المئوية لعدد الأفرا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بة الذكا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رتب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أكث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0</a:t>
                      </a: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– </a:t>
                      </a: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قل من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بقر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كي جدا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كي (فوق المتوسط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عاد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ون المتوسط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حد البين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ضعف عقلي خفي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ضعف عقلي متوسط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ضعف عقلي شدي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عمر الذي يقف عنده الذكاء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اختلف علماء النفس في تحديدهم السن التي يف عندها الذكاء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فالبعض قال إن الذكاء يصل إلى أقصاه في سن 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15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أو 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16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سن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E9A7-7906-497A-BBCF-B6220EBDC747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دور الوراثة والبيئة في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تحدد الوراثة السقف الأعلى للقدرات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وتلعب البيئة الدور الفاعل في استغلال طاقات الفرد أو إهمالها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FC2C-6280-4DF8-9D7A-48C875DE1020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b0f0"/>
                </a:solidFill>
                <a:latin typeface="Franklin Gothic Book"/>
              </a:rPr>
              <a:t>بعض العوامل البيئية المؤثرة في الذكاء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832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a0000"/>
                </a:solidFill>
                <a:latin typeface="Arial"/>
              </a:rPr>
              <a:t>1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كيماويات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إن نقص الأكسجين عند الولادة يؤثر سلبا على القدرات العقلي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2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– الغذاء والمرض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سوء التغذية للجنين تؤدي لضعف الدماغ ضعفا لا يمكن تعويضه في المراحل العمرية التالي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1B2-FD84-48DE-8C2E-BF0F19973C36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b0f0"/>
                </a:solidFill>
                <a:latin typeface="Franklin Gothic Book"/>
              </a:rPr>
              <a:t>بعض العوامل البيئية المؤثرة في الذكاء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a0000"/>
                </a:solidFill>
                <a:latin typeface="Arial"/>
              </a:rPr>
              <a:t>3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مستوى الاقتصادي والاجتماعي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ناك ارتباط إيجابي بين الذكاء والمستوى الاقتصادي والاجتماعي ومستوى تعليم الأبوين ومهنهم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4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–</a:t>
            </a:r>
            <a:r>
              <a:rPr b="0" lang="ar-SA" sz="4000" spc="-1" strike="noStrike">
                <a:solidFill>
                  <a:srgbClr val="da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الحرمان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- إن الحرمان من المثيرات الحسية يؤدي لانخفاض مستوى الذكاء خاصة إذا كان في مرحلة ما قبل المدرس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EF8-16DB-49B2-9706-44129B05DB28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b0f0"/>
                </a:solidFill>
                <a:latin typeface="Franklin Gothic Book"/>
              </a:rPr>
              <a:t>بعض العوامل البيئية المؤثرة في الذكاء 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5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تعليم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للتعليم النظامي أثر إيجابي  على مستوى الذكاء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6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أقران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- كثيرا ما ترتفع نسبة الذكاء عند الطفل أو تنخفض ليصبح في مستوى ذكاء أقرانه والمجموعة التي ينتمي إليها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14AD-0467-4EBA-BC9D-67426D5D8E35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A263-8A64-4BEC-A2B5-82F631738B7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Franklin Gothic Book"/>
              </a:rPr>
              <a:t>المحاولة الأولى لدراسة </a:t>
            </a: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النشاط العقلى </a:t>
            </a:r>
            <a:r>
              <a:rPr b="0" lang="ar-SA" sz="2800" spc="-1" strike="noStrike">
                <a:solidFill>
                  <a:srgbClr val="0070c0"/>
                </a:solidFill>
                <a:latin typeface="Franklin Gothic Book"/>
              </a:rPr>
              <a:t>كانت على يد الفيلسوف </a:t>
            </a:r>
            <a:r>
              <a:rPr b="0" i="1" lang="ar-SA" sz="2800" spc="-1" strike="noStrike">
                <a:solidFill>
                  <a:srgbClr val="0070c0"/>
                </a:solidFill>
                <a:latin typeface="Franklin Gothic Book"/>
              </a:rPr>
              <a:t>افلاطون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814040"/>
            <a:ext cx="74674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Arial"/>
              </a:rPr>
              <a:t>قسم افلاطون النفس البشرية إلى ثلاث مكون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ق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شه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Arial"/>
              </a:rPr>
              <a:t>وهى تقابل في علم النفس المعاصر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إدرا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نفع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ز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فروق بين الجنسين في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لا توجد فروق دالة بين الجنسين في مستوى الذكاء العا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و في المقابل توجد فروق بين الجنسين في القدرات العقلية الخاصة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تفوق الإناث في : القدرة اللغوية والذاكرة وسرعة الإدراك والتحصيل الدراسي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فوق الذكور في : القدرات العددية وإدراك المسافات والقدرة الميكانيكية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887E-E9E8-401A-8129-62BC7EDCC320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أنواع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500280" y="1600200"/>
            <a:ext cx="525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bfbfbf"/>
                </a:solidFill>
                <a:latin typeface="Arial"/>
              </a:rPr>
              <a:t>الذكاء اللفظي (اللغوي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b0f0"/>
                </a:solidFill>
                <a:latin typeface="Arial"/>
              </a:rPr>
              <a:t> – الذكاء المنطقي (الرياضي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 – </a:t>
            </a:r>
            <a:r>
              <a:rPr b="0" lang="ar-SA" sz="2800" spc="-1" strike="noStrike">
                <a:solidFill>
                  <a:srgbClr val="ff9900"/>
                </a:solidFill>
                <a:latin typeface="Arial"/>
              </a:rPr>
              <a:t>الذكاء الحسي (الحرك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 –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ذكاء التفاعلي(الاجتماع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 – </a:t>
            </a:r>
            <a:r>
              <a:rPr b="0" lang="ar-SA" sz="2800" spc="-1" strike="noStrike">
                <a:solidFill>
                  <a:srgbClr val="ca06ae"/>
                </a:solidFill>
                <a:latin typeface="Arial"/>
              </a:rPr>
              <a:t>الذكاء الذاتي (الفرد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7" descr="piechart"/>
          <p:cNvPicPr/>
          <p:nvPr/>
        </p:nvPicPr>
        <p:blipFill>
          <a:blip r:embed="rId1"/>
          <a:stretch/>
        </p:blipFill>
        <p:spPr>
          <a:xfrm>
            <a:off x="142920" y="1874880"/>
            <a:ext cx="3929040" cy="3054240"/>
          </a:xfrm>
          <a:prstGeom prst="rect">
            <a:avLst/>
          </a:prstGeom>
          <a:ln w="0">
            <a:noFill/>
          </a:ln>
        </p:spPr>
      </p:pic>
      <p:sp>
        <p:nvSpPr>
          <p:cNvPr id="404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01E-C948-4E2B-A024-45FC95012079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380880" y="2162160"/>
            <a:ext cx="3048120" cy="308628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لفظي (اللغوي)</a:t>
            </a:r>
            <a:br>
              <a:rPr sz="3600"/>
            </a:b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Linguistic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35200" y="1661760"/>
            <a:ext cx="52228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لفظي (اللغوي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حساسية للغة المنطوقة والمكتوبة، والقدرة على تعلم اللغات، واستخدامها في التعبير عن النفس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 الكتاب والشعراء، والمحامون والخطباء.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نجيب محفو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8" descr="Verbal Linguistic"/>
          <p:cNvPicPr/>
          <p:nvPr/>
        </p:nvPicPr>
        <p:blipFill>
          <a:blip r:embed="rId1"/>
          <a:stretch/>
        </p:blipFill>
        <p:spPr>
          <a:xfrm>
            <a:off x="552600" y="2352600"/>
            <a:ext cx="2724120" cy="2724120"/>
          </a:xfrm>
          <a:prstGeom prst="rect">
            <a:avLst/>
          </a:prstGeom>
          <a:ln w="0">
            <a:noFill/>
          </a:ln>
        </p:spPr>
      </p:pic>
      <p:sp>
        <p:nvSpPr>
          <p:cNvPr id="409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C83-5EDB-4A48-A354-602BB5D3AD46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309600" y="2200320"/>
            <a:ext cx="2895480" cy="251460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منطقي (الرياضي)</a:t>
            </a:r>
            <a:br>
              <a:rPr sz="3200"/>
            </a:b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Logical-Mathematical Intelligence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227040" y="1661760"/>
            <a:ext cx="55306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منطقي (الرياضي)</a:t>
            </a:r>
            <a:r>
              <a:rPr b="0" lang="en-US" sz="3000" spc="-1" strike="noStrike">
                <a:solidFill>
                  <a:srgbClr val="ff3b3b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قدرة على تحليل المشكلات منطقياً، وإتمام العمليات الحسابية المعقدة، والقدرة على التقصي والبحث العلم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 المهندسون، العلماء، الإقتصاديون، المحاسبون،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انشتاي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8" descr="Logical Mathematical"/>
          <p:cNvPicPr/>
          <p:nvPr/>
        </p:nvPicPr>
        <p:blipFill>
          <a:blip r:embed="rId1"/>
          <a:stretch/>
        </p:blipFill>
        <p:spPr>
          <a:xfrm>
            <a:off x="528480" y="2422440"/>
            <a:ext cx="2448000" cy="2076480"/>
          </a:xfrm>
          <a:prstGeom prst="rect">
            <a:avLst/>
          </a:prstGeom>
          <a:ln w="0">
            <a:noFill/>
          </a:ln>
        </p:spPr>
      </p:pic>
      <p:sp>
        <p:nvSpPr>
          <p:cNvPr id="414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74A3-2AD0-4634-9BC6-0C6252745E11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8"/>
          <p:cNvSpPr/>
          <p:nvPr/>
        </p:nvSpPr>
        <p:spPr>
          <a:xfrm>
            <a:off x="157320" y="2046240"/>
            <a:ext cx="3128760" cy="320040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حسي (الحركي)</a:t>
            </a:r>
            <a:br>
              <a:rPr sz="3200"/>
            </a:b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Bodily-Kinesthetic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7440" y="1661760"/>
            <a:ext cx="53006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حسي (الحركي )</a:t>
            </a:r>
            <a:r>
              <a:rPr b="0" lang="ar-SA" sz="3000" spc="-1" strike="noStrike">
                <a:solidFill>
                  <a:srgbClr val="8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قدرة على التنسيق والمواءمة بين حركات الجسم من أجل تحقيق أهداف معين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الرياضيون، الراقصون، الممثلون،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مارادونا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7" descr="Body Kinaesthetic"/>
          <p:cNvPicPr/>
          <p:nvPr/>
        </p:nvPicPr>
        <p:blipFill>
          <a:blip r:embed="rId1"/>
          <a:stretch/>
        </p:blipFill>
        <p:spPr>
          <a:xfrm>
            <a:off x="285840" y="2246400"/>
            <a:ext cx="2857320" cy="2847960"/>
          </a:xfrm>
          <a:prstGeom prst="rect">
            <a:avLst/>
          </a:prstGeom>
          <a:ln w="0">
            <a:noFill/>
          </a:ln>
        </p:spPr>
      </p:pic>
      <p:sp>
        <p:nvSpPr>
          <p:cNvPr id="419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9E6-1708-447F-8B0D-CA00C84D3A0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217440" y="2276640"/>
            <a:ext cx="2971800" cy="259056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تفاعلي (الاجتماعي)</a:t>
            </a:r>
            <a:br>
              <a:rPr sz="3200"/>
            </a:b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Interpersonal (Social)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150720" y="1661760"/>
            <a:ext cx="56070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تفاعلي (الاجتماعي)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قدرة على فهم دوافع ورغبات الآخرين، والقدرة على العمل معهم والتأثير فيهم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عادة ما يتصف بهذا الذكاء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القادة، والمعلمون، والمرشدون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9" descr="Interpersonal"/>
          <p:cNvPicPr/>
          <p:nvPr/>
        </p:nvPicPr>
        <p:blipFill>
          <a:blip r:embed="rId1"/>
          <a:stretch/>
        </p:blipFill>
        <p:spPr>
          <a:xfrm>
            <a:off x="369720" y="2527200"/>
            <a:ext cx="2667240" cy="2035440"/>
          </a:xfrm>
          <a:prstGeom prst="rect">
            <a:avLst/>
          </a:prstGeom>
          <a:ln w="0">
            <a:noFill/>
          </a:ln>
        </p:spPr>
      </p:pic>
      <p:sp>
        <p:nvSpPr>
          <p:cNvPr id="424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1D0-818B-4B16-A93B-C17D5BD1FBFA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152280" y="2084400"/>
            <a:ext cx="3200400" cy="320040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ذاتي (الفردي)</a:t>
            </a:r>
            <a:br>
              <a:rPr sz="3600"/>
            </a:br>
            <a:r>
              <a:rPr b="0" lang="ar-SA" sz="36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Intrapersonal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381120" y="1661760"/>
            <a:ext cx="5376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ذاتي (الفردي)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قدرة الفرد على فهم نفسه، والتعرف على أحاسيسه ومخاوفه ودوافعه، ورسم نموذج فعال لشخصيته، والقدرة على الاستفادة من إمكاناته ومعلوماته في تطوير ذاته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فلاسفة، المستشارون.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أفلاطون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intrapersonal"/>
          <p:cNvPicPr/>
          <p:nvPr/>
        </p:nvPicPr>
        <p:blipFill>
          <a:blip r:embed="rId1"/>
          <a:stretch/>
        </p:blipFill>
        <p:spPr>
          <a:xfrm>
            <a:off x="380880" y="2313000"/>
            <a:ext cx="2743200" cy="2716200"/>
          </a:xfrm>
          <a:prstGeom prst="rect">
            <a:avLst/>
          </a:prstGeom>
          <a:ln w="0">
            <a:noFill/>
          </a:ln>
        </p:spPr>
      </p:pic>
      <p:sp>
        <p:nvSpPr>
          <p:cNvPr id="429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8880-C091-4F66-B708-F901CDADC7F0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9680" y="509760"/>
            <a:ext cx="798804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شقين الايمن والايسر في الدماغ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28760" y="2571840"/>
            <a:ext cx="26161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   تفعّل الشقين الايمن والايسر في الدماغ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4" descr="4"/>
          <p:cNvPicPr/>
          <p:nvPr/>
        </p:nvPicPr>
        <p:blipFill>
          <a:blip r:embed="rId1"/>
          <a:stretch/>
        </p:blipFill>
        <p:spPr>
          <a:xfrm>
            <a:off x="1000080" y="1428840"/>
            <a:ext cx="3813120" cy="457200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6"/>
          <p:cNvSpPr/>
          <p:nvPr/>
        </p:nvSpPr>
        <p:spPr>
          <a:xfrm>
            <a:off x="3876480" y="1500120"/>
            <a:ext cx="8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ش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أيم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1090440" y="150012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ش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أيس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D1F-2AC5-4CAE-8AFF-B77E95D0FBD9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0201specialreport"/>
          <p:cNvPicPr/>
          <p:nvPr/>
        </p:nvPicPr>
        <p:blipFill>
          <a:blip r:embed="rId1"/>
          <a:stretch/>
        </p:blipFill>
        <p:spPr>
          <a:xfrm>
            <a:off x="2127240" y="2517840"/>
            <a:ext cx="4664160" cy="45482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19800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f0"/>
                </a:solidFill>
                <a:latin typeface="Franklin Gothic Book"/>
              </a:rPr>
              <a:t>تفعّل وتشغّل الشقين الايمن والايسر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38" name="AutoShape 15"/>
          <p:cNvGrpSpPr/>
          <p:nvPr/>
        </p:nvGrpSpPr>
        <p:grpSpPr>
          <a:xfrm>
            <a:off x="5230800" y="2182680"/>
            <a:ext cx="3170160" cy="1865520"/>
            <a:chOff x="5230800" y="2182680"/>
            <a:chExt cx="3170160" cy="1865520"/>
          </a:xfrm>
        </p:grpSpPr>
        <p:pic>
          <p:nvPicPr>
            <p:cNvPr id="439" name="AutoShape 15" descr=""/>
            <p:cNvPicPr/>
            <p:nvPr/>
          </p:nvPicPr>
          <p:blipFill>
            <a:blip r:embed="rId2"/>
            <a:stretch/>
          </p:blipFill>
          <p:spPr>
            <a:xfrm>
              <a:off x="5230800" y="2182680"/>
              <a:ext cx="317016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661000" y="2646360"/>
              <a:ext cx="2554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جزء الأيسر من الم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: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قوائم، الحسابات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منطق، الأرقام، التفكي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AutoShape 16"/>
          <p:cNvGrpSpPr/>
          <p:nvPr/>
        </p:nvGrpSpPr>
        <p:grpSpPr>
          <a:xfrm>
            <a:off x="652320" y="2114640"/>
            <a:ext cx="3029040" cy="1976400"/>
            <a:chOff x="652320" y="2114640"/>
            <a:chExt cx="3029040" cy="1976400"/>
          </a:xfrm>
        </p:grpSpPr>
        <p:pic>
          <p:nvPicPr>
            <p:cNvPr id="442" name="AutoShape 16" descr=""/>
            <p:cNvPicPr/>
            <p:nvPr/>
          </p:nvPicPr>
          <p:blipFill>
            <a:blip r:embed="rId3"/>
            <a:stretch/>
          </p:blipFill>
          <p:spPr>
            <a:xfrm>
              <a:off x="652320" y="2114640"/>
              <a:ext cx="302904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857160" y="2603520"/>
              <a:ext cx="241956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جزء الأيمن من الم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: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خيال، الألوان، الرسم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الأصوات، المشاع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عنصر نائب لرقم الشريحة 8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A862-EB23-40FC-8FCA-156384826402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علاقة بين التفكير و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43280" y="1662120"/>
            <a:ext cx="58435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عرف العالم الإيطالي الشهير </a:t>
            </a:r>
            <a:r>
              <a:rPr b="0" lang="ar-SA" sz="3000" spc="-1" strike="noStrike">
                <a:solidFill>
                  <a:srgbClr val="fa0000"/>
                </a:solidFill>
                <a:latin typeface="Arial"/>
              </a:rPr>
              <a:t>دي بونو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التفكير بأنه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استخدام المعرفة لتحقيق هدف ما لا يمكن الوصول إليه مباشرةً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ويعرّفه </a:t>
            </a:r>
            <a:r>
              <a:rPr b="0" lang="ar-SA" sz="3000" spc="-1" strike="noStrike">
                <a:solidFill>
                  <a:srgbClr val="fa0000"/>
                </a:solidFill>
                <a:latin typeface="Arial"/>
              </a:rPr>
              <a:t>جون ديوي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بأنه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الأداة الصالحة لمعالجة المشاكل والتغلب عليها وتبسيطها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200px-John_Dew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58840" y="4081320"/>
            <a:ext cx="1465200" cy="1844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De%20Bono"/>
          <p:cNvPicPr/>
          <p:nvPr/>
        </p:nvPicPr>
        <p:blipFill>
          <a:blip r:embed="rId3"/>
          <a:stretch/>
        </p:blipFill>
        <p:spPr>
          <a:xfrm>
            <a:off x="1116000" y="1585800"/>
            <a:ext cx="1368360" cy="1882800"/>
          </a:xfrm>
          <a:prstGeom prst="rect">
            <a:avLst/>
          </a:prstGeom>
          <a:ln w="0">
            <a:noFill/>
          </a:ln>
        </p:spPr>
      </p:pic>
      <p:sp>
        <p:nvSpPr>
          <p:cNvPr id="449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0DDA-A68C-4956-A659-FFAA20E8A462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365A-B6AE-4CB6-AA8C-CDCE52A996D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ماذا عن أرسطو؟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ختزل أرسطو مفهوم أفلاطون إلى مظهرين أساسين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الأول: العقل المعرف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الثاني: الانفعال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نخلص من ذلك إلى ان الفلسفة اليونانية استخدمت النشاط العقلي للفرد كمرادف للذكاء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علاقة بين التفكير و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57160" y="2028600"/>
            <a:ext cx="76312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ذكاء هو شيءُ نولد معه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تَفْكير مهارة يجب أنْ نتعلمها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دوارد دي بون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FD3-D2ED-495A-85EC-D8D5811DA372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6" descr="psychology4a[1](edited)"/>
          <p:cNvPicPr/>
          <p:nvPr/>
        </p:nvPicPr>
        <p:blipFill>
          <a:blip r:embed="rId1"/>
          <a:stretch/>
        </p:blipFill>
        <p:spPr>
          <a:xfrm>
            <a:off x="785880" y="1839960"/>
            <a:ext cx="2357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علاقة بين التفكير و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357800" y="1662120"/>
            <a:ext cx="436248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ahoma"/>
              </a:rPr>
              <a:t>التفكير هو مهارة التشغيل التي يتولى بها الذكاء معالجة معطيات الخبر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ahoma"/>
              </a:rPr>
              <a:t>وقد شبه دي بونو الذكاء والتفكير بالسيارة والسائق . فالسيارة هي قدرات وقيادتها مهارة . 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5"/>
          <p:cNvGrpSpPr/>
          <p:nvPr/>
        </p:nvGrpSpPr>
        <p:grpSpPr>
          <a:xfrm>
            <a:off x="714240" y="3714840"/>
            <a:ext cx="3286440" cy="2214000"/>
            <a:chOff x="714240" y="3714840"/>
            <a:chExt cx="3286440" cy="2214000"/>
          </a:xfrm>
        </p:grpSpPr>
        <p:pic>
          <p:nvPicPr>
            <p:cNvPr id="457" name="Picture 6" descr="120407_1"/>
            <p:cNvPicPr/>
            <p:nvPr/>
          </p:nvPicPr>
          <p:blipFill>
            <a:blip r:embed="rId1"/>
            <a:stretch/>
          </p:blipFill>
          <p:spPr>
            <a:xfrm>
              <a:off x="714240" y="3714840"/>
              <a:ext cx="3286440" cy="22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7"/>
            <p:cNvSpPr/>
            <p:nvPr/>
          </p:nvSpPr>
          <p:spPr>
            <a:xfrm>
              <a:off x="2041560" y="4889520"/>
              <a:ext cx="177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ذكاء قدر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2705760" y="3952080"/>
              <a:ext cx="117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تفك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مهار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 flipH="1">
              <a:off x="3038400" y="4663800"/>
              <a:ext cx="149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عنصر نائب لرقم الشريحة 10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B5F-F284-4870-8A41-A88E98C34AC8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1880" y="509760"/>
            <a:ext cx="7988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علاقة بين التفكير و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114640" y="1623960"/>
          <a:ext cx="5151240" cy="4032360"/>
        </p:xfrm>
        <a:graphic>
          <a:graphicData uri="http://schemas.openxmlformats.org/drawingml/2006/table">
            <a:tbl>
              <a:tblPr/>
              <a:tblGrid>
                <a:gridCol w="2576520"/>
                <a:gridCol w="2574720"/>
              </a:tblGrid>
              <a:tr h="201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موهوب لم يستغل موهبت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cs typeface="Arabic Transparent"/>
                        </a:rPr>
                        <a:t>عليه أن ينتقل إلى </a:t>
                      </a:r>
                      <a:r>
                        <a:rPr b="0" lang="en-US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Q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cs typeface="Arabic Transparent"/>
                        </a:rPr>
                        <a:t>شخص ناجح يوظف موهبته ويطور مهارات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شخص غير ناجح)</a:t>
                      </a:r>
                      <a:r>
                        <a:rPr b="0" lang="ar-SA" sz="20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cs typeface="Arabic Transparent"/>
                        </a:rPr>
                        <a:t>عليه أن ينتقل إلى </a:t>
                      </a:r>
                      <a:r>
                        <a:rPr b="0" lang="en-US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Q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شخص ناجح يعرف كيف يطور مهارات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Line 18"/>
          <p:cNvSpPr/>
          <p:nvPr/>
        </p:nvSpPr>
        <p:spPr>
          <a:xfrm flipV="1">
            <a:off x="1768320" y="2890440"/>
            <a:ext cx="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 rot="16200000">
            <a:off x="59040" y="33472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مستوى الذك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0"/>
          <p:cNvSpPr/>
          <p:nvPr/>
        </p:nvSpPr>
        <p:spPr>
          <a:xfrm>
            <a:off x="3995640" y="5925960"/>
            <a:ext cx="1459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2656800" y="594360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مستوى قدرات التفك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4"/>
          <p:cNvSpPr/>
          <p:nvPr/>
        </p:nvSpPr>
        <p:spPr>
          <a:xfrm>
            <a:off x="3189240" y="546408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37"/>
          <p:cNvSpPr/>
          <p:nvPr/>
        </p:nvSpPr>
        <p:spPr>
          <a:xfrm>
            <a:off x="2115360" y="1674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2191320" y="3736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4764960" y="17002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764960" y="3697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41"/>
          <p:cNvSpPr/>
          <p:nvPr/>
        </p:nvSpPr>
        <p:spPr>
          <a:xfrm>
            <a:off x="3151080" y="342900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من ألغاز التفكير الجانبي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31520" y="4214880"/>
            <a:ext cx="80262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َتضمّنُ إحدى ألغازِ التفكير الجانبي الكلاسيكيةِ تسع نقاطِ، كما في المثالِ فوق. يكمن التحدي أَنْ توصل النقاط كُلّها في أربعة خطوطِ مستقيمةِ، بدون رَفْع القلمِ مِنْ الصفحةِ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5608800" y="2071800"/>
            <a:ext cx="1536480" cy="1306440"/>
            <a:chOff x="5608800" y="2071800"/>
            <a:chExt cx="1536480" cy="1306440"/>
          </a:xfrm>
        </p:grpSpPr>
        <p:sp>
          <p:nvSpPr>
            <p:cNvPr id="477" name="Oval 5"/>
            <p:cNvSpPr/>
            <p:nvPr/>
          </p:nvSpPr>
          <p:spPr>
            <a:xfrm>
              <a:off x="6953400" y="20718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6953400" y="26100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6953400" y="3186360"/>
              <a:ext cx="191880" cy="19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6300720" y="2071800"/>
              <a:ext cx="19224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262560" y="2610000"/>
              <a:ext cx="19224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6300720" y="3148200"/>
              <a:ext cx="192240" cy="19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5608800" y="20718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5608800" y="26100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5608800" y="3148200"/>
              <a:ext cx="191880" cy="19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Line 14"/>
          <p:cNvSpPr/>
          <p:nvPr/>
        </p:nvSpPr>
        <p:spPr>
          <a:xfrm flipH="1" flipV="1">
            <a:off x="5686560" y="2143080"/>
            <a:ext cx="1766880" cy="15350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5"/>
          <p:cNvSpPr/>
          <p:nvPr/>
        </p:nvSpPr>
        <p:spPr>
          <a:xfrm flipH="1" flipV="1">
            <a:off x="5686200" y="2143080"/>
            <a:ext cx="37800" cy="1612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6"/>
          <p:cNvSpPr/>
          <p:nvPr/>
        </p:nvSpPr>
        <p:spPr>
          <a:xfrm flipH="1">
            <a:off x="5724360" y="2143080"/>
            <a:ext cx="2035440" cy="1611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7"/>
          <p:cNvSpPr/>
          <p:nvPr/>
        </p:nvSpPr>
        <p:spPr>
          <a:xfrm flipH="1">
            <a:off x="5686200" y="2143080"/>
            <a:ext cx="2073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18" descr="LateralThinking"/>
          <p:cNvPicPr/>
          <p:nvPr/>
        </p:nvPicPr>
        <p:blipFill>
          <a:blip r:embed="rId1"/>
          <a:stretch/>
        </p:blipFill>
        <p:spPr>
          <a:xfrm>
            <a:off x="1384200" y="1857240"/>
            <a:ext cx="2286000" cy="20466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9"/>
          <p:cNvSpPr/>
          <p:nvPr/>
        </p:nvSpPr>
        <p:spPr>
          <a:xfrm>
            <a:off x="4241520" y="3041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ahoma"/>
              </a:rPr>
              <a:t>أ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عنصر نائب لرقم الشريحة 2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A6A-A791-4F1F-A564-902F81175D1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7440" y="1277640"/>
            <a:ext cx="7637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000"/>
                </a:solidFill>
                <a:latin typeface="Arial"/>
                <a:ea typeface="Arabic Transparent"/>
              </a:rPr>
              <a:t>"معظم دول العالم تعيش على ثروات تقع تحت أقدامها وتنضب بمرور الزمن ، أما نحن فنعيش على ثروة فوق أرجلنا تزداد وتعطي بقدر ما نأخذ منها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فكر يابا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9AC0-CBA2-4769-8510-2BC288FF312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778D-4E9C-4332-832A-BFE30ED46DC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 قدرة،</a:t>
            </a: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وهذا متفق عليه من الأغلبية، إلا أن ما هو مختلف عليه هو عدم الاتفاق على ما تشير إليه القدرة.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ولكون الذكاء صفة وليس كينونه فهو يصعب تحديده، فهو لا وجود له ككينونة، وإنما هو نوع من الوسم أو الوصف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929C-2BA7-488C-BB6C-57FA22C1CBD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عوامل غموض الذكاء</a:t>
            </a: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1</a:t>
            </a: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. حصيلة الخبرات التعليمية للفرد.</a:t>
            </a: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2</a:t>
            </a: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. تعدد المعاني المرتبطة به، كالوراثة، والبيئة (السلوك: تعلم ، تفكير)، والنتائج التي يمكن الحصول عليها من خلال اختبارات الذكاء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1D1-0535-4B75-896F-2D170A4EF55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رغم صعوبة تعريف الذكاء الا اننه يمكن تحديده بالقدرات الاتية: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التفكير المجرد.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التعلم.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حل المشكلات.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التكيف والارتباط بالبيئة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1238-A6E3-4633-802A-E2A64CA1485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يميز ستودارد الذكاء بالخصائص الآتية:</a:t>
            </a:r>
            <a:br>
              <a:rPr sz="2800"/>
            </a:b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1</a:t>
            </a: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. 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الصعوبة: صعوبة الأسئلة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تعقيد: عدد الاستجابات الصحيحة في المستويات المتدرجة للصعوبة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تجريد: التعميم والتمييز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4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اقتصاد: سرعة الفرد في الأداء الصحيح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5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تكيف الهادف: توجيه السلوك نحو الهدف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6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قيمة الاجتماعية: أي مقارنة أداء الفرد بمتوسط أداء الجماعة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7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ابتكار: استنباط حلول جديدة من مواقف غير مألوفة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8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تركيز الطاقة: الانتباه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مقاومة القوى الانفعالية: الاتزان الانفعالي.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4DE9-9D58-4CFC-A207-5FAB5B1EB2C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467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سبيرمان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القدرة على ادرك العلاقات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( الصعبة أو الخفية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iStock_000003912674XSmall"/>
          <p:cNvPicPr/>
          <p:nvPr/>
        </p:nvPicPr>
        <p:blipFill>
          <a:blip r:embed="rId1"/>
          <a:stretch/>
        </p:blipFill>
        <p:spPr>
          <a:xfrm>
            <a:off x="1214280" y="1714680"/>
            <a:ext cx="2229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7:31:31Z</dcterms:created>
  <dc:creator>SAMEERSHA</dc:creator>
  <dc:description/>
  <dc:language>en-US</dc:language>
  <cp:lastModifiedBy>user</cp:lastModifiedBy>
  <dcterms:modified xsi:type="dcterms:W3CDTF">2011-02-27T22:07:18Z</dcterms:modified>
  <cp:revision>104</cp:revision>
  <dc:subject/>
  <dc:title>الشريحة 1</dc:title>
</cp:coreProperties>
</file>