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4BA6-DE3E-4256-9A02-2760C7D1A5F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AB48-4C26-4EDA-BBE3-653351E7CE1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653-C48A-43CE-AE46-E10B90CCA0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079-387B-4208-8FB7-1648BF6CB63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CE68-A15E-45CF-9F63-A94CC355001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584B-9FDA-437B-ACFF-A4F0418FAEB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02DF-95C0-437B-AEB1-3FFEF5709A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47A-1CBC-4296-95E3-83998370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DD9-4AE2-45CB-BD6D-57C10B77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86D-03BC-42E0-B971-0656F8F8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455-BAED-4488-8EC7-0BBACDA2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1625-C225-423D-B8C9-A3F3D659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5580-B194-45B1-967F-0E2C1007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8A87-A43B-4F1B-B624-E84E87A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72D7-DCD9-4C13-8542-B2970ABF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CA4-10E2-44F2-8BED-D5A74B7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B752-4DAD-4596-8757-E61AC5BE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CE55-AE83-48D0-B812-87CB0B2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3FC-9206-4CF5-9C55-1E34FB9E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4D06-E6F9-4B30-905E-971FD94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AC2F-74B9-4E5B-B04C-A9EACBB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073F-92CA-4C2B-BAB7-2895C4F3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5534-AFD5-400A-8B1B-EC121233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E92C-F468-41C4-AC17-E64CEC12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4770-8CF5-4FCF-A82D-FB5A6681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A33B-5A0B-4D07-B52E-5854D6C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803C-3F94-483F-982F-6790F31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A867-A559-47D1-955A-872A2EB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AFE6-FD74-4C30-AF54-7CB6962C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ED4-6C59-4E5D-AF3B-1FFABFFB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4890-C873-4F88-B12D-D19A88F3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9894-2B15-4FAE-B273-D0EC9D0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DC9C-9720-4BD4-BE2F-921CB87B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217E-58DC-40A6-88A9-51862B84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92B6-38DE-489E-B9B3-9E713FA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20AC-6A62-4730-B27F-EA39F5D4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E7E8-C6FE-452C-AFF2-49B6DC46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C7E8-F39B-43D1-B829-29F4FEDC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849A-ECD7-4D3A-AC74-918ADF90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9E89-20DB-43E7-B00E-3465DAD0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8C9-A8D0-45BA-B0D2-D9F1618D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979B3-F7BC-41B7-84A8-2EBBC4C9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8A94-537E-476E-BE4B-84DDD859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4E58-AEB5-4E17-B617-3C094BF5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2923-DCA2-4023-8840-09E42EF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6A77-EF42-454D-9333-A55214B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725A-A3EE-450B-A035-67AE85A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707A-6BF0-4AE5-A373-C7CC5DFD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7205-712E-4EE0-BE4D-C0EC11F6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2569-3B67-4A2F-B914-174CEDBB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4804-246C-43AA-830A-BC90F4F1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254-AC8E-44CC-95E6-C6BC35C1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034F-E461-403B-B022-21A71DF5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A0EF-22CB-4DE9-986A-CE1B3744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DA881-5941-4EE6-84F4-E74F4626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76B7-9B4A-4D8F-A1EF-6591948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72D9-8949-410B-A604-2773C005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830E-AF04-4176-B6A1-E0BBE6F6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165A-A4B1-4C65-A0D1-43D285E7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87C9-4EEC-4EBA-9832-0765D93F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06EA-DC59-418C-B97A-0B1B87D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F702-35A1-4873-9FF6-6B44BFD4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A0F-E314-459A-8AEE-5CDC5E9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4F99F-0B55-4FD1-AAEE-B10CDCD4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6883-5441-4BC7-9C87-AA698330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52E7-2216-4650-9313-A17A6895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FC4A5-8AB1-4D3D-B7FC-8C7443E4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433B-DCD9-4098-BD50-DB937F3A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C915-9A9B-4416-971F-489BCC31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A549-A160-4B28-953A-E14C951F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1D6CE-B919-4D5C-ACC1-5784565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C88A3-A113-498C-AA70-A7E47542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2B12-C9A8-4F46-A475-3682EC80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714-941B-4999-A554-63BEDD71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48FA8-5E4C-4E67-871E-27DCA3B4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9D5ED-2671-482A-B2E5-8DE0CFD1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A60F-2294-4FF7-A761-1781FA47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003-6C83-47C4-8803-FE5ADBA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764-1BBF-4394-A0DC-3C43D775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215D-2802-411B-90C5-B7454C7463D7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مستطيل مستدير الزوايا 8"/>
          <p:cNvSpPr/>
          <p:nvPr/>
        </p:nvSpPr>
        <p:spPr>
          <a:xfrm>
            <a:off x="419040" y="433440"/>
            <a:ext cx="8305920" cy="1638360"/>
          </a:xfrm>
          <a:prstGeom prst="roundRect">
            <a:avLst>
              <a:gd name="adj" fmla="val 457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4678-0DF6-4BD3-8CC1-33C097F31F0B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BAF-21F4-4CFC-9A7F-9E92E6AA592A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مستطيل مستدير الزوايا 8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29" name="مستطيل مستدير الزوايا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248-95EA-4057-B3B8-416022868AF3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EE8-23F6-41BD-801C-5C1CB0425B67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مستطيل ذو زاوية واحدة مستديرة 8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489-73E3-41F4-98F2-DCC141085535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</a:rPr>
              <a:t>المحاضرة الثالثة: </a:t>
            </a:r>
            <a:r>
              <a:rPr b="1" lang="ar-SA" sz="4500" spc="-1" strike="noStrike">
                <a:solidFill>
                  <a:srgbClr val="ff6d3f"/>
                </a:solidFill>
                <a:latin typeface="Verdana"/>
              </a:rPr>
              <a:t>السبورة الذكية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5" name="صورة 3" descr="SB-580.jpg"/>
          <p:cNvPicPr/>
          <p:nvPr/>
        </p:nvPicPr>
        <p:blipFill>
          <a:blip r:embed="rId1"/>
          <a:stretch/>
        </p:blipFill>
        <p:spPr>
          <a:xfrm>
            <a:off x="2071800" y="2286000"/>
            <a:ext cx="5018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تابع مميزاتها التعليم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71560" y="1928520"/>
            <a:ext cx="504036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سهم في القضاء على خوف بعض الطلاب من التكنولوجيا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phobia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وفر إمكانية تسجيل الدرس كاملاً مع صوت المعل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عرض الموضوعات الدراسية بطريقة مشوقة وجذاب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إمكانية استخدامها في التعلم عن بعد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صورة 5" descr="2691645840_a954b27f75_o.jpg"/>
          <p:cNvPicPr/>
          <p:nvPr/>
        </p:nvPicPr>
        <p:blipFill>
          <a:blip r:embed="rId1"/>
          <a:stretch/>
        </p:blipFill>
        <p:spPr>
          <a:xfrm>
            <a:off x="642960" y="1714680"/>
            <a:ext cx="2193840" cy="1800000"/>
          </a:xfrm>
          <a:prstGeom prst="rect">
            <a:avLst/>
          </a:prstGeom>
          <a:ln w="0">
            <a:noFill/>
          </a:ln>
        </p:spPr>
      </p:pic>
      <p:pic>
        <p:nvPicPr>
          <p:cNvPr id="302" name="صورة 6" descr="distance_image.jpg"/>
          <p:cNvPicPr/>
          <p:nvPr/>
        </p:nvPicPr>
        <p:blipFill>
          <a:blip r:embed="rId2"/>
          <a:stretch/>
        </p:blipFill>
        <p:spPr>
          <a:xfrm>
            <a:off x="428760" y="3571920"/>
            <a:ext cx="3351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عيوبـها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0040" y="1928520"/>
            <a:ext cx="811224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20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ارتفاع ثمن شراءها، كما أن تكاليف صيانتها مرتفعة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20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لا تخدم اللغة العربية بشكل كامل، مثل: عدم توفر خاصية تحويل الكتابة اليدوية العربية إلى كتابة رقمي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20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عتبر جهاز حساس لا يتحمل كثرة الأخطاء فلا بد من التدريب عليها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قدم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7" name="صورة 4" descr="3D Character (3).jpg"/>
          <p:cNvPicPr/>
          <p:nvPr/>
        </p:nvPicPr>
        <p:blipFill>
          <a:blip r:embed="rId1"/>
          <a:stretch/>
        </p:blipFill>
        <p:spPr>
          <a:xfrm>
            <a:off x="5143680" y="3286080"/>
            <a:ext cx="32367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268" name="وسيلة شرح على شكل سحابة 5"/>
          <p:cNvGrpSpPr/>
          <p:nvPr/>
        </p:nvGrpSpPr>
        <p:grpSpPr>
          <a:xfrm>
            <a:off x="1219320" y="2255760"/>
            <a:ext cx="5370480" cy="2121120"/>
            <a:chOff x="1219320" y="2255760"/>
            <a:chExt cx="5370480" cy="2121120"/>
          </a:xfrm>
        </p:grpSpPr>
        <p:pic>
          <p:nvPicPr>
            <p:cNvPr id="269" name="وسيلة شرح على شكل سحابة 5" descr=""/>
            <p:cNvPicPr/>
            <p:nvPr/>
          </p:nvPicPr>
          <p:blipFill>
            <a:blip r:embed="rId2"/>
            <a:stretch/>
          </p:blipFill>
          <p:spPr>
            <a:xfrm>
              <a:off x="1219320" y="2255760"/>
              <a:ext cx="5370480" cy="21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876320" y="2587680"/>
              <a:ext cx="280044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Verdana"/>
                  <a:cs typeface="Tahoma"/>
                </a:rPr>
                <a:t>لماذا نتعلم استخدام السبورة الذكية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صورة 3" descr="classroom.jpg"/>
          <p:cNvPicPr/>
          <p:nvPr/>
        </p:nvPicPr>
        <p:blipFill>
          <a:blip r:embed="rId1"/>
          <a:stretch/>
        </p:blipFill>
        <p:spPr>
          <a:xfrm>
            <a:off x="357120" y="1928880"/>
            <a:ext cx="3095640" cy="33433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تعريف السبورة الذك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99880" y="1928880"/>
            <a:ext cx="5612040" cy="4000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862110"/>
                </a:solidFill>
                <a:latin typeface="Verdana"/>
              </a:rPr>
              <a:t>شاشة عرض (لوحة) إلكترونية حساسة بيضاء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</a:rPr>
              <a:t> ، </a:t>
            </a:r>
            <a:r>
              <a:rPr b="0" lang="ar-SA" sz="2200" spc="-1" strike="noStrike">
                <a:solidFill>
                  <a:srgbClr val="d0a80a"/>
                </a:solidFill>
                <a:latin typeface="Verdana"/>
              </a:rPr>
              <a:t>يتم التعامل معها باستخدام اللمس (بإصبع اليد أو أقلام الحبر الرقمي أو أي أداة تأشير) </a:t>
            </a:r>
            <a:r>
              <a:rPr b="0" lang="ar-SA" sz="2200" spc="-1" strike="noStrike">
                <a:solidFill>
                  <a:srgbClr val="ff0000"/>
                </a:solidFill>
                <a:latin typeface="Verdana"/>
              </a:rPr>
              <a:t>ويتم توصيلها بالحاسب الآلي وجهاز عارض البيانات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ata show</a:t>
            </a:r>
            <a:r>
              <a:rPr b="0" lang="ar-S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ar-SA" sz="2200" spc="-1" strike="noStrike">
                <a:solidFill>
                  <a:srgbClr val="e65c01"/>
                </a:solidFill>
                <a:latin typeface="Verdana"/>
              </a:rPr>
              <a:t>حيث تعرض و تتفاعل مع تطبيقات الحاسب المختلفة المخزنة على الحاسب أو الموجودة على الانترنت سواء بشكل مباشر أو من بُع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المسميات المتعددة للسبورة الذك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760" y="2285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ذك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rt Bo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إلكترون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Board (e-board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رقم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Bo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بيضاء التفاعل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تاريخ تطورها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71960" y="2071800"/>
            <a:ext cx="4540320" cy="4402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في منتصف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80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: ظهور الفكرة من قبل نانسي نولتون وزوجها ديفيد مارتن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بداية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91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: الإنتاج الفعلي لأول سبورة ذكية وظهورها في الأسواق من قبل شركة سمارت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صورة 4" descr="1005_p040-smart_398x280.jpg"/>
          <p:cNvPicPr/>
          <p:nvPr/>
        </p:nvPicPr>
        <p:blipFill>
          <a:blip r:embed="rId1"/>
          <a:stretch/>
        </p:blipFill>
        <p:spPr>
          <a:xfrm>
            <a:off x="428760" y="2571840"/>
            <a:ext cx="37861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صورة 3" descr="SMART21.jpg"/>
          <p:cNvPicPr/>
          <p:nvPr/>
        </p:nvPicPr>
        <p:blipFill>
          <a:blip r:embed="rId1"/>
          <a:stretch/>
        </p:blipFill>
        <p:spPr>
          <a:xfrm>
            <a:off x="387360" y="1335240"/>
            <a:ext cx="3613320" cy="2879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تطلبات التشغيل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714840" y="1714320"/>
            <a:ext cx="4897440" cy="314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3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9933"/>
                </a:solidFill>
                <a:latin typeface="Verdana"/>
              </a:rPr>
              <a:t>متطلبات أساسية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جهاز حاسب آلي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جهاز عرض البيانات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Show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 موصل بالحاسب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سلك خاص للتوصيل بين السبورة وجهاز الحاسب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برنامج السبورة الذكية يتم تحميله على جهاز الحاسب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صورة 4" descr="smart_board.gif"/>
          <p:cNvPicPr/>
          <p:nvPr/>
        </p:nvPicPr>
        <p:blipFill>
          <a:blip r:embed="rId2"/>
          <a:stretch/>
        </p:blipFill>
        <p:spPr>
          <a:xfrm>
            <a:off x="3143160" y="1928880"/>
            <a:ext cx="98280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صورة 5" descr="1258994217_2897_SB600iS.jpg"/>
          <p:cNvPicPr/>
          <p:nvPr/>
        </p:nvPicPr>
        <p:blipFill>
          <a:blip r:embed="rId3"/>
          <a:stretch/>
        </p:blipFill>
        <p:spPr>
          <a:xfrm>
            <a:off x="642960" y="408924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284" name="عنصر نائب للمحتوى 2"/>
          <p:cNvSpPr/>
          <p:nvPr/>
        </p:nvSpPr>
        <p:spPr>
          <a:xfrm>
            <a:off x="3500280" y="4857840"/>
            <a:ext cx="49294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5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9933"/>
                </a:solidFill>
                <a:latin typeface="Verdana"/>
                <a:cs typeface="Tahoma"/>
              </a:rPr>
              <a:t>متطلبات ثانو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 algn="r" rtl="1">
              <a:lnSpc>
                <a:spcPct val="15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الكاميرا، والنظام الصوتي (سماعات ومضخم صوت) والطابع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كونات السبورة الذك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6" name="عنصر نائب للمحتوى 3" descr="smart-board-690.jpg"/>
          <p:cNvPicPr/>
          <p:nvPr/>
        </p:nvPicPr>
        <p:blipFill>
          <a:blip r:embed="rId1"/>
          <a:stretch/>
        </p:blipFill>
        <p:spPr>
          <a:xfrm>
            <a:off x="3286080" y="2222640"/>
            <a:ext cx="4973760" cy="2635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1071720" y="2849400"/>
            <a:ext cx="1830240" cy="1079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11"/>
          <p:cNvPicPr/>
          <p:nvPr/>
        </p:nvPicPr>
        <p:blipFill>
          <a:blip r:embed="rId3"/>
          <a:stretch/>
        </p:blipFill>
        <p:spPr>
          <a:xfrm>
            <a:off x="6627960" y="5280120"/>
            <a:ext cx="873000" cy="792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22"/>
          <p:cNvPicPr/>
          <p:nvPr/>
        </p:nvPicPr>
        <p:blipFill>
          <a:blip r:embed="rId4"/>
          <a:stretch/>
        </p:blipFill>
        <p:spPr>
          <a:xfrm>
            <a:off x="4413240" y="5280120"/>
            <a:ext cx="873000" cy="792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33"/>
          <p:cNvPicPr/>
          <p:nvPr/>
        </p:nvPicPr>
        <p:blipFill>
          <a:blip r:embed="rId5"/>
          <a:stretch/>
        </p:blipFill>
        <p:spPr>
          <a:xfrm>
            <a:off x="2055960" y="5214960"/>
            <a:ext cx="873000" cy="792000"/>
          </a:xfrm>
          <a:prstGeom prst="rect">
            <a:avLst/>
          </a:prstGeom>
          <a:ln w="0">
            <a:noFill/>
          </a:ln>
        </p:spPr>
      </p:pic>
      <p:sp>
        <p:nvSpPr>
          <p:cNvPr id="291" name="عنصر نائب للمحتوى 2"/>
          <p:cNvSpPr/>
          <p:nvPr/>
        </p:nvSpPr>
        <p:spPr>
          <a:xfrm>
            <a:off x="3714840" y="1571760"/>
            <a:ext cx="4897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9933"/>
                </a:solidFill>
                <a:latin typeface="Verdana"/>
                <a:cs typeface="Tahoma"/>
              </a:rPr>
              <a:t>مكونات مادية 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: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عنصر نائب للمحتوى 2"/>
          <p:cNvSpPr/>
          <p:nvPr/>
        </p:nvSpPr>
        <p:spPr>
          <a:xfrm>
            <a:off x="3714840" y="4500720"/>
            <a:ext cx="4897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9933"/>
                </a:solidFill>
                <a:latin typeface="Verdana"/>
                <a:cs typeface="Tahoma"/>
              </a:rPr>
              <a:t>مكونات برمجية 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Software</a:t>
            </a:r>
            <a:r>
              <a:rPr b="0" lang="ar-SA" sz="2600" spc="-1" strike="noStrike">
                <a:solidFill>
                  <a:srgbClr val="ff9933"/>
                </a:solidFill>
                <a:latin typeface="Verdana"/>
                <a:ea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إمكانياتها التقن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85480" y="1928520"/>
            <a:ext cx="832644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ستخدم كشاشة عرض كبيرة المساحة بديلة عن شاشة الكمبيوت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سمح للمستخدم بالرسم والكتابة في البرامج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لديها إمكانية تحویل رسوم الید إلى رسوم رقمیة، و التعرف على الكلمات المكتوبة بخط اليد وتحويله إلى حروف رقمية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یمكن تخزين و حفظ المعلومات المكتوبة عليها على جهاز الحاسب والتعديل عليها لاحقاً أو طباعتها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يمكن ربطها بالانترنت وتصفح الإنترنت من خلالها، أو نقل ما يتم عليها لفصل آخر في نفس الوقت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ميزاتها التعليم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571560" y="1928520"/>
            <a:ext cx="504036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وفير وقت المعلم الذي يحتاجه للكتابة على السبور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وفير وقت المتعلم الذي يحتاجه لنقل ما يكتبه المعلم على السبور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تميز بتوفر عنصر الحركة في البرامج التعليمية متعددة الوسائط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صورة 3" descr="what-smart-board-used-800X800.jpg"/>
          <p:cNvPicPr/>
          <p:nvPr/>
        </p:nvPicPr>
        <p:blipFill>
          <a:blip r:embed="rId1"/>
          <a:stretch/>
        </p:blipFill>
        <p:spPr>
          <a:xfrm>
            <a:off x="357120" y="1714680"/>
            <a:ext cx="3087720" cy="2052360"/>
          </a:xfrm>
          <a:prstGeom prst="rect">
            <a:avLst/>
          </a:prstGeom>
          <a:ln w="0">
            <a:noFill/>
          </a:ln>
        </p:spPr>
      </p:pic>
      <p:pic>
        <p:nvPicPr>
          <p:cNvPr id="298" name="صورة 4" descr="hero_1109.jpg"/>
          <p:cNvPicPr/>
          <p:nvPr/>
        </p:nvPicPr>
        <p:blipFill>
          <a:blip r:embed="rId2"/>
          <a:stretch/>
        </p:blipFill>
        <p:spPr>
          <a:xfrm>
            <a:off x="365040" y="3836880"/>
            <a:ext cx="3727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8:40:14Z</dcterms:created>
  <dc:creator>user</dc:creator>
  <dc:description/>
  <dc:language>en-US</dc:language>
  <cp:lastModifiedBy>user</cp:lastModifiedBy>
  <dcterms:modified xsi:type="dcterms:W3CDTF">2010-03-15T20:05:25Z</dcterms:modified>
  <cp:revision>3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