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13.jpeg" ContentType="image/jpeg"/>
  <Override PartName="/ppt/media/image12.wmf" ContentType="image/x-wmf"/>
  <Override PartName="/ppt/media/image4.png" ContentType="image/png"/>
  <Override PartName="/ppt/media/image6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dt" idx="19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ftr" idx="20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 type="sldNum" idx="21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D2D92-E86C-4998-8A0E-151EB9BFBB82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23405-26FC-4F30-85FB-8514C46CD1BD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7DD3A-CDA8-4EC6-A03D-2C954E6A4D4E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D2C0D-CC99-492D-BC41-5C2E61C5E47A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1DAD1-21D3-4D97-8E08-3CF2B9A94741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0FCFD-0008-4BEE-9624-76EC8B31F725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EEE26-FF64-401E-8BCD-1F8F1741C7A6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82B3-CED8-4CC2-BCEE-46949B82A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C970-9F64-408B-B890-CA240A702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CD24-B555-4AAB-A586-E05F19EA7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4120-364D-4FA0-AE12-98DE1F20B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E4189-6DEE-41F6-93FD-443883285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5A084-B9B3-4F9B-B60B-E85497ED4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0E640-BFC9-4773-8830-D9494F55A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35B64-0342-4EA4-A0E3-CBA03D331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2CC3B-4E85-4799-812A-2C4DB6979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215E7-622A-4229-B729-DBE8F4744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7743A-3E41-4BFF-8241-927ECA4F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D257-6F12-4966-B71C-C5135C720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36ED4-8895-4519-8631-B3236D37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AF09B-458C-40F9-8155-B137AEED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A493D-4791-4A0C-B331-F9018B439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BB47B-7F50-4764-8022-E9B24EA27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A8E5A-5B71-4B21-92CC-B4075F947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12E39-F975-4556-96C1-C35B9EAE2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468EE-F25E-49D0-B1E8-A063212B6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DE2F4-4CC3-420B-B8B6-13396BD86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A3CB0-496E-4EAE-9396-511B43908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E312E-26A2-4D27-847E-D30683AC5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051A-2368-47DC-AF8B-BE4D84574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35C2A-E5B2-4E2C-9D26-A93E7B7FA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E62ED-30A0-4323-A8E9-C35A2287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999A5-0948-46DB-9DCA-B1003E7D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A11B1-48A6-4DCD-B069-5183BEE2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5C7D4-B3C8-4AB2-B6B9-4D5A1C8E4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E2E82-531B-4D31-8B7B-5989DF7E2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51EF9-AC39-4C74-93F4-2AEFA8E3E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12B57-DBB3-41F5-848D-F2E840D7E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99683-BF54-4D96-9786-72CBB23A3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38E54-50A7-47F8-BF1D-B989541D2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B1CC-FB2C-4A90-8FB8-10E7495C2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1DC14-0324-425F-B554-A8E0B3AFE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335FE-2B83-42A5-942F-9B2433A30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7CC4F-9AE9-48A7-BC44-DAF140590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F2489-BA54-4AC1-8AA4-C4E7033B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22A4B-3144-46D1-BD14-45094BD9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40E06-240F-476B-BC45-1DC21C16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8C8AE-0534-4E67-9D49-FBFB04D84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9C120-3A42-40DE-BC72-0FF354D01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26458-F636-4FBE-AD9F-078DD0AB9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BC4D6-17D7-432D-9B1B-08C678B4E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340D-8DE7-496A-8501-BA1C12BC7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5BF19-0F42-464D-8DBC-3448F15BF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61BE8-7B54-4C1C-B1D0-FD5D96B2E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C11B7-5C7B-4288-BE52-0A32CEAD2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63F51-BD3A-42CB-89F3-99B8EA28F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5D041-8A11-433C-AC54-B37C12925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8D1CC-F83E-4AD8-8E5E-27742C47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5D91A-FFFB-48D6-A4E8-B50038D2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86001-A586-4970-B571-CB500A74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15B71-9595-4C53-935F-32905D877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B871F-CC0B-4337-AA00-8F7325BAA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3E31-B1EE-4F20-891F-996521D56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C2C8C-41D9-4E05-9673-4F1E916DC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4DE941-83E3-478D-9293-BF6C3A187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70442-E3FA-4627-9F30-0F20BBBBE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E341F-EB71-4D35-BD10-14EC73521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7B27C-2483-4F83-897D-399821E62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0389F6-6D6E-4AB1-836E-89003361B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FB24C-1BF5-433D-A3AA-8B894D321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B0BCD-7FB3-4C9D-AC47-F0841BB2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79CA7-5FF2-4708-BD30-7159D669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5DC4D-54F4-4D08-AD19-EF6A246D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553E-71A2-4481-A279-09297766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5D12F8-C32E-4A20-BA99-E42DE9051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E20063-16FA-439A-BE73-11BF9E9BC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DFCB6-78A5-45CE-A706-65280FFCC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36D9-3049-4496-A6F3-285E2CF4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AFD1-4CB9-4037-8DCA-84740240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مستطيل مستدير الزوايا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e65c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e65c01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bcb372"/>
                </a:solidFill>
                <a:latin typeface="Verdan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bcb372"/>
                </a:solidFill>
                <a:latin typeface="Verdana"/>
                <a:ea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bcb372"/>
                </a:solidFill>
                <a:latin typeface="Verdan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A0540-9BB7-440B-A59A-7E0DAF24422B}" type="slidenum">
              <a:rPr b="0" lang="ar-SA" sz="1000" spc="-1" strike="noStrike">
                <a:solidFill>
                  <a:srgbClr val="bcb372"/>
                </a:solidFill>
                <a:latin typeface="Verdana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مستطيل مستدير الزوايا 7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مستطيل مستدير الزوايا 8"/>
          <p:cNvSpPr/>
          <p:nvPr/>
        </p:nvSpPr>
        <p:spPr>
          <a:xfrm>
            <a:off x="419040" y="433440"/>
            <a:ext cx="8305920" cy="1638360"/>
          </a:xfrm>
          <a:prstGeom prst="roundRect">
            <a:avLst>
              <a:gd name="adj" fmla="val 4579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e65c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e65c01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bcb372"/>
                </a:solidFill>
                <a:latin typeface="Verdan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bcb372"/>
                </a:solidFill>
                <a:latin typeface="Verdana"/>
                <a:ea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bcb372"/>
                </a:solidFill>
                <a:latin typeface="Verdan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9B454-C692-4DF6-89BC-11F84C86DE92}" type="slidenum">
              <a:rPr b="0" lang="ar-SA" sz="1000" spc="-1" strike="noStrike">
                <a:solidFill>
                  <a:srgbClr val="bcb372"/>
                </a:solidFill>
                <a:latin typeface="Verdana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مستطيل مستدير الزوايا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e65c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e65c01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bcb372"/>
                </a:solidFill>
                <a:latin typeface="Verdan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bcb372"/>
                </a:solidFill>
                <a:latin typeface="Verdana"/>
                <a:ea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bcb372"/>
                </a:solidFill>
                <a:latin typeface="Verdan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8E053-10D6-4DD6-A947-139C77F48067}" type="slidenum">
              <a:rPr b="0" lang="ar-SA" sz="1000" spc="-1" strike="noStrike">
                <a:solidFill>
                  <a:srgbClr val="bcb372"/>
                </a:solidFill>
                <a:latin typeface="Verdana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مستطيل مستدير الزوايا 7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مستطيل مستدير الزوايا 8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29" name="مستطيل مستدير الزوايا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e65c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e65c01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bcb372"/>
                </a:solidFill>
                <a:latin typeface="Verdan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bcb372"/>
                </a:solidFill>
                <a:latin typeface="Verdana"/>
                <a:ea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bcb372"/>
                </a:solidFill>
                <a:latin typeface="Verdan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6D43A-D3BE-4282-93C7-89B64F6B7631}" type="slidenum">
              <a:rPr b="0" lang="ar-SA" sz="1000" spc="-1" strike="noStrike">
                <a:solidFill>
                  <a:srgbClr val="bcb372"/>
                </a:solidFill>
                <a:latin typeface="Verdana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مستطيل مستدير الزوايا 7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e65c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e65c01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bcb372"/>
                </a:solidFill>
                <a:latin typeface="Verdan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bcb372"/>
                </a:solidFill>
                <a:latin typeface="Verdana"/>
                <a:ea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bcb372"/>
                </a:solidFill>
                <a:latin typeface="Verdan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D39DF-266B-40CC-9959-8ADB27FF9C77}" type="slidenum">
              <a:rPr b="0" lang="ar-SA" sz="1000" spc="-1" strike="noStrike">
                <a:solidFill>
                  <a:srgbClr val="bcb372"/>
                </a:solidFill>
                <a:latin typeface="Verdana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مستطيل مستدير الزوايا 7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مستطيل ذو زاوية واحدة مستديرة 8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e65c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e65c01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bcb372"/>
                </a:solidFill>
                <a:latin typeface="Verdan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bcb372"/>
                </a:solidFill>
                <a:latin typeface="Verdana"/>
                <a:ea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bcb372"/>
                </a:solidFill>
                <a:latin typeface="Verdan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0B163-4B31-427C-A173-1EA1A0458086}" type="slidenum">
              <a:rPr b="0" lang="ar-SA" sz="1000" spc="-1" strike="noStrike">
                <a:solidFill>
                  <a:srgbClr val="bcb372"/>
                </a:solidFill>
                <a:latin typeface="Verdana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Verdana"/>
              </a:rPr>
              <a:t>المحاضرة الثالثة: </a:t>
            </a:r>
            <a:r>
              <a:rPr b="1" lang="ar-SA" sz="4500" spc="-1" strike="noStrike">
                <a:solidFill>
                  <a:srgbClr val="ff6d3f"/>
                </a:solidFill>
                <a:latin typeface="Verdana"/>
              </a:rPr>
              <a:t>السبورة الذكية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65" name="صورة 3" descr="SB-580.jpg"/>
          <p:cNvPicPr/>
          <p:nvPr/>
        </p:nvPicPr>
        <p:blipFill>
          <a:blip r:embed="rId1"/>
          <a:stretch/>
        </p:blipFill>
        <p:spPr>
          <a:xfrm>
            <a:off x="2071800" y="2286000"/>
            <a:ext cx="50180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6d3f"/>
                </a:solidFill>
                <a:latin typeface="Verdana"/>
              </a:rPr>
              <a:t>تابع مميزاتها التعليمية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571560" y="1928520"/>
            <a:ext cx="5040360" cy="4545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e65c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Verdana"/>
              </a:rPr>
              <a:t>تسهم في القضاء على خوف بعض الطلاب من التكنولوجيا 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chnophobia</a:t>
            </a:r>
            <a:r>
              <a:rPr b="0" lang="ar-SA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spcBef>
                <a:spcPts val="249"/>
              </a:spcBef>
              <a:buClr>
                <a:srgbClr val="e65c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Verdana"/>
              </a:rPr>
              <a:t>توفر إمكانية تسجيل الدرس كاملاً مع صوت المعل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spcBef>
                <a:spcPts val="249"/>
              </a:spcBef>
              <a:buClr>
                <a:srgbClr val="e65c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spcBef>
                <a:spcPts val="249"/>
              </a:spcBef>
              <a:buClr>
                <a:srgbClr val="e65c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Verdana"/>
              </a:rPr>
              <a:t>عرض الموضوعات الدراسية بطريقة مشوقة وجذابة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spcBef>
                <a:spcPts val="249"/>
              </a:spcBef>
              <a:buClr>
                <a:srgbClr val="e65c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Verdana"/>
              </a:rPr>
              <a:t>إمكانية استخدامها في التعلم عن بعد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1" name="صورة 5" descr="2691645840_a954b27f75_o.jpg"/>
          <p:cNvPicPr/>
          <p:nvPr/>
        </p:nvPicPr>
        <p:blipFill>
          <a:blip r:embed="rId1"/>
          <a:stretch/>
        </p:blipFill>
        <p:spPr>
          <a:xfrm>
            <a:off x="642960" y="1714680"/>
            <a:ext cx="2193840" cy="1800000"/>
          </a:xfrm>
          <a:prstGeom prst="rect">
            <a:avLst/>
          </a:prstGeom>
          <a:ln w="0">
            <a:noFill/>
          </a:ln>
        </p:spPr>
      </p:pic>
      <p:pic>
        <p:nvPicPr>
          <p:cNvPr id="302" name="صورة 6" descr="distance_image.jpg"/>
          <p:cNvPicPr/>
          <p:nvPr/>
        </p:nvPicPr>
        <p:blipFill>
          <a:blip r:embed="rId2"/>
          <a:stretch/>
        </p:blipFill>
        <p:spPr>
          <a:xfrm>
            <a:off x="428760" y="3571920"/>
            <a:ext cx="33512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6d3f"/>
                </a:solidFill>
                <a:latin typeface="Verdana"/>
              </a:rPr>
              <a:t>عيوبـها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500040" y="1928520"/>
            <a:ext cx="8112240" cy="4545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r" rtl="1">
              <a:lnSpc>
                <a:spcPct val="200000"/>
              </a:lnSpc>
              <a:buClr>
                <a:srgbClr val="e65c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Verdana"/>
              </a:rPr>
              <a:t>ارتفاع ثمن شراءها، كما أن تكاليف صيانتها مرتفعة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lnSpc>
                <a:spcPct val="200000"/>
              </a:lnSpc>
              <a:buClr>
                <a:srgbClr val="e65c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Verdana"/>
              </a:rPr>
              <a:t>لا تخدم اللغة العربية بشكل كامل، مثل: عدم توفر خاصية تحويل الكتابة اليدوية العربية إلى كتابة رقمية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lnSpc>
                <a:spcPct val="200000"/>
              </a:lnSpc>
              <a:buClr>
                <a:srgbClr val="e65c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Verdana"/>
              </a:rPr>
              <a:t>تعتبر جهاز حساس لا يتحمل كثرة الأخطاء فلا بد من التدريب عليها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6d3f"/>
                </a:solidFill>
                <a:latin typeface="Verdana"/>
              </a:rPr>
              <a:t>مقدمة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67" name="صورة 4" descr="3D Character (3).jpg"/>
          <p:cNvPicPr/>
          <p:nvPr/>
        </p:nvPicPr>
        <p:blipFill>
          <a:blip r:embed="rId1"/>
          <a:stretch/>
        </p:blipFill>
        <p:spPr>
          <a:xfrm>
            <a:off x="5143680" y="3286080"/>
            <a:ext cx="3236760" cy="2428920"/>
          </a:xfrm>
          <a:prstGeom prst="rect">
            <a:avLst/>
          </a:prstGeom>
          <a:ln w="0">
            <a:noFill/>
          </a:ln>
        </p:spPr>
      </p:pic>
      <p:grpSp>
        <p:nvGrpSpPr>
          <p:cNvPr id="268" name="وسيلة شرح على شكل سحابة 5"/>
          <p:cNvGrpSpPr/>
          <p:nvPr/>
        </p:nvGrpSpPr>
        <p:grpSpPr>
          <a:xfrm>
            <a:off x="1219320" y="2255760"/>
            <a:ext cx="5370480" cy="2121120"/>
            <a:chOff x="1219320" y="2255760"/>
            <a:chExt cx="5370480" cy="2121120"/>
          </a:xfrm>
        </p:grpSpPr>
        <p:pic>
          <p:nvPicPr>
            <p:cNvPr id="269" name="وسيلة شرح على شكل سحابة 5" descr=""/>
            <p:cNvPicPr/>
            <p:nvPr/>
          </p:nvPicPr>
          <p:blipFill>
            <a:blip r:embed="rId2"/>
            <a:stretch/>
          </p:blipFill>
          <p:spPr>
            <a:xfrm>
              <a:off x="1219320" y="2255760"/>
              <a:ext cx="5370480" cy="212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1876320" y="2587680"/>
              <a:ext cx="2800440" cy="13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800" spc="-1" strike="noStrike">
                  <a:solidFill>
                    <a:srgbClr val="000000"/>
                  </a:solidFill>
                  <a:latin typeface="Verdana"/>
                  <a:cs typeface="Tahoma"/>
                </a:rPr>
                <a:t>لماذا نتعلم استخدام السبورة الذكية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صورة 3" descr="classroom.jpg"/>
          <p:cNvPicPr/>
          <p:nvPr/>
        </p:nvPicPr>
        <p:blipFill>
          <a:blip r:embed="rId1"/>
          <a:stretch/>
        </p:blipFill>
        <p:spPr>
          <a:xfrm>
            <a:off x="357120" y="1928880"/>
            <a:ext cx="3095640" cy="334332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28760" y="571680"/>
            <a:ext cx="8183520" cy="78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6d3f"/>
                </a:solidFill>
                <a:latin typeface="Verdana"/>
              </a:rPr>
              <a:t>تعريف السبورة الذكية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999880" y="1928880"/>
            <a:ext cx="5612040" cy="40003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862110"/>
                </a:solidFill>
                <a:latin typeface="Verdana"/>
              </a:rPr>
              <a:t>شاشة عرض (لوحة) إلكترونية حساسة بيضاء</a:t>
            </a:r>
            <a:r>
              <a:rPr b="0" lang="ar-SA" sz="2200" spc="-1" strike="noStrike">
                <a:solidFill>
                  <a:srgbClr val="000000"/>
                </a:solidFill>
                <a:latin typeface="Verdana"/>
              </a:rPr>
              <a:t> ، </a:t>
            </a:r>
            <a:r>
              <a:rPr b="0" lang="ar-SA" sz="2200" spc="-1" strike="noStrike">
                <a:solidFill>
                  <a:srgbClr val="d0a80a"/>
                </a:solidFill>
                <a:latin typeface="Verdana"/>
              </a:rPr>
              <a:t>يتم التعامل معها باستخدام اللمس (بإصبع اليد أو أقلام الحبر الرقمي أو أي أداة تأشير) </a:t>
            </a:r>
            <a:r>
              <a:rPr b="0" lang="ar-SA" sz="2200" spc="-1" strike="noStrike">
                <a:solidFill>
                  <a:srgbClr val="ff0000"/>
                </a:solidFill>
                <a:latin typeface="Verdana"/>
              </a:rPr>
              <a:t>ويتم توصيلها بالحاسب الآلي وجهاز عارض البيانات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data show</a:t>
            </a:r>
            <a:r>
              <a:rPr b="0" lang="ar-SA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ar-SA" sz="2200" spc="-1" strike="noStrike">
                <a:solidFill>
                  <a:srgbClr val="e65c01"/>
                </a:solidFill>
                <a:latin typeface="Verdana"/>
              </a:rPr>
              <a:t>حيث تعرض و تتفاعل مع تطبيقات الحاسب المختلفة المخزنة على الحاسب أو الموجودة على الانترنت سواء بشكل مباشر أو من بُعد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6d3f"/>
                </a:solidFill>
                <a:latin typeface="Verdana"/>
              </a:rPr>
              <a:t>المسميات المتعددة للسبورة الذكية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28760" y="22856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r" rtl="1">
              <a:lnSpc>
                <a:spcPct val="150000"/>
              </a:lnSpc>
              <a:spcBef>
                <a:spcPts val="249"/>
              </a:spcBef>
              <a:buClr>
                <a:srgbClr val="e65c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السبورة الذكية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mart Boar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lnSpc>
                <a:spcPct val="150000"/>
              </a:lnSpc>
              <a:spcBef>
                <a:spcPts val="249"/>
              </a:spcBef>
              <a:buClr>
                <a:srgbClr val="e65c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السبورة الإلكترونية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ctronic Board (e-board)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lnSpc>
                <a:spcPct val="150000"/>
              </a:lnSpc>
              <a:spcBef>
                <a:spcPts val="249"/>
              </a:spcBef>
              <a:buClr>
                <a:srgbClr val="e65c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السبورة الرقمية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gital Boar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lnSpc>
                <a:spcPct val="150000"/>
              </a:lnSpc>
              <a:spcBef>
                <a:spcPts val="249"/>
              </a:spcBef>
              <a:buClr>
                <a:srgbClr val="e65c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السبورة البيضاء التفاعلية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active whiteboar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6d3f"/>
                </a:solidFill>
                <a:latin typeface="Verdana"/>
              </a:rPr>
              <a:t>تاريخ تطورها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071960" y="2071800"/>
            <a:ext cx="4540320" cy="4402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e65c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في منتصف 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1980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م: ظهور الفكرة من قبل نانسي نولتون وزوجها ديفيد مارتن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spcBef>
                <a:spcPts val="249"/>
              </a:spcBef>
              <a:buClr>
                <a:srgbClr val="e65c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بداية عام 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1991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م: الإنتاج الفعلي لأول سبورة ذكية وظهورها في الأسواق من قبل شركة سمارت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8" name="صورة 4" descr="1005_p040-smart_398x280.jpg"/>
          <p:cNvPicPr/>
          <p:nvPr/>
        </p:nvPicPr>
        <p:blipFill>
          <a:blip r:embed="rId1"/>
          <a:stretch/>
        </p:blipFill>
        <p:spPr>
          <a:xfrm>
            <a:off x="428760" y="2571840"/>
            <a:ext cx="378612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صورة 3" descr="SMART21.jpg"/>
          <p:cNvPicPr/>
          <p:nvPr/>
        </p:nvPicPr>
        <p:blipFill>
          <a:blip r:embed="rId1"/>
          <a:stretch/>
        </p:blipFill>
        <p:spPr>
          <a:xfrm>
            <a:off x="387360" y="1335240"/>
            <a:ext cx="3613320" cy="287964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6d3f"/>
                </a:solidFill>
                <a:latin typeface="Verdana"/>
              </a:rPr>
              <a:t>متطلبات التشغيل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714840" y="1714320"/>
            <a:ext cx="4897440" cy="3143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r" rtl="1">
              <a:lnSpc>
                <a:spcPct val="130000"/>
              </a:lnSpc>
              <a:buClr>
                <a:srgbClr val="e65c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9933"/>
                </a:solidFill>
                <a:latin typeface="Verdana"/>
              </a:rPr>
              <a:t>متطلبات أساسية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lnSpc>
                <a:spcPct val="130000"/>
              </a:lnSpc>
              <a:buClr>
                <a:srgbClr val="e65c01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Verdana"/>
              </a:rPr>
              <a:t>جهاز حاسب آلي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lnSpc>
                <a:spcPct val="130000"/>
              </a:lnSpc>
              <a:buClr>
                <a:srgbClr val="e65c01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Verdana"/>
              </a:rPr>
              <a:t>جهاز عرض البيانات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ta Show</a:t>
            </a:r>
            <a:r>
              <a:rPr b="0" lang="ar-SA" sz="1800" spc="-1" strike="noStrike">
                <a:solidFill>
                  <a:srgbClr val="000000"/>
                </a:solidFill>
                <a:latin typeface="Verdana"/>
              </a:rPr>
              <a:t> موصل بالحاسب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lnSpc>
                <a:spcPct val="130000"/>
              </a:lnSpc>
              <a:buClr>
                <a:srgbClr val="e65c01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Verdana"/>
              </a:rPr>
              <a:t>سلك خاص للتوصيل بين السبورة وجهاز الحاسب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lnSpc>
                <a:spcPct val="130000"/>
              </a:lnSpc>
              <a:buClr>
                <a:srgbClr val="e65c01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Verdana"/>
              </a:rPr>
              <a:t>برنامج السبورة الذكية يتم تحميله على جهاز الحاسب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lnSpc>
                <a:spcPct val="80000"/>
              </a:lnSpc>
              <a:spcBef>
                <a:spcPts val="249"/>
              </a:spcBef>
              <a:buClr>
                <a:srgbClr val="e65c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lnSpc>
                <a:spcPct val="80000"/>
              </a:lnSpc>
              <a:spcBef>
                <a:spcPts val="249"/>
              </a:spcBef>
              <a:buClr>
                <a:srgbClr val="e65c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2" name="صورة 4" descr="smart_board.gif"/>
          <p:cNvPicPr/>
          <p:nvPr/>
        </p:nvPicPr>
        <p:blipFill>
          <a:blip r:embed="rId2"/>
          <a:stretch/>
        </p:blipFill>
        <p:spPr>
          <a:xfrm>
            <a:off x="3143160" y="1928880"/>
            <a:ext cx="982800" cy="720720"/>
          </a:xfrm>
          <a:prstGeom prst="rect">
            <a:avLst/>
          </a:prstGeom>
          <a:ln w="0">
            <a:noFill/>
          </a:ln>
        </p:spPr>
      </p:pic>
      <p:pic>
        <p:nvPicPr>
          <p:cNvPr id="283" name="صورة 5" descr="1258994217_2897_SB600iS.jpg"/>
          <p:cNvPicPr/>
          <p:nvPr/>
        </p:nvPicPr>
        <p:blipFill>
          <a:blip r:embed="rId3"/>
          <a:stretch/>
        </p:blipFill>
        <p:spPr>
          <a:xfrm>
            <a:off x="642960" y="4089240"/>
            <a:ext cx="2411280" cy="2411640"/>
          </a:xfrm>
          <a:prstGeom prst="rect">
            <a:avLst/>
          </a:prstGeom>
          <a:ln w="0">
            <a:noFill/>
          </a:ln>
        </p:spPr>
      </p:pic>
      <p:sp>
        <p:nvSpPr>
          <p:cNvPr id="284" name="عنصر نائب للمحتوى 2"/>
          <p:cNvSpPr/>
          <p:nvPr/>
        </p:nvSpPr>
        <p:spPr>
          <a:xfrm>
            <a:off x="3500280" y="4857840"/>
            <a:ext cx="492948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 algn="r" rtl="1">
              <a:lnSpc>
                <a:spcPct val="150000"/>
              </a:lnSpc>
              <a:buClr>
                <a:srgbClr val="e65c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9933"/>
                </a:solidFill>
                <a:latin typeface="Verdana"/>
                <a:cs typeface="Tahoma"/>
              </a:rPr>
              <a:t>متطلبات ثانوية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 algn="r" rtl="1">
              <a:lnSpc>
                <a:spcPct val="150000"/>
              </a:lnSpc>
              <a:buClr>
                <a:srgbClr val="e65c01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Verdana"/>
                <a:cs typeface="Tahoma"/>
              </a:rPr>
              <a:t>الكاميرا، والنظام الصوتي (سماعات ومضخم صوت) والطابع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6d3f"/>
                </a:solidFill>
                <a:latin typeface="Verdana"/>
              </a:rPr>
              <a:t>مكونات السبورة الذكية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86" name="عنصر نائب للمحتوى 3" descr="smart-board-690.jpg"/>
          <p:cNvPicPr/>
          <p:nvPr/>
        </p:nvPicPr>
        <p:blipFill>
          <a:blip r:embed="rId1"/>
          <a:stretch/>
        </p:blipFill>
        <p:spPr>
          <a:xfrm>
            <a:off x="3286080" y="2222640"/>
            <a:ext cx="4973760" cy="26352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" descr=""/>
          <p:cNvPicPr/>
          <p:nvPr/>
        </p:nvPicPr>
        <p:blipFill>
          <a:blip r:embed="rId2"/>
          <a:stretch/>
        </p:blipFill>
        <p:spPr>
          <a:xfrm>
            <a:off x="1071720" y="2849400"/>
            <a:ext cx="1830240" cy="10796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8" descr="11"/>
          <p:cNvPicPr/>
          <p:nvPr/>
        </p:nvPicPr>
        <p:blipFill>
          <a:blip r:embed="rId3"/>
          <a:stretch/>
        </p:blipFill>
        <p:spPr>
          <a:xfrm>
            <a:off x="6627960" y="5280120"/>
            <a:ext cx="873000" cy="7920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9" descr="22"/>
          <p:cNvPicPr/>
          <p:nvPr/>
        </p:nvPicPr>
        <p:blipFill>
          <a:blip r:embed="rId4"/>
          <a:stretch/>
        </p:blipFill>
        <p:spPr>
          <a:xfrm>
            <a:off x="4413240" y="5280120"/>
            <a:ext cx="873000" cy="7920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0" descr="33"/>
          <p:cNvPicPr/>
          <p:nvPr/>
        </p:nvPicPr>
        <p:blipFill>
          <a:blip r:embed="rId5"/>
          <a:stretch/>
        </p:blipFill>
        <p:spPr>
          <a:xfrm>
            <a:off x="2055960" y="5214960"/>
            <a:ext cx="873000" cy="792000"/>
          </a:xfrm>
          <a:prstGeom prst="rect">
            <a:avLst/>
          </a:prstGeom>
          <a:ln w="0">
            <a:noFill/>
          </a:ln>
        </p:spPr>
      </p:pic>
      <p:sp>
        <p:nvSpPr>
          <p:cNvPr id="291" name="عنصر نائب للمحتوى 2"/>
          <p:cNvSpPr/>
          <p:nvPr/>
        </p:nvSpPr>
        <p:spPr>
          <a:xfrm>
            <a:off x="3714840" y="1571760"/>
            <a:ext cx="48974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9933"/>
                </a:solidFill>
                <a:latin typeface="Verdana"/>
                <a:cs typeface="Tahoma"/>
              </a:rPr>
              <a:t>مكونات مادية (</a:t>
            </a:r>
            <a:r>
              <a:rPr b="0" lang="en-US" sz="2600" spc="-1" strike="noStrike">
                <a:solidFill>
                  <a:srgbClr val="ff9933"/>
                </a:solidFill>
                <a:latin typeface="Verdana"/>
              </a:rPr>
              <a:t>:(</a:t>
            </a:r>
            <a:r>
              <a:rPr b="0" lang="en-US" sz="2600" spc="-1" strike="noStrike">
                <a:solidFill>
                  <a:srgbClr val="ff9933"/>
                </a:solidFill>
                <a:latin typeface="Verdana"/>
              </a:rPr>
              <a:t>Hard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249"/>
              </a:spcBef>
              <a:buClr>
                <a:srgbClr val="e65c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عنصر نائب للمحتوى 2"/>
          <p:cNvSpPr/>
          <p:nvPr/>
        </p:nvSpPr>
        <p:spPr>
          <a:xfrm>
            <a:off x="3714840" y="4500720"/>
            <a:ext cx="48974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9933"/>
                </a:solidFill>
                <a:latin typeface="Verdana"/>
                <a:cs typeface="Tahoma"/>
              </a:rPr>
              <a:t>مكونات برمجية (</a:t>
            </a:r>
            <a:r>
              <a:rPr b="0" lang="en-US" sz="2600" spc="-1" strike="noStrike">
                <a:solidFill>
                  <a:srgbClr val="ff9933"/>
                </a:solidFill>
                <a:latin typeface="Verdana"/>
              </a:rPr>
              <a:t>(</a:t>
            </a:r>
            <a:r>
              <a:rPr b="0" lang="en-US" sz="2600" spc="-1" strike="noStrike">
                <a:solidFill>
                  <a:srgbClr val="ff9933"/>
                </a:solidFill>
                <a:latin typeface="Verdana"/>
              </a:rPr>
              <a:t>Software</a:t>
            </a:r>
            <a:r>
              <a:rPr b="0" lang="ar-SA" sz="2600" spc="-1" strike="noStrike">
                <a:solidFill>
                  <a:srgbClr val="ff9933"/>
                </a:solidFill>
                <a:latin typeface="Verdana"/>
                <a:ea typeface="Tahom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249"/>
              </a:spcBef>
              <a:buClr>
                <a:srgbClr val="e65c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6d3f"/>
                </a:solidFill>
                <a:latin typeface="Verdana"/>
              </a:rPr>
              <a:t>إمكانياتها التقنية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285480" y="1928520"/>
            <a:ext cx="8326440" cy="4545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r" rtl="1">
              <a:lnSpc>
                <a:spcPct val="150000"/>
              </a:lnSpc>
              <a:spcAft>
                <a:spcPts val="1199"/>
              </a:spcAft>
              <a:buClr>
                <a:srgbClr val="e65c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Verdana"/>
              </a:rPr>
              <a:t>تستخدم كشاشة عرض كبيرة المساحة بديلة عن شاشة الكمبيوتر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lnSpc>
                <a:spcPct val="150000"/>
              </a:lnSpc>
              <a:spcAft>
                <a:spcPts val="1199"/>
              </a:spcAft>
              <a:buClr>
                <a:srgbClr val="e65c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Verdana"/>
              </a:rPr>
              <a:t>تسمح للمستخدم بالرسم والكتابة في البرامج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lnSpc>
                <a:spcPct val="150000"/>
              </a:lnSpc>
              <a:spcAft>
                <a:spcPts val="1199"/>
              </a:spcAft>
              <a:buClr>
                <a:srgbClr val="e65c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Verdana"/>
              </a:rPr>
              <a:t>لديها إمكانية تحویل رسوم الید إلى رسوم رقمیة، و التعرف على الكلمات المكتوبة بخط اليد وتحويله إلى حروف رقمية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lnSpc>
                <a:spcPct val="150000"/>
              </a:lnSpc>
              <a:spcAft>
                <a:spcPts val="1199"/>
              </a:spcAft>
              <a:buClr>
                <a:srgbClr val="e65c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Verdana"/>
              </a:rPr>
              <a:t>یمكن تخزين و حفظ المعلومات المكتوبة عليها على جهاز الحاسب والتعديل عليها لاحقاً أو طباعتها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lnSpc>
                <a:spcPct val="150000"/>
              </a:lnSpc>
              <a:spcAft>
                <a:spcPts val="1199"/>
              </a:spcAft>
              <a:buClr>
                <a:srgbClr val="e65c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Verdana"/>
              </a:rPr>
              <a:t>يمكن ربطها بالانترنت وتصفح الإنترنت من خلالها، أو نقل ما يتم عليها لفصل آخر في نفس الوقت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6d3f"/>
                </a:solidFill>
                <a:latin typeface="Verdana"/>
              </a:rPr>
              <a:t>مميزاتها التعليمية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571560" y="1928520"/>
            <a:ext cx="5040360" cy="4545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r" rtl="1">
              <a:lnSpc>
                <a:spcPct val="150000"/>
              </a:lnSpc>
              <a:spcAft>
                <a:spcPts val="1199"/>
              </a:spcAft>
              <a:buClr>
                <a:srgbClr val="e65c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Verdana"/>
              </a:rPr>
              <a:t>توفير وقت المعلم الذي يحتاجه للكتابة على السبورة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lnSpc>
                <a:spcPct val="150000"/>
              </a:lnSpc>
              <a:spcAft>
                <a:spcPts val="1199"/>
              </a:spcAft>
              <a:buClr>
                <a:srgbClr val="e65c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Verdana"/>
              </a:rPr>
              <a:t>توفير وقت المتعلم الذي يحتاجه لنقل ما يكتبه المعلم على السبورة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lnSpc>
                <a:spcPct val="150000"/>
              </a:lnSpc>
              <a:spcAft>
                <a:spcPts val="1199"/>
              </a:spcAft>
              <a:buClr>
                <a:srgbClr val="e65c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Verdana"/>
              </a:rPr>
              <a:t>تتميز بتوفر عنصر الحركة في البرامج التعليمية متعددة الوسائط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7" name="صورة 3" descr="what-smart-board-used-800X800.jpg"/>
          <p:cNvPicPr/>
          <p:nvPr/>
        </p:nvPicPr>
        <p:blipFill>
          <a:blip r:embed="rId1"/>
          <a:stretch/>
        </p:blipFill>
        <p:spPr>
          <a:xfrm>
            <a:off x="357120" y="1714680"/>
            <a:ext cx="3087720" cy="2052360"/>
          </a:xfrm>
          <a:prstGeom prst="rect">
            <a:avLst/>
          </a:prstGeom>
          <a:ln w="0">
            <a:noFill/>
          </a:ln>
        </p:spPr>
      </p:pic>
      <p:pic>
        <p:nvPicPr>
          <p:cNvPr id="298" name="صورة 4" descr="hero_1109.jpg"/>
          <p:cNvPicPr/>
          <p:nvPr/>
        </p:nvPicPr>
        <p:blipFill>
          <a:blip r:embed="rId2"/>
          <a:stretch/>
        </p:blipFill>
        <p:spPr>
          <a:xfrm>
            <a:off x="365040" y="3836880"/>
            <a:ext cx="37274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1T18:40:14Z</dcterms:created>
  <dc:creator>user</dc:creator>
  <dc:description/>
  <dc:language>en-US</dc:language>
  <cp:lastModifiedBy>user</cp:lastModifiedBy>
  <dcterms:modified xsi:type="dcterms:W3CDTF">2010-03-15T20:05:25Z</dcterms:modified>
  <cp:revision>34</cp:revision>
  <dc:subject/>
  <dc:title>الشريحة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