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3254-BAD5-43E0-826A-624228BCA4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BE825-E966-4D71-85BB-5C213F228E7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F502-3A5E-48C6-9B16-C57B8E01E78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21F7-21FC-4FA1-963E-7939CFF5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4D93-CB24-46A2-AE4F-157594B3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BB18-163C-4FF2-99E5-F75505E3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92D-E9B6-409F-B858-2A0CCA75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556E-D256-4BDE-B526-3FEF5FF1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B0E-CAF4-48E7-A1E6-165470C8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C44B-F46B-442A-847A-D993866D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53C-C180-4E52-AA54-08823B17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FF8-AB01-49C4-89A0-2B10C703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48E-ED8E-49E2-8D39-9B56E32B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5F8-CBDD-4568-A04B-A54C714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D3C-683F-44E3-9EF1-315A6804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02FE-00B7-44B1-82AC-763850BC65D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القيمة الزمنية للنقو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دع احد الاشخاص المبالغ التالية في احد البنوك بمعدل فائدة مرك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اول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ثان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في بداية السنة الثا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جد رصيد هذا الشخص في نهاية السنة الثالث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دع احد الاشخاص مبلغ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كل عام  و لمد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في احد البنوك بمعدل فائدة مركب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سنويا . اوجد رصيد هذا الشخص في نهاية السنة الخامس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وقع احد الاشخاص الحصول على المبالغ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5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بعد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وجد القيمة الحالية لهذه المبالغ اليوم علمان بان معدل العائد في السوق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وقع احد الاشخاص الحصول على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كل ع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 لم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. اوجد القيمة الحالية لهذه التدفقات علما بان معدل الفائدة الدارج في السوق هو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مبلغ واحد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نفترض أن احد الاشخاص قام بايداع 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حساب توفير مع احد البنوك و لمدة عامين على أن يقوم البنك بدفع فائدة مقدار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يتم دفعها كل سنة . فما هو مقدار المبلغ المتراكم في نهاية السنتين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مجموعة مبالغ مختل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قام شخص ما بايداع  ما يل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ف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/1/20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طلوب : ما هو حجم المبلغ المتراكم في نهاية عام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مستقبلية لدفعات منتظمة و متساوي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قام شخص ما بايداع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كل عام و لمد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عوام و بفائدة مقدارها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و مركبة على اساس سنوي . فما هو المبلغ المتجمع في الحساب في نهاية السنة الخامسة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حالية لمبلغ واح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ذا كان هناك فرصة لشخص ما ليستلم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1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سنة من الان . و على افتراض ان معدل الفائدة يساوي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فما هو المبلغ الذي يجب استثماره الان ؟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قيمة الحالية لمجموعة مبالغ مختل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توقع إحدى الشركات الحصول على المبالغ التال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طلوب : ما هي القيمة الحالية لهذه المبالغ علما بان معدل الخصم هو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% سنويا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ثال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ودع شخص مبلغ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ريال بفائدة مركبة و لمد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سنوات . كم يصبح المبلغ في نهاية الم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حل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مة المستقبلية = القيمة الحالية* (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+ معدل الفائدة ) الزم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في نهاية المدة يصبح المبلغ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*(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,06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*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,2624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262,477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يا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ثال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غب احد الاشخاص بالحصول على مبلغ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ريال بعد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سنوات من الان . ما هو المبلغ الذي يجب عليه استثماره اليوم  بمعدل عائد مركب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% سنويا للحصول على هذا المبلغ 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حل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قيمة الحالية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قيمة المستقبلية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/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معدل الفائدة )الزمن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بلغ الذي يجب استثماره اليوم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(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/ (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,0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المبلغ الذي يجب استثماره اليوم 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0,783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7835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ري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mmunity College</cp:lastModifiedBy>
  <dcterms:modified xsi:type="dcterms:W3CDTF">2010-02-28T12:40:4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