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B719-C292-4B1A-B9F4-4A8F3EC4E0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7DA6-9A18-47C7-B1B3-FC74B380EE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60F-6458-4762-AF57-FB791CF86D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C26-D53D-40BB-8AB6-977BD7FA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3EA-E7E0-4089-8F54-987E6F0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77A-D5E7-4292-BBEB-93814D2F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AD1-3DAB-4C65-AED5-9431773D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BBE-D68B-4C46-A309-F21415D7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CAD-728B-43A7-AFE2-35AB896E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CE7-7154-41CA-ABFD-822F915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41C-9569-4FA2-BA16-8243C2EE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925-DCF0-47A4-84AF-8361A776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35F-0B01-45FD-8061-344426C2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8F6-9BAD-4D68-8420-42E366BB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766-818A-4E02-A779-0DD093A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D136-5047-4D6F-91C7-0A91451565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قيمة الزمنية للنق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دع احد الاشخاص المبالغ التالية في احد البنوك بمعدل فائدة مرك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او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ثا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جد رصيد هذا الشخص في نهاية السنة الثا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دع احد الاشخاص مبلغ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كل عام  و لمد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في احد البنوك بمعدل فائدة مرك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سنويا . اوجد رصيد هذا الشخص في نهاية السنة الخامس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وقع احد الاشخاص الحصول على المبالغ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جد القيمة الحالية لهذه المبالغ اليوم علمان بان معدل العائد في السوق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وقع احد الاشخاص الحصول على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كل ع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لم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. اوجد القيمة الحالية لهذه التدفقات علما بان معدل الفائدة الدارج في السوق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مبلغ واح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نفترض أن احد الاشخاص قام بايداع 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حساب توفير مع احد البنوك و لمدة عامين على أن يقوم البنك بدفع فائدة مقدار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يتم دفعها كل سنة . فما هو مقدار المبلغ المتراكم في نهاية السنت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مجموعة مبالغ مختل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قام شخص ما بايداع  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طلوب : ما هو حجم المبلغ المتراكم في نهاية عام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دفعات منتظمة و متساوي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قام شخص ما بايداع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كل عام و لمد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عوام و بفائدة مقدار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و مركبة على اساس سنوي . فما هو المبلغ المتجمع في الحساب في نهاية السنة الخامس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حالية لمبلغ وا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كان هناك فرصة لشخص ما ليستل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سنة من الان . و على افتراض ان معدل الفائدة يساو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فما هو المبلغ الذي يجب استثماره الان 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حالية لمجموعة مبالغ مختل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وقع إحدى الشركات الحصول على المبالغ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طلوب : ما هي القيمة الحالية لهذه المبالغ علما بان معدل الخصم ه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سنوي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دع شخص 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فائدة مركبة و لمد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. كم يصبح المبلغ في نهاية الم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مة المستقبلية = القيمة الحالية* (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+ معدل الفائدة ) الز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نهاية المدة يصبح المبلغ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*(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,0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2624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62,47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غب احد الاشخاص بالحصول على مبلغ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من الان . ما هو المبلغ الذي يجب عليه استثماره اليوم  بمعدل عائد مركب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سنويا للحصول على هذا المبلغ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ح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مستقبلية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معدل الفائدة )الز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بلغ الذي يجب استثماره اليوم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/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,0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بلغ الذي يجب استثماره اليوم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,783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3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munity College</cp:lastModifiedBy>
  <dcterms:modified xsi:type="dcterms:W3CDTF">2010-02-28T12:40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