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42D-2E26-48B8-876F-2DC66954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285-05EA-48F5-A0AC-088DC177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93C-DA2B-41C2-BDED-14B3E3C6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4D7-955D-44C9-9BC2-2641EF93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FB8-4067-44CC-8697-F493677F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C5D-8681-4F6F-B86E-12876A23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EF3-3BAC-4CDB-A9FD-2451A11E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758-E42A-4D15-9E7B-8B30B99F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4BA-E229-477B-93A3-A29973D6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6C5-F4FF-4A7D-B2D7-8A67636A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782-184E-4BCD-A936-85E1F3C1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338-DCDA-4080-8D32-EC1EC9FF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F9AB-0C41-468C-8FFE-A8D9477611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فصل السا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جارة الالكتر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سيلة مهم لانجاز المعاملات بمختلف انواعها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ما هي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اشكال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ما هي النقود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هي المزا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ما فوائد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للشركات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للأفر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للمجتم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ما عيوب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- افاق ومستقبل التجارة الالكترون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جدت لتبقي و لا تقف عند حد م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21:51:02Z</dcterms:created>
  <dc:creator>HOME</dc:creator>
  <dc:description/>
  <dc:language>en-US</dc:language>
  <cp:lastModifiedBy>ksu</cp:lastModifiedBy>
  <dcterms:modified xsi:type="dcterms:W3CDTF">2012-11-03T06:56:18Z</dcterms:modified>
  <cp:revision>4</cp:revision>
  <dc:subject/>
  <dc:title>الفصل السادس</dc:title>
</cp:coreProperties>
</file>