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348-6D0D-4AE0-A07A-56D1477E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602-AD86-4813-928A-A5BBDFA0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6B9-9554-4877-A179-D8E1F74E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FFA-67BC-4AB2-BA6B-5C89497D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F90-8CE0-47D5-BABF-EA3FEBF6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236-B0A9-4DDC-8F93-3C9D5D1F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955-C686-4552-B59D-CC97BDC4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869-48BB-4850-9A90-D815525B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AC0-B304-414D-BD79-46D90ED6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5E2-C36C-444F-AC93-BC8990CD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E56-9B17-450F-9F68-FFE60BE1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CF9-F57A-4999-B053-A07E637C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75B3-1D0C-4AFB-A954-DCD5C6FA4A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فصل السا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جارة الالكتر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سيلة مهم لانجاز المعاملات بمختلف انواعها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ما هي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اشكال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ما هي النقود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المزا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ما فوائد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للشركات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للأفر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للمجتم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ما عيوب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افاق ومستقبل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جدت لتبقي و لا تقف عند حد م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21:51:02Z</dcterms:created>
  <dc:creator>HOME</dc:creator>
  <dc:description/>
  <dc:language>en-US</dc:language>
  <cp:lastModifiedBy>ksu</cp:lastModifiedBy>
  <dcterms:modified xsi:type="dcterms:W3CDTF">2012-11-03T06:56:18Z</dcterms:modified>
  <cp:revision>4</cp:revision>
  <dc:subject/>
  <dc:title>الفصل السادس</dc:title>
</cp:coreProperties>
</file>