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C6A-80F0-467D-B01C-A20EA37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B63-F0F2-4106-8C74-D8CBB436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710-C7EB-4565-BC14-3A51FA35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B1C-E0D6-4C93-82CD-B6D2FCB1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42F-4DF7-4AEC-8C86-D65AE0B0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4B5-7176-415D-84D5-498392F4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223-C794-4E71-B25D-7AA0413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10B-40AC-474D-A223-A8CE05B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DFD-6D6C-4CB0-9C57-DE71E491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5F5-9036-4B6D-9192-C560CAD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8AB-09AB-4AA1-A36A-7C0672E0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E3A-7104-48F6-A142-D539E719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6A2-4950-4402-A5AB-6ED8431452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فصل السا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جارة الالكتر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سيلة مهم لانجاز المعاملات بمختلف انواعها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هي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اشكا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ما هي النقود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المزا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فوائد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شركات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للأفر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مجتم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ما عيوب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افاق ومستقب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دت لتبقي و لا تقف عند حد م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21:51:02Z</dcterms:created>
  <dc:creator>HOME</dc:creator>
  <dc:description/>
  <dc:language>en-US</dc:language>
  <cp:lastModifiedBy>ksu</cp:lastModifiedBy>
  <dcterms:modified xsi:type="dcterms:W3CDTF">2012-11-03T06:56:18Z</dcterms:modified>
  <cp:revision>4</cp:revision>
  <dc:subject/>
  <dc:title>الفصل السادس</dc:title>
</cp:coreProperties>
</file>