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B67-AB45-4D5A-A3B4-680B5C56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FC7-61FF-4464-9C29-21FBF1F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889-DF83-4A7F-9CBB-08D54619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A18-0EC7-4831-A325-034219F6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F3D-8A12-41E9-988B-6671079C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785-57A1-4B45-993A-87462203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D30-99F4-4F78-9181-63642BF4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07E-6EDD-48FD-8BC2-2E8FC172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07A-FB8B-4534-9286-9BD272E4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7DC-8CC5-4EB3-BD85-CBA27B37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DCD-248F-49B9-A247-463F9010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074-0B39-4D5D-9C14-F020C0F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A174-0EBD-42C3-8F1D-8FE0984273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فصل السا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جارة الالكتر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سيلة مهم لانجاز المعاملات بمختلف انواعها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هي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اشكا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ما هي النقود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المزا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فوائد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شركات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للأفر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مجتم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ما عيوب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افاق ومستقب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دت لتبقي و لا تقف عند حد م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21:51:02Z</dcterms:created>
  <dc:creator>HOME</dc:creator>
  <dc:description/>
  <dc:language>en-US</dc:language>
  <cp:lastModifiedBy>ksu</cp:lastModifiedBy>
  <dcterms:modified xsi:type="dcterms:W3CDTF">2012-11-03T06:56:18Z</dcterms:modified>
  <cp:revision>4</cp:revision>
  <dc:subject/>
  <dc:title>الفصل السادس</dc:title>
</cp:coreProperties>
</file>