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A4F30-1612-499B-A2F9-2F524067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3113-3494-4707-9B8D-924F20AFD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A60C-6199-44D7-B098-2BC53C950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407C-E0C1-48E4-9CD8-26F11FA8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CFD56-D9ED-4AAC-A292-94F29CC48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803A1-4DE9-42E9-895E-6B7339B8C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1F9A1-A05E-44F9-9FBB-003DB2BBC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B8931-1034-4F95-83F6-4F3AACA8F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1587C-7160-4B83-B901-90CD29EFF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15CE7-C582-4811-9E4D-19CC764AD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D3A73-FBA4-454B-A315-D9FC9A7A4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A8D6-5BE8-41B4-9538-E33AED65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84AB-998C-4BDE-972E-A91C9274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E4ED1-3F75-4688-B84D-7BC0236E4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42A6E-FCDE-4B0C-904E-3DDAA55EB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AD7FD-438A-4DCE-B0DF-DD1D5E707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A5B4E-45B9-4435-93BC-A14397A93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DD7A5-AB59-4397-8AC3-411EDBFC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DE1F-3DEE-4F05-B9C6-214D739A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1FEEC-56D8-45C4-853E-8E2AEE5B0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10941-2C00-4BD7-A594-31402972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FD00-0817-47DA-A067-79BD0477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F91E0-66C1-414D-82E1-B1EE659AC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C82B-8667-418D-92FC-C64D28604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013F-F106-4D01-A926-5FA685BD445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2DD5-C795-4EA4-BF2F-149478D8D05E}"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bd71"/>
                </a:solidFill>
                <a:latin typeface="Arabic Typesetting"/>
                <a:cs typeface="Arabic Typesetting"/>
              </a:rPr>
              <a:t>قضايا في المجتمع السعودي والفرق في تناولها</a:t>
            </a:r>
            <a:br>
              <a:rPr sz="4800"/>
            </a:br>
            <a:r>
              <a:rPr b="1" lang="ar-SA" sz="4800" spc="-1" strike="noStrike">
                <a:solidFill>
                  <a:srgbClr val="dbbd71"/>
                </a:solidFill>
                <a:latin typeface="Arabic Typesetting"/>
                <a:cs typeface="Arabic Typesetting"/>
              </a:rPr>
              <a:t>بين</a:t>
            </a:r>
            <a:br>
              <a:rPr sz="4800"/>
            </a:br>
            <a:r>
              <a:rPr b="1" lang="ar-SA" sz="4800" spc="-1" strike="noStrike">
                <a:solidFill>
                  <a:srgbClr val="dbbd71"/>
                </a:solidFill>
                <a:latin typeface="Arabic Typesetting"/>
                <a:cs typeface="Arabic Typesetting"/>
              </a:rPr>
              <a:t>الإعلام التقليدي والإعلام الجديد</a:t>
            </a:r>
            <a:r>
              <a:rPr b="1" lang="ar-SA" sz="4800" spc="-1" strike="noStrike">
                <a:solidFill>
                  <a:srgbClr val="dbbd71"/>
                </a:solidFill>
                <a:latin typeface="Arial"/>
              </a:rPr>
              <a:t>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أشراف</a:t>
            </a:r>
            <a:endParaRPr b="0" lang="en-US" sz="2000" spc="-1" strike="noStrike">
              <a:solidFill>
                <a:srgbClr val="ffffff"/>
              </a:solidFill>
              <a:latin typeface="Tahoma"/>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DecoType Naskh Variants"/>
              </a:rPr>
              <a:t>أ.د. سعيد الغامدي</a:t>
            </a:r>
            <a:endParaRPr b="0" lang="en-US" sz="24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تقديم </a:t>
            </a:r>
            <a:endParaRPr b="0" lang="en-US" sz="20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محمد سعود الشريف</a:t>
            </a:r>
            <a:endParaRPr b="0" lang="en-US" sz="20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ea typeface="DecoType Naskh Variants"/>
              </a:rPr>
              <a:t>432910072</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549360"/>
            <a:ext cx="8229600" cy="558144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سائل الإعلام الجديد تناولت الحدث من مختلف الجوانب ,عبرشبكات التواصل الإجتماعي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نقل صورة ما يجري وتحذير المواطنين ومحاولة دعم الجهود الحكومية لعمليات الأنقاذ</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youtube.com/watch?v=3JrZ9tgxLNw</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youtube.com/watch?v=a04xfIPtUEk</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في تويتر تم تناول ما نتج عن الحدث من أضرار لم تتناوله وسائل الإعلام التقليدية ..</a:t>
            </a:r>
            <a:endParaRPr b="0" lang="en-US" sz="28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حيث تناول المغردين بصورة والتعليق الأضرار وطالب العديد منهم بالتحقيق في الموضوع بشكل عاجل</a:t>
            </a:r>
            <a:r>
              <a:rPr b="0" lang="ar-SA" sz="3200" spc="-1" strike="noStrike">
                <a:solidFill>
                  <a:srgbClr val="ffffff"/>
                </a:solidFill>
                <a:latin typeface="Tahoma"/>
              </a:rPr>
              <a:t> </a:t>
            </a:r>
            <a:endParaRPr b="0" lang="en-US" sz="3200" spc="-1" strike="noStrike">
              <a:solidFill>
                <a:srgbClr val="ffffff"/>
              </a:solidFill>
              <a:latin typeface="Tahoma"/>
            </a:endParaRPr>
          </a:p>
        </p:txBody>
      </p:sp>
      <p:pic>
        <p:nvPicPr>
          <p:cNvPr id="176" name="Picture 4" descr="IMG-20121214-WA0002"/>
          <p:cNvPicPr/>
          <p:nvPr/>
        </p:nvPicPr>
        <p:blipFill>
          <a:blip r:embed="rId1"/>
          <a:stretch/>
        </p:blipFill>
        <p:spPr>
          <a:xfrm>
            <a:off x="6588000" y="2565360"/>
            <a:ext cx="2279880" cy="4054680"/>
          </a:xfrm>
          <a:prstGeom prst="rect">
            <a:avLst/>
          </a:prstGeom>
          <a:ln w="0">
            <a:noFill/>
          </a:ln>
        </p:spPr>
      </p:pic>
      <p:pic>
        <p:nvPicPr>
          <p:cNvPr id="177" name="Picture 5" descr="IMG-20121214-WA0003"/>
          <p:cNvPicPr/>
          <p:nvPr/>
        </p:nvPicPr>
        <p:blipFill>
          <a:blip r:embed="rId2"/>
          <a:stretch/>
        </p:blipFill>
        <p:spPr>
          <a:xfrm>
            <a:off x="4211640" y="2565360"/>
            <a:ext cx="2266920" cy="4032360"/>
          </a:xfrm>
          <a:prstGeom prst="rect">
            <a:avLst/>
          </a:prstGeom>
          <a:ln w="0">
            <a:noFill/>
          </a:ln>
        </p:spPr>
      </p:pic>
      <p:pic>
        <p:nvPicPr>
          <p:cNvPr id="178" name="Picture 6" descr="IMG-20121214-WA0004"/>
          <p:cNvPicPr/>
          <p:nvPr/>
        </p:nvPicPr>
        <p:blipFill>
          <a:blip r:embed="rId3"/>
          <a:stretch/>
        </p:blipFill>
        <p:spPr>
          <a:xfrm>
            <a:off x="250920" y="1989000"/>
            <a:ext cx="288108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188640"/>
            <a:ext cx="8229600" cy="597060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نهاية نجد  أن  الإعلام الجديد ..... قد يتعرض لعدم المصداقية في أثناء تغطية الأحداث مثال ذلك</a:t>
            </a:r>
            <a:endParaRPr b="0" lang="en-US" sz="28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دما تم تحميل فيديو على اليوتيوب  بزعم أنه حدث في الأفلاج .</a:t>
            </a:r>
            <a:endParaRPr b="0" lang="en-US" sz="24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youtube.com/watch?v=tiUGKJBVThw&amp;feature=youtube_gdata_player</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كان رد الفعل من الجمهور سريعاً  بتوضيح بعدم صحة المقطع المنسوب ونفي وقوعه في السعودية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ورة من تطبيق </a:t>
            </a:r>
            <a:r>
              <a:rPr b="1" lang="en-US" sz="2000" spc="-1" strike="noStrike">
                <a:solidFill>
                  <a:srgbClr val="ffffff"/>
                </a:solidFill>
                <a:latin typeface="Tahoma"/>
              </a:rPr>
              <a:t>what</a:t>
            </a:r>
            <a:r>
              <a:rPr b="1" lang="en-US" sz="2000" spc="-1" strike="noStrike">
                <a:solidFill>
                  <a:srgbClr val="ffffff"/>
                </a:solidFill>
                <a:latin typeface="Arial"/>
              </a:rPr>
              <a:t>”</a:t>
            </a:r>
            <a:r>
              <a:rPr b="1" lang="en-US" sz="2000" spc="-1" strike="noStrike">
                <a:solidFill>
                  <a:srgbClr val="ffffff"/>
                </a:solidFill>
                <a:latin typeface="Tahoma"/>
              </a:rPr>
              <a:t>s up</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0" name="Picture 4" descr="IMG-20121214-WA0010"/>
          <p:cNvPicPr/>
          <p:nvPr/>
        </p:nvPicPr>
        <p:blipFill>
          <a:blip r:embed="rId1"/>
          <a:stretch/>
        </p:blipFill>
        <p:spPr>
          <a:xfrm>
            <a:off x="1547640" y="2492280"/>
            <a:ext cx="338472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الخاتمة</a:t>
            </a: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gn="ctr" rtl="1">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السلام عليكم ورحمة الله وبركاته</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بسم الله الرحمن الرحيم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سوف نتناول قضية الكاتب عبدالله الملحم والنادي الأدبي بالشرقية وقضية سيول الأفلاج وما نجم عنها من أضرار وكيفية تناولها في في كل من الإعلام التقليدي والإعلام الجدي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bbd71"/>
                </a:solidFill>
                <a:latin typeface="Arial"/>
              </a:rPr>
              <a:t>قضية الكاتب عبدالله الملحم والنادي الأدبي بالشرقية </a:t>
            </a:r>
            <a:endParaRPr b="0" lang="en-US" sz="36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قد تناولت وسائل الإعلام قضية الكاتب عبدالله الملحم والفوز بعضوية النادي الأدبي وقرار وزير الثقافة والإعلام بإعادة انتخابات مجلس إدارة النادي الأدبي وإغلاقة بالسلاسل وما تبعه من صدور حكم من المحكمة الإدارية الأولى  المتضمن إلغاء قرار الوزير.</a:t>
            </a:r>
            <a:endParaRPr b="0" lang="en-US" sz="2800" spc="-1" strike="noStrike">
              <a:solidFill>
                <a:srgbClr val="ffffff"/>
              </a:solidFill>
              <a:latin typeface="Tahoma"/>
            </a:endParaRPr>
          </a:p>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 إغلاقه وإلغاء انتخاباته كانت مبنية على حجج غير مشروعة أسقطها القضاء. </a:t>
            </a:r>
            <a:endParaRPr b="0" lang="en-US" sz="2800" spc="-1" strike="noStrike">
              <a:solidFill>
                <a:srgbClr val="ffffff"/>
              </a:solidFill>
              <a:latin typeface="Tahoma"/>
            </a:endParaRPr>
          </a:p>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طلبت لجنة مشكلة من وزارة الثقافة والإعلام في الدمام مثول الكاتب عبدالله الملحم أمامها مخفوراً. على خلفية ما ترى الوزارة أنه تجاوزات إدارية في نادي الشرقية الأدبي خلال فترة مجلس الإدارة المعيّن، فيما يصرّ الملحم على أن استدعاءه جاء بسبب دعواه القضائية التي أقامها وآخرون ضد قرار وزي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وسائل الإعلام التقليدية</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إعلام التقليدي تناولت القضية الصحف الورقية فقط  , وعرضت القضية كخبر وتطرقت لبعض التفاصيل العامة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نها جريدة الإقتصادية وجريدة المدينة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ما التلفزيون أو الإذاعة فلم تتناول القضية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وسائل الإعلام الجديد(البديل)</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سائل الإعلام الجديد المختلفة تناولت القضية منذ البداية , سواء كخبر . أو متابعة لسير القضية أو بتحليل وجعل الجمهور يعطي رأيه في القضية والأحداث المصاحبة</a:t>
            </a:r>
            <a:endParaRPr b="0" lang="en-US" sz="3200" spc="-1" strike="noStrike">
              <a:solidFill>
                <a:srgbClr val="ffffff"/>
              </a:solidFill>
              <a:latin typeface="Tahoma"/>
            </a:endParaRPr>
          </a:p>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الصحف الإلكترونية :</a:t>
            </a:r>
            <a:endParaRPr b="0" lang="en-US" sz="3200" spc="-1" strike="noStrike">
              <a:solidFill>
                <a:srgbClr val="ffffff"/>
              </a:solidFill>
              <a:latin typeface="Tahoma"/>
            </a:endParaRPr>
          </a:p>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ت القضية كخبر وتناولت القضية بالشرح والتفصيل من أطراف القضية مثل صحيفة الأخدود الإلكترونية</a:t>
            </a:r>
            <a:endParaRPr b="0" lang="en-US" sz="3200" spc="-1" strike="noStrike">
              <a:solidFill>
                <a:srgbClr val="ffffff"/>
              </a:solidFill>
              <a:latin typeface="Tahoma"/>
            </a:endParaRPr>
          </a:p>
          <a:p>
            <a:pPr marL="325800" indent="-32580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okhdood.com/?act=artc&amp;id=1135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شبكة التواصل الإجتماعي تويتر فقد تناول الكاتب القضية من خلال حسابه الشخصي مع المغردين وعرض سير القضية</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Picture 4" descr="r"/>
          <p:cNvPicPr/>
          <p:nvPr/>
        </p:nvPicPr>
        <p:blipFill>
          <a:blip r:embed="rId1"/>
          <a:stretch/>
        </p:blipFill>
        <p:spPr>
          <a:xfrm>
            <a:off x="6084720" y="1773360"/>
            <a:ext cx="2632320" cy="4680000"/>
          </a:xfrm>
          <a:prstGeom prst="rect">
            <a:avLst/>
          </a:prstGeom>
          <a:ln w="0">
            <a:noFill/>
          </a:ln>
        </p:spPr>
      </p:pic>
      <p:pic>
        <p:nvPicPr>
          <p:cNvPr id="164" name="Picture 5" descr="rrr"/>
          <p:cNvPicPr/>
          <p:nvPr/>
        </p:nvPicPr>
        <p:blipFill>
          <a:blip r:embed="rId2"/>
          <a:stretch/>
        </p:blipFill>
        <p:spPr>
          <a:xfrm>
            <a:off x="3203640" y="1773360"/>
            <a:ext cx="2631960" cy="4680000"/>
          </a:xfrm>
          <a:prstGeom prst="rect">
            <a:avLst/>
          </a:prstGeom>
          <a:ln w="0">
            <a:noFill/>
          </a:ln>
        </p:spPr>
      </p:pic>
      <p:pic>
        <p:nvPicPr>
          <p:cNvPr id="165" name="Picture 6" descr="rrrr"/>
          <p:cNvPicPr/>
          <p:nvPr/>
        </p:nvPicPr>
        <p:blipFill>
          <a:blip r:embed="rId3"/>
          <a:stretch/>
        </p:blipFill>
        <p:spPr>
          <a:xfrm>
            <a:off x="324000" y="1773360"/>
            <a:ext cx="263196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كذلك تفاعل المستخدمين لشبكات التواصل  مع القضية جعله يوثق القضية وتقديمها  للجمهور (</a:t>
            </a:r>
            <a:r>
              <a:rPr b="0" lang="en-US" sz="3200" spc="-1" strike="noStrike">
                <a:solidFill>
                  <a:srgbClr val="ffffff"/>
                </a:solidFill>
                <a:latin typeface="Tahoma"/>
              </a:rPr>
              <a:t>(</a:t>
            </a:r>
            <a:r>
              <a:rPr b="0" lang="en-US" sz="3200" spc="-1" strike="noStrike">
                <a:solidFill>
                  <a:srgbClr val="ffffff"/>
                </a:solidFill>
                <a:latin typeface="Tahoma"/>
              </a:rPr>
              <a:t>TOP STORY</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ن خلال خدمة </a:t>
            </a:r>
            <a:r>
              <a:rPr b="0" lang="en-US" sz="3200" spc="-1" strike="noStrike">
                <a:solidFill>
                  <a:srgbClr val="ffffff"/>
                </a:solidFill>
                <a:latin typeface="Tahoma"/>
              </a:rPr>
              <a:t>twitmail</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ttp://twitmail.com/email/161358392/7/%D8%AA%D8%B3%D9%84%D8%B3%D9%84-%D9%85%D8%AE%D8%AA%D8%B5%D8%B1-%D9%84%D8%A3%D8%AD%D8%AF%D8%A7%D8%AB-%D8%A7%D9%86%D8%AA%D8%AE%D8%A7%D8%A8%D8%A7%D8%AA-%D8%A7%D9%84%D9%86%D8%A7%D8%AF%D9%8A-%D8%A7%D9%84%D8%A3%D8%AF%D8%A8%D9%8A-%D8%A8%D8%A7%D9%84%D9%85%D9%86%D8%B7%D9%82%D8%A9-%D8%A7%D9%84%D8%B4%D8%B1%D9%82%D9%8A%D8%A9----%D9%84%D9%84%D8%AA%D8%A7%D8%B1%D9%8A%D8%AE-%D9%88%D8%A7%D9%84%D8%A3%D8%AC%D9%8A%D8%A7%D9%84</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bbd71"/>
                </a:solidFill>
                <a:latin typeface="Arial"/>
              </a:rPr>
              <a:t>قضية سيول الأفلاج</a:t>
            </a:r>
            <a:endParaRPr b="0" lang="en-US" sz="3200" spc="-1" strike="noStrike">
              <a:solidFill>
                <a:srgbClr val="dbbd71"/>
              </a:solidFill>
              <a:latin typeface="Arial"/>
            </a:endParaRPr>
          </a:p>
        </p:txBody>
      </p:sp>
      <p:sp>
        <p:nvSpPr>
          <p:cNvPr id="168"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ضت محافظة الأفلاج بتاريخ </a:t>
            </a:r>
            <a:r>
              <a:rPr b="1" lang="ar-SA" sz="2000" spc="-1" strike="noStrike">
                <a:solidFill>
                  <a:srgbClr val="ffffff"/>
                </a:solidFill>
                <a:latin typeface="Tahoma"/>
              </a:rPr>
              <a:t>14/1/1434</a:t>
            </a:r>
            <a:r>
              <a:rPr b="1" lang="ar-SA" sz="2000" spc="-1" strike="noStrike">
                <a:solidFill>
                  <a:srgbClr val="ffffff"/>
                </a:solidFill>
                <a:latin typeface="Tahoma"/>
              </a:rPr>
              <a:t>هـ لكمية من الأمطار جعلت السيول تجري في مسارها الذي يخترق الأفلاج  , وبسبب  التخطيط العمراني للمحافظة الغير مدروس جعل المخططات الجديدة تعترض   مجرى السيل </a:t>
            </a:r>
            <a:endParaRPr b="0" lang="en-US" sz="20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خترق المحافظة ويكشف الكثير من سوء التخطيط و(الفساد) وعدم الاستعداد للأزمات من بعض الأجهزة الحكومية</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Picture 4" descr="IMG-20121214-WA0009"/>
          <p:cNvPicPr/>
          <p:nvPr/>
        </p:nvPicPr>
        <p:blipFill>
          <a:blip r:embed="rId1"/>
          <a:stretch/>
        </p:blipFill>
        <p:spPr>
          <a:xfrm>
            <a:off x="3059280" y="2637000"/>
            <a:ext cx="287964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9640" y="260280"/>
            <a:ext cx="8229600" cy="4530960"/>
          </a:xfrm>
          <a:prstGeom prst="rect">
            <a:avLst/>
          </a:prstGeom>
          <a:noFill/>
          <a:ln w="0">
            <a:noFill/>
          </a:ln>
        </p:spPr>
        <p:txBody>
          <a:bodyPr anchor="t">
            <a:normAutofit/>
          </a:bodyPr>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ناولت وسائل الإعلام التقليدية الحدث في كل من التلفزيون والصحف الورقية , وكانت التغطية رسمية من حيث عرض الخبر ثم أبراز جهود الحكومة في عمليات أنقاذ المتضررين</a:t>
            </a:r>
            <a:endParaRPr b="0" lang="en-US" sz="24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كان عرض الصور والمواد المرئية بشكل قليل لا يوضح حجم المشكلة الحقيقي</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1" name="Picture 4" descr="image"/>
          <p:cNvPicPr/>
          <p:nvPr/>
        </p:nvPicPr>
        <p:blipFill>
          <a:blip r:embed="rId1"/>
          <a:stretch/>
        </p:blipFill>
        <p:spPr>
          <a:xfrm>
            <a:off x="6084720" y="2205000"/>
            <a:ext cx="2808360" cy="2106720"/>
          </a:xfrm>
          <a:prstGeom prst="rect">
            <a:avLst/>
          </a:prstGeom>
          <a:ln w="0">
            <a:noFill/>
          </a:ln>
        </p:spPr>
      </p:pic>
      <p:pic>
        <p:nvPicPr>
          <p:cNvPr id="172" name="Picture 5" descr="IMG-20121214-WA0008"/>
          <p:cNvPicPr/>
          <p:nvPr/>
        </p:nvPicPr>
        <p:blipFill>
          <a:blip r:embed="rId2"/>
          <a:stretch/>
        </p:blipFill>
        <p:spPr>
          <a:xfrm>
            <a:off x="287280" y="2492280"/>
            <a:ext cx="5054760" cy="4087800"/>
          </a:xfrm>
          <a:prstGeom prst="rect">
            <a:avLst/>
          </a:prstGeom>
          <a:ln w="0">
            <a:noFill/>
          </a:ln>
        </p:spPr>
      </p:pic>
      <p:pic>
        <p:nvPicPr>
          <p:cNvPr id="173" name="Picture 6" descr="imageCAJBLNUB"/>
          <p:cNvPicPr/>
          <p:nvPr/>
        </p:nvPicPr>
        <p:blipFill>
          <a:blip r:embed="rId3"/>
          <a:stretch/>
        </p:blipFill>
        <p:spPr>
          <a:xfrm>
            <a:off x="6084720" y="4365720"/>
            <a:ext cx="2808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4T07:07:38Z</dcterms:created>
  <dc:creator>user</dc:creator>
  <dc:description/>
  <dc:language>en-US</dc:language>
  <cp:lastModifiedBy>User</cp:lastModifiedBy>
  <dcterms:modified xsi:type="dcterms:W3CDTF">2012-12-29T12:35:04Z</dcterms:modified>
  <cp:revision>12</cp:revision>
  <dc:subject/>
  <dc:title>قضايا في المجتمع السعودي والفرق في تناولها بين الإعلام التقليدي والإعلام الجديد</dc:title>
</cp:coreProperties>
</file>