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AC44-013C-4F03-9139-6998E2D9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1DB2-6A5C-4D9F-87BB-2075293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9182-E158-4D36-9450-7C1115E1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55B5-0E06-4A71-A8F7-B47BFB23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92F6-9098-40D0-958D-F9FD07FF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3131-CF01-4C5A-AAD5-26B3BC35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625DA-2897-4C00-8F20-FD45329B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FEF8-CAC9-44BA-8918-BB0C84DE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0183-F048-4477-A8BC-18908255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0CF4C-E190-4658-96C0-0644A5BE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F3E5-68EB-45CE-9DCF-B1A84A6E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EBCB-3BC0-475E-9753-839D7B20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C8A87-67D1-49B8-B5CC-B667D28C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AB50-55B1-4C86-B83A-9A27C955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60AF-DF66-4F23-B210-6CB62DD6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38FE9-59B6-446D-BAFA-200AE7E5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D96B-17B2-4715-86F1-348EF49E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C0A6-F773-4086-9124-B23ADFB3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94F-DF4B-4116-9F34-2DCE0382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A85-1DA2-4533-AC6B-65C94C54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D56-BFA5-4723-912A-C9C20069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6C1-98FD-4E8C-AAF7-943666B5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BC8-7E2E-4D14-B352-7CD75D4A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C9E-8685-431A-9CA0-2D651633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EC8-F04A-4F34-A6DC-85B2F2EB00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AE0A-1C7F-4EFE-97F6-EC87AD3C78D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171360" y="1365120"/>
            <a:ext cx="891216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جلسة العاشرة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ائ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ابع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دف مشترك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هو القائد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و الشخص الي يقود مجموعة او فريقا من الناس و يمتلك مزايا خاصة , و ينشر افكارا قوية بين مسؤولية فيؤثر فيهم , و يوجه سلوكهم , و يرشدهم , و ينسق بينهم , ليقدم دورا ناجحاً , و فعالاًفي قيادة فريقة , كما انه يمتلك رؤية شاملة و نظرة ثاقبة بشأن المستقب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لتخطيط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جادة التعامل مع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هارة الحور و إدارة النقاش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إدارة الوق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شكيل و إدارة الفريق الجماعي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دارة الاجتماع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ل المشكلات و اتخاذ القرارات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قدرة فائقة على قيادة من حولة في أي مكان يتواجد فيه , سواء في العمل او في النادي او المسج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يقدم النصيحة لمن يحتاجونها و يتخذ القرار دون تردد عن دراسة و متقد الذه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نوع الاهتمامات و الهوايات و الميو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دي النشاط و الحيوية و متحمس و عالي الهم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اجح في كل شيء يحترم نفسه و يحترم الا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نزيه و مستقيم و لديه ولاء لعمله و لمن يعمل مع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خلص النية لله و قوي الإراد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بع مبدأ الشورى بين مؤولي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غتاب و لا ين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ناضج في التفكير و التصرفات , حسن التصرف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حكيم في حكمة على الأمو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عمل بروح الفريق , و يقدم يد المساعدة  ل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ضبط نفسه عند الغضب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مؤول و يقدر المسؤولية , و واثق من نفس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شيد بجهود الآخرين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سن الخلق و هادى الطبع و عادل و منصف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7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. أمين و أهل للثقة و يفي بالعهد و ينجز الوعد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8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صادق مع نفسه و مع الآخر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متع بخفة الظ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تقبل النقد البناء بروح رياضية و يأخذه بعين الاعتبار و لا يأبه بالنقد الظال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قوي الشخص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ادر فاعل : لديه روح المبادرة الخلاقة و الفاعل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نظم و مرتب في عمل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مبدع و مبتكر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عرف المشكلة بأنها : عقبة أمام تحقيق الأهداف , او فجوة بين الوضع الراهن و الوضع المأمول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الشعور بالمشكلة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أن الشعور و الاحساس بالمشكلة من اهم خطوات حل المشكلات , فبدون الاحساس بان هناك مشكلة لن نقوم باي خطوات اخرى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عريف و تحديد المشكلة :أن معظم الإفراد يندفعون بردود فعلهم تجاه المشكلة قبل معرفة و فهم طبيعتها و إبعادها , عليك تعريف المشكلة الحقيقية و ليس أعراضها , و جمع البيانات التي تحتاج إليها 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كالبيانات الخارجية مثل الحقائق و الأهداف و الوقت و التاريخ و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 البيانات الداخلية مثل : المشاعر , و لأراء , و الاتجاهات , و مدى الرضا, و تعارض الشخصيات , و طريقة تفكير الآخرين , و الضغوط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-360" y="1600200"/>
            <a:ext cx="883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أول : مفهوم القيادة من حيث ( التأثير - القدرة - الوظيفة 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ني : سمات القائد ( من هو القائد - سمات القائد الناجح )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حور الثالث : مهارات القيادة (مهارة حل المشكلات – مهارة اتخاذ القرار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الأسباب التي تعتقد أنها سبب المشكلة ؟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تى ؟ و أين ؟ و كيف ؟ و لماذا ؟ و مع من حدثت المشكلة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المعلومات التي لدي موثوق فيها , و كافيه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علومات , التي احتاج إليها لتفهم المشكلة بشكل أفضل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مصادر جمع هذه المعلومات ؟ و هل ستجمع من الكتب , ام من الإفراد ؟ و ما نوعية الكتب ؟ و من هم الإفراد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هل تم تحديد المحك او المعيار للحكم على مصداقية المعلومات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ا دوري و دور الآخرين في إيجاد الحل , و تنفيذه ؟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كتب المشكلة لتستطيع أن تراها أمام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عقدة , فقم بتجزئتها إلى أجزاء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ذا كانت المشكلة مرتبطة بمشكلات أخرى حدد أولويتك وإبداء بالمشكلة الأهم فالأقل أهم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ليل المعلومات التي تم جمعها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معلومات أخرى جديدة و مفيدة لحل المشكلة و حذف بعض مما يعتبر غير مهم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طرح استراتيجيات مختلفة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بار الاستراتيجيات المناسبة لحل المشكلة المطروحة للنقاش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حل المشكلة في ضوء الاستراتيجيات التي تم اختيارها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على تقييم النتائج التي تم التوصل إليها لحل المشكلة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8000" indent="-468000" algn="r" rtl="1">
              <a:lnSpc>
                <a:spcPct val="8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طبيق خطوات حل المشكلة بدقة عالية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إستراتيجية اتخاذ القرار هي : عملية تقوم بها حين تواجهك مشكلة او عائق , او موقف يتطلب منك اختيار البديل , او الحل الأفضل , او الأنسب من مجموعة  الحلول المحتملة , و هي محصلة مجموعة من الاراء و الافكار و الاتصالات و ذلك لتحقيق الهدف , او النتيجة المرجو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285840" y="268200"/>
            <a:ext cx="8656560" cy="11588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م و المعتقد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ميول و الطموحات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وامل الجسمية و النفسي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ات المتاحة 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نتائج المرجحة لكل 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الخيار الأفضل في ضوء هذه النتائج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حديد أهمية هذه النتائج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حدد هدفك و مشكلتك بدق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جمع المعلومات الكافية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ي صنع القرار , أتح فرصة المشاركة لكل من له علاقة ب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طلب عدة خيارات و بدائ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وازن بين البدائل و حدد نقاط الضعف و القوة في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بالاشتراك مع زملائك حدد الخيار الأمثل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صور مع زملائك جميع النتائج السلبية و الايجابية على هذا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ختر الوقت المناسب لإصدار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3480" indent="-48348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9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حدد المسؤوليات في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0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أعط الدعم المادي و المعنوي لإنجاح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1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ابع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2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ضع إجراءات مكتوبة في حال عدم تنفيذه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3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تنبيهات عند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4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تلجأ لأول حل يخطر ببالك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5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يمكنك الاستفادة من تجارب الآخرين في مجال اتخاذ القرا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16</a:t>
            </a:r>
            <a:r>
              <a:rPr b="0" lang="ar-SA" sz="28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. لا يكن قرارك بناء على ردة فعل غير مناسب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جزأين 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نه فطري , و موهبة من الله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جزاء مكتسب من التعلم و الخبرة و التدريب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علم له أصول لأنه يخضع للدراسة و يدرس في الجامعات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يادة فن : لأنه يعتمد على ذكاء القائد و بصيرته في حسن التصرف في المواقف و الأزمات التي يتعرض لها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تأثير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قدرة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4440" indent="-514440" algn="r" rtl="1">
              <a:spcBef>
                <a:spcPts val="700"/>
              </a:spcBef>
              <a:buClr>
                <a:srgbClr val="f9f9f9"/>
              </a:buClr>
              <a:buSzPct val="6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من حيث الوظيفة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تأثير في الأشخاص بدرجة تجعلهم يحققون أهداف الجماعة بحماس , و عن طيب خاطر , و تشجعهم على التطوير , ليس فقط الرغبة في العمل , و لكن للرغبة في العمل بحماس و ثق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تأثير شخصي متبادل , يظهر بوضوح في حالات معينة , و يوجه من خلال وسائل الاتصال الإنساني بين الرئيس و المرؤوس نحو تحقيق الأهداف المنشود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معاملة الطبيعة البشرية , او فن التأثير في السلوك البشري , لتوجيه جماعة من الناس , نحو هدف معين , بطريقة نضمن بها طاعتهم , و احترامهم و تعاونهم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وحيد سلوك الجماعة في موقف محدد , لتحقيق هدف معين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تحريك الناس نحو هدف معين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قدرة على انجاز الإعمال الصحيحة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وظيفة التي يستخدم فيها الشخص ما يمكن من سمات و خصائص اكتسبها بالخبرة , و التعلم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العمل الدؤوب للقادة و المديرين , اذ يواجه المشكلات و يقوم المعوج من الأمور , و يحقق التعاون بين العاملين , و يدعم روح الفريق , و يحقق الكفاية المستمرة في مستوى الأداء , و يحقق الترابط و الانسجام , بين الأهداف الفردية و الأهداف الجماعية , و يكتل الجهود جميعا في اتجاه واحد نحو الهدف النهائي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r" rtl="1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Book Antiqua"/>
                <a:cs typeface="Times New Roman"/>
              </a:rPr>
              <a:t>فن التأثير في الأشخاص , و توجيه جهودهم بطريقة صحيحة نحو أهداف محددة , يتسنى معها كسب طاعاتهم , و احترامهم , و ولائهم , و تعاونهم , في سبيل تحقيق الأهداف المشتركة 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dmin</dc:creator>
  <dc:description/>
  <dc:language>en-US</dc:language>
  <cp:lastModifiedBy>admin</cp:lastModifiedBy>
  <dcterms:modified xsi:type="dcterms:W3CDTF">2011-12-18T09:27:25Z</dcterms:modified>
  <cp:revision>31</cp:revision>
  <dc:subject/>
  <dc:title>مفهوم القيادة</dc:title>
</cp:coreProperties>
</file>