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FE01-A52B-4461-8DD2-94F75D5D8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7BAD-6ED8-4C02-B414-0B417E36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6685-80B9-40DA-8B9B-0225AE834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57DA-03D1-41F1-BF90-F5D4664B7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ACE8-C9DA-482B-87E0-42CD28320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461A-068A-467B-9552-805527F4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1CC5-05DC-4179-8AED-A55CF5D0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7FEC6-ECEF-49D0-8FC9-B08084A7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B221F-CA52-4E09-914D-A8769C61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2D77-3999-48AB-94D9-0371FAF0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4B6F-33D4-41B2-B78B-829FD09F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688D-4AA0-43D7-AAF5-CB3019AA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F63DB-372F-47C6-8F5C-41829C1C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A34C-4F22-47B1-8820-09D245A9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DDE0-52B8-4E46-8A0C-A5EA101F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6D34-4D4C-48D7-AA9D-0012D85F3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DEA54-1DF8-4AB0-95FC-FBCAE33E5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A31E-EC3B-42FB-A70A-65AF24D6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45E0-550A-4FCE-BEA7-319566E5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BB65-A4A8-4FDF-9131-969A2000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EE4F-8722-4D7F-B6E0-F88212A0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6201-BCD3-457E-9AF7-9DB1F90B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41DE-0E37-40AA-B5A0-8518B034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7558-CD26-4553-B617-D01A010E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A40C-2D49-4D26-A8A5-FAF3C0C50A50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CAFD-F5A9-4A01-95B0-CD3E72C562FE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171360" y="1365120"/>
            <a:ext cx="891216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جلسة العاشرة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قائد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تابعين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هدف مشترك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من هو القائد ؟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هو الشخص الي يقود مجموعة او فريقا من الناس و يمتلك مزايا خاصة , و ينشر افكارا قوية بين مسؤولية فيؤثر فيهم , و يوجه سلوكهم , و يرشدهم , و ينسق بينهم , ليقدم دورا ناجحاً , و فعالاًفي قيادة فريقة , كما انه يمتلك رؤية شاملة و نظرة ثاقبة بشأن المستقبل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قدرة على التخطيط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إجادة التعامل مع الآخرين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مهارة الحور و إدارة النقاش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قدرة على إدارة الوقت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شكيل و إدارة الفريق الجماعي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إدارة الاجتماعات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حل المشكلات و اتخاذ القرارات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قدرة فائقة على قيادة من حولة في أي مكان يتواجد فيه , سواء في العمل او في النادي او المسجد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يقدم النصيحة لمن يحتاجونها و يتخذ القرار دون تردد عن دراسة و متقد الذهن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متنوع الاهتمامات و الهوايات و الميول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بادي النشاط و الحيوية و متحمس و عالي الهمة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ناجح في كل شيء يحترم نفسه و يحترم الاخرين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نزيه و مستقيم و لديه ولاء لعمله و لمن يعمل معه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7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يخلص النية لله و قوي الإرادة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8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يتبع مبدأ الشورى بين مؤوليه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9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لا يغتاب و لا ينم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0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ناضج في التفكير و التصرفات , حسن التصرف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1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حكيم في حكمة على الأمور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2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يعمل بروح الفريق , و يقدم يد المساعدة  للآخرين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3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يضبط نفسه عند الغضب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4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مؤول و يقدر المسؤولية , و واثق من نفسه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5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يشيد بجهود الآخرين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6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حسن الخلق و هادى الطبع و عادل و منصف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7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. أمين و أهل للثقة و يفي بالعهد و ينجز الوعد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8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صادق مع نفسه و مع الآخرين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9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يتمتع بخفة الظل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20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يتقبل النقد البناء بروح رياضية و يأخذه بعين الاعتبار و لا يأبه بالنقد الظالم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21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قوي الشخصية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22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مبادر فاعل : لديه روح المبادرة الخلاقة و الفاعلية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23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منظم و مرتب في عمله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24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مبدع و مبتكر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عرف المشكلة بأنها : عقبة أمام تحقيق الأهداف , او فجوة بين الوضع الراهن و الوضع المأمول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الشعور بالمشكلة: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أن الشعور و الاحساس بالمشكلة من اهم خطوات حل المشكلات , فبدون الاحساس بان هناك مشكلة لن نقوم باي خطوات اخرى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98240" indent="-3740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تعريف و تحديد المشكلة :أن معظم الإفراد يندفعون بردود فعلهم تجاه المشكلة قبل معرفة و فهم طبيعتها و إبعادها , عليك تعريف المشكلة الحقيقية و ليس أعراضها , و جمع البيانات التي تحتاج إليها :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كالبيانات الخارجية مثل الحقائق و الأهداف و الوقت و التاريخ و النتائج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و البيانات الداخلية مثل : المشاعر , و لأراء , و الاتجاهات , و مدى الرضا, و تعارض الشخصيات , و طريقة تفكير الآخرين , و الضغوط النفسية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-36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محور الأول : مفهوم القيادة من حيث ( التأثير - القدرة - الوظيفة 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محور الثاني : سمات القائد ( من هو القائد - سمات القائد الناجح )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محور الثالث : مهارات القيادة (مهارة حل المشكلات – مهارة اتخاذ القرار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81680" indent="-36144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ما الأسباب التي تعتقد أنها سبب المشكلة ؟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متى ؟ و أين ؟ و كيف ؟ و لماذا ؟ و مع من حدثت المشكلة ؟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هل المعلومات التي لدي موثوق فيها , و كافيه؟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هل تم تحديد المعلومات , التي احتاج إليها لتفهم المشكلة بشكل أفضل ؟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هل تم تحديد مصادر جمع هذه المعلومات ؟ و هل ستجمع من الكتب , ام من الإفراد ؟ و ما نوعية الكتب ؟ و من هم الإفراد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هل تم تحديد المحك او المعيار للحكم على مصداقية المعلومات ؟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ما دوري و دور الآخرين في إيجاد الحل , و تنفيذه ؟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68000" indent="-468000" algn="r" rtl="1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كتب المشكلة لتستطيع أن تراها أمامك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8000" indent="-468000" algn="r" rtl="1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إذا كانت المشكلة معقدة , فقم بتجزئتها إلى أجزاء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8000" indent="-468000" algn="r" rtl="1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إذا كانت المشكلة مرتبطة بمشكلات أخرى حدد أولويتك وإبداء بالمشكلة الأهم فالأقل أهمية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8000" indent="-468000" algn="r" rtl="1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حليل المعلومات التي تم جمعها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8000" indent="-468000" algn="r" rtl="1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حديد معلومات أخرى جديدة و مفيدة لحل المشكلة و حذف بعض مما يعتبر غير مهم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8000" indent="-468000" algn="r" rtl="1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طرح استراتيجيات مختلفة لحل المشكلة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8000" indent="-468000" algn="r" rtl="1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ختبار الاستراتيجيات المناسبة لحل المشكلة المطروحة للنقاش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8000" indent="-468000" algn="r" rtl="1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عمل على حل المشكلة في ضوء الاستراتيجيات التي تم اختيارها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8000" indent="-468000" algn="r" rtl="1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عمل على تقييم النتائج التي تم التوصل إليها لحل المشكلة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8000" indent="-468000" algn="r" rtl="1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طبيق خطوات حل المشكلة بدقة عالية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إستراتيجية اتخاذ القرار هي : عملية تقوم بها حين تواجهك مشكلة او عائق , او موقف يتطلب منك اختيار البديل , او الحل الأفضل , او الأنسب من مجموعة  الحلول المحتملة , و هي محصلة مجموعة من الاراء و الافكار و الاتصالات و ذلك لتحقيق الهدف , او النتيجة المرجوة 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Title 1" descr=""/>
          <p:cNvPicPr/>
          <p:nvPr/>
        </p:nvPicPr>
        <p:blipFill>
          <a:blip r:embed="rId1"/>
          <a:stretch/>
        </p:blipFill>
        <p:spPr>
          <a:xfrm>
            <a:off x="285840" y="268200"/>
            <a:ext cx="8656560" cy="11588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قيم و المعتقدات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ميول و الطموحات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عوامل الجسمية و النفسية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حديد أهمية اتخاذ القرار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حديد الخيارات المتاحة لك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حديد النتائج المرجحة لكل قرار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حديد الخيار الأفضل في ضوء هذه النتائج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حديد أهمية هذه النتائج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حدد هدفك و مشكلتك بدقة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3480" indent="-48348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جمع المعلومات الكافية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3480" indent="-48348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في صنع القرار , أتح فرصة المشاركة لكل من له علاقة به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3480" indent="-48348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طلب عدة خيارات و بدائل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3480" indent="-48348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وازن بين البدائل و حدد نقاط الضعف و القوة فيها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3480" indent="-48348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بالاشتراك مع زملائك حدد الخيار الأمثل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3480" indent="-48348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صور مع زملائك جميع النتائج السلبية و الايجابية على هذا القرار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3480" indent="-48348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ختر الوقت المناسب لإصداره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3480" indent="-48348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9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حدد المسؤوليات في تنفيذه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0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أعط الدعم المادي و المعنوي لإنجاحه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1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تابع تنفيذه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2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ضع إجراءات مكتوبة في حال عدم تنفيذه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3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تنبيهات عند اتخاذ القرار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4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لا تلجأ لأول حل يخطر ببالك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5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يمكنك الاستفادة من تجارب الآخرين في مجال اتخاذ القرار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6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لا يكن قرارك بناء على ردة فعل غير مناسبة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قيادة جزأين 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جزاء منه فطري , و موهبة من الله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جزاء مكتسب من التعلم و الخبرة و التدريب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قيادة علم له أصول لأنه يخضع للدراسة و يدرس في الجامعات 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قيادة فن : لأنه يعتمد على ذكاء القائد و بصيرته في حسن التصرف في المواقف و الأزمات التي يتعرض لها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من حيث التأثير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من حيث القدرة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من حيث الوظيفة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تأثير في الأشخاص بدرجة تجعلهم يحققون أهداف الجماعة بحماس , و عن طيب خاطر , و تشجعهم على التطوير , ليس فقط الرغبة في العمل , و لكن للرغبة في العمل بحماس و ثقة 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أثير شخصي متبادل , يظهر بوضوح في حالات معينة , و يوجه من خلال وسائل الاتصال الإنساني بين الرئيس و المرؤوس نحو تحقيق الأهداف المنشودة 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فن معاملة الطبيعة البشرية , او فن التأثير في السلوك البشري , لتوجيه جماعة من الناس , نحو هدف معين , بطريقة نضمن بها طاعتهم , و احترامهم و تعاونهم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قدرة على توحيد سلوك الجماعة في موقف محدد , لتحقيق هدف معين 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قدرة على تحريك الناس نحو هدف معين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قدرة على انجاز الإعمال الصحيحة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وظيفة التي يستخدم فيها الشخص ما يمكن من سمات و خصائص اكتسبها بالخبرة , و التعلم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عمل الدؤوب للقادة و المديرين , اذ يواجه المشكلات و يقوم المعوج من الأمور , و يحقق التعاون بين العاملين , و يدعم روح الفريق , و يحقق الكفاية المستمرة في مستوى الأداء , و يحقق الترابط و الانسجام , بين الأهداف الفردية و الأهداف الجماعية , و يكتل الجهود جميعا في اتجاه واحد نحو الهدف النهائي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فن التأثير في الأشخاص , و توجيه جهودهم بطريقة صحيحة نحو أهداف محددة , يتسنى معها كسب طاعاتهم , و احترامهم , و ولائهم , و تعاونهم , في سبيل تحقيق الأهداف المشتركة 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dmin</dc:creator>
  <dc:description/>
  <dc:language>en-US</dc:language>
  <cp:lastModifiedBy>admin</cp:lastModifiedBy>
  <dcterms:modified xsi:type="dcterms:W3CDTF">2011-12-18T09:27:25Z</dcterms:modified>
  <cp:revision>31</cp:revision>
  <dc:subject/>
  <dc:title>مفهوم القيادة</dc:title>
</cp:coreProperties>
</file>