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F16-3171-457D-B4BF-C45A45E0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73E-E882-4676-B2A9-B43C4809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F26-CF02-4C5C-A573-DAEC7B72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332-0FA6-452E-81F4-6DF4A23D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8CEE-60F9-4812-8042-F9C16A79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5252-D010-445A-959C-85E5F778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D04E-CE4E-458C-B9A2-2F44F6D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02D3-72AB-4EDC-8292-36070021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EB40-E9CE-4AC0-97E0-A9D0A5E2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1E70-858A-4083-9262-748B3AF7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8E0A-64E8-4596-B28E-E761C26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0BD-E328-499D-ADA4-B73ED56A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029C-D205-4D10-831A-9440D762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C5AC-0CA5-4310-9193-B41CAB7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55B4-C565-4532-A431-45A05693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600B-698D-4B6D-A17C-B079586F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2EE8-D43E-4E04-BADE-20BD9E08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E30-B1E6-4F6C-8EDB-AAAE1A92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5A8-2586-45D8-93CB-E7AF24A7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909-5FD5-4C06-9B3F-75A29286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959-044D-4050-84BC-9414F246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D76-BFDC-48D1-BE65-6621FBAE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0EF-3CEC-4752-A9CF-E3075094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766-98C3-42A6-9349-FE065841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FC6B-A4A3-4F3B-B1C5-EBA69D59021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8704-1251-4606-B8D0-4F09DD3DDD9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71360" y="1365120"/>
            <a:ext cx="89121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جلسة العاشرة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ائ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ابع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دف مشترك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هو القائد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و الشخص الي يقود مجموعة او فريقا من الناس و يمتلك مزايا خاصة , و ينشر افكارا قوية بين مسؤولية فيؤثر فيهم , و يوجه سلوكهم , و يرشدهم , و ينسق بينهم , ليقدم دورا ناجحاً , و فعالاًفي قيادة فريقة , كما انه يمتلك رؤية شاملة و نظرة ثاقبة بشأن المستقب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لتخطيط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جادة التعامل مع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هارة الحور و إدارة النقاش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إدارة الوق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شكيل و إدارة الفريق الجماعي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دارة الاجتماع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ل المشكلات و اتخاذ القرار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قدرة فائقة على قيادة من حولة في أي مكان يتواجد فيه , سواء في العمل او في النادي او المسج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يقدم النصيحة لمن يحتاجونها و يتخذ القرار دون تردد عن دراسة و متقد الذه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نوع الاهتمامات و الهوايات و الميو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دي النشاط و الحيوية و متحمس و عالي الهم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اجح في كل شيء يحترم نفسه و يحترم الا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زيه و مستقيم و لديه ولاء لعمله و لمن يعمل مع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خلص النية لله و قوي الإراد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بع مبدأ الشورى بين مؤولي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غتاب و لا ين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ناضج في التفكير و التصرفات , حسن التصرف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حكيم في حكمة على الأمو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عمل بروح الفريق , و يقدم يد المساعدة  ل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ضبط نفسه عند الغضب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مؤول و يقدر المسؤولية , و واثق من نفس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شيد بجهود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سن الخلق و هادى الطبع و عادل و منصف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. أمين و أهل للثقة و يفي بالعهد و ينجز الوع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صادق مع نفسه و مع ا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متع بخفة الظ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قبل النقد البناء بروح رياضية و يأخذه بعين الاعتبار و لا يأبه بالنقد الظال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قوي الشخص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ادر فاعل : لديه روح المبادرة الخلاقة و الفاعل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نظم و مرتب في عمل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دع و مبتك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عرف المشكلة بأنها : عقبة أمام تحقيق الأهداف , او فجوة بين الوضع الراهن و الوضع المأمو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الشعور بالمشكلة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أن الشعور و الاحساس بالمشكلة من اهم خطوات حل المشكلات , فبدون الاحساس بان هناك مشكلة لن نقوم باي خطوات اخرى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عريف و تحديد المشكلة :أن معظم الإفراد يندفعون بردود فعلهم تجاه المشكلة قبل معرفة و فهم طبيعتها و إبعادها , عليك تعريف المشكلة الحقيقية و ليس أعراضها , و جمع البيانات التي تحتاج إليها 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كالبيانات الخارجية مثل الحقائق و الأهداف و الوقت و التاريخ و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 البيانات الداخلية مثل : المشاعر , و لأراء , و الاتجاهات , و مدى الرضا, و تعارض الشخصيات , و طريقة تفكير الآخرين , و الضغوط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أول : مفهوم القيادة من حيث ( التأثير - القدرة - الوظيفة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ني : سمات القائد ( من هو القائد - سمات القائد الناجح 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لث : مهارات القيادة (مهارة حل المشكلات – مهارة اتخاذ القرار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الأسباب التي تعتقد أنها سبب المشكلة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ى ؟ و أين ؟ و كيف ؟ و لماذا ؟ و مع من حدثت المشكلة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المعلومات التي لدي موثوق فيها , و كافيه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علومات , التي احتاج إليها لتفهم المشكلة بشكل أفضل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مصادر جمع هذه المعلومات ؟ و هل ستجمع من الكتب , ام من الإفراد ؟ و ما نوعية الكتب ؟ و من هم الإفرا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حك او المعيار للحكم على مصداقية المعلومات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دوري و دور الآخرين في إيجاد الحل , و تنفيذه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كتب المشكلة لتستطيع أن تراها أمام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عقدة , فقم بتجزئتها إلى أجزاء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رتبطة بمشكلات أخرى حدد أولويتك وإبداء بالمشكلة الأهم فالأقل أهم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ليل المعلومات التي تم جمعها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معلومات أخرى جديدة و مفيدة لحل المشكلة و حذف بعض مما يعتبر غير مهم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طرح استراتيجيات مختلفة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بار الاستراتيجيات المناسبة لحل المشكلة المطروحة للنقاش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حل المشكلة في ضوء الاستراتيجيات التي تم اختيارها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تقييم النتائج التي تم التوصل إليها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طبيق خطوات حل المشكلة بدقة عال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ستراتيجية اتخاذ القرار هي : عملية تقوم بها حين تواجهك مشكلة او عائق , او موقف يتطلب منك اختيار البديل , او الحل الأفضل , او الأنسب من مجموعة  الحلول المحتملة , و هي محصلة مجموعة من الاراء و الافكار و الاتصالات و ذلك لتحقيق الهدف , او النتيجة المرجو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56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م و المعتقد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يول و الطموح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وامل الجسمية و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ات المتاحة 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نتائج المرجحة لكل 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 الأفضل في ضوء هذه النتائج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هذه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دد هدفك و مشكلتك بدق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جمع المعلومات الكاف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ي صنع القرار , أتح فرصة المشاركة لكل من له علاقة ب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طلب عدة خيارات و بدائ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ازن بين البدائل و حدد نقاط الضعف و القوة في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لاشتراك مع زملائك حدد الخيار الأمث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صور مع زملائك جميع النتائج السلبية و الايجابية على هذا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ر الوقت المناسب لإصدار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دد المسؤوليات في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أعط الدعم المادي و المعنوي لإنجاح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ابع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ضع إجراءات مكتوبة في حال عدم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نبيهات عند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تلجأ لأول حل يخطر ببا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مكنك الاستفادة من تجارب الآخرين في مجال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كن قرارك بناء على ردة فعل غير مناسب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جزأين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نه فطري , و موهبة من الله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كتسب من التعلم و الخبرة و التدريب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علم له أصول لأنه يخضع للدراسة و يدرس في الجامعات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فن : لأنه يعتمد على ذكاء القائد و بصيرته في حسن التصرف في المواقف و الأزمات التي يتعرض ل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تأثي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قدر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وظيفة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أثير في الأشخاص بدرجة تجعلهم يحققون أهداف الجماعة بحماس , و عن طيب خاطر , و تشجعهم على التطوير , ليس فقط الرغبة في العمل , و لكن للرغبة في العمل بحماس و ثق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أثير شخصي متبادل , يظهر بوضوح في حالات معينة , و يوجه من خلال وسائل الاتصال الإنساني بين الرئيس و المرؤوس نحو تحقيق الأهداف المنشود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معاملة الطبيعة البشرية , او فن التأثير في السلوك البشري , لتوجيه جماعة من الناس , نحو هدف معين , بطريقة نضمن بها طاعتهم , و احترامهم و تعاونه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وحيد سلوك الجماعة في موقف محدد , لتحقيق هدف معين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حريك الناس نحو هدف مع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نجاز الإعمال الصحيح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وظيفة التي يستخدم فيها الشخص ما يمكن من سمات و خصائص اكتسبها بالخبرة , و التعل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الدؤوب للقادة و المديرين , اذ يواجه المشكلات و يقوم المعوج من الأمور , و يحقق التعاون بين العاملين , و يدعم روح الفريق , و يحقق الكفاية المستمرة في مستوى الأداء , و يحقق الترابط و الانسجام , بين الأهداف الفردية و الأهداف الجماعية , و يكتل الجهود جميعا في اتجاه واحد نحو الهدف النهائي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التأثير في الأشخاص , و توجيه جهودهم بطريقة صحيحة نحو أهداف محددة , يتسنى معها كسب طاعاتهم , و احترامهم , و ولائهم , و تعاونهم , في سبيل تحقيق الأهداف المشترك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</dc:creator>
  <dc:description/>
  <dc:language>en-US</dc:language>
  <cp:lastModifiedBy>admin</cp:lastModifiedBy>
  <dcterms:modified xsi:type="dcterms:W3CDTF">2011-12-18T09:27:25Z</dcterms:modified>
  <cp:revision>31</cp:revision>
  <dc:subject/>
  <dc:title>مفهوم القيادة</dc:title>
</cp:coreProperties>
</file>