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C0F20-244F-4E39-8ECB-1EF82E6EF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FE3B7-FE7B-4F86-AB58-4481BD93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5D0B2-C1F5-437F-A973-2F2CC362C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EB6F9-B4DE-44AB-8305-62CBD0AA2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07173-4247-4067-82F9-128D96B5C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33F07-C24B-4092-B610-824A0AB13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BD7F0-CEC3-49C0-9894-2AAD7282C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905A0-A8B1-460F-B5F2-56F4A4D44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10DCA-A44A-4716-AC43-4D3244ECA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9E669-E130-4780-962B-0E4A3DFD9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E9D69-0B5E-402C-A8D3-4BE12B9E6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FBE55-A3AA-4B13-9D5B-F164F3BC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A737-98EF-4DE4-97D8-67690D993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4CE6B-C54C-42BC-8C32-0F699FD21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99EE0-44DF-4785-99EC-3796BD154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40C86-B396-45DB-8BF4-D62D09BCE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49368-DA10-476C-9204-DF32159D7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A0738-6DDB-4E5E-A6BD-D4EC60C16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D89F-C7D3-4340-BA07-9678336E6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643BF-0846-4E84-9D78-78CDCC52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8CEED-A661-454F-A706-842D04EF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E563C-D2B0-4916-B929-03C03802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F34A-58A6-4584-8872-E35FF91B7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59E2C-1F72-429F-A8E1-191617F7C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F5C9-5EC6-4EEC-9EBE-F46A39E063F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FD6F-D5E0-476E-8806-EE709540BC8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بسم الله الرحمن الرحيم </a:t>
            </a:r>
            <a:endParaRPr b="0" lang="en-US" sz="4400" spc="-1" strike="noStrike">
              <a:solidFill>
                <a:srgbClr val="ff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امعة الملك سعود                                                    العام الدراسي </a:t>
            </a:r>
            <a:r>
              <a:rPr b="1" lang="ar-SA" sz="3200" spc="-1" strike="noStrike">
                <a:solidFill>
                  <a:srgbClr val="ffffff"/>
                </a:solidFill>
                <a:latin typeface="Arial"/>
              </a:rPr>
              <a:t>1430</a:t>
            </a:r>
            <a:r>
              <a:rPr b="1" lang="ar-SA" sz="3200" spc="-1" strike="noStrike">
                <a:solidFill>
                  <a:srgbClr val="ffffff"/>
                </a:solidFill>
                <a:latin typeface="Arial"/>
              </a:rPr>
              <a:t>\</a:t>
            </a:r>
            <a:r>
              <a:rPr b="1" lang="ar-SA" sz="3200" spc="-1" strike="noStrike">
                <a:solidFill>
                  <a:srgbClr val="ffffff"/>
                </a:solidFill>
                <a:latin typeface="Arial"/>
              </a:rPr>
              <a:t>1431</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ية المجتمع بالرياض</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 سمات المشروع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تكون المشروع من مجموعة من الانشطة المرتبطة ب</a:t>
            </a:r>
            <a:r>
              <a:rPr b="1" lang="ar-JO" sz="2800" spc="-1" strike="noStrike">
                <a:solidFill>
                  <a:srgbClr val="ffffff"/>
                </a:solidFill>
                <a:latin typeface="Arial"/>
              </a:rPr>
              <a:t>ب</a:t>
            </a:r>
            <a:r>
              <a:rPr b="1" lang="ar-DZ" sz="2800" spc="-1" strike="noStrike">
                <a:solidFill>
                  <a:srgbClr val="ffffff"/>
                </a:solidFill>
                <a:latin typeface="Arial"/>
              </a:rPr>
              <a:t>عضها  و المتكاملة في نفس الوقت , و تتطلب هذه الانشطة تخطيطا سليما لضمان نجاح المشروع و تحقيق الاهداف المرجوة منه .</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مد المشروع في </a:t>
            </a:r>
            <a:r>
              <a:rPr b="1" lang="ar-JO" sz="2800" spc="-1" strike="noStrike">
                <a:solidFill>
                  <a:srgbClr val="ffffff"/>
                </a:solidFill>
                <a:latin typeface="Arial"/>
              </a:rPr>
              <a:t>انشأة</a:t>
            </a:r>
            <a:r>
              <a:rPr b="1" lang="ar-DZ" sz="2800" spc="-1" strike="noStrike">
                <a:solidFill>
                  <a:srgbClr val="ffffff"/>
                </a:solidFill>
                <a:latin typeface="Arial"/>
              </a:rPr>
              <a:t> و تشغيله على العديد من الموارد المتاحة و التي قد تتصف بالندرة مثل الاراضي , المواد الخام , المدخرات, العملات الاجنبية ... الخ  و التي تتطلب الاستخدام الامثل لهذه الموارد</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هدف من انشاء المشروع هو توقع الحصول على بعض المنافع سواء مالية مثل الدخل المتحصل من مبيعات منتجاته او منافع اجتماعية و المتحصلة من بناء مستشفى , مدرسة , ... 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ية دراسة المشروع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مفهوم السابق لتعريف المشروع ينطوي على استخدام الموارد الاقتصادية و هذه الموارد هي  الارض , العمل , رأس المال , و التنظيم . و هذه الموارد نادرة نسبيا في المجتمع و لذلك فيجب  الحرص في ان يؤدي المشروع  اعظم انتاج بأقل التكاليف او ان يحقق عائد مناسبا . و من هنا تأتي اهمية دراسة المشروعات و تحليلها و تقييمها لاتخاذ القرار بتنفيذها او عدم تنفيذها</a:t>
            </a:r>
            <a:r>
              <a:rPr b="0" lang="ar-J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نواع المشاريع حسب الملك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خاصة :</a:t>
            </a:r>
            <a:r>
              <a:rPr b="1" lang="ar-JO" sz="2800" spc="-1" strike="noStrike">
                <a:solidFill>
                  <a:srgbClr val="ffffff"/>
                </a:solidFill>
                <a:latin typeface="Arial"/>
              </a:rPr>
              <a:t> اي التي يمتلكها القطاع الخاص او افراد من مجتمع و بالتالي تعود الخسارة او الارباح على مالكيها من الافراد</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المشروعات العامة</a:t>
            </a:r>
            <a:r>
              <a:rPr b="1" lang="ar-JO" sz="2800" spc="-1" strike="noStrike">
                <a:solidFill>
                  <a:srgbClr val="ffffff"/>
                </a:solidFill>
                <a:latin typeface="Arial"/>
              </a:rPr>
              <a:t> : اي المشروعات التي تعود ملكيتها الى الدولة و بالتالي يعود النفع منها على جميع افراد المجتمع و بالتالي تعود الخسارة او الارباح  على افراد المجتمع</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مختلطة</a:t>
            </a:r>
            <a:r>
              <a:rPr b="1" lang="ar-JO" sz="2800" spc="-1" strike="noStrike">
                <a:solidFill>
                  <a:srgbClr val="ffffff"/>
                </a:solidFill>
                <a:latin typeface="Arial"/>
              </a:rPr>
              <a:t> : اي تعود ملكيتها للدولة و الافراد على اساس المشاركة </a:t>
            </a:r>
            <a:endParaRPr b="0" lang="en-US" sz="2800" spc="-1" strike="noStrike">
              <a:solidFill>
                <a:srgbClr val="ffffff"/>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ما هي اهمية تقسيم المشروعات حسب الملكية ؟</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مشروعات الفردية  يكون هدفها الاساسي تحقيق الارباح او العائد المالي لاستثماراتها و من هنا فان تحليل و تقييم المشروع يأخذ بعين الاعتبار مؤشر العائد المالي المتوقع. اما المشروعات المملوكة من قبل الدولة  فالهدف منها ليس تحقيق الارباح بل تحقيق المنفعة العامة لمجموع افراد المجتمع , و لذلك فان المعيار الاقتصادي او المنفعة العامة هي التي تحدد جدوى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لمراحل التي يمر بها المشروع؟</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قصد بمراحل المشروع  المراحل الزمنية المتتابعة التي يمر بها المشروع من بداية ان يكون فكرة لدى مالكي المشروع الى ان يصبح مشروعا قائما منتجا او مؤديا خدماته لمجموع المستهدفين بتلك الخدمات , وهذه المراحل ه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ما قبل الاستثمار</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تشغيل</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a:t>
            </a:r>
            <a:r>
              <a:rPr b="1" lang="ar-DZ" sz="3200" spc="-1" strike="noStrike">
                <a:solidFill>
                  <a:srgbClr val="ffffff"/>
                </a:solidFill>
                <a:latin typeface="Arial"/>
              </a:rPr>
              <a:t>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رارات المالية </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قرارات المالية؟  </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فهوم الاستثمار</a:t>
            </a:r>
            <a:endParaRPr b="0" lang="en-US" sz="4400" spc="-1" strike="noStrike">
              <a:solidFill>
                <a:srgbClr val="ffff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عريف الاستثمار </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لاستثمار بأنه التخلي عن اموال يمتلكها الفرد في لحضه معينة و لفترة معينة من الزمن قد تطول او تقصر و ربطها بأصل او اكثر من الاصول التي يحتفظ بها لتلك الفترة الزمنية بقصد الحصول على تدفقات مالية مستقبلية تعوضه ع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استثمارات الرأسمالية و طرق تمويلها </a:t>
            </a:r>
            <a:r>
              <a:rPr b="1" lang="ar-SA" sz="3200" spc="-1" strike="noStrike">
                <a:solidFill>
                  <a:srgbClr val="ffffff"/>
                </a:solidFill>
                <a:latin typeface="Arial"/>
              </a:rPr>
              <a:t>                                                رمز المقرر و رقمه : </a:t>
            </a:r>
            <a:r>
              <a:rPr b="1" lang="ar-SA" sz="3200" spc="-1" strike="noStrike">
                <a:solidFill>
                  <a:srgbClr val="ffffff"/>
                </a:solidFill>
                <a:latin typeface="Arial"/>
              </a:rPr>
              <a:t>205</a:t>
            </a:r>
            <a:r>
              <a:rPr b="1" lang="ar-SA" sz="3200" spc="-1" strike="noStrike">
                <a:solidFill>
                  <a:srgbClr val="ffffff"/>
                </a:solidFill>
                <a:latin typeface="Arial"/>
              </a:rPr>
              <a:t> مال</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تاذ </a:t>
            </a:r>
            <a:r>
              <a:rPr b="1" lang="ar-JO" sz="3200" spc="-1" strike="noStrike">
                <a:solidFill>
                  <a:srgbClr val="ffffff"/>
                </a:solidFill>
                <a:latin typeface="Arial"/>
              </a:rPr>
              <a:t>المقرر</a:t>
            </a:r>
            <a:r>
              <a:rPr b="1" lang="ar-SA" sz="3200" spc="-1" strike="noStrike">
                <a:solidFill>
                  <a:srgbClr val="ffffff"/>
                </a:solidFill>
                <a:latin typeface="Arial"/>
              </a:rPr>
              <a:t> : د. محمد المومن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سم العلوم الإدارية \الإدارة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قيمة الحالية لتلك الاموال التي تخلى عنها في سبيل الحصول هلى ذلك الاصل او الاصو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a:t>
            </a:r>
            <a:r>
              <a:rPr b="0" lang="ar-SA" sz="3200" spc="-1" strike="noStrike">
                <a:solidFill>
                  <a:srgbClr val="ffffff"/>
                </a:solidFill>
                <a:latin typeface="Arial"/>
              </a:rPr>
              <a:t>ن</a:t>
            </a:r>
            <a:r>
              <a:rPr b="0" lang="ar-JO" sz="3200" spc="-1" strike="noStrike">
                <a:solidFill>
                  <a:srgbClr val="ffffff"/>
                </a:solidFill>
                <a:latin typeface="Arial"/>
              </a:rPr>
              <a:t>قص المتوقع في قوة تلك الاموال الشرائية بفعل التضخم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خاطرة الناشئة عن احتمال عدم حصول التدفقات المالية المرغوب فيها كما هو متوق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ffff"/>
                </a:solidFill>
                <a:latin typeface="Arial"/>
              </a:rPr>
              <a:t>اهداف الاستثمار :</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هدف العام للاستثمار هو تحقيق العائد  او الربح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كوين الثروة و تنميتها في المستقبل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امين الحاجات المتوقعة و توفير السيولة لمواجهة تلك الحاجات اي تكوين الدخل المستقبلي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محافظة على قيمة الموجودات  مع مرور الزمن بحكم عوامل ارتفاع الاسعار و تقلباتها</a:t>
            </a:r>
            <a:endParaRPr b="0" lang="en-US" sz="3200" spc="-1" strike="noStrike">
              <a:solidFill>
                <a:srgbClr val="ffffff"/>
              </a:solidFill>
              <a:latin typeface="Arial"/>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ا هو الفرق بين الاستثمار المالي و الاستثمار الحقيق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تثمار الحقيقي</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لاستثمار حقيقيا او اقتصاديا متى وفر للمستثمر الحق في حيازة اصل حقيقي كالعقار و السلع و الذهب ....الخ . يقصد بالأصل الحقيقي كل اصل له قيمة اقتصادية في حد ذاته و يترتب على استخدامه منفعة اقتصادية اضافية على شكل سلعة او على شكل خدم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تثمار المالي</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ما  الاستثمار المالي  فهو عبارة عن شراء تكوين رأسمالي موجود و هذا يعني شراء حصة في رأسمال شركة ( سهم )او حصة في قرض( سند )  تعطى مالكها حق مطالبة بالإرباح او الفوائد و بالحقوق الاخرى التي تضمنها القوانين ذات العلاقة. و ما يحدث في السوق المالية الثانوية  من عمليات بيع و شراء للأسهم و السندات فهو لا يعدو كونه عملية نقل ملكية الاصل المالي حيث يتخلى البائع عن ملكيته لذلك الاصل ( السهم او السند ....الخ) مقابل حصوله على اصل اخر هو الثمن . ان عملية التبادل هذه لا تنشا اي منفعة اقتصادية اضافية او قيمة اقتصادية  مضافة للناتج القومي.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ما هي القرارات الاستثمارية ؟</a:t>
            </a:r>
            <a:br>
              <a:rPr sz="4000"/>
            </a:b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هي القرارات المتعلقة باختيار الموجودات  و كيفية الأنفاق عليها ثم مقابلة عوائد الاستثمار المتوقعة في المستقبل مع المبالغ المنفقة على تلك الموجو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قسام الموجودات ؟</a:t>
            </a: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نقسم الموجودات إلى</a:t>
            </a:r>
            <a:r>
              <a:rPr b="1" lang="ar-JO"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وجودات طويلة الأجل (</a:t>
            </a:r>
            <a:r>
              <a:rPr b="1" lang="ar-JO" sz="3200" spc="-1" strike="noStrike">
                <a:solidFill>
                  <a:srgbClr val="ffffff"/>
                </a:solidFill>
                <a:latin typeface="Arial"/>
              </a:rPr>
              <a:t>استثمارات رأسمالية</a:t>
            </a:r>
            <a:r>
              <a:rPr b="1"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 موجودات قصيرة الأجل</a:t>
            </a:r>
            <a:r>
              <a:rPr b="0" lang="ar-SA" sz="3200" spc="-1" strike="noStrike">
                <a:solidFill>
                  <a:srgbClr val="ffffff"/>
                </a:solidFill>
                <a:latin typeface="Arial"/>
              </a:rPr>
              <a:t> (</a:t>
            </a:r>
            <a:r>
              <a:rPr b="0" lang="ar-JO" sz="3200" spc="-1" strike="noStrike">
                <a:solidFill>
                  <a:srgbClr val="ffffff"/>
                </a:solidFill>
                <a:latin typeface="Arial"/>
              </a:rPr>
              <a:t>رأس المال العام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أصول الثابتة ؟</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الأصول الثابتة هي ذلك الجزء من الموجودات الذي يقدم خدماته لأكثر من فترة محاسبية واحدة من حياة المؤسسة التي تمتلكها، مثل الأراضي والأبنية والآلات والمعدات وما شابه ذل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أصول المتداولة ؟</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صول المتداولة و هي تلك الموجودات التي يمكن تحويلها الى نقدية في خلال سنة و احدة أي اتها تتمتع بسيولة عالية</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يخضع الاستثمار في </a:t>
            </a:r>
            <a:r>
              <a:rPr b="0" lang="ar-JO" sz="3200" spc="-1" strike="noStrike">
                <a:solidFill>
                  <a:srgbClr val="ffffff"/>
                </a:solidFill>
                <a:latin typeface="Arial"/>
              </a:rPr>
              <a:t>الاستثمارات الرأسمالية </a:t>
            </a:r>
            <a:r>
              <a:rPr b="0" lang="ar-SY" sz="3200" spc="-1" strike="noStrike">
                <a:solidFill>
                  <a:srgbClr val="ffffff"/>
                </a:solidFill>
                <a:latin typeface="Arial"/>
              </a:rPr>
              <a:t> لنفس المنطق الذي يخضع له الاستثمار في الموجودات المتداولة حيث تقيم بنفس المنطق، أي الموازنة بين التكلفة والمرد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تصال مع مدرس المقرر</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ساعات المكتب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يميل : </a:t>
            </a:r>
            <a:r>
              <a:rPr b="0" lang="en-US" sz="3200" spc="-1" strike="noStrike">
                <a:solidFill>
                  <a:srgbClr val="ffffff"/>
                </a:solidFill>
                <a:latin typeface="Arial"/>
              </a:rPr>
              <a:t>malmumani @ ksu.edu.s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وقع الالكتروني : </a:t>
            </a:r>
            <a:r>
              <a:rPr b="0" lang="en-US" sz="2800" spc="-1" strike="noStrike">
                <a:solidFill>
                  <a:srgbClr val="ffffff"/>
                </a:solidFill>
                <a:latin typeface="Arial"/>
              </a:rPr>
              <a:t>http://faculty.edu.sa/mohdalmuman.defult.asp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تثمارات الراسمالية</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وازنة الرأسمالية في حالة التأك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يعتبر النمو من الأهداف المرغوب بتحقيقها على مستوى الاقتصاد القومي و مستوى الشركة . لماذا؟</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لى مستوى الاقتصاد القومي </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ن ذلك يؤدي إلى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خلق فرص جديدة للعم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زيد الإنتاج الوطني</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زيد الدخل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حسن مستوى المعيشة للإفراد في المجتم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لى مستوى الشركة </a:t>
            </a: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تم بالنمو كافة الفئات التي لها علاقة بالشركة لأنه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فتح افاقا جديدة للموظفين للتدرج و زيادة الرواتب داخل الشركة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وسع في الشركة قد يؤدي إلى خلق وظائف جديدة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تم المديرون بالنمو لما يعنيه ذلك من زيادة في الرواتب و التعويضات و المكفآت في نهاية السنة</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تم المساهمون بالنمو لأنه يعني في النهاية زيادة العائد على الاستثمار  أي زيادة الأرباح الموزعة على المساهمين و تحسن سعر السهم في السو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تى يحدث النمو في الشركة ؟</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حدث النمو إذا قامت الشركة باستثمارات رأسمالية جديدة لتوسيع قاعدة الموجودات و بالتالي زيادة الإنتاج و المبيعات و الاربا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 هي أنواع الاستثمارات الرأسمالية في الشركات ؟</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ستبدالية :</a:t>
            </a:r>
            <a:r>
              <a:rPr b="1" lang="ar-DZ" sz="3200" spc="-1" strike="noStrike">
                <a:solidFill>
                  <a:srgbClr val="ffffff"/>
                </a:solidFill>
                <a:latin typeface="Arial"/>
              </a:rPr>
              <a:t> و هي تتعلق باستبدال الالات و التجهيزات التي تم اهتلاكها فيزيائيا بالات جديدة اكثر كفاءة</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توسعية</a:t>
            </a:r>
            <a:r>
              <a:rPr b="1" lang="ar-DZ" sz="3200" spc="-1" strike="noStrike">
                <a:solidFill>
                  <a:srgbClr val="ffffff"/>
                </a:solidFill>
                <a:latin typeface="Arial"/>
              </a:rPr>
              <a:t> : و هي تتعلق بإضافة خطوط انتاج او آلات جديدة بهدف توسيع الطاقة الانتاجية لتلبية نمو الطلب في </a:t>
            </a:r>
            <a:r>
              <a:rPr b="1" lang="ar-JO" sz="3200" spc="-1" strike="noStrike">
                <a:solidFill>
                  <a:srgbClr val="ffffff"/>
                </a:solidFill>
                <a:latin typeface="Arial"/>
              </a:rPr>
              <a:t>الأ</a:t>
            </a:r>
            <a:r>
              <a:rPr b="1" lang="ar-DZ" sz="3200" spc="-1" strike="noStrike">
                <a:solidFill>
                  <a:srgbClr val="ffffff"/>
                </a:solidFill>
                <a:latin typeface="Arial"/>
              </a:rPr>
              <a:t>سوق </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بتكارية:</a:t>
            </a:r>
            <a:r>
              <a:rPr b="1" lang="ar-DZ" sz="3200" spc="-1" strike="noStrike">
                <a:solidFill>
                  <a:srgbClr val="ffffff"/>
                </a:solidFill>
                <a:latin typeface="Arial"/>
              </a:rPr>
              <a:t> و هي تتعلق بإنتاج سلع جديدة او محسنة و استعمال طرق انتاجية و تكنولوجيا جديدة او محسنة </a:t>
            </a:r>
            <a:endParaRPr b="0" lang="en-US" sz="3200" spc="-1" strike="noStrike">
              <a:solidFill>
                <a:srgbClr val="ffffff"/>
              </a:solidFill>
              <a:latin typeface="Arial"/>
            </a:endParaRPr>
          </a:p>
          <a:p>
            <a:pPr marL="566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أن الاستثمارات الاستبدالية و الاستثمارات التوسعية لا يغيران  كثيرا من خطر اعمال الشركة . لماذا ؟</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ن الشركة تبقى اساس في ذات خط الأعمال فتنتج نفس السلع و الخدمات أو سلع و خدمات مكملة أو مشابهة </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يعني أن الشركة تبقى عرضة لذات قوى العرض و الطلب في سوق السلع و الخدمات و في سوق عوامل الإنتاج </a:t>
            </a:r>
            <a:endParaRPr b="0" lang="en-US" sz="3200" spc="-1" strike="noStrike">
              <a:solidFill>
                <a:srgbClr val="ffffff"/>
              </a:solidFill>
              <a:latin typeface="Arial"/>
            </a:endParaRPr>
          </a:p>
          <a:p>
            <a:pPr marL="329040" indent="-3290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انه لن يكون هناك خوف من ازدياد التقلب في الطلب على سلع و خدمات الشركة أو في تكاليف عوامل الإنتاج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الاستثمارات الاستبدالية تزيد خطر اعمال الشركة ( زيادة رفعة التشغيل ) . كيف يحصل ذلك؟</a:t>
            </a:r>
            <a:endParaRPr b="0" lang="en-US" sz="32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توسيع الطاقة الإنتاجية يزيد نسبة التكاليف الثابتة إلى إجمالي التكاليف و يرفع بالتالي كمية انتاج التعادل . هذا يعني أن احتمال عدم مقدرة الشركة على الوصول إلى نقطة التعادل في حالة الركود الاقتصادي يزداد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ن الاستثمارات الابتكارية ينشاء عنها تغيير في خطر اعمال الشركة.  وضح ذلك ؟</a:t>
            </a:r>
            <a:endParaRPr b="0" lang="en-US" sz="40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ي معظم الاحيان يكون التغير في اتجاه زيادة خطر اعمال الشركة  لدخولها أسواق سلع ما زالت جديدة أو تحت الاختبار لم تتبلور طبيعة الطلب عل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ماذا يهدف قرار الاستثمار الرأسمالي ؟</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دف إلى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ييم المشاريع الاستثمارية المتاحة للشرك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يار المشاريع الرأسمالية الرابح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حديد حجم الموازنة الرأسمالية الذي يعظم قيمة الشرك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فصول الدراسية </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0</a:t>
            </a:r>
            <a:r>
              <a:rPr b="1" lang="ar-SA" sz="2800" spc="-1" strike="noStrike">
                <a:solidFill>
                  <a:srgbClr val="ffffff"/>
                </a:solidFill>
                <a:latin typeface="Arial"/>
              </a:rPr>
              <a:t> : الموازنة الرأسمالية في حالة التأكد  :ص </a:t>
            </a:r>
            <a:r>
              <a:rPr b="1" lang="ar-SA" sz="2800" spc="-1" strike="noStrike">
                <a:solidFill>
                  <a:srgbClr val="ffffff"/>
                </a:solidFill>
                <a:latin typeface="Arial"/>
              </a:rPr>
              <a:t>351</a:t>
            </a:r>
            <a:r>
              <a:rPr b="1" lang="ar-SA" sz="2800" spc="-1" strike="noStrike">
                <a:solidFill>
                  <a:srgbClr val="ffffff"/>
                </a:solidFill>
                <a:latin typeface="Arial"/>
              </a:rPr>
              <a:t> -</a:t>
            </a:r>
            <a:r>
              <a:rPr b="1" lang="ar-SA" sz="2800" spc="-1" strike="noStrike">
                <a:solidFill>
                  <a:srgbClr val="ffffff"/>
                </a:solidFill>
                <a:latin typeface="Arial"/>
              </a:rPr>
              <a:t>390</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2</a:t>
            </a:r>
            <a:r>
              <a:rPr b="1" lang="ar-SA" sz="2800" spc="-1" strike="noStrike">
                <a:solidFill>
                  <a:srgbClr val="ffffff"/>
                </a:solidFill>
                <a:latin typeface="Arial"/>
              </a:rPr>
              <a:t> :طرق إدخال الخطر بشكل محدد في قرار الاستثمار الرأسمالي : ص </a:t>
            </a:r>
            <a:r>
              <a:rPr b="1" lang="ar-SA" sz="2800" spc="-1" strike="noStrike">
                <a:solidFill>
                  <a:srgbClr val="ffffff"/>
                </a:solidFill>
                <a:latin typeface="Arial"/>
              </a:rPr>
              <a:t>441</a:t>
            </a:r>
            <a:r>
              <a:rPr b="1" lang="ar-SA" sz="2800" spc="-1" strike="noStrike">
                <a:solidFill>
                  <a:srgbClr val="ffffff"/>
                </a:solidFill>
                <a:latin typeface="Arial"/>
              </a:rPr>
              <a:t>-</a:t>
            </a:r>
            <a:r>
              <a:rPr b="1" lang="ar-SA" sz="2800" spc="-1" strike="noStrike">
                <a:solidFill>
                  <a:srgbClr val="ffffff"/>
                </a:solidFill>
                <a:latin typeface="Arial"/>
              </a:rPr>
              <a:t>46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3</a:t>
            </a:r>
            <a:r>
              <a:rPr b="1" lang="ar-SA" sz="2800" spc="-1" strike="noStrike">
                <a:solidFill>
                  <a:srgbClr val="ffffff"/>
                </a:solidFill>
                <a:latin typeface="Arial"/>
              </a:rPr>
              <a:t> : التمويل قصير الأجل : ص </a:t>
            </a:r>
            <a:r>
              <a:rPr b="1" lang="ar-SA" sz="2800" spc="-1" strike="noStrike">
                <a:solidFill>
                  <a:srgbClr val="ffffff"/>
                </a:solidFill>
                <a:latin typeface="Arial"/>
              </a:rPr>
              <a:t>479</a:t>
            </a:r>
            <a:r>
              <a:rPr b="1" lang="ar-SA" sz="2800" spc="-1" strike="noStrike">
                <a:solidFill>
                  <a:srgbClr val="ffffff"/>
                </a:solidFill>
                <a:latin typeface="Arial"/>
              </a:rPr>
              <a:t>- </a:t>
            </a:r>
            <a:r>
              <a:rPr b="1" lang="ar-SA" sz="2800" spc="-1" strike="noStrike">
                <a:solidFill>
                  <a:srgbClr val="ffffff"/>
                </a:solidFill>
                <a:latin typeface="Arial"/>
              </a:rPr>
              <a:t>49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5</a:t>
            </a:r>
            <a:r>
              <a:rPr b="1" lang="ar-SA" sz="2800" spc="-1" strike="noStrike">
                <a:solidFill>
                  <a:srgbClr val="ffffff"/>
                </a:solidFill>
                <a:latin typeface="Arial"/>
              </a:rPr>
              <a:t> : التمويل طويل الأجل : ص </a:t>
            </a:r>
            <a:r>
              <a:rPr b="1" lang="ar-SA" sz="2800" spc="-1" strike="noStrike">
                <a:solidFill>
                  <a:srgbClr val="ffffff"/>
                </a:solidFill>
                <a:latin typeface="Arial"/>
              </a:rPr>
              <a:t>535</a:t>
            </a:r>
            <a:r>
              <a:rPr b="1" lang="ar-SA" sz="2800" spc="-1" strike="noStrike">
                <a:solidFill>
                  <a:srgbClr val="ffffff"/>
                </a:solidFill>
                <a:latin typeface="Arial"/>
              </a:rPr>
              <a:t>- </a:t>
            </a:r>
            <a:r>
              <a:rPr b="1" lang="ar-SA" sz="2800" spc="-1" strike="noStrike">
                <a:solidFill>
                  <a:srgbClr val="ffffff"/>
                </a:solidFill>
                <a:latin typeface="Arial"/>
              </a:rPr>
              <a:t>558</a:t>
            </a:r>
            <a:r>
              <a:rPr b="1"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8</a:t>
            </a:r>
            <a:r>
              <a:rPr b="1" lang="ar-SA" sz="2800" spc="-1" strike="noStrike">
                <a:solidFill>
                  <a:srgbClr val="ffffff"/>
                </a:solidFill>
                <a:latin typeface="Arial"/>
              </a:rPr>
              <a:t> : تكلفة الرأسمال  : ص </a:t>
            </a:r>
            <a:r>
              <a:rPr b="1" lang="ar-SA" sz="2800" spc="-1" strike="noStrike">
                <a:solidFill>
                  <a:srgbClr val="ffffff"/>
                </a:solidFill>
                <a:latin typeface="Arial"/>
              </a:rPr>
              <a:t>633</a:t>
            </a:r>
            <a:r>
              <a:rPr b="1" lang="ar-SA" sz="2800" spc="-1" strike="noStrike">
                <a:solidFill>
                  <a:srgbClr val="ffffff"/>
                </a:solidFill>
                <a:latin typeface="Arial"/>
              </a:rPr>
              <a:t>- </a:t>
            </a:r>
            <a:r>
              <a:rPr b="1" lang="ar-SA" sz="2800" spc="-1" strike="noStrike">
                <a:solidFill>
                  <a:srgbClr val="ffffff"/>
                </a:solidFill>
                <a:latin typeface="Arial"/>
              </a:rPr>
              <a:t>67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ذا يتطلب من اجل تحقيق أهداف القرار الرأسمالي ؟</a:t>
            </a:r>
            <a:endParaRPr b="0" lang="en-US" sz="40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عريف مشاريع الاستثمار الرأسمال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عداد تقديرات التدفق لكل مشروع</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دراسة الجدوى المالية لكل مشروع باستعمال معايير التقييم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حث تأثير التضخم النقدي و التقنين الرأسمالي على قرار الموازنة الرأس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قلانية الاقتصادية للموازنة الرأسمالية </a:t>
            </a: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من المنطق الاقتصادي الاساسي للموازنة الرأسمالية في :</a:t>
            </a:r>
            <a:endParaRPr b="0" lang="en-US" sz="3200" spc="-1" strike="noStrike">
              <a:solidFill>
                <a:srgbClr val="ffffff"/>
              </a:solidFill>
              <a:latin typeface="Arial"/>
            </a:endParaRPr>
          </a:p>
          <a:p>
            <a:pPr marL="315360" indent="-31536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يار مشاريع الاستثمار المجدية</a:t>
            </a:r>
            <a:endParaRPr b="0" lang="en-US" sz="3200" spc="-1" strike="noStrike">
              <a:solidFill>
                <a:srgbClr val="ffffff"/>
              </a:solidFill>
              <a:latin typeface="Arial"/>
            </a:endParaRPr>
          </a:p>
          <a:p>
            <a:pPr marL="315360" indent="-31536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حديد مستوى الاستثمار الذي يعظم قيمة الشركة .</a:t>
            </a:r>
            <a:endParaRPr b="0" lang="en-US" sz="3200" spc="-1" strike="noStrike">
              <a:solidFill>
                <a:srgbClr val="ffffff"/>
              </a:solidFill>
              <a:latin typeface="Arial"/>
            </a:endParaRPr>
          </a:p>
          <a:p>
            <a:pPr marL="315360" indent="-31536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 يتم ذلك حين تستمر الشركة في الاستثمار في مشاريع رأسمالية إلى أن تصل إلى حجم الاستثمار الذي يحقق المساوة بين المردود الحدي للاستثمار  و التكلفة الحدية للرأسمال أي تكلفة التموي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 هي اصناف مشاريع الاستثمار الرأسمالي من حيث طبيعة هذه المشاريع </a:t>
            </a:r>
            <a:endParaRPr b="0" lang="en-US" sz="40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تي يحل الواحد منها محل الاخر :</a:t>
            </a:r>
            <a:r>
              <a:rPr b="1" lang="ar-DZ" sz="2800" spc="-1" strike="noStrike">
                <a:solidFill>
                  <a:srgbClr val="ffffff"/>
                </a:solidFill>
                <a:latin typeface="Arial"/>
              </a:rPr>
              <a:t> و هي عبارة عن بدائل استثمارية مختلفة لتحقيق ذات الغر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ستقلة :</a:t>
            </a:r>
            <a:r>
              <a:rPr b="1" lang="ar-DZ" sz="2800" spc="-1" strike="noStrike">
                <a:solidFill>
                  <a:srgbClr val="ffffff"/>
                </a:solidFill>
                <a:latin typeface="Arial"/>
              </a:rPr>
              <a:t> وهي مشاريع غير متعلقة ببعضها البع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رتبطة ببعضها البعض و تدعى ايضا المشاريع المشتركة</a:t>
            </a:r>
            <a:r>
              <a:rPr b="1" lang="ar-DZ" sz="2800" spc="-1" strike="noStrike">
                <a:solidFill>
                  <a:srgbClr val="ffffff"/>
                </a:solidFill>
                <a:latin typeface="Arial"/>
              </a:rPr>
              <a:t>  </a:t>
            </a:r>
            <a:r>
              <a:rPr b="1" lang="ar-JO" sz="2800" spc="-1" strike="noStrike">
                <a:solidFill>
                  <a:srgbClr val="ffffff"/>
                </a:solidFill>
                <a:latin typeface="Arial"/>
              </a:rPr>
              <a:t>:</a:t>
            </a:r>
            <a:r>
              <a:rPr b="1" lang="ar-DZ" sz="2800" spc="-1" strike="noStrike">
                <a:solidFill>
                  <a:srgbClr val="ffffff"/>
                </a:solidFill>
                <a:latin typeface="Arial"/>
              </a:rPr>
              <a:t> وهي عبارة عن مشروعي استثمار رأسمالي او اكثر يتعلق احدهما بالأخر و لا يمكن قبول احدهما الا اذا قبل الاخر ( مثال على ذلك التفكير بمشروع مصفاة بترول و مشروع مجمع سكني لعمال و موظفي المصفا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نفاق الراسمالي</a:t>
            </a:r>
            <a:endParaRPr b="0" lang="en-US" sz="4400" spc="-1" strike="noStrike">
              <a:solidFill>
                <a:srgbClr val="ffffff"/>
              </a:solidFill>
              <a:latin typeface="Arial"/>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عريف </a:t>
            </a:r>
            <a:r>
              <a:rPr b="0" lang="ar-JO" sz="4400" spc="-1" strike="noStrike">
                <a:solidFill>
                  <a:srgbClr val="ffffff"/>
                </a:solidFill>
                <a:latin typeface="Arial"/>
              </a:rPr>
              <a:t>الانفاق الرأسمالي</a:t>
            </a: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الانفاق الرأسمالي بأنه قرار من المنشاة باستثمار الاموال بطريقة مثالية بنشاطات طويلة الاجل يتوقع منها خط من العوائد في المستقبل و تستمر لعدة سن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صود بالنشاطات طويلة الاجل تلك النشاطات التي تؤثر على العمليات التشغيلية للمنشاة لمدة تزيد عن سنه واح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 خصائص  قرارات الانفاق الرأسمالي</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قرارات ما هي إلا مبادلة للأموال في الوقت الحاضر بعوائد نتوقعها في المستقب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مبالغ تنفق على استثمارات طويلة الاج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العوائد تكون متوقعة في المستقبل و على عدد من السن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قرارات الانفاق الرأسمالي </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نفاق الرأسمالي يتضمن نتائج طويلة المدى و يؤثر على مؤشرات المخاطر في المنشاة . و بالتالي فان القرارات الخاطئة تؤدي الى كوارث تؤثر على وجود و حياة المنشاة نفس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حتاج الى مبالغ كبير . و كون المبالغ المستثمرة كبيرة يجب على المنشاة ان تخطط جيد لتلك الاستثمارات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لا يمكن الرجوع عنها او عكسها خاصة بعد ان يتم تنفيذ جزء منها و السبب في ذلك يعود الى صعوبة بيع الاجهزة و المعدات و التركيبات التي يتم شراؤ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ستوجب عملية تقييم لأحداث المستقبل و هي عملية غير دقيقة . و بالتالي فان عملية التنبؤ بأحداث المستقبل تعتبر من اعقد العمليات و اقلها دقها و لذلك تحتاج الى عناية خاص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ادارة الأصول الرأسمالية بشكل جيد</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464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تعطي إدارة الموجودات الثابتة عناية هامة للأسباب التالي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أهميتها الكبيرة ضمن موجودات المؤسسات الصناعية خاص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صعوبة معالجة الآثار الناتجة عن الأخطاء الحاصلة في إدارتها لسنوات عديدة، بعكس الأخطاء في الموجودات المتداولة والممكن معالجتها خلال أيام أو أسابيع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عدم التأكد بالنسبة للعائد المتوقع منها بسبب التغير في التوقعات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ظهور تطورات تكنولوجية قد تقصر العمر الاقتصادي لها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خسارة الكبيرة التي قد تنتج عن البيع الجبري للموجودات الثابتة الزائدة عن الحاجة والتي تقادمت فني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راحل تخطيط الاستثمارات الراس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راحل تخطيط الاستثمارات الرأسمالية </a:t>
            </a:r>
            <a:endParaRPr b="0" lang="en-US" sz="4400" spc="-1" strike="noStrike">
              <a:solidFill>
                <a:srgbClr val="ffff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صر الافكار الاستثمارية </a:t>
            </a:r>
            <a:endParaRPr b="0" lang="en-US" sz="28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لفرص الاستثمارية من بين الافكار الاستثمارية</a:t>
            </a:r>
            <a:endParaRPr b="0" lang="en-US" sz="2800" spc="-1" strike="noStrike">
              <a:solidFill>
                <a:srgbClr val="ffffff"/>
              </a:solidFill>
              <a:latin typeface="Arial"/>
            </a:endParaRPr>
          </a:p>
          <a:p>
            <a:pPr marL="308520" indent="-30852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مل دراسة اولية للفرص الاستثمارية المختارة و اختيار افضلها </a:t>
            </a:r>
            <a:endParaRPr b="0" lang="en-US" sz="2800" spc="-1" strike="noStrike">
              <a:solidFill>
                <a:srgbClr val="ffffff"/>
              </a:solidFill>
              <a:latin typeface="Arial"/>
            </a:endParaRPr>
          </a:p>
          <a:p>
            <a:pPr marL="308520" indent="-30852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جراء دراسة تفصيلية للمشاريع التي تم قبوله في الدراسة المبدئية </a:t>
            </a:r>
            <a:endParaRPr b="0" lang="en-US" sz="2800" spc="-1" strike="noStrike">
              <a:solidFill>
                <a:srgbClr val="ffffff"/>
              </a:solidFill>
              <a:latin typeface="Arial"/>
            </a:endParaRPr>
          </a:p>
          <a:p>
            <a:pPr marL="308520" indent="-30852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فضل المشاريع الاستثمارية </a:t>
            </a:r>
            <a:endParaRPr b="0" lang="en-US" sz="2800" spc="-1" strike="noStrike">
              <a:solidFill>
                <a:srgbClr val="ffffff"/>
              </a:solidFill>
              <a:latin typeface="Arial"/>
            </a:endParaRPr>
          </a:p>
          <a:p>
            <a:pPr marL="308520" indent="-30852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نفيذ</a:t>
            </a:r>
            <a:endParaRPr b="0" lang="en-US" sz="2800" spc="-1" strike="noStrike">
              <a:solidFill>
                <a:srgbClr val="ffffff"/>
              </a:solidFill>
              <a:latin typeface="Arial"/>
            </a:endParaRPr>
          </a:p>
          <a:p>
            <a:pPr marL="308520" indent="-30852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شغيل</a:t>
            </a:r>
            <a:endParaRPr b="0" lang="en-US" sz="2800" spc="-1" strike="noStrike">
              <a:solidFill>
                <a:srgbClr val="ffffff"/>
              </a:solidFill>
              <a:latin typeface="Arial"/>
            </a:endParaRPr>
          </a:p>
          <a:p>
            <a:pPr marL="308520" indent="-30852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قييم ( التحليل الما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سم الكتاب المقرر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الإدارة التمويلية في الشركات </a:t>
            </a:r>
            <a:endParaRPr b="0" lang="en-US" sz="48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د. محمد عزت الميداني </a:t>
            </a:r>
            <a:endParaRPr b="0" lang="en-US" sz="48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مكتبة العبيكان</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مراحل تخطيط الاستثمارات بالنسبة للمشاريع القائمة</a:t>
            </a:r>
            <a:endParaRPr b="0" lang="en-US" sz="4000" spc="-1" strike="noStrike">
              <a:solidFill>
                <a:srgbClr val="ffff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17320" indent="-517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اولى :مرحلة تحضير المشروع :</a:t>
            </a:r>
            <a:r>
              <a:rPr b="0" lang="ar-JO" sz="3200" spc="-1" strike="noStrike">
                <a:solidFill>
                  <a:srgbClr val="ffffff"/>
                </a:solidFill>
                <a:latin typeface="Arial"/>
              </a:rPr>
              <a:t> حيث يتم فيها تحضير المشاريع التي تنوي المنشاة القيام بها  و في هذه المرحلة يكون المشروع على شكل اقتراح لدراسته مع بقية الاقتراحات الاستثمارية مثل :</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زيادة الطاقة الانتاجية للمنشاة</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تخفيض تكاليف الانتاج دون تغيير حجم المبيعات </a:t>
            </a:r>
            <a:endParaRPr b="0" lang="en-US" sz="3200" spc="-1" strike="noStrike">
              <a:solidFill>
                <a:srgbClr val="ffffff"/>
              </a:solidFill>
              <a:latin typeface="Arial"/>
            </a:endParaRPr>
          </a:p>
          <a:p>
            <a:pPr marL="517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نية : مرحلة تقييم المشروع</a:t>
            </a:r>
            <a:r>
              <a:rPr b="0" lang="ar-JO" sz="3200" spc="-1" strike="noStrike">
                <a:solidFill>
                  <a:srgbClr val="ffffff"/>
                </a:solidFill>
                <a:latin typeface="Arial"/>
              </a:rPr>
              <a:t> : و تتضمن هذه العمل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دير العوائد و النفقات عن طريق معرفة التدفقات النقد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ختيار معيار مناسب للحكم على المشاريع لتنفيذ افضل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لثة : مرحلة اختيار المشاري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رابعة مرحلة تنفيذ المشاري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كاليف </a:t>
            </a:r>
            <a:r>
              <a:rPr b="1" lang="ar-JO" sz="4400" spc="-1" strike="noStrike">
                <a:solidFill>
                  <a:srgbClr val="ffffff"/>
                </a:solidFill>
                <a:latin typeface="Arial"/>
              </a:rPr>
              <a:t>ال</a:t>
            </a:r>
            <a:r>
              <a:rPr b="1" lang="ar-SA" sz="4400" spc="-1" strike="noStrike">
                <a:solidFill>
                  <a:srgbClr val="ffffff"/>
                </a:solidFill>
                <a:latin typeface="Arial"/>
              </a:rPr>
              <a:t>مشروع</a:t>
            </a:r>
            <a:r>
              <a:rPr b="1" lang="ar-JO" sz="4400" spc="-1" strike="noStrike">
                <a:solidFill>
                  <a:srgbClr val="ffffff"/>
                </a:solidFill>
                <a:latin typeface="Arial"/>
              </a:rPr>
              <a:t> الاستثماري</a:t>
            </a:r>
            <a:r>
              <a:rPr b="1" lang="ar-SA"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a:t>
            </a:r>
            <a:r>
              <a:rPr b="1" lang="en-US" sz="3200" spc="-1" strike="noStrike">
                <a:solidFill>
                  <a:srgbClr val="ffffff"/>
                </a:solidFill>
                <a:latin typeface="Arial"/>
              </a:rPr>
              <a:t> – </a:t>
            </a:r>
            <a:r>
              <a:rPr b="1" lang="ar-SA" sz="3200" spc="-1" strike="noStrike">
                <a:solidFill>
                  <a:srgbClr val="ffffff"/>
                </a:solidFill>
                <a:latin typeface="Arial"/>
              </a:rPr>
              <a:t>تكاليف استثمارية</a:t>
            </a:r>
            <a:r>
              <a:rPr b="1" lang="en-US" sz="3200" spc="-1" strike="noStrike">
                <a:solidFill>
                  <a:srgbClr val="ffffff"/>
                </a:solidFill>
                <a:latin typeface="Arial"/>
              </a:rPr>
              <a:t>: </a:t>
            </a:r>
            <a:br>
              <a:rPr sz="3200"/>
            </a:br>
            <a:r>
              <a:rPr b="1" lang="ar-SA" sz="3200" spc="-1" strike="noStrike">
                <a:solidFill>
                  <a:srgbClr val="ffffff"/>
                </a:solidFill>
                <a:latin typeface="Arial"/>
              </a:rPr>
              <a:t>وهى كافة ما ينفق على المشروع منذ بداية التفكير فى عملية الاستثمار حتى دورة التشغيل العادية الأولى . وتمثل هذه التكاليف إنفاق استثمارى يستفيد منه المشروع لأكثر من سنة خلال عمر المشروع . وتشمل جميع تكاليف تأسيس وإنشاء المشروع التى سبق ذكرها فى الجدوى الفنية بالإضافة إلى فوائد القروض طويلة الأجل</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تكاليف جارية</a:t>
            </a:r>
            <a:r>
              <a:rPr b="1" lang="en-US" sz="3200" spc="-1" strike="noStrike">
                <a:solidFill>
                  <a:srgbClr val="ffffff"/>
                </a:solidFill>
                <a:latin typeface="Arial"/>
              </a:rPr>
              <a:t> : </a:t>
            </a:r>
            <a:br>
              <a:rPr sz="3200"/>
            </a:br>
            <a:r>
              <a:rPr b="1" lang="ar-SA" sz="3200" spc="-1" strike="noStrike">
                <a:solidFill>
                  <a:srgbClr val="ffffff"/>
                </a:solidFill>
                <a:latin typeface="Arial"/>
              </a:rPr>
              <a:t>وتشمل جملة التكاليف قصيرة الأجل ، تكاليف مستلزمات التشغيل لدورة واحدة وتكاليف الأجور والمرتبات والوقود والطاقة</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التمويل الاستثمارى</a:t>
            </a: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يتم تمويل المشروعات من مصادر متعددة تغطى واحدة منها أو أكثر الالتزامات المالية الضرورية لإنشاء المشروع و تشغيله</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هذه المصادر هى</a:t>
            </a:r>
            <a:r>
              <a:rPr b="1" lang="en-US" sz="4000" spc="-1" strike="noStrike">
                <a:solidFill>
                  <a:srgbClr val="ffffff"/>
                </a:solidFill>
                <a:latin typeface="Arial"/>
              </a:rPr>
              <a:t> : </a:t>
            </a:r>
            <a:br>
              <a:rPr sz="4000"/>
            </a:br>
            <a:endParaRPr b="0" lang="en-US" sz="40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رأس المال المملوك لصاحب المشروع</a:t>
            </a:r>
            <a:r>
              <a:rPr b="1" lang="en-US"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وض من البنوك أو مؤسسات التمويل المختلفة وقد تكون قروض طويلة الأجل أكثر من خمس سنوات وقروض قصيرة الأجل أقل من سنة</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افع أو العوائد من المشروع</a:t>
            </a:r>
            <a:r>
              <a:rPr b="1" lang="en-US" sz="3200" spc="-1" strike="noStrike">
                <a:solidFill>
                  <a:srgbClr val="ffffff"/>
                </a:solidFill>
                <a:latin typeface="Arial"/>
              </a:rPr>
              <a:t> : </a:t>
            </a:r>
            <a:br>
              <a:rPr sz="3200"/>
            </a:br>
            <a:r>
              <a:rPr b="1" lang="ar-SA" sz="3200" spc="-1" strike="noStrike">
                <a:solidFill>
                  <a:srgbClr val="ffffff"/>
                </a:solidFill>
                <a:latin typeface="Arial"/>
              </a:rPr>
              <a:t>يتضمن منافع المشروع ، قيمة كل من نواتج المشروع الرئيسية والثانوية باستخدام سعر السوق</a:t>
            </a:r>
            <a:r>
              <a:rPr b="1" lang="en-US" sz="3200" spc="-1" strike="noStrike">
                <a:solidFill>
                  <a:srgbClr val="ffffff"/>
                </a:solidFill>
                <a:latin typeface="Arial"/>
              </a:rPr>
              <a:t> . </a:t>
            </a:r>
            <a:br>
              <a:rPr sz="3200"/>
            </a:br>
            <a:r>
              <a:rPr b="1" lang="ar-SA" sz="3200" spc="-1" strike="noStrike">
                <a:solidFill>
                  <a:srgbClr val="ffffff"/>
                </a:solidFill>
                <a:latin typeface="Arial"/>
              </a:rPr>
              <a:t>عمر المشروع </a:t>
            </a:r>
            <a:r>
              <a:rPr b="1" lang="ar-JO" sz="3200" spc="-1" strike="noStrike">
                <a:solidFill>
                  <a:srgbClr val="ffffff"/>
                </a:solidFill>
                <a:latin typeface="Arial"/>
              </a:rPr>
              <a:t>:</a:t>
            </a:r>
            <a:r>
              <a:rPr b="1" lang="ar-SA" sz="3200" spc="-1" strike="noStrike">
                <a:solidFill>
                  <a:srgbClr val="ffffff"/>
                </a:solidFill>
                <a:latin typeface="Arial"/>
              </a:rPr>
              <a:t>وهى عدد السنوات التى يعطى فيها المشروع منافع</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a:t>
            </a:r>
            <a:endParaRPr b="0" lang="en-US" sz="4400" spc="-1" strike="noStrike">
              <a:solidFill>
                <a:srgbClr val="ffffff"/>
              </a:solidFill>
              <a:latin typeface="Arial"/>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دفق النقدي هو دخول النقد الجاهز الى صندوق الشركة او حسابها الجاري لدى البنك او خروجه من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فصل العاشر</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ادة النظرية</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أنواع التدفقات النقدية </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1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a:t>
            </a:r>
            <a:r>
              <a:rPr b="0" lang="ar-SA" sz="2800" spc="-1" strike="noStrike">
                <a:solidFill>
                  <a:srgbClr val="ffffff"/>
                </a:solidFill>
                <a:latin typeface="Arial"/>
              </a:rPr>
              <a:t>ثلاثة أنواع </a:t>
            </a:r>
            <a:r>
              <a:rPr b="0" lang="ar-JO" sz="2800" spc="-1" strike="noStrike">
                <a:solidFill>
                  <a:srgbClr val="ffffff"/>
                </a:solidFill>
                <a:latin typeface="Arial"/>
              </a:rPr>
              <a:t> :</a:t>
            </a:r>
            <a:endParaRPr b="0" lang="en-US" sz="2800" spc="-1" strike="noStrike">
              <a:solidFill>
                <a:srgbClr val="ffffff"/>
              </a:solidFill>
              <a:latin typeface="Arial"/>
            </a:endParaRPr>
          </a:p>
          <a:p>
            <a:pPr marL="511920" indent="-511920" algn="r" rtl="1">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داخل : و هو ينشا عن اية عملية تؤدي الى دخول نقد جاهز الى الصندوق او الحساب الجاري </a:t>
            </a:r>
            <a:endParaRPr b="0" lang="en-US" sz="2800" spc="-1" strike="noStrike">
              <a:solidFill>
                <a:srgbClr val="ffffff"/>
              </a:solidFill>
              <a:latin typeface="Arial"/>
            </a:endParaRPr>
          </a:p>
          <a:p>
            <a:pPr marL="511920" indent="-511920" algn="r" rtl="1">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خارج : و هو ينشأ عن اية عملية تؤدي الى خروج نقد جاهز الى الخارج من صندوق المنشأة او حسابها الجاري في البنك</a:t>
            </a:r>
            <a:endParaRPr b="0" lang="en-US" sz="2800" spc="-1" strike="noStrike">
              <a:solidFill>
                <a:srgbClr val="ffffff"/>
              </a:solidFill>
              <a:latin typeface="Arial"/>
            </a:endParaRPr>
          </a:p>
          <a:p>
            <a:pPr marL="511920" indent="-511920" algn="r" rtl="1">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تدفق</a:t>
            </a:r>
            <a:r>
              <a:rPr b="0" lang="ar-SA" sz="2800" spc="-1" strike="noStrike">
                <a:solidFill>
                  <a:srgbClr val="ffffff"/>
                </a:solidFill>
                <a:latin typeface="Arial"/>
              </a:rPr>
              <a:t> النقدي </a:t>
            </a:r>
            <a:r>
              <a:rPr b="0" lang="ar-JO" sz="2800" spc="-1" strike="noStrike">
                <a:solidFill>
                  <a:srgbClr val="ffffff"/>
                </a:solidFill>
                <a:latin typeface="Arial"/>
              </a:rPr>
              <a:t> : و هو التدفق النقدي الى </a:t>
            </a:r>
            <a:r>
              <a:rPr b="0" lang="ar-SA" sz="2800" spc="-1" strike="noStrike">
                <a:solidFill>
                  <a:srgbClr val="ffffff"/>
                </a:solidFill>
                <a:latin typeface="Arial"/>
              </a:rPr>
              <a:t>الداخل </a:t>
            </a:r>
            <a:r>
              <a:rPr b="0" lang="ar-JO" sz="2800" spc="-1" strike="noStrike">
                <a:solidFill>
                  <a:srgbClr val="ffffff"/>
                </a:solidFill>
                <a:latin typeface="Arial"/>
              </a:rPr>
              <a:t> مطروحا منة التدفق النقدي الى الخارج خلال فترة زمنية محددة و قد يكون الجواب صفر عندما يتساوى التدفقات خلال الفترة الزمنية   او موجبا و عندها يسمى الجواب فائضا او قد يكون الجواب سالبا فيسمى عجزا </a:t>
            </a:r>
            <a:endParaRPr b="0" lang="en-US" sz="2800" spc="-1" strike="noStrike">
              <a:solidFill>
                <a:srgbClr val="ffffff"/>
              </a:solidFill>
              <a:latin typeface="Arial"/>
            </a:endParaRPr>
          </a:p>
          <a:p>
            <a:pPr marL="51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ا هي ا</a:t>
            </a:r>
            <a:r>
              <a:rPr b="1" lang="ar-SY" sz="4400" spc="-1" strike="noStrike">
                <a:solidFill>
                  <a:srgbClr val="ffffff"/>
                </a:solidFill>
                <a:latin typeface="Arial"/>
              </a:rPr>
              <a:t>قس</a:t>
            </a:r>
            <a:r>
              <a:rPr b="1" lang="ar-SA" sz="4400" spc="-1" strike="noStrike">
                <a:solidFill>
                  <a:srgbClr val="ffffff"/>
                </a:solidFill>
                <a:latin typeface="Arial"/>
              </a:rPr>
              <a:t>ا</a:t>
            </a:r>
            <a:r>
              <a:rPr b="1" lang="ar-SY" sz="4400" spc="-1" strike="noStrike">
                <a:solidFill>
                  <a:srgbClr val="ffffff"/>
                </a:solidFill>
                <a:latin typeface="Arial"/>
              </a:rPr>
              <a:t>م قائمة التدفقات النقدية</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شغيل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CASH FLOWS FROM OPERATING ACTIVITIES</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2</a:t>
            </a:r>
            <a:r>
              <a:rPr b="1" lang="ar-SA" sz="2400" spc="-1" strike="noStrike">
                <a:solidFill>
                  <a:srgbClr val="ffffff"/>
                </a:solidFill>
                <a:latin typeface="Arial"/>
              </a:rPr>
              <a:t>-    التدفقات النقدية من الأنشطة الاستثماري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ASH FLOWS FROM INVESTING ACTIVITIES</a:t>
            </a:r>
            <a:r>
              <a:rPr b="1" lang="en-US"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مويلية</a:t>
            </a:r>
            <a:endParaRPr b="0" lang="en-US" sz="24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CASH FLOWS FROM FINANCING ACTIVITIES</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1</a:t>
            </a:r>
            <a:r>
              <a:rPr b="1" lang="ar-SA" sz="4400" spc="-1" strike="noStrike">
                <a:solidFill>
                  <a:srgbClr val="ffffff"/>
                </a:solidFill>
                <a:latin typeface="Arial"/>
              </a:rPr>
              <a:t>. </a:t>
            </a:r>
            <a:r>
              <a:rPr b="1" lang="ar-SY" sz="4400" spc="-1" strike="noStrike">
                <a:solidFill>
                  <a:srgbClr val="ffffff"/>
                </a:solidFill>
                <a:latin typeface="Arial"/>
              </a:rPr>
              <a:t>التدفقات النقدية من الأنشطة التشغيلية</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هي التدفقات النقدية المتولدة من الأنشطة الرئيسية التي تمارسها المؤسسة، والتي تشمل ما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لي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صافي الدخل النقدي للفترة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حصل من العملاء، أي الناتج عن المبيعات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دفوع للموردين، أي ثمن البضائع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دفوع للضرائب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دفوع على المصاريف المختلفة .</a:t>
            </a:r>
            <a:endParaRPr b="0" lang="en-US" sz="3200" spc="-1" strike="noStrike">
              <a:solidFill>
                <a:srgbClr val="ffffff"/>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التدفقات النقدية من الأنشطة الاستثمارية</a:t>
            </a:r>
            <a:endParaRPr b="0" lang="en-US" sz="40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SY" sz="2800" spc="-1" strike="noStrike">
                <a:solidFill>
                  <a:srgbClr val="ffffff"/>
                </a:solidFill>
                <a:latin typeface="Arial"/>
              </a:rPr>
              <a:t>وهي التدفقات النقدية التي تشمل بيع وشراء الموجودات الطويلة الأجل، ويتطلب تحديدها تحليل عناصر الميزانية في جانب الموجودات والتي لم يتم تحليلها عند تحديد التدفقات النقدية من الأنشطة التشغيلية، ومن الأمثلة عليها ما يلي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دفوع لشراء أجهزة ومعدات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دفوع لشراء أسهم وسندات طويلة الأجل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دفوع مقابل استثمارات أخرى طويلة الأجل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متحصلات النقدية من بيع الموجودات الثابتة أو الاستثمارات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Y" sz="4400" spc="-1" strike="noStrike">
                <a:solidFill>
                  <a:srgbClr val="ffffff"/>
                </a:solidFill>
                <a:latin typeface="Arial"/>
              </a:rPr>
              <a:t>التدفقات النقدية من الأنشطة التمويلية :</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هي التدفقات النقدية المتعلقة بالحصول على الموارد من المالكين أو إعادتها لهم، ذلك فيما يتعلق الحصول على التمويل من المقرضين أو تسديد القروض لهم، ومن الأمثلة عليها ما يلي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تحصل من إصدار أسهم جديدة أو زيادة رأس المال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تحصل من إصدار سندات طويلة الأجل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تحصل من القروض والتسهيلات البنكية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دفوع على توزيع الارباح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دفوع لتسديد السندات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دفوع لتسديد القروض والتسهيلات البنكية .</a:t>
            </a:r>
            <a:endParaRPr b="0" lang="en-US" sz="2800" spc="-1" strike="noStrike">
              <a:solidFill>
                <a:srgbClr val="ffffff"/>
              </a:solidFill>
              <a:latin typeface="Arial"/>
            </a:endParaRPr>
          </a:p>
          <a:p>
            <a:pPr marL="5299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ساس </a:t>
            </a:r>
            <a:r>
              <a:rPr b="1" lang="ar-JO" sz="4400" spc="-1" strike="noStrike">
                <a:solidFill>
                  <a:srgbClr val="ffffff"/>
                </a:solidFill>
                <a:latin typeface="Arial"/>
              </a:rPr>
              <a:t>تخطيط الاستثمارات الرأسمالية :</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ما كان </a:t>
            </a:r>
            <a:r>
              <a:rPr b="1" lang="ar-JO" sz="2800" spc="-1" strike="noStrike">
                <a:solidFill>
                  <a:srgbClr val="ffffff"/>
                </a:solidFill>
                <a:latin typeface="Arial"/>
              </a:rPr>
              <a:t>تدفق</a:t>
            </a:r>
            <a:r>
              <a:rPr b="1" lang="ar-SA" sz="2800" spc="-1" strike="noStrike">
                <a:solidFill>
                  <a:srgbClr val="ffffff"/>
                </a:solidFill>
                <a:latin typeface="Arial"/>
              </a:rPr>
              <a:t> المنافع يتدفق خلال عدد من السنوات ( عمر المشروع ) وت</a:t>
            </a:r>
            <a:r>
              <a:rPr b="1" lang="ar-JO" sz="2800" spc="-1" strike="noStrike">
                <a:solidFill>
                  <a:srgbClr val="ffffff"/>
                </a:solidFill>
                <a:latin typeface="Arial"/>
              </a:rPr>
              <a:t>دفق</a:t>
            </a:r>
            <a:r>
              <a:rPr b="1" lang="ar-SA" sz="2800" spc="-1" strike="noStrike">
                <a:solidFill>
                  <a:srgbClr val="ffffff"/>
                </a:solidFill>
                <a:latin typeface="Arial"/>
              </a:rPr>
              <a:t> التكاليف يتركز فى السنوات الأولى من المشروع والجزء الأكبر منه ينفق قبل بدء تشغيل المشروع ، فإن أهم ما يميز دراسات </a:t>
            </a:r>
            <a:r>
              <a:rPr b="1" lang="ar-JO" sz="2800" spc="-1" strike="noStrike">
                <a:solidFill>
                  <a:srgbClr val="ffffff"/>
                </a:solidFill>
                <a:latin typeface="Arial"/>
              </a:rPr>
              <a:t>الاستثمارات الرأسمالية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u="sng">
                <a:solidFill>
                  <a:srgbClr val="ffffff"/>
                </a:solidFill>
                <a:uFillTx/>
                <a:latin typeface="Arial"/>
              </a:rPr>
              <a:t>هى إيجاد القيمة الحالية للنقود التى ستنفق أو يحصل عليها المشروع خلال سنوات تشغيل المشروع .</a:t>
            </a:r>
            <a:r>
              <a:rPr b="1" lang="ar-SA" sz="2800" spc="-1" strike="noStrike">
                <a:solidFill>
                  <a:srgbClr val="ffffff"/>
                </a:solidFill>
                <a:latin typeface="Arial"/>
              </a:rPr>
              <a:t>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طقيا أن حصول صاحب المشروع على ألف </a:t>
            </a:r>
            <a:r>
              <a:rPr b="1" lang="ar-JO" sz="2800" spc="-1" strike="noStrike">
                <a:solidFill>
                  <a:srgbClr val="ffffff"/>
                </a:solidFill>
                <a:latin typeface="Arial"/>
              </a:rPr>
              <a:t>ريال</a:t>
            </a:r>
            <a:r>
              <a:rPr b="1" lang="ar-SA" sz="2800" spc="-1" strike="noStrike">
                <a:solidFill>
                  <a:srgbClr val="ffffff"/>
                </a:solidFill>
                <a:latin typeface="Arial"/>
              </a:rPr>
              <a:t> بعد</a:t>
            </a:r>
            <a:r>
              <a:rPr b="1" lang="en-US" sz="2800" spc="-1" strike="noStrike">
                <a:solidFill>
                  <a:srgbClr val="ffffff"/>
                </a:solidFill>
                <a:latin typeface="Arial"/>
              </a:rPr>
              <a:t> </a:t>
            </a:r>
            <a:r>
              <a:rPr b="1" lang="en-US" sz="2800" spc="-1" strike="noStrike">
                <a:solidFill>
                  <a:srgbClr val="ffffff"/>
                </a:solidFill>
                <a:latin typeface="Arial"/>
              </a:rPr>
              <a:t>10</a:t>
            </a:r>
            <a:r>
              <a:rPr b="1" lang="en-US" sz="2800" spc="-1" strike="noStrike">
                <a:solidFill>
                  <a:srgbClr val="ffffff"/>
                </a:solidFill>
                <a:latin typeface="Arial"/>
              </a:rPr>
              <a:t> </a:t>
            </a:r>
            <a:r>
              <a:rPr b="1" lang="ar-SA" sz="2800" spc="-1" strike="noStrike">
                <a:solidFill>
                  <a:srgbClr val="ffffff"/>
                </a:solidFill>
                <a:latin typeface="Arial"/>
              </a:rPr>
              <a:t>سنوات من بدأ المشروع لا تعادل قيمتها ألف </a:t>
            </a:r>
            <a:r>
              <a:rPr b="1" lang="ar-JO" sz="2800" spc="-1" strike="noStrike">
                <a:solidFill>
                  <a:srgbClr val="ffffff"/>
                </a:solidFill>
                <a:latin typeface="Arial"/>
              </a:rPr>
              <a:t>ريال</a:t>
            </a:r>
            <a:r>
              <a:rPr b="1" lang="ar-SA" sz="2800" spc="-1" strike="noStrike">
                <a:solidFill>
                  <a:srgbClr val="ffffff"/>
                </a:solidFill>
                <a:latin typeface="Arial"/>
              </a:rPr>
              <a:t> تنفق فى تأسيس المشروع</a:t>
            </a:r>
            <a:r>
              <a:rPr b="1" lang="en-US" sz="2800" spc="-1" strike="noStrike">
                <a:solidFill>
                  <a:srgbClr val="ffffff"/>
                </a:solidFill>
                <a:latin typeface="Arial"/>
              </a:rPr>
              <a:t> .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30592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ى </a:t>
            </a:r>
            <a:r>
              <a:rPr b="1" lang="ar-SA" sz="2800" spc="-1" strike="noStrike">
                <a:solidFill>
                  <a:srgbClr val="ffffff"/>
                </a:solidFill>
                <a:latin typeface="Arial"/>
              </a:rPr>
              <a:t>القيمة</a:t>
            </a:r>
            <a:r>
              <a:rPr b="1" lang="ar-SA" sz="3600" spc="-1" strike="noStrike">
                <a:solidFill>
                  <a:srgbClr val="ffffff"/>
                </a:solidFill>
                <a:latin typeface="Arial"/>
              </a:rPr>
              <a:t> ال</a:t>
            </a:r>
            <a:r>
              <a:rPr b="1" lang="ar-JO" sz="3600" spc="-1" strike="noStrike">
                <a:solidFill>
                  <a:srgbClr val="ffffff"/>
                </a:solidFill>
                <a:latin typeface="Arial"/>
              </a:rPr>
              <a:t>ح</a:t>
            </a:r>
            <a:r>
              <a:rPr b="1" lang="ar-SA" sz="3600" spc="-1" strike="noStrike">
                <a:solidFill>
                  <a:srgbClr val="ffffff"/>
                </a:solidFill>
                <a:latin typeface="Arial"/>
              </a:rPr>
              <a:t>الية لوحدة من عمله ما يتم الحصول </a:t>
            </a:r>
            <a:r>
              <a:rPr b="1" lang="ar-SA" sz="3200" spc="-1" strike="noStrike">
                <a:solidFill>
                  <a:srgbClr val="ffffff"/>
                </a:solidFill>
                <a:latin typeface="Arial"/>
              </a:rPr>
              <a:t>عليها أو تدفع فى السنة ن ؟</a:t>
            </a:r>
            <a:endParaRPr b="0" lang="en-US" sz="32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تخدم فى الحصول على القيمة الحالية للنقود جداول الخصم الدولية و التى يوضح المحور الرأسى فيها قيمة الوحدة من العملة بعد سنة أو سنتين و ..... حتى خمسون عاما . ويوضح المحور الأفقى قيمة الوحدة عند أسعار خصم مختلفة </a:t>
            </a:r>
            <a:r>
              <a:rPr b="1" lang="ar-SA" sz="3200" spc="-1" strike="noStrike">
                <a:solidFill>
                  <a:srgbClr val="ffffff"/>
                </a:solidFill>
                <a:latin typeface="Arial"/>
              </a:rPr>
              <a:t>1</a:t>
            </a:r>
            <a:r>
              <a:rPr b="1" lang="ar-SA" sz="3200" spc="-1" strike="noStrike">
                <a:solidFill>
                  <a:srgbClr val="ffffff"/>
                </a:solidFill>
                <a:latin typeface="Arial"/>
              </a:rPr>
              <a:t> % - حتى </a:t>
            </a:r>
            <a:r>
              <a:rPr b="1" lang="ar-SA" sz="3200" spc="-1" strike="noStrike">
                <a:solidFill>
                  <a:srgbClr val="ffffff"/>
                </a:solidFill>
                <a:latin typeface="Arial"/>
              </a:rPr>
              <a:t>50</a:t>
            </a:r>
            <a:r>
              <a:rPr b="1" lang="en-US" sz="3200" spc="-1" strike="noStrike">
                <a:solidFill>
                  <a:srgbClr val="ffffff"/>
                </a:solidFill>
                <a:latin typeface="Arial"/>
              </a:rPr>
              <a:t> %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بعد دراسة المادة النظرية في الفصل العاشر من المتوقع من الطالب معرفة  الامور التالية : </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نواع القرارات المال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استثمارات الراسما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نفاق الراسمالي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خطيط الاستثمارات الراسمالية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مقدم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مشروع الاستثماري</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ما هو المقصود بالمشروع؟</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يقصد بلفظ مشروع بأنه  مجموعة الانشطة المرتبطة و المتداخلة في نفس الوقت,  و التي تتضمن استخدام العديد من الموارد المتاحة لتحقيق بعض المنافع في المستقبل الق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0-03-30T05:53:16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