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E68A-AD56-493B-9898-ED2D5DCBF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737F-BD43-4000-820C-0C0C5ABE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CAA3-4492-4C9D-8A88-F913D3D8D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F2ED-6CEA-41C4-82DE-C2C19ACAC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9FDB-F5CA-4E94-BB85-010724B1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48FB-3804-4A9D-B766-6C2C5677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DA2D-56F7-4F58-B097-02E37D5B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2A53-7866-4E67-9730-A462797A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8323-00F4-4846-A1B0-27CA7BBC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2CDD-9F9F-4D1E-9AB2-28D86F69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B932-D96C-4313-8E0A-373C4405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EE85-7508-47AE-B3CF-C5370A56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17A3-A199-4600-B351-26473E57DF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 u="sng">
                <a:solidFill>
                  <a:srgbClr val="cc3399"/>
                </a:solidFill>
                <a:uFillTx/>
                <a:latin typeface="Calibri"/>
                <a:cs typeface="Times New Roman"/>
              </a:rPr>
              <a:t>المتغيرات العشوائ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 u="sng">
                <a:solidFill>
                  <a:srgbClr val="ff0000"/>
                </a:solidFill>
                <a:uFillTx/>
                <a:latin typeface="Calibri"/>
                <a:cs typeface="Times New Roman"/>
              </a:rPr>
              <a:t>دالة التوزيع التراكم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2" descr=""/>
          <p:cNvPicPr/>
          <p:nvPr/>
        </p:nvPicPr>
        <p:blipFill>
          <a:blip r:embed="rId1"/>
          <a:stretch/>
        </p:blipFill>
        <p:spPr>
          <a:xfrm>
            <a:off x="450720" y="1292400"/>
            <a:ext cx="824256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Calibri"/>
                <a:cs typeface="Arial"/>
              </a:rPr>
              <a:t>مثال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أحسب دالة التوزيع التراكمي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للمتغير العشوائي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والتي دوال الكتلة الإحتمالية لها معطاة بالجداول التالية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447920" y="2362320"/>
          <a:ext cx="6095880" cy="7920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(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1981080" y="4343400"/>
          <a:ext cx="6096240" cy="79200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جمو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(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/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/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ontent Placeholder 2" descr=""/>
          <p:cNvPicPr/>
          <p:nvPr/>
        </p:nvPicPr>
        <p:blipFill>
          <a:blip r:embed="rId1"/>
          <a:stretch/>
        </p:blipFill>
        <p:spPr>
          <a:xfrm>
            <a:off x="450720" y="378000"/>
            <a:ext cx="824256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 u="sng">
                <a:solidFill>
                  <a:srgbClr val="ff0000"/>
                </a:solidFill>
                <a:uFillTx/>
                <a:latin typeface="Calibri"/>
                <a:cs typeface="Times New Roman"/>
              </a:rPr>
              <a:t>التوقع والتباين والإنحراف المعياري لدالة التوزيع الإحتمال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2" descr=""/>
          <p:cNvPicPr/>
          <p:nvPr/>
        </p:nvPicPr>
        <p:blipFill>
          <a:blip r:embed="rId1"/>
          <a:stretch/>
        </p:blipFill>
        <p:spPr>
          <a:xfrm>
            <a:off x="450720" y="1060560"/>
            <a:ext cx="82425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ontent Placeholder 2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583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1447920" y="2209680"/>
          <a:ext cx="6095880" cy="91440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المجمو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Content Placeholder 2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ontent Placeholder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59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ontent Placeholder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59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ontent Placeholder 2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ontent Placeholder 2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ff0000"/>
                </a:solidFill>
                <a:uFillTx/>
                <a:latin typeface="Calibri"/>
                <a:cs typeface="Times New Roman"/>
              </a:rPr>
              <a:t>المتغير العشوائ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هو دالة ذات قيم عددية حقيقية معرفة على فراغ العينة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. أي أن المتغير العشوائي هو تطبيق مجاله فراغ العينة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ومجاله المقابل هو مجموعة جزئية من الأعداد الحقيقية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2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Content Placeholder 2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626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1447920" y="2057400"/>
          <a:ext cx="6095880" cy="79200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5920"/>
                <a:gridCol w="1016280"/>
                <a:gridCol w="1015920"/>
                <a:gridCol w="1015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(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Content Placeholder 2" descr=""/>
          <p:cNvPicPr/>
          <p:nvPr/>
        </p:nvPicPr>
        <p:blipFill>
          <a:blip r:embed="rId1"/>
          <a:stretch/>
        </p:blipFill>
        <p:spPr>
          <a:xfrm>
            <a:off x="450720" y="450720"/>
            <a:ext cx="824256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ontent Placeholder 2" descr=""/>
          <p:cNvPicPr/>
          <p:nvPr/>
        </p:nvPicPr>
        <p:blipFill>
          <a:blip r:embed="rId1"/>
          <a:stretch/>
        </p:blipFill>
        <p:spPr>
          <a:xfrm>
            <a:off x="450720" y="378000"/>
            <a:ext cx="824256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Calibri"/>
                <a:cs typeface="Arial"/>
              </a:rPr>
              <a:t>مثال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رميت قطعة نقود مرتين متتاليتين. اعتبري المتغير العشوائي هو عدد الصور الناتجة. أوجد القيم الممكنة للمتغير العشوائي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2" descr=""/>
          <p:cNvPicPr/>
          <p:nvPr/>
        </p:nvPicPr>
        <p:blipFill>
          <a:blip r:embed="rId1"/>
          <a:stretch/>
        </p:blipFill>
        <p:spPr>
          <a:xfrm>
            <a:off x="450720" y="378000"/>
            <a:ext cx="824256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وضع القيم الممكنة للمتغير العشوائي ودالة الكتلة الإحتمالية في جدول كالتالي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066680" y="2057400"/>
          <a:ext cx="7391520" cy="1251000"/>
        </p:xfrm>
        <a:graphic>
          <a:graphicData uri="http://schemas.openxmlformats.org/drawingml/2006/table">
            <a:tbl>
              <a:tblPr/>
              <a:tblGrid>
                <a:gridCol w="1616040"/>
                <a:gridCol w="720720"/>
                <a:gridCol w="722520"/>
                <a:gridCol w="722160"/>
                <a:gridCol w="722520"/>
                <a:gridCol w="722160"/>
                <a:gridCol w="720720"/>
                <a:gridCol w="722520"/>
                <a:gridCol w="722160"/>
              </a:tblGrid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r>
                        <a:rPr b="1" lang="en-US" sz="20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r>
                        <a:rPr b="1" lang="en-US" sz="20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r>
                        <a:rPr b="1" lang="en-US" sz="20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(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(x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(x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(x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  <p:sp>
        <p:nvSpPr>
          <p:cNvPr id="48" name="Rectangle 4"/>
          <p:cNvSpPr/>
          <p:nvPr/>
        </p:nvSpPr>
        <p:spPr>
          <a:xfrm>
            <a:off x="4734720" y="52894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ontent Placeholder 2" descr=""/>
          <p:cNvPicPr/>
          <p:nvPr/>
        </p:nvPicPr>
        <p:blipFill>
          <a:blip r:embed="rId1"/>
          <a:stretch/>
        </p:blipFill>
        <p:spPr>
          <a:xfrm>
            <a:off x="450720" y="378000"/>
            <a:ext cx="824256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ontent Placeholder 2" descr=""/>
          <p:cNvPicPr/>
          <p:nvPr/>
        </p:nvPicPr>
        <p:blipFill>
          <a:blip r:embed="rId1"/>
          <a:stretch/>
        </p:blipFill>
        <p:spPr>
          <a:xfrm>
            <a:off x="450720" y="450720"/>
            <a:ext cx="824256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 u="sng">
                <a:solidFill>
                  <a:srgbClr val="ff0000"/>
                </a:solidFill>
                <a:uFillTx/>
                <a:latin typeface="Calibri"/>
                <a:cs typeface="Times New Roman"/>
              </a:rPr>
              <a:t>خصائص دالة الكتلة الإحتمال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2" descr=""/>
          <p:cNvPicPr/>
          <p:nvPr/>
        </p:nvPicPr>
        <p:blipFill>
          <a:blip r:embed="rId1"/>
          <a:stretch/>
        </p:blipFill>
        <p:spPr>
          <a:xfrm>
            <a:off x="450720" y="1365120"/>
            <a:ext cx="8242560" cy="47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590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1523880" y="1397160"/>
          <a:ext cx="6096240" cy="9144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Zainab</dc:creator>
  <dc:description/>
  <dc:language>en-US</dc:language>
  <cp:lastModifiedBy>Maryam</cp:lastModifiedBy>
  <dcterms:modified xsi:type="dcterms:W3CDTF">2013-12-12T15:42:58Z</dcterms:modified>
  <cp:revision>67</cp:revision>
  <dc:subject/>
  <dc:title>PowerPoint Presentation</dc:title>
</cp:coreProperties>
</file>