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4C8-D173-4401-AD6A-11C4780F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1B5-6000-4271-8822-99613319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444-9506-4DC0-82BB-A55FF4BE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CE1-E896-4544-88A9-27389B0B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94B-A24E-4A6A-893E-77A4C8F9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9A0-6ECF-43A7-8122-F7AC1EC8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B4C-9085-42EF-8882-81F737D2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295-2C60-4F5A-9EA5-DD036353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2A3-0EE4-490D-8AF6-277D8209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24D-4BA0-4347-9B31-C288E1A2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7F1-D84F-416A-813C-E1A76A8B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416-016C-4B5B-A4DE-8E69CA53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0FC-6AA9-4575-B9B6-AC59C6EA6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cc3399"/>
                </a:solidFill>
                <a:uFillTx/>
                <a:latin typeface="Calibri"/>
                <a:cs typeface="Times New Roman"/>
              </a:rPr>
              <a:t>المتغيرات العشوائ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دالة التوزيع التراكم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242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حسب دالة التوزيع التراكم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للمتغير العشوائ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التي دوال الكتلة الإحتمالية لها معطاة بالجداول التال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47920" y="2362320"/>
          <a:ext cx="6095880" cy="792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981080" y="4343400"/>
          <a:ext cx="6096240" cy="7920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التوقع والتباين والإنحراف المعياري لدالة التوزيع الإحتم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450720" y="1060560"/>
            <a:ext cx="8242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447920" y="2209680"/>
          <a:ext cx="6095880" cy="9144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جم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المتغير العشوائ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دالة ذات قيم عددية حقيقية معرفة على فراغ العين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أي أن المتغير العشوائي هو تطبيق مجاله فراغ العين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مجاله المقابل هو مجموعة جزئية من الأعداد الحقيقي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626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447920" y="2057400"/>
          <a:ext cx="6095880" cy="7920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رميت قطعة نقود مرتين متتاليتين. اعتبري المتغير العشوائي هو عدد الصور الناتجة. أوجد القيم الممكنة للمتغير العشوائ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ضع القيم الممكنة للمتغير العشوائي ودالة الكتلة الإحتمالية في جدول كالتال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057400"/>
          <a:ext cx="7391520" cy="1251000"/>
        </p:xfrm>
        <a:graphic>
          <a:graphicData uri="http://schemas.openxmlformats.org/drawingml/2006/table">
            <a:tbl>
              <a:tblPr/>
              <a:tblGrid>
                <a:gridCol w="1616040"/>
                <a:gridCol w="720720"/>
                <a:gridCol w="722520"/>
                <a:gridCol w="722160"/>
                <a:gridCol w="722520"/>
                <a:gridCol w="722160"/>
                <a:gridCol w="720720"/>
                <a:gridCol w="722520"/>
                <a:gridCol w="722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4"/>
          <p:cNvSpPr/>
          <p:nvPr/>
        </p:nvSpPr>
        <p:spPr>
          <a:xfrm>
            <a:off x="4734720" y="5289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خصائص دالة الكتلة الإحت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824256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590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523880" y="1397160"/>
          <a:ext cx="6096240" cy="9144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Zainab</dc:creator>
  <dc:description/>
  <dc:language>en-US</dc:language>
  <cp:lastModifiedBy>Maryam</cp:lastModifiedBy>
  <dcterms:modified xsi:type="dcterms:W3CDTF">2013-12-12T15:42:58Z</dcterms:modified>
  <cp:revision>67</cp:revision>
  <dc:subject/>
  <dc:title>PowerPoint Presentation</dc:title>
</cp:coreProperties>
</file>