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5FB9-DC14-4AE2-A63E-F3E597FA8329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E93E-8128-4E96-9765-1D81A8CB0E86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2CEC-6946-4EFC-AC81-9E2D7F2B690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24D8-7E8D-404B-A6E3-A6DA704A1103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9B01-6A9D-49A7-B950-A51A4DB0C07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953A-0999-42C0-AFDE-5DBC11CAB53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AF88-2B6D-476A-85FD-E661C8EFF44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36DA-4373-474E-B444-AC49E3E1748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D65E-24C2-44A1-8920-A188B68F28CB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308B-97DD-410A-87A6-55F08F94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2DE9-C047-4C3C-88BC-AB4217DE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1EA-7C1C-4441-B55D-E328F4A3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7E66-E9EE-42B9-9F3D-34B9D522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7509-C8E9-42B9-8B87-AB69094B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B9EB-EBE7-4B07-ACA5-4648C9AB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0D809-D280-408C-8359-D9AB9165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3D77-9302-4ADA-8B18-E935F927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346CE-A7B8-48D2-9A9B-F734B54E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0A61-34B9-49C9-9810-475077F0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D1100-A764-46DB-989D-51445E50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12F3-0BFE-4E90-B14D-B3E356B5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28CD-A2E9-41FC-9DEF-B6D7A3AF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3C55-801D-4C6F-ABEC-3A7E5AC5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DE4B5-7771-4B66-A242-746B9C8C3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D55F-0BAD-4C31-A2D3-D576DC6A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7D71-80B6-4543-AF65-01DB430A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A3993-5197-4990-B202-AA5FA324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4E02F-F008-43E8-898C-4F6E5B3E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0D737-1CA5-45F8-B82E-3E667DA3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A6295-1DD0-4603-80D2-CF674D7A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7C677-F6E2-4D86-80CE-7A78FAAB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0A0-7E4E-4EAB-A05A-D8142BFE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63B49-1FAC-4617-A429-91E26510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8B1A8-1AD6-4ED7-9B1F-594325ED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C345A-CAD5-44E6-A6E3-E4BD4D2D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66E2A-19FD-43AA-8FDF-068850EB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84C0E-F14F-4FF4-A06A-C1172AA3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D696D-F0E9-4627-A93D-3A5B797E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F282B-696D-454B-9128-49F22B06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2B9E8-1B0A-4BE5-8CCD-068A6256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AAA0F-69D4-4699-B147-440C706C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779AD-9B33-4D12-BEF1-2FA1B77FC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D1D3-3614-4EA1-88E7-E2EE4888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F9AE5-E528-4D01-A841-DF282848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DCE5-E073-4E13-9B22-952855D6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72572-59EA-4D15-BDBD-42B01451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AC31E-15B3-45E0-919E-4BC0C502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2B704-1561-46A3-99C1-2E4E397F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46B06-81DF-4818-926C-8D223F36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45130-FF89-465E-B507-96962C14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F3428-B0A5-415A-A826-572AE03CA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A252A-004B-44DB-A793-09D92D9F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E69E5-8E75-4037-B4F4-5034C15F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BBDA-D731-42E3-80BF-CE17709A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6B409-9F5D-4D91-B3AD-FCC0C1B4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F665A-7E9B-4EA8-85A3-F29FAACD8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8013D5-5DC8-4F07-B862-E09DA144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3E705-9F6F-4886-979E-5A62B89F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17D64-E365-44CB-8EA9-8E4D48F3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1F563-0CCA-4633-9061-83A8FCC0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4FF3F-DBA9-4EE4-89D0-1C5C1305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68CFB-CA30-40AC-B65F-943968C0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4824C-59E3-48BE-BD86-45826BD70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F90BF-B156-49D8-93F2-59A4E9B3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281D-3312-4B22-A666-DF356759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2AF97-AB3F-4160-97B7-98C066E9F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1D6-0DDE-448E-A8C7-AAF65A939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7E8-67DB-46E7-9EDB-7B931523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6461-5F13-40E2-BF84-37B9823C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47CA-5CC1-449D-B6EA-24CBE523076C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مستطيل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مستطيل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رابط مستقيم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6A3F-7952-4076-82D2-037E274C07DF}" type="slidenum">
              <a:rPr b="0" lang="ar-SA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7027-5CE4-43D8-9E55-A0F000EB0053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مستطيل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مستطيل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ADD97-814E-4C3C-983C-C62838447D68}" type="slidenum">
              <a:rPr b="0" lang="ar-SA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مستطيل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مستطيل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 algn="r" rtl="1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 algn="r" rtl="1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 algn="r" rtl="1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 algn="r" rtl="1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1503-6993-4107-9A2D-2429B45B7377}" type="slidenum">
              <a:rPr b="0" lang="ar-SA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عنوان 1" descr=""/>
          <p:cNvPicPr/>
          <p:nvPr/>
        </p:nvPicPr>
        <p:blipFill>
          <a:blip r:embed="rId1"/>
          <a:stretch/>
        </p:blipFill>
        <p:spPr>
          <a:xfrm>
            <a:off x="3413160" y="237960"/>
            <a:ext cx="5121360" cy="57056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عنوان 1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7254720" cy="603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2" descr=""/>
          <p:cNvPicPr/>
          <p:nvPr/>
        </p:nvPicPr>
        <p:blipFill>
          <a:blip r:embed="rId2"/>
          <a:stretch/>
        </p:blipFill>
        <p:spPr>
          <a:xfrm rot="21369600">
            <a:off x="182520" y="1199880"/>
            <a:ext cx="7777080" cy="5405400"/>
          </a:xfrm>
          <a:prstGeom prst="rect">
            <a:avLst/>
          </a:prstGeom>
          <a:ln w="0">
            <a:noFill/>
          </a:ln>
        </p:spPr>
      </p:pic>
      <p:sp>
        <p:nvSpPr>
          <p:cNvPr id="261" name="مستطيل مستدير الزوايا 4"/>
          <p:cNvSpPr/>
          <p:nvPr/>
        </p:nvSpPr>
        <p:spPr>
          <a:xfrm>
            <a:off x="826920" y="1052640"/>
            <a:ext cx="6337440" cy="50472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7850160" cy="4941720"/>
          </a:xfrm>
          <a:prstGeom prst="rect">
            <a:avLst/>
          </a:prstGeom>
          <a:ln w="0">
            <a:noFill/>
          </a:ln>
        </p:spPr>
      </p:pic>
      <p:sp>
        <p:nvSpPr>
          <p:cNvPr id="264" name="مستطيل 5"/>
          <p:cNvSpPr/>
          <p:nvPr/>
        </p:nvSpPr>
        <p:spPr>
          <a:xfrm>
            <a:off x="7093080" y="2708280"/>
            <a:ext cx="129528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ستطيل 6"/>
          <p:cNvSpPr/>
          <p:nvPr/>
        </p:nvSpPr>
        <p:spPr>
          <a:xfrm rot="19720200">
            <a:off x="5156280" y="3026880"/>
            <a:ext cx="8301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7"/>
          <p:cNvSpPr/>
          <p:nvPr/>
        </p:nvSpPr>
        <p:spPr>
          <a:xfrm>
            <a:off x="5003640" y="2205000"/>
            <a:ext cx="792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ستطيل 8"/>
          <p:cNvSpPr/>
          <p:nvPr/>
        </p:nvSpPr>
        <p:spPr>
          <a:xfrm rot="15027000">
            <a:off x="4353480" y="3248280"/>
            <a:ext cx="8319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ستطيل 9"/>
          <p:cNvSpPr/>
          <p:nvPr/>
        </p:nvSpPr>
        <p:spPr>
          <a:xfrm>
            <a:off x="4211640" y="2205000"/>
            <a:ext cx="79200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مستطيل 10"/>
          <p:cNvSpPr/>
          <p:nvPr/>
        </p:nvSpPr>
        <p:spPr>
          <a:xfrm rot="6035400">
            <a:off x="3328560" y="3271680"/>
            <a:ext cx="83052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ستطيل 11"/>
          <p:cNvSpPr/>
          <p:nvPr/>
        </p:nvSpPr>
        <p:spPr>
          <a:xfrm>
            <a:off x="3348000" y="2276640"/>
            <a:ext cx="792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rebuchet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مستطيل 12"/>
          <p:cNvSpPr/>
          <p:nvPr/>
        </p:nvSpPr>
        <p:spPr>
          <a:xfrm>
            <a:off x="7093080" y="4221000"/>
            <a:ext cx="129528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اتجاه يمي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643280" cy="63374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0" y="189000"/>
            <a:ext cx="4859280" cy="6408720"/>
          </a:xfrm>
          <a:prstGeom prst="rect">
            <a:avLst/>
          </a:prstGeom>
          <a:ln w="0">
            <a:noFill/>
          </a:ln>
        </p:spPr>
      </p:pic>
      <p:sp>
        <p:nvSpPr>
          <p:cNvPr id="274" name="مستطيل 5"/>
          <p:cNvSpPr/>
          <p:nvPr/>
        </p:nvSpPr>
        <p:spPr>
          <a:xfrm>
            <a:off x="2771640" y="2205000"/>
            <a:ext cx="43200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ستطيل 6"/>
          <p:cNvSpPr/>
          <p:nvPr/>
        </p:nvSpPr>
        <p:spPr>
          <a:xfrm>
            <a:off x="2124000" y="2276640"/>
            <a:ext cx="576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ستطيل 7"/>
          <p:cNvSpPr/>
          <p:nvPr/>
        </p:nvSpPr>
        <p:spPr>
          <a:xfrm>
            <a:off x="1187280" y="2205000"/>
            <a:ext cx="50508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عنوان 1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7254720" cy="603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2"/>
          <a:stretch/>
        </p:blipFill>
        <p:spPr>
          <a:xfrm>
            <a:off x="0" y="919080"/>
            <a:ext cx="7956720" cy="5938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مستطيل 4"/>
          <p:cNvSpPr/>
          <p:nvPr/>
        </p:nvSpPr>
        <p:spPr>
          <a:xfrm>
            <a:off x="324000" y="260280"/>
            <a:ext cx="75610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خمس / سبع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أول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ب أب أب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ني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ت أ ث ج أ ح أ 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مستطيل 3"/>
          <p:cNvSpPr/>
          <p:nvPr/>
        </p:nvSpPr>
        <p:spPr>
          <a:xfrm>
            <a:off x="3276720" y="3716280"/>
            <a:ext cx="4572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cs typeface="Mudir MT"/>
              </a:rPr>
              <a:t>المثال الثالث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أأب ب ب ت ت ت ث ث 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Arial"/>
                <a:cs typeface="Mudir MT"/>
              </a:rPr>
              <a:t>أ ب س ت ث س ج ح س خ د س ...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4179960" cy="3960720"/>
          </a:xfrm>
          <a:prstGeom prst="rect">
            <a:avLst/>
          </a:prstGeom>
          <a:ln w="0">
            <a:noFill/>
          </a:ln>
        </p:spPr>
      </p:pic>
      <p:sp>
        <p:nvSpPr>
          <p:cNvPr id="282" name="مستطيل 6"/>
          <p:cNvSpPr/>
          <p:nvPr/>
        </p:nvSpPr>
        <p:spPr>
          <a:xfrm>
            <a:off x="1116000" y="3357720"/>
            <a:ext cx="576360" cy="5029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مستطيل 7"/>
          <p:cNvSpPr/>
          <p:nvPr/>
        </p:nvSpPr>
        <p:spPr>
          <a:xfrm>
            <a:off x="1116000" y="3789360"/>
            <a:ext cx="576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مستطيل 8"/>
          <p:cNvSpPr/>
          <p:nvPr/>
        </p:nvSpPr>
        <p:spPr>
          <a:xfrm>
            <a:off x="1187280" y="4365720"/>
            <a:ext cx="576360" cy="503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مستطيل 9"/>
          <p:cNvSpPr/>
          <p:nvPr/>
        </p:nvSpPr>
        <p:spPr>
          <a:xfrm>
            <a:off x="1187280" y="4869000"/>
            <a:ext cx="576360" cy="504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Tahoma"/>
              </a:rPr>
              <a:t>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عنوان 1" descr=""/>
          <p:cNvPicPr/>
          <p:nvPr/>
        </p:nvPicPr>
        <p:blipFill>
          <a:blip r:embed="rId1"/>
          <a:stretch/>
        </p:blipFill>
        <p:spPr>
          <a:xfrm>
            <a:off x="603360" y="182520"/>
            <a:ext cx="7254720" cy="603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"/>
          <p:cNvPicPr/>
          <p:nvPr/>
        </p:nvPicPr>
        <p:blipFill>
          <a:blip r:embed="rId2"/>
          <a:stretch/>
        </p:blipFill>
        <p:spPr>
          <a:xfrm>
            <a:off x="250920" y="814320"/>
            <a:ext cx="7561080" cy="57103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مستطيل 4"/>
          <p:cNvSpPr/>
          <p:nvPr/>
        </p:nvSpPr>
        <p:spPr>
          <a:xfrm>
            <a:off x="324000" y="260280"/>
            <a:ext cx="756108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ts val="28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7993080" cy="5184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0" y="1413000"/>
            <a:ext cx="8748720" cy="5445000"/>
          </a:xfrm>
          <a:prstGeom prst="rect">
            <a:avLst/>
          </a:prstGeom>
          <a:ln w="0">
            <a:noFill/>
          </a:ln>
        </p:spPr>
      </p:pic>
      <p:pic>
        <p:nvPicPr>
          <p:cNvPr id="291" name="عنوان 1" descr=""/>
          <p:cNvPicPr/>
          <p:nvPr/>
        </p:nvPicPr>
        <p:blipFill>
          <a:blip r:embed="rId2"/>
          <a:stretch/>
        </p:blipFill>
        <p:spPr>
          <a:xfrm>
            <a:off x="384120" y="115920"/>
            <a:ext cx="7699320" cy="6699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ني 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1187280" y="1989000"/>
          <a:ext cx="6096240" cy="1854360"/>
        </p:xfrm>
        <a:graphic>
          <a:graphicData uri="http://schemas.openxmlformats.org/drawingml/2006/table">
            <a:tbl>
              <a:tblPr/>
              <a:tblGrid>
                <a:gridCol w="2032200"/>
                <a:gridCol w="2655720"/>
                <a:gridCol w="14083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187280" y="3933720"/>
          <a:ext cx="6096240" cy="111132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1560"/>
                <a:gridCol w="87012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ه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الرق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عنوان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5a2c64"/>
                </a:solidFill>
                <a:latin typeface="Trebuchet MS"/>
                <a:cs typeface="Mudir MT"/>
              </a:rPr>
              <a:t>تناسب الأعمار من مستوى ( 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13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 – فأكثر  ” 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18</a:t>
            </a:r>
            <a:r>
              <a:rPr b="0" lang="ar-SA" sz="1500" spc="-1" strike="noStrike">
                <a:solidFill>
                  <a:srgbClr val="5a2c64"/>
                </a:solidFill>
                <a:latin typeface="Trebuchet MS"/>
                <a:ea typeface="Mudir MT"/>
              </a:rPr>
              <a:t> ” )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5a2c64"/>
                </a:solidFill>
                <a:latin typeface="Trebuchet MS"/>
                <a:cs typeface="Mudir MT"/>
              </a:rPr>
              <a:t>لعالم النفس ثيرسون عدله د/ أحمد زكي صالح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b83d68"/>
                </a:solidFill>
                <a:latin typeface="Trebuchet MS"/>
                <a:cs typeface="Mudir MT"/>
              </a:rPr>
              <a:t>ما يقيسه الاختبار: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000000"/>
                </a:solidFill>
                <a:latin typeface="Trebuchet MS"/>
                <a:cs typeface="Mudir MT"/>
              </a:rPr>
              <a:t>يقيس الاختبار القدرات العقلية الأولية في النجاح الدراسي والنجاح المهني وهذا يلزم في التوجيه التعليمي والمهني للطلاب بالإضافة إلى أنه يعطي صورة عامة عن ذكاء الطالب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لابد من تحديد العمر الزمني بدقة 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b83d68"/>
                </a:solidFill>
                <a:latin typeface="Trebuchet MS"/>
                <a:ea typeface="Mudir MT"/>
              </a:rPr>
              <a:t>     أقسام الاختبار :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أول </a:t>
            </a: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ل ) </a:t>
            </a:r>
            <a:r>
              <a:rPr b="0" lang="ar-SA" sz="15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معاني الكلمات ويقيس القدرة اللغوية وهو أكثر الاختبارات تشعباً فيها.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5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5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5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خمس دقائق)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بعد مراجعة مفتاح التصحيح الإجابة الصحيحة درجة والفقرات الخاطئة والمتروكة صفر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طريقة التصحيح: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ea typeface="Mudir MT"/>
              </a:rPr>
              <a:t>: لابد أن ترسمين جدول وتحسبين الفقرات الصحيح والخاطئة والمتروك لا يحسب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مجموع الصح – مجموع الخطأ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58920" y="2708280"/>
          <a:ext cx="6095880" cy="1854360"/>
        </p:xfrm>
        <a:graphic>
          <a:graphicData uri="http://schemas.openxmlformats.org/drawingml/2006/table">
            <a:tbl>
              <a:tblPr/>
              <a:tblGrid>
                <a:gridCol w="2031840"/>
                <a:gridCol w="2219400"/>
                <a:gridCol w="18446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خط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ص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rebuchet MS"/>
                          <a:cs typeface="Tahoma"/>
                        </a:rPr>
                        <a:t>رقم المجموع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ة </a:t>
                      </a: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ea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00"/>
                          </a:solidFill>
                          <a:latin typeface="Trebuchet MS"/>
                          <a:cs typeface="Tahoma"/>
                        </a:rPr>
                        <a:t>المجمو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</a:tbl>
          </a:graphicData>
        </a:graphic>
      </p:graphicFrame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457200" y="620280"/>
            <a:ext cx="72388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cs typeface="Mudir MT"/>
              </a:rPr>
              <a:t>المجموع الكلي للمقياس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b83d68"/>
                </a:solidFill>
                <a:latin typeface="Trebuchet MS"/>
                <a:ea typeface="Mudir MT"/>
              </a:rPr>
              <a:t>                                       = </a:t>
            </a:r>
            <a:r>
              <a:rPr b="0" lang="ar-SA" sz="3200" spc="-1" strike="noStrike">
                <a:solidFill>
                  <a:srgbClr val="000000"/>
                </a:solidFill>
                <a:latin typeface="Trebuchet MS"/>
                <a:cs typeface="Mudir MT"/>
              </a:rPr>
              <a:t>ل + نصف ك + ف + ع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 rtl="1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0" name="عنصر نائب للمحتوى 2"/>
          <p:cNvSpPr/>
          <p:nvPr/>
        </p:nvSpPr>
        <p:spPr>
          <a:xfrm>
            <a:off x="611280" y="2997360"/>
            <a:ext cx="7238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>
                <a:solidFill>
                  <a:srgbClr val="b83d68"/>
                </a:solidFill>
                <a:latin typeface="Trebuchet MS"/>
                <a:cs typeface="Mudir MT"/>
              </a:rPr>
              <a:t>مثال سارة عمرها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14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سنة حصلت في القدرة اللغوية على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36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، وفي الإدراك المكاني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29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 ، وفي التفكير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28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، وفي القدرة اللغوية 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42</a:t>
            </a:r>
            <a:r>
              <a:rPr b="0" lang="ar-SA" sz="1900" spc="-1" strike="noStrike">
                <a:solidFill>
                  <a:srgbClr val="b83d68"/>
                </a:solidFill>
                <a:latin typeface="Trebuchet MS"/>
                <a:ea typeface="Mudir MT"/>
              </a:rPr>
              <a:t> درجة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9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أوجدي المجموع الكلي للمقياس ؟؟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"/>
          <p:cNvPicPr/>
          <p:nvPr/>
        </p:nvPicPr>
        <p:blipFill>
          <a:blip r:embed="rId1"/>
          <a:stretch/>
        </p:blipFill>
        <p:spPr>
          <a:xfrm>
            <a:off x="200160" y="189000"/>
            <a:ext cx="8743680" cy="6669000"/>
          </a:xfrm>
          <a:prstGeom prst="rect">
            <a:avLst/>
          </a:prstGeom>
          <a:ln w="0">
            <a:noFill/>
          </a:ln>
        </p:spPr>
      </p:pic>
      <p:sp>
        <p:nvSpPr>
          <p:cNvPr id="302" name="مستطيل مستدير الزوايا 5"/>
          <p:cNvSpPr/>
          <p:nvPr/>
        </p:nvSpPr>
        <p:spPr>
          <a:xfrm>
            <a:off x="594036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مستطيل مستدير الزوايا 6"/>
          <p:cNvSpPr/>
          <p:nvPr/>
        </p:nvSpPr>
        <p:spPr>
          <a:xfrm>
            <a:off x="6948360" y="3284640"/>
            <a:ext cx="28764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مستطيل مستدير الزوايا 7"/>
          <p:cNvSpPr/>
          <p:nvPr/>
        </p:nvSpPr>
        <p:spPr>
          <a:xfrm>
            <a:off x="6875640" y="692280"/>
            <a:ext cx="28872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5" name="رابط كسهم مستقيم 9"/>
          <p:cNvCxnSpPr/>
          <p:nvPr/>
        </p:nvCxnSpPr>
        <p:spPr>
          <a:xfrm>
            <a:off x="7308720" y="3428640"/>
            <a:ext cx="216720" cy="10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p:transition spd="med">
    <p:wedg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07" name="مستطيل مستدير الزوايا 5"/>
          <p:cNvSpPr/>
          <p:nvPr/>
        </p:nvSpPr>
        <p:spPr>
          <a:xfrm>
            <a:off x="442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مستطيل مستدير الزوايا 6"/>
          <p:cNvSpPr/>
          <p:nvPr/>
        </p:nvSpPr>
        <p:spPr>
          <a:xfrm>
            <a:off x="5364000" y="3284640"/>
            <a:ext cx="21600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مستطيل مستدير الزوايا 7"/>
          <p:cNvSpPr/>
          <p:nvPr/>
        </p:nvSpPr>
        <p:spPr>
          <a:xfrm>
            <a:off x="5219640" y="692280"/>
            <a:ext cx="28908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رابط كسهم مستقيم 9"/>
          <p:cNvCxnSpPr>
            <a:stCxn id="308" idx="2"/>
          </p:cNvCxnSpPr>
          <p:nvPr/>
        </p:nvCxnSpPr>
        <p:spPr>
          <a:xfrm flipV="1">
            <a:off x="5472000" y="3428640"/>
            <a:ext cx="2053080" cy="720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2" name="مستطيل مستدير الزوايا 5"/>
          <p:cNvSpPr/>
          <p:nvPr/>
        </p:nvSpPr>
        <p:spPr>
          <a:xfrm>
            <a:off x="2987640" y="0"/>
            <a:ext cx="1584360" cy="692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مستطيل مستدير الزوايا 6"/>
          <p:cNvSpPr/>
          <p:nvPr/>
        </p:nvSpPr>
        <p:spPr>
          <a:xfrm>
            <a:off x="3851280" y="1484280"/>
            <a:ext cx="21600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مستطيل مستدير الزوايا 7"/>
          <p:cNvSpPr/>
          <p:nvPr/>
        </p:nvSpPr>
        <p:spPr>
          <a:xfrm>
            <a:off x="3780000" y="692280"/>
            <a:ext cx="28728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5" name="رابط كسهم مستقيم 9"/>
          <p:cNvCxnSpPr>
            <a:stCxn id="313" idx="2"/>
          </p:cNvCxnSpPr>
          <p:nvPr/>
        </p:nvCxnSpPr>
        <p:spPr>
          <a:xfrm flipV="1">
            <a:off x="3958920" y="1627920"/>
            <a:ext cx="3421800" cy="7236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17" name="مستطيل مستدير الزوايا 5"/>
          <p:cNvSpPr/>
          <p:nvPr/>
        </p:nvSpPr>
        <p:spPr>
          <a:xfrm>
            <a:off x="1547640" y="260280"/>
            <a:ext cx="1584360" cy="50472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مستطيل مستدير الزوايا 6"/>
          <p:cNvSpPr/>
          <p:nvPr/>
        </p:nvSpPr>
        <p:spPr>
          <a:xfrm>
            <a:off x="2484360" y="1557360"/>
            <a:ext cx="21600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مستطيل مستدير الزوايا 7"/>
          <p:cNvSpPr/>
          <p:nvPr/>
        </p:nvSpPr>
        <p:spPr>
          <a:xfrm>
            <a:off x="2411280" y="765000"/>
            <a:ext cx="28908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رابط كسهم مستقيم 9"/>
          <p:cNvCxnSpPr>
            <a:stCxn id="318" idx="2"/>
          </p:cNvCxnSpPr>
          <p:nvPr/>
        </p:nvCxnSpPr>
        <p:spPr>
          <a:xfrm flipV="1">
            <a:off x="2592360" y="1699560"/>
            <a:ext cx="4788720" cy="7380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8744040" cy="6669000"/>
          </a:xfrm>
          <a:prstGeom prst="rect">
            <a:avLst/>
          </a:prstGeom>
          <a:ln w="0">
            <a:noFill/>
          </a:ln>
        </p:spPr>
      </p:pic>
      <p:sp>
        <p:nvSpPr>
          <p:cNvPr id="322" name="مستطيل مستدير الزوايا 5"/>
          <p:cNvSpPr/>
          <p:nvPr/>
        </p:nvSpPr>
        <p:spPr>
          <a:xfrm>
            <a:off x="179280" y="333360"/>
            <a:ext cx="1584360" cy="50328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مستطيل مستدير الزوايا 6"/>
          <p:cNvSpPr/>
          <p:nvPr/>
        </p:nvSpPr>
        <p:spPr>
          <a:xfrm>
            <a:off x="1116000" y="1773360"/>
            <a:ext cx="216000" cy="21564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مستطيل مستدير الزوايا 7"/>
          <p:cNvSpPr/>
          <p:nvPr/>
        </p:nvSpPr>
        <p:spPr>
          <a:xfrm>
            <a:off x="971640" y="836640"/>
            <a:ext cx="287280" cy="216000"/>
          </a:xfrm>
          <a:prstGeom prst="roundRect">
            <a:avLst>
              <a:gd name="adj" fmla="val 16667"/>
            </a:avLst>
          </a:prstGeom>
          <a:noFill/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5" name="رابط كسهم مستقيم 9"/>
          <p:cNvCxnSpPr>
            <a:stCxn id="323" idx="2"/>
          </p:cNvCxnSpPr>
          <p:nvPr/>
        </p:nvCxnSpPr>
        <p:spPr>
          <a:xfrm flipH="1">
            <a:off x="-360" y="1988640"/>
            <a:ext cx="1224720" cy="1080"/>
          </a:xfrm>
          <a:prstGeom prst="straightConnector1">
            <a:avLst/>
          </a:prstGeom>
          <a:ln w="57240">
            <a:solidFill>
              <a:srgbClr val="b83d68"/>
            </a:solidFill>
            <a:miter/>
            <a:tailEnd len="med" type="triangle" w="med"/>
          </a:ln>
        </p:spPr>
      </p:cxnSp>
    </p:spTree>
  </p:cSld>
  <p:transition spd="med">
    <p:wedg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b83d68"/>
                </a:solidFill>
                <a:latin typeface="Trebuchet MS"/>
                <a:cs typeface="Mudir MT"/>
              </a:rPr>
              <a:t>أقسام الاختبار :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ني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ك 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إدارك المكاني ويعتمد على التفريق بين الأشكال السوية والمعكوسة 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ثالث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ف 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تفكير ويقيس القدرة على الاستدلال ومادته الحروف الهجائية وعلى الطالب أن يدرك نوع العلاقة الموجودة في كل سلسلة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خمس / سبع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عشر دقائق 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Trebuchet MS"/>
                <a:cs typeface="Mudir MT"/>
              </a:rPr>
              <a:t>القسم الرابع </a:t>
            </a: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رمز له ( ع) </a:t>
            </a:r>
            <a:r>
              <a:rPr b="0" lang="ar-SA" sz="1800" spc="-1" strike="noStrike">
                <a:solidFill>
                  <a:srgbClr val="000000"/>
                </a:solidFill>
                <a:latin typeface="Trebuchet MS"/>
                <a:ea typeface="Mudir MT"/>
              </a:rPr>
              <a:t>: وهو اختبار الجمع البسيط ويقيس القدرة العددية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دقيقة / دقيقتين)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Trebuchet MS"/>
                <a:ea typeface="Mudir MT"/>
              </a:rPr>
              <a:t>( ستة دقائق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620640"/>
            <a:ext cx="723888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b83d68"/>
                </a:solidFill>
                <a:latin typeface="Trebuchet MS"/>
                <a:cs typeface="Mudir MT"/>
              </a:rPr>
              <a:t>تعليمات عامة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أن الغرض الأساسي من هذا الاختبار هو تقدير قدرتك على حل المشاكل المختلف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قد تميل إلى بعض الأقسام، وقد تستسهل أقساماً .. ” </a:t>
            </a:r>
            <a:r>
              <a:rPr b="0" lang="ar-SA" sz="2000" spc="-1" strike="noStrike">
                <a:solidFill>
                  <a:srgbClr val="ff0000"/>
                </a:solidFill>
                <a:latin typeface="Trebuchet MS"/>
                <a:cs typeface="Mudir MT"/>
              </a:rPr>
              <a:t>يجب أن تهتم بكل الأقسام على حد سواء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نرجو ملاحظة أن هذه الكراسة سيستخدمها أفراد آخرين فلا تكتب عليها شيئا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اقرأ تعليمات كل اختبار بعناية، ولا تترك منها شيئاً، وتأكد من فهمك لطبيعة السؤال في كل اختبار</a:t>
            </a:r>
            <a:r>
              <a:rPr b="0" lang="ar-SA" sz="2000" spc="-1" strike="noStrike">
                <a:solidFill>
                  <a:srgbClr val="ff0000"/>
                </a:solidFill>
                <a:latin typeface="Trebuchet MS"/>
                <a:cs typeface="Mudir MT"/>
              </a:rPr>
              <a:t>، لأنه لن يسمح لك بأي سؤال أثناء إجراء الاختبار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لن تستطيع أن تحل جميع المسائل أو تجيب عن جميع الأسئلة في الوقت المخصص لأن الاختبارات طويلة ، لذلك أجب على قدر استطاعتك متوخياً السرعة والدق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buClr>
                <a:srgbClr val="b83d68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rebuchet MS"/>
                <a:cs typeface="Mudir MT"/>
              </a:rPr>
              <a:t>لابد من  مراعاة  أن تكون الإجابة في الأماكن المخصصة لها في ورقة الإجابة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ts val="2874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1720" indent="-261720" algn="r" rtl="1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عنوان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7255080" cy="669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0" y="981000"/>
            <a:ext cx="8820000" cy="5877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عنوان 1" descr=""/>
          <p:cNvPicPr/>
          <p:nvPr/>
        </p:nvPicPr>
        <p:blipFill>
          <a:blip r:embed="rId1"/>
          <a:stretch/>
        </p:blipFill>
        <p:spPr>
          <a:xfrm>
            <a:off x="450720" y="244440"/>
            <a:ext cx="7255080" cy="669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2"/>
          <a:stretch/>
        </p:blipFill>
        <p:spPr>
          <a:xfrm>
            <a:off x="1042920" y="1162080"/>
            <a:ext cx="6408720" cy="5695920"/>
          </a:xfrm>
          <a:prstGeom prst="rect">
            <a:avLst/>
          </a:prstGeom>
          <a:ln w="0">
            <a:noFill/>
          </a:ln>
        </p:spPr>
      </p:pic>
      <p:sp>
        <p:nvSpPr>
          <p:cNvPr id="236" name="مستطيل 4"/>
          <p:cNvSpPr/>
          <p:nvPr/>
        </p:nvSpPr>
        <p:spPr>
          <a:xfrm>
            <a:off x="3059280" y="2421000"/>
            <a:ext cx="28872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مستطيل 6"/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7"/>
          <p:cNvSpPr/>
          <p:nvPr/>
        </p:nvSpPr>
        <p:spPr>
          <a:xfrm>
            <a:off x="3132000" y="393372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مستطيل 8"/>
          <p:cNvSpPr/>
          <p:nvPr/>
        </p:nvSpPr>
        <p:spPr>
          <a:xfrm>
            <a:off x="3132000" y="465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مستطيل 9">
            <a:hlinkClick r:id="rId3" action="ppaction://hlinksldjump"/>
          </p:cNvPr>
          <p:cNvSpPr/>
          <p:nvPr/>
        </p:nvSpPr>
        <p:spPr>
          <a:xfrm>
            <a:off x="3203640" y="5516640"/>
            <a:ext cx="28872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ستطيل 10"/>
          <p:cNvSpPr/>
          <p:nvPr/>
        </p:nvSpPr>
        <p:spPr>
          <a:xfrm>
            <a:off x="2411280" y="2421000"/>
            <a:ext cx="2890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ستطيل 11"/>
          <p:cNvSpPr/>
          <p:nvPr/>
        </p:nvSpPr>
        <p:spPr>
          <a:xfrm>
            <a:off x="2484360" y="3213000"/>
            <a:ext cx="2872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مستطيل 12"/>
          <p:cNvSpPr/>
          <p:nvPr/>
        </p:nvSpPr>
        <p:spPr>
          <a:xfrm>
            <a:off x="2411280" y="3933720"/>
            <a:ext cx="505080" cy="2872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ستطيل 13"/>
          <p:cNvSpPr/>
          <p:nvPr/>
        </p:nvSpPr>
        <p:spPr>
          <a:xfrm>
            <a:off x="2484360" y="4653000"/>
            <a:ext cx="503280" cy="28872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ستطيل 14">
            <a:hlinkClick r:id="rId4" action="ppaction://hlinksldjump"/>
          </p:cNvPr>
          <p:cNvSpPr/>
          <p:nvPr/>
        </p:nvSpPr>
        <p:spPr>
          <a:xfrm>
            <a:off x="2484360" y="5445000"/>
            <a:ext cx="503280" cy="28764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264360" cy="5040360"/>
          </a:xfrm>
          <a:prstGeom prst="rect">
            <a:avLst/>
          </a:prstGeom>
          <a:ln w="0">
            <a:noFill/>
          </a:ln>
        </p:spPr>
      </p:pic>
      <p:pic>
        <p:nvPicPr>
          <p:cNvPr id="247" name="عنوان 1" descr=""/>
          <p:cNvPicPr/>
          <p:nvPr/>
        </p:nvPicPr>
        <p:blipFill>
          <a:blip r:embed="rId2"/>
          <a:stretch/>
        </p:blipFill>
        <p:spPr>
          <a:xfrm>
            <a:off x="450720" y="244440"/>
            <a:ext cx="7255080" cy="669960"/>
          </a:xfrm>
          <a:prstGeom prst="rect">
            <a:avLst/>
          </a:prstGeom>
          <a:ln w="0">
            <a:noFill/>
          </a:ln>
        </p:spPr>
      </p:pic>
      <p:sp>
        <p:nvSpPr>
          <p:cNvPr id="248" name="مستطيل 4"/>
          <p:cNvSpPr/>
          <p:nvPr/>
        </p:nvSpPr>
        <p:spPr>
          <a:xfrm>
            <a:off x="3276720" y="1844640"/>
            <a:ext cx="28728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مستطيل 6">
            <a:hlinkClick r:id="rId3" action="ppaction://hlinksldjump"/>
          </p:cNvPr>
          <p:cNvSpPr/>
          <p:nvPr/>
        </p:nvSpPr>
        <p:spPr>
          <a:xfrm>
            <a:off x="3132000" y="3213000"/>
            <a:ext cx="287640" cy="21600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مستطيل 10"/>
          <p:cNvSpPr/>
          <p:nvPr/>
        </p:nvSpPr>
        <p:spPr>
          <a:xfrm>
            <a:off x="2627280" y="1844640"/>
            <a:ext cx="504720" cy="2890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مستطيل 11"/>
          <p:cNvSpPr/>
          <p:nvPr/>
        </p:nvSpPr>
        <p:spPr>
          <a:xfrm>
            <a:off x="2627280" y="2852640"/>
            <a:ext cx="504720" cy="289080"/>
          </a:xfrm>
          <a:prstGeom prst="rect">
            <a:avLst/>
          </a:prstGeom>
          <a:solidFill>
            <a:srgbClr val="f2f2f2"/>
          </a:solidFill>
          <a:ln w="39960">
            <a:solidFill>
              <a:srgbClr val="852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مستطيل 4"/>
          <p:cNvSpPr/>
          <p:nvPr/>
        </p:nvSpPr>
        <p:spPr>
          <a:xfrm>
            <a:off x="324000" y="260280"/>
            <a:ext cx="756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000000"/>
                </a:solidFill>
                <a:uFillTx/>
                <a:latin typeface="Arial"/>
                <a:cs typeface="Mudir MT"/>
              </a:rPr>
              <a:t>القسم الأول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رمز له ( ل ) 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  <a:ea typeface="Mudir MT"/>
              </a:rPr>
              <a:t>: وهو اختبار معاني الكلمات ويقيس القدرة اللغوية وهو أكثر الاختبارات تشعباً فيها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 rtl="1">
              <a:lnSpc>
                <a:spcPts val="2874"/>
              </a:lnSpc>
              <a:buClr>
                <a:srgbClr val="b83d6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يحتاج الطالب لفهم تعليماته من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دقيقة / دقيقتين) </a:t>
            </a:r>
            <a:r>
              <a:rPr b="0" lang="ar-SA" sz="1800" spc="-1" strike="noStrike">
                <a:solidFill>
                  <a:srgbClr val="ff0000"/>
                </a:solidFill>
                <a:latin typeface="Arial"/>
                <a:cs typeface="Mudir MT"/>
              </a:rPr>
              <a:t>دقائق والزمن المخصص للإجابة عن أسئلته </a:t>
            </a:r>
            <a:r>
              <a:rPr b="0" lang="ar-SA" sz="1800" spc="-1" strike="noStrike" u="sng">
                <a:solidFill>
                  <a:srgbClr val="ff0000"/>
                </a:solidFill>
                <a:uFillTx/>
                <a:latin typeface="Arial"/>
                <a:ea typeface="Mudir MT"/>
              </a:rPr>
              <a:t>( خمس دقائ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7489800" cy="46353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مستطيل 6"/>
          <p:cNvSpPr/>
          <p:nvPr/>
        </p:nvSpPr>
        <p:spPr>
          <a:xfrm>
            <a:off x="1835280" y="3213000"/>
            <a:ext cx="360360" cy="7207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مستطيل 7"/>
          <p:cNvSpPr/>
          <p:nvPr/>
        </p:nvSpPr>
        <p:spPr>
          <a:xfrm>
            <a:off x="2195640" y="4005360"/>
            <a:ext cx="360360" cy="71892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مستطيل 8"/>
          <p:cNvSpPr/>
          <p:nvPr/>
        </p:nvSpPr>
        <p:spPr>
          <a:xfrm>
            <a:off x="2627280" y="4797360"/>
            <a:ext cx="360360" cy="719280"/>
          </a:xfrm>
          <a:prstGeom prst="rect">
            <a:avLst/>
          </a:prstGeom>
          <a:solidFill>
            <a:srgbClr val="f2f2f2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0000"/>
                </a:solidFill>
                <a:latin typeface="Trebuchet MS"/>
                <a:ea typeface="Tahoma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7:02:06Z</dcterms:created>
  <dc:creator>Micro</dc:creator>
  <dc:description/>
  <dc:language>en-US</dc:language>
  <cp:lastModifiedBy>Last Need</cp:lastModifiedBy>
  <dcterms:modified xsi:type="dcterms:W3CDTF">2012-02-24T08:11:47Z</dcterms:modified>
  <cp:revision>16</cp:revision>
  <dc:subject/>
  <dc:title>مقياس العوامل الخمس الكبرى في الشخصية</dc:title>
</cp:coreProperties>
</file>