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8C72-4C24-4A0C-94AD-6D0F51CDA92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45C3-0E67-46D6-B280-C48F96A3608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05D6-615A-4440-A196-F9FDCB48556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9193-50D9-47B0-BA5F-96CAB79DEC2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F589-0248-407F-86BA-7E178B71BFA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671A-5EAD-4391-8A76-1B99D0F84B9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A0F1-33F6-4DF2-A75C-26305A8A39F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557D-9087-4454-BF91-09EE8E92EFD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A5C3-24A2-45C9-9B37-827966FD27A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FD0-C013-478F-B96E-8524848A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4E0-2BB3-4324-BA7E-4B2D6C70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E25-2616-4073-B62A-9DC3ACEA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112-22FA-4B92-895D-9F5FB825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720C-A4CF-417C-8C17-DDC0899A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E302-6AD7-493F-A611-394EF3D9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EE44-97E7-4959-A969-74AED5CA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0E8D-8E37-49B6-997E-67618D26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E003-2FB5-4F5B-B1C3-D7136B7C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4DE1-4A32-4A13-8142-7C08284E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003B-71B1-411B-A2E8-7D3584D7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9D0-3FAB-44EA-AC20-56B64B90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2613-DDF0-4211-BB40-418A3DCE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C545-2567-44EE-B25B-1D475CDE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B05E-55C1-445A-BF05-2523ED87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5EE8-0AD5-403A-9661-F32B689B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BF65-CC86-4045-BC36-513D8870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D019-4BF9-4B6E-9C2A-3745AFA0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BC085-9EF1-47E0-BEBA-5EFEAB72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137E5-CBAF-434E-A950-046F14B6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2E5A-5AD5-456E-B184-5416103A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A82E4-413B-4A6F-BEF3-D5DCB9EF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613-1892-414C-BCA3-9D80E6F0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1E1F-1BFA-4611-86A3-CAD9842F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71D40-6FC6-4C4F-A42A-2F154E98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70438-B3F6-4E43-867A-AC1FDB9F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F9852-BDB7-4F58-9300-4FF7B1E1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C3D43-F17B-4E27-BA85-4BE1E640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CAB5-CE01-40E2-B141-20656FCD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3AA75-C856-4558-92A3-B098B733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959FD-858E-43F2-9566-0502342B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9ED66-C66D-40A8-8987-7620D14F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53268-526A-4437-B692-FC1A3C32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F51-F8D7-4E8E-952B-125E247B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6AD80-F28D-4BD5-B0E5-90930ADA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AEC48-983F-424F-8E57-565A17B0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85002-32C2-448C-BFCF-41227DC1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7F849-5F5A-4526-860D-278E2E52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B4AAB-9493-4980-A9AC-991EC274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B4D3-B9CB-469E-9DDE-5B7BB7D1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E936A-AD11-48BF-9F54-D47B0712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2C5BC-9590-479E-AF0F-5EA5E89C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79DD9-968B-4C88-B770-9D8408F8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05420-FDC3-442E-BAB7-21A47D44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228-20B4-42FD-A605-0D090B9D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AE41C-3CB7-4EAF-9035-7B125D52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32184-7CFE-479A-910D-7F9D5DCC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53AE8-AEAD-4A18-A10D-E628C118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F0697-03AE-4A54-A4C2-FCA89F1A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3531B-C2BE-482E-A7C1-62EA5B4D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90AE6-2FD1-4AF1-BF85-4A0C5CEB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3553A-D72C-4F58-9AA0-3E87BDCC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7C448-BCE6-43F0-AE48-164EB684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1EC26-5B39-4447-87EF-70DF2D1F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BA12D-C5FA-4933-8721-F187E834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A12-79F4-46F7-8B82-2F8911A1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78321-CF57-44CD-8DE8-C2F81537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CE0-0A36-433A-AB01-1523AD30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C05-7542-4168-A934-A525CA11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43A-8364-4CB6-81D9-8E359EAD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0087-0C37-49E5-A083-B9DC3E443647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مستطيل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مستطيل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رابط مستقيم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6543-8AC8-47B1-8F49-CD971226D594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18CB-61DB-4050-B25C-42CF74646297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مستطيل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ستطيل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53BB-9673-4A30-AF3C-44C5BDDA05C4}" type="slidenum">
              <a:rPr b="0" lang="ar-SA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D154-6D10-4087-8608-7C428F0E8C1D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عنوان 1" descr=""/>
          <p:cNvPicPr/>
          <p:nvPr/>
        </p:nvPicPr>
        <p:blipFill>
          <a:blip r:embed="rId1"/>
          <a:stretch/>
        </p:blipFill>
        <p:spPr>
          <a:xfrm>
            <a:off x="3413160" y="237960"/>
            <a:ext cx="5121360" cy="570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عنوان 1" descr=""/>
          <p:cNvPicPr/>
          <p:nvPr/>
        </p:nvPicPr>
        <p:blipFill>
          <a:blip r:embed="rId1"/>
          <a:stretch/>
        </p:blipFill>
        <p:spPr>
          <a:xfrm>
            <a:off x="603360" y="182520"/>
            <a:ext cx="7254720" cy="603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 rot="21369600">
            <a:off x="182520" y="1199880"/>
            <a:ext cx="7777080" cy="5405400"/>
          </a:xfrm>
          <a:prstGeom prst="rect">
            <a:avLst/>
          </a:prstGeom>
          <a:ln w="0">
            <a:noFill/>
          </a:ln>
        </p:spPr>
      </p:pic>
      <p:sp>
        <p:nvSpPr>
          <p:cNvPr id="261" name="مستطيل مستدير الزوايا 4"/>
          <p:cNvSpPr/>
          <p:nvPr/>
        </p:nvSpPr>
        <p:spPr>
          <a:xfrm>
            <a:off x="826920" y="1052640"/>
            <a:ext cx="6337440" cy="50472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مستطيل 4"/>
          <p:cNvSpPr/>
          <p:nvPr/>
        </p:nvSpPr>
        <p:spPr>
          <a:xfrm>
            <a:off x="324000" y="260280"/>
            <a:ext cx="756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ثاني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ك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إدارك المكاني ويعتمد على التفريق بين الأشكال السوية والمعكوس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خمس / سبع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7850160" cy="4941720"/>
          </a:xfrm>
          <a:prstGeom prst="rect">
            <a:avLst/>
          </a:prstGeom>
          <a:ln w="0">
            <a:noFill/>
          </a:ln>
        </p:spPr>
      </p:pic>
      <p:sp>
        <p:nvSpPr>
          <p:cNvPr id="264" name="مستطيل 5"/>
          <p:cNvSpPr/>
          <p:nvPr/>
        </p:nvSpPr>
        <p:spPr>
          <a:xfrm>
            <a:off x="7093080" y="2708280"/>
            <a:ext cx="129528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اتجاه يم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ستطيل 6"/>
          <p:cNvSpPr/>
          <p:nvPr/>
        </p:nvSpPr>
        <p:spPr>
          <a:xfrm rot="19720200">
            <a:off x="5156280" y="3026880"/>
            <a:ext cx="8301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7"/>
          <p:cNvSpPr/>
          <p:nvPr/>
        </p:nvSpPr>
        <p:spPr>
          <a:xfrm>
            <a:off x="5003640" y="2205000"/>
            <a:ext cx="792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مستطيل 8"/>
          <p:cNvSpPr/>
          <p:nvPr/>
        </p:nvSpPr>
        <p:spPr>
          <a:xfrm rot="15027000">
            <a:off x="4353480" y="3248280"/>
            <a:ext cx="8319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مستطيل 9"/>
          <p:cNvSpPr/>
          <p:nvPr/>
        </p:nvSpPr>
        <p:spPr>
          <a:xfrm>
            <a:off x="4211640" y="2205000"/>
            <a:ext cx="79200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مستطيل 10"/>
          <p:cNvSpPr/>
          <p:nvPr/>
        </p:nvSpPr>
        <p:spPr>
          <a:xfrm rot="6035400">
            <a:off x="3328560" y="3271680"/>
            <a:ext cx="83052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مستطيل 11"/>
          <p:cNvSpPr/>
          <p:nvPr/>
        </p:nvSpPr>
        <p:spPr>
          <a:xfrm>
            <a:off x="3348000" y="2276640"/>
            <a:ext cx="792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مستطيل 12"/>
          <p:cNvSpPr/>
          <p:nvPr/>
        </p:nvSpPr>
        <p:spPr>
          <a:xfrm>
            <a:off x="7093080" y="4221000"/>
            <a:ext cx="129528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اتجاه يم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643280" cy="6337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0" y="189000"/>
            <a:ext cx="4859280" cy="6408720"/>
          </a:xfrm>
          <a:prstGeom prst="rect">
            <a:avLst/>
          </a:prstGeom>
          <a:ln w="0">
            <a:noFill/>
          </a:ln>
        </p:spPr>
      </p:pic>
      <p:sp>
        <p:nvSpPr>
          <p:cNvPr id="274" name="مستطيل 5"/>
          <p:cNvSpPr/>
          <p:nvPr/>
        </p:nvSpPr>
        <p:spPr>
          <a:xfrm>
            <a:off x="2771640" y="2205000"/>
            <a:ext cx="43200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مستطيل 6"/>
          <p:cNvSpPr/>
          <p:nvPr/>
        </p:nvSpPr>
        <p:spPr>
          <a:xfrm>
            <a:off x="2124000" y="2276640"/>
            <a:ext cx="576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ستطيل 7"/>
          <p:cNvSpPr/>
          <p:nvPr/>
        </p:nvSpPr>
        <p:spPr>
          <a:xfrm>
            <a:off x="1187280" y="2205000"/>
            <a:ext cx="50508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عنوان 1" descr=""/>
          <p:cNvPicPr/>
          <p:nvPr/>
        </p:nvPicPr>
        <p:blipFill>
          <a:blip r:embed="rId1"/>
          <a:stretch/>
        </p:blipFill>
        <p:spPr>
          <a:xfrm>
            <a:off x="603360" y="182520"/>
            <a:ext cx="7254720" cy="603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0" y="919080"/>
            <a:ext cx="7956720" cy="593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مستطيل 4"/>
          <p:cNvSpPr/>
          <p:nvPr/>
        </p:nvSpPr>
        <p:spPr>
          <a:xfrm>
            <a:off x="324000" y="260280"/>
            <a:ext cx="7561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ثالث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ف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تفكير ويقيس القدرة على الاستدلال ومادته الحروف الهجائية وعلى الطالب أن يدرك نوع العلاقة الموجودة في كل سلس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خمس / سبع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أول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ب أب أب 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ثان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ت أ ث ج أ ح أ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مستطيل 3"/>
          <p:cNvSpPr/>
          <p:nvPr/>
        </p:nvSpPr>
        <p:spPr>
          <a:xfrm>
            <a:off x="3276720" y="371628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ثالث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أأب ب ب ت ت ت ث ث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 ب س ت ث س ج ح س خ د س 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179960" cy="3960720"/>
          </a:xfrm>
          <a:prstGeom prst="rect">
            <a:avLst/>
          </a:prstGeom>
          <a:ln w="0">
            <a:noFill/>
          </a:ln>
        </p:spPr>
      </p:pic>
      <p:sp>
        <p:nvSpPr>
          <p:cNvPr id="282" name="مستطيل 6"/>
          <p:cNvSpPr/>
          <p:nvPr/>
        </p:nvSpPr>
        <p:spPr>
          <a:xfrm>
            <a:off x="1116000" y="3357720"/>
            <a:ext cx="576360" cy="5029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مستطيل 7"/>
          <p:cNvSpPr/>
          <p:nvPr/>
        </p:nvSpPr>
        <p:spPr>
          <a:xfrm>
            <a:off x="1116000" y="3789360"/>
            <a:ext cx="576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مستطيل 8"/>
          <p:cNvSpPr/>
          <p:nvPr/>
        </p:nvSpPr>
        <p:spPr>
          <a:xfrm>
            <a:off x="1187280" y="4365720"/>
            <a:ext cx="576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مستطيل 9"/>
          <p:cNvSpPr/>
          <p:nvPr/>
        </p:nvSpPr>
        <p:spPr>
          <a:xfrm>
            <a:off x="1187280" y="4869000"/>
            <a:ext cx="576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عنوان 1" descr=""/>
          <p:cNvPicPr/>
          <p:nvPr/>
        </p:nvPicPr>
        <p:blipFill>
          <a:blip r:embed="rId1"/>
          <a:stretch/>
        </p:blipFill>
        <p:spPr>
          <a:xfrm>
            <a:off x="603360" y="182520"/>
            <a:ext cx="7254720" cy="603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250920" y="814320"/>
            <a:ext cx="7561080" cy="5710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مستطيل 4"/>
          <p:cNvSpPr/>
          <p:nvPr/>
        </p:nvSpPr>
        <p:spPr>
          <a:xfrm>
            <a:off x="324000" y="260280"/>
            <a:ext cx="756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رابع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ع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جمع البسيط ويقيس القدرة العدد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دقيقة / دقيقتين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ستة دقائ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799308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8748720" cy="5445000"/>
          </a:xfrm>
          <a:prstGeom prst="rect">
            <a:avLst/>
          </a:prstGeom>
          <a:ln w="0">
            <a:noFill/>
          </a:ln>
        </p:spPr>
      </p:pic>
      <p:pic>
        <p:nvPicPr>
          <p:cNvPr id="291" name="عنوان 1" descr=""/>
          <p:cNvPicPr/>
          <p:nvPr/>
        </p:nvPicPr>
        <p:blipFill>
          <a:blip r:embed="rId2"/>
          <a:stretch/>
        </p:blipFill>
        <p:spPr>
          <a:xfrm>
            <a:off x="384120" y="115920"/>
            <a:ext cx="7699320" cy="669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أول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بعد مراجعة مفتاح التصحيح الإجابة الصحيحة درجة والفقرات الخاطئة والمتروكة صفر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ني 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لابد أن ترسمين جدول وتحسبين الفقرات الصحيح والخاطئة والمتروك لا يحسب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مجموع الصح – مجموع الخطأ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187280" y="1989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655720"/>
                <a:gridCol w="14083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ص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الرق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187280" y="3933720"/>
          <a:ext cx="6096240" cy="11113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1560"/>
                <a:gridCol w="8701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ه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الرق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عنوان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5a2c64"/>
                </a:solidFill>
                <a:latin typeface="Trebuchet MS"/>
                <a:cs typeface="Mudir MT"/>
              </a:rPr>
              <a:t>تناسب الأعمار من مستوى ( 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13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 – فأكثر  ” 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18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 ” )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5a2c64"/>
                </a:solidFill>
                <a:latin typeface="Trebuchet MS"/>
                <a:cs typeface="Mudir MT"/>
              </a:rPr>
              <a:t>لعالم النفس ثيرسون عدله د/ أحمد زكي صالح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b83d68"/>
                </a:solidFill>
                <a:latin typeface="Trebuchet MS"/>
                <a:cs typeface="Mudir MT"/>
              </a:rPr>
              <a:t>ما يقيسه الاختبار: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Trebuchet MS"/>
                <a:cs typeface="Mudir MT"/>
              </a:rPr>
              <a:t>يقيس الاختبار القدرات العقلية الأولية في النجاح الدراسي والنجاح المهني وهذا يلزم في التوجيه التعليمي والمهني للطلاب بالإضافة إلى أنه يعطي صورة عامة عن ذكاء الطالب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لابد من تحديد العمر الزمني بدقة 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b83d68"/>
                </a:solidFill>
                <a:latin typeface="Trebuchet MS"/>
                <a:ea typeface="Mudir MT"/>
              </a:rPr>
              <a:t>     أقسام الاختبار :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أول </a:t>
            </a: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ل ) </a:t>
            </a:r>
            <a:r>
              <a:rPr b="0" lang="ar-SA" sz="15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معاني الكلمات ويقيس القدرة اللغوية وهو أكثر الاختبارات تشعباً فيها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5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دقيقة / دقيقتين)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5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خمس دقائق)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لث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بعد مراجعة مفتاح التصحيح الإجابة الصحيحة درجة والفقرات الخاطئة والمتروكة صفر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رابع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لابد أن ترسمين جدول وتحسبين الفقرات الصحيح والخاطئة والمتروك لا يحسب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مجموع الصح – مجموع الخطأ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58920" y="2708280"/>
          <a:ext cx="6095880" cy="1854360"/>
        </p:xfrm>
        <a:graphic>
          <a:graphicData uri="http://schemas.openxmlformats.org/drawingml/2006/table">
            <a:tbl>
              <a:tblPr/>
              <a:tblGrid>
                <a:gridCol w="2031840"/>
                <a:gridCol w="2219400"/>
                <a:gridCol w="1844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ص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رقم المجموع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620280"/>
            <a:ext cx="72388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المجموع الكلي للمقياس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ea typeface="Mudir MT"/>
              </a:rPr>
              <a:t>                                       =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ل + نصف ك + ف + ع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عنصر نائب للمحتوى 2"/>
          <p:cNvSpPr/>
          <p:nvPr/>
        </p:nvSpPr>
        <p:spPr>
          <a:xfrm>
            <a:off x="611280" y="2997360"/>
            <a:ext cx="7238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b83d68"/>
                </a:solidFill>
                <a:latin typeface="Trebuchet MS"/>
                <a:cs typeface="Mudir MT"/>
              </a:rPr>
              <a:t>مثال سارة عمرها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14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سنة حصلت في القدرة اللغوية على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36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، وفي الإدراك المكاني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29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 ، وفي التفكير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28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، وفي القدرة اللغوية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42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أوجدي المجموع الكلي للمقياس ؟؟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8743680" cy="6669000"/>
          </a:xfrm>
          <a:prstGeom prst="rect">
            <a:avLst/>
          </a:prstGeom>
          <a:ln w="0">
            <a:noFill/>
          </a:ln>
        </p:spPr>
      </p:pic>
      <p:sp>
        <p:nvSpPr>
          <p:cNvPr id="302" name="مستطيل مستدير الزوايا 5"/>
          <p:cNvSpPr/>
          <p:nvPr/>
        </p:nvSpPr>
        <p:spPr>
          <a:xfrm>
            <a:off x="594036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مستطيل مستدير الزوايا 6"/>
          <p:cNvSpPr/>
          <p:nvPr/>
        </p:nvSpPr>
        <p:spPr>
          <a:xfrm>
            <a:off x="6948360" y="3284640"/>
            <a:ext cx="28764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مستطيل مستدير الزوايا 7"/>
          <p:cNvSpPr/>
          <p:nvPr/>
        </p:nvSpPr>
        <p:spPr>
          <a:xfrm>
            <a:off x="6875640" y="692280"/>
            <a:ext cx="28872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رابط كسهم مستقيم 9"/>
          <p:cNvCxnSpPr/>
          <p:nvPr/>
        </p:nvCxnSpPr>
        <p:spPr>
          <a:xfrm>
            <a:off x="7308720" y="3428640"/>
            <a:ext cx="216720" cy="108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07" name="مستطيل مستدير الزوايا 5"/>
          <p:cNvSpPr/>
          <p:nvPr/>
        </p:nvSpPr>
        <p:spPr>
          <a:xfrm>
            <a:off x="442764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مستطيل مستدير الزوايا 6"/>
          <p:cNvSpPr/>
          <p:nvPr/>
        </p:nvSpPr>
        <p:spPr>
          <a:xfrm>
            <a:off x="5364000" y="3284640"/>
            <a:ext cx="21600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ستطيل مستدير الزوايا 7"/>
          <p:cNvSpPr/>
          <p:nvPr/>
        </p:nvSpPr>
        <p:spPr>
          <a:xfrm>
            <a:off x="5219640" y="692280"/>
            <a:ext cx="28908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رابط كسهم مستقيم 9"/>
          <p:cNvCxnSpPr>
            <a:stCxn id="308" idx="2"/>
          </p:cNvCxnSpPr>
          <p:nvPr/>
        </p:nvCxnSpPr>
        <p:spPr>
          <a:xfrm flipV="1">
            <a:off x="5472000" y="3428640"/>
            <a:ext cx="2053080" cy="7200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12" name="مستطيل مستدير الزوايا 5"/>
          <p:cNvSpPr/>
          <p:nvPr/>
        </p:nvSpPr>
        <p:spPr>
          <a:xfrm>
            <a:off x="298764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مستطيل مستدير الزوايا 6"/>
          <p:cNvSpPr/>
          <p:nvPr/>
        </p:nvSpPr>
        <p:spPr>
          <a:xfrm>
            <a:off x="3851280" y="1484280"/>
            <a:ext cx="21600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مستطيل مستدير الزوايا 7"/>
          <p:cNvSpPr/>
          <p:nvPr/>
        </p:nvSpPr>
        <p:spPr>
          <a:xfrm>
            <a:off x="3780000" y="692280"/>
            <a:ext cx="28728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رابط كسهم مستقيم 9"/>
          <p:cNvCxnSpPr>
            <a:stCxn id="313" idx="2"/>
          </p:cNvCxnSpPr>
          <p:nvPr/>
        </p:nvCxnSpPr>
        <p:spPr>
          <a:xfrm flipV="1">
            <a:off x="3958920" y="1627920"/>
            <a:ext cx="3421800" cy="7236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17" name="مستطيل مستدير الزوايا 5"/>
          <p:cNvSpPr/>
          <p:nvPr/>
        </p:nvSpPr>
        <p:spPr>
          <a:xfrm>
            <a:off x="1547640" y="260280"/>
            <a:ext cx="1584360" cy="50472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مستطيل مستدير الزوايا 6"/>
          <p:cNvSpPr/>
          <p:nvPr/>
        </p:nvSpPr>
        <p:spPr>
          <a:xfrm>
            <a:off x="2484360" y="1557360"/>
            <a:ext cx="21600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مستطيل مستدير الزوايا 7"/>
          <p:cNvSpPr/>
          <p:nvPr/>
        </p:nvSpPr>
        <p:spPr>
          <a:xfrm>
            <a:off x="2411280" y="765000"/>
            <a:ext cx="28908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رابط كسهم مستقيم 9"/>
          <p:cNvCxnSpPr>
            <a:stCxn id="318" idx="2"/>
          </p:cNvCxnSpPr>
          <p:nvPr/>
        </p:nvCxnSpPr>
        <p:spPr>
          <a:xfrm flipV="1">
            <a:off x="2592360" y="1699560"/>
            <a:ext cx="4788720" cy="7380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22" name="مستطيل مستدير الزوايا 5"/>
          <p:cNvSpPr/>
          <p:nvPr/>
        </p:nvSpPr>
        <p:spPr>
          <a:xfrm>
            <a:off x="179280" y="333360"/>
            <a:ext cx="1584360" cy="503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مستطيل مستدير الزوايا 6"/>
          <p:cNvSpPr/>
          <p:nvPr/>
        </p:nvSpPr>
        <p:spPr>
          <a:xfrm>
            <a:off x="1116000" y="1773360"/>
            <a:ext cx="21600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مستطيل مستدير الزوايا 7"/>
          <p:cNvSpPr/>
          <p:nvPr/>
        </p:nvSpPr>
        <p:spPr>
          <a:xfrm>
            <a:off x="971640" y="836640"/>
            <a:ext cx="28728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رابط كسهم مستقيم 9"/>
          <p:cNvCxnSpPr>
            <a:stCxn id="323" idx="2"/>
          </p:cNvCxnSpPr>
          <p:nvPr/>
        </p:nvCxnSpPr>
        <p:spPr>
          <a:xfrm flipH="1">
            <a:off x="-360" y="1988640"/>
            <a:ext cx="1224720" cy="108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b83d68"/>
                </a:solidFill>
                <a:latin typeface="Trebuchet MS"/>
                <a:cs typeface="Mudir MT"/>
              </a:rPr>
              <a:t>أقسام الاختبار 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ني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ك 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إدارك المكاني ويعتمد على التفريق بين الأشكال السوية والمعكوسة 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خمس / سبع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لث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ف 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تفكير ويقيس القدرة على الاستدلال ومادته الحروف الهجائية وعلى الطالب أن يدرك نوع العلاقة الموجودة في كل سلسلة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خمس / سبع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رابع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ع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جمع البسيط ويقيس القدرة العددية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دقيقة / دقيقتين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ستة دقائق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b83d68"/>
                </a:solidFill>
                <a:latin typeface="Trebuchet MS"/>
                <a:cs typeface="Mudir MT"/>
              </a:rPr>
              <a:t>تعليمات عامة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أن الغرض الأساسي من هذا الاختبار هو تقدير قدرتك على حل المشاكل المختلف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قد تميل إلى بعض الأقسام، وقد تستسهل أقساماً .. ” </a:t>
            </a:r>
            <a:r>
              <a:rPr b="0" lang="ar-SA" sz="2000" spc="-1" strike="noStrike">
                <a:solidFill>
                  <a:srgbClr val="ff0000"/>
                </a:solidFill>
                <a:latin typeface="Trebuchet MS"/>
                <a:cs typeface="Mudir MT"/>
              </a:rPr>
              <a:t>يجب أن تهتم بكل الأقسام على حد سواء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نرجو ملاحظة أن هذه الكراسة سيستخدمها أفراد آخرين فلا تكتب عليها شيئاً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اقرأ تعليمات كل اختبار بعناية، ولا تترك منها شيئاً، وتأكد من فهمك لطبيعة السؤال في كل اختبار</a:t>
            </a:r>
            <a:r>
              <a:rPr b="0" lang="ar-SA" sz="2000" spc="-1" strike="noStrike">
                <a:solidFill>
                  <a:srgbClr val="ff0000"/>
                </a:solidFill>
                <a:latin typeface="Trebuchet MS"/>
                <a:cs typeface="Mudir MT"/>
              </a:rPr>
              <a:t>، لأنه لن يسمح لك بأي سؤال أثناء إجراء الاختبار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لن تستطيع أن تحل جميع المسائل أو تجيب عن جميع الأسئلة في الوقت المخصص لأن الاختبارات طويلة ، لذلك أجب على قدر استطاعتك متوخياً السرعة والدق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لابد من  مراعاة  أن تكون الإجابة في الأماكن المخصصة لها في ورقة الإجاب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عنوان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7255080" cy="669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0" y="981000"/>
            <a:ext cx="8820000" cy="5877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عنوان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7255080" cy="669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1042920" y="1162080"/>
            <a:ext cx="6408720" cy="5695920"/>
          </a:xfrm>
          <a:prstGeom prst="rect">
            <a:avLst/>
          </a:prstGeom>
          <a:ln w="0">
            <a:noFill/>
          </a:ln>
        </p:spPr>
      </p:pic>
      <p:sp>
        <p:nvSpPr>
          <p:cNvPr id="236" name="مستطيل 4"/>
          <p:cNvSpPr/>
          <p:nvPr/>
        </p:nvSpPr>
        <p:spPr>
          <a:xfrm>
            <a:off x="3059280" y="2421000"/>
            <a:ext cx="28872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مستطيل 6"/>
          <p:cNvSpPr/>
          <p:nvPr/>
        </p:nvSpPr>
        <p:spPr>
          <a:xfrm>
            <a:off x="3132000" y="321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7"/>
          <p:cNvSpPr/>
          <p:nvPr/>
        </p:nvSpPr>
        <p:spPr>
          <a:xfrm>
            <a:off x="3132000" y="393372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مستطيل 8"/>
          <p:cNvSpPr/>
          <p:nvPr/>
        </p:nvSpPr>
        <p:spPr>
          <a:xfrm>
            <a:off x="3132000" y="465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مستطيل 9">
            <a:hlinkClick r:id="rId3" action="ppaction://hlinksldjump"/>
          </p:cNvPr>
          <p:cNvSpPr/>
          <p:nvPr/>
        </p:nvSpPr>
        <p:spPr>
          <a:xfrm>
            <a:off x="3203640" y="5516640"/>
            <a:ext cx="28872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مستطيل 10"/>
          <p:cNvSpPr/>
          <p:nvPr/>
        </p:nvSpPr>
        <p:spPr>
          <a:xfrm>
            <a:off x="2411280" y="2421000"/>
            <a:ext cx="2890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مستطيل 11"/>
          <p:cNvSpPr/>
          <p:nvPr/>
        </p:nvSpPr>
        <p:spPr>
          <a:xfrm>
            <a:off x="2484360" y="3213000"/>
            <a:ext cx="2872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مستطيل 12"/>
          <p:cNvSpPr/>
          <p:nvPr/>
        </p:nvSpPr>
        <p:spPr>
          <a:xfrm>
            <a:off x="2411280" y="3933720"/>
            <a:ext cx="505080" cy="287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مستطيل 13"/>
          <p:cNvSpPr/>
          <p:nvPr/>
        </p:nvSpPr>
        <p:spPr>
          <a:xfrm>
            <a:off x="2484360" y="4653000"/>
            <a:ext cx="503280" cy="288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ستطيل 14">
            <a:hlinkClick r:id="rId4" action="ppaction://hlinksldjump"/>
          </p:cNvPr>
          <p:cNvSpPr/>
          <p:nvPr/>
        </p:nvSpPr>
        <p:spPr>
          <a:xfrm>
            <a:off x="2484360" y="5445000"/>
            <a:ext cx="503280" cy="28764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264360" cy="5040360"/>
          </a:xfrm>
          <a:prstGeom prst="rect">
            <a:avLst/>
          </a:prstGeom>
          <a:ln w="0">
            <a:noFill/>
          </a:ln>
        </p:spPr>
      </p:pic>
      <p:pic>
        <p:nvPicPr>
          <p:cNvPr id="247" name="عنوان 1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7255080" cy="669960"/>
          </a:xfrm>
          <a:prstGeom prst="rect">
            <a:avLst/>
          </a:prstGeom>
          <a:ln w="0">
            <a:noFill/>
          </a:ln>
        </p:spPr>
      </p:pic>
      <p:sp>
        <p:nvSpPr>
          <p:cNvPr id="248" name="مستطيل 4"/>
          <p:cNvSpPr/>
          <p:nvPr/>
        </p:nvSpPr>
        <p:spPr>
          <a:xfrm>
            <a:off x="3276720" y="1844640"/>
            <a:ext cx="2872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مستطيل 6">
            <a:hlinkClick r:id="rId3" action="ppaction://hlinksldjump"/>
          </p:cNvPr>
          <p:cNvSpPr/>
          <p:nvPr/>
        </p:nvSpPr>
        <p:spPr>
          <a:xfrm>
            <a:off x="3132000" y="321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مستطيل 10"/>
          <p:cNvSpPr/>
          <p:nvPr/>
        </p:nvSpPr>
        <p:spPr>
          <a:xfrm>
            <a:off x="2627280" y="1844640"/>
            <a:ext cx="504720" cy="2890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مستطيل 11"/>
          <p:cNvSpPr/>
          <p:nvPr/>
        </p:nvSpPr>
        <p:spPr>
          <a:xfrm>
            <a:off x="2627280" y="2852640"/>
            <a:ext cx="504720" cy="2890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مستطيل 4"/>
          <p:cNvSpPr/>
          <p:nvPr/>
        </p:nvSpPr>
        <p:spPr>
          <a:xfrm>
            <a:off x="324000" y="260280"/>
            <a:ext cx="756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أول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ل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معاني الكلمات ويقيس القدرة اللغوية وهو أكثر الاختبارات تشعباً في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دقيقة / دقيقتين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خمس دقائ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7489800" cy="4635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مستطيل 6"/>
          <p:cNvSpPr/>
          <p:nvPr/>
        </p:nvSpPr>
        <p:spPr>
          <a:xfrm>
            <a:off x="1835280" y="3213000"/>
            <a:ext cx="360360" cy="720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مستطيل 7"/>
          <p:cNvSpPr/>
          <p:nvPr/>
        </p:nvSpPr>
        <p:spPr>
          <a:xfrm>
            <a:off x="2195640" y="4005360"/>
            <a:ext cx="360360" cy="7189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مستطيل 8"/>
          <p:cNvSpPr/>
          <p:nvPr/>
        </p:nvSpPr>
        <p:spPr>
          <a:xfrm>
            <a:off x="2627280" y="4797360"/>
            <a:ext cx="360360" cy="719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7:02:06Z</dcterms:created>
  <dc:creator>Micro</dc:creator>
  <dc:description/>
  <dc:language>en-US</dc:language>
  <cp:lastModifiedBy>Last Need</cp:lastModifiedBy>
  <dcterms:modified xsi:type="dcterms:W3CDTF">2012-02-24T08:11:47Z</dcterms:modified>
  <cp:revision>16</cp:revision>
  <dc:subject/>
  <dc:title>مقياس العوامل الخمس الكبرى في الشخصية</dc:title>
</cp:coreProperties>
</file>