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151C-8240-4ECB-8CF8-64A825E7F48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DDCE-5218-4AD4-A567-43E0AA731E6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6D41-B516-4E03-B13D-33836E672E2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A71C-3AFE-494F-A28E-A2D1C5ED192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FD6C-4132-4D8C-8A51-C7F87757E2A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73F9-98E8-4148-8FCE-18A46F0524A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A598-0A4F-40CA-B09D-44EFAB5B5CD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8C82-D806-45CC-A452-48417702BBD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13D5-211F-443E-A327-9E3129FFDAC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883F-88FF-4160-8933-0A3828D13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0224-9A9F-428F-BED6-860C946C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FDD4-7712-4EFF-9010-2B2A4B9D3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1A1E-AAA2-43FA-BF61-2ECC0156C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8AE5-F1F7-42B2-8A10-5F3EC0EDD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FB4E-8DA0-4D17-AE48-352E6476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1882-A0D6-4CEE-9443-EF878DD4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B6D3-6B48-4ECE-8A91-8B11AC2E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4138-B523-4B2B-86F4-DDDD1E7C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5BD5-0E72-44CA-B29C-BA2F458C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70AE-9656-46FB-8849-4E53E5CC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C691-D73D-4BFB-979E-ED100A5C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93F3-29F6-4B49-A12D-E9DB17B0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B8D5-D263-4903-B434-BB64B980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8C8A-3D29-48C3-8E46-88E70F90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5D7C-8CFB-4925-AC99-5B053C869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70B0-A209-4607-9BA9-279003F5A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67415-513F-4943-BE4B-CDB99CED5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894C8-452F-453C-8F2B-244C7A22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58E99-D4A3-498E-B98A-F384915F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649C4-F379-410C-914B-E5DF8590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9403A-4CB1-4144-A19C-EA3F5C4D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4E60-1AA1-47EB-8E53-8CA9F08D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0678B-833D-479F-A559-F45B09B9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52FF9-BCD9-4899-8278-8A2B4348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5E76D-4B36-4BE0-A360-54CA9456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21575-EB6D-46E2-8360-8FBC83C9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CA997-498F-4970-B11F-115872E1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F26CC-A776-4075-AD24-F5ED62E9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D80E5-6ADE-4C32-9CE9-61DF6CEE6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E5AFD-5DEF-43B3-899D-271E4588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C236F-19BD-4023-A120-9985E6C3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D80EA-53B6-43C4-9166-56D5C947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8F91-CEA6-464E-BB32-8C9AC184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DE108-321F-4BCB-A441-6E1D45FF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2D185-9598-4665-82ED-6F15B9D7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28503-F4A5-428C-A45B-99688380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79D4F-F472-4C33-A2BE-6DB7B63B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ACAA8-A25A-4CDD-9530-27EA43A9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3C5E6-2A0D-4118-8A99-5F3A6B4E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40FB2-AA93-454D-857F-2FBA385E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53029-C5E3-4B70-9DCC-01DAC1250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40D02-DE3C-42E2-855C-AAA8AC55B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08FCA-D9C5-4FE6-BD83-AFB05F1E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AA24-0A25-4230-890A-CEADA4C9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A871E-6F67-4855-BD68-8E3F1361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203C3-4D89-41A1-AC0A-A06BE187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5F22C-87C6-47B1-B212-A7BD1676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07D51-BE26-42CF-8862-CB6E7D6E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8258B-3049-46D0-9249-EAB2E9F3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8F698-1502-4118-B1C6-11F19399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B265E-17C0-4E27-9434-C0D73669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64206-1BB4-42F2-85C9-2B5A9D62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94E03-DFE0-444E-9705-A975A0AF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AFE93-F63D-4160-9307-863F851FA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149A-03CB-4628-895B-75992428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BF7CC-EB0E-48D0-A13A-5D88180BB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ECEE-17AE-49D5-A015-B3922F5C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491C-093F-4F73-B962-F2D03A0F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FAAC-4FC7-4DD0-8D82-24B0936A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مستطيل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مستطيل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1A08-843D-4D38-8D30-AC575F586483}" type="slidenum">
              <a:rPr b="0" lang="ar-SA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مستطيل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مستطيل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رابط مستقيم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1A91-7C20-40D4-A8EB-21125D514CD3}" type="slidenum">
              <a:rPr b="0" lang="ar-SA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مستطيل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مستطيل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906A-AB04-441A-84DE-3D295AC739ED}" type="slidenum">
              <a:rPr b="0" lang="ar-SA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مستطيل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مستطيل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4845-FC2B-4223-8D39-1FCDF12C27C7}" type="slidenum">
              <a:rPr b="0" lang="ar-SA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مستطيل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مستطيل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0BCB-6032-41F5-BC98-4865BCCEAB56}" type="slidenum">
              <a:rPr b="0" lang="ar-SA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عنوان 1" descr=""/>
          <p:cNvPicPr/>
          <p:nvPr/>
        </p:nvPicPr>
        <p:blipFill>
          <a:blip r:embed="rId1"/>
          <a:stretch/>
        </p:blipFill>
        <p:spPr>
          <a:xfrm>
            <a:off x="3413160" y="237960"/>
            <a:ext cx="5121360" cy="5705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عنوان 1" descr=""/>
          <p:cNvPicPr/>
          <p:nvPr/>
        </p:nvPicPr>
        <p:blipFill>
          <a:blip r:embed="rId1"/>
          <a:stretch/>
        </p:blipFill>
        <p:spPr>
          <a:xfrm>
            <a:off x="603360" y="182520"/>
            <a:ext cx="7254720" cy="603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"/>
          <p:cNvPicPr/>
          <p:nvPr/>
        </p:nvPicPr>
        <p:blipFill>
          <a:blip r:embed="rId2"/>
          <a:stretch/>
        </p:blipFill>
        <p:spPr>
          <a:xfrm rot="21369600">
            <a:off x="182520" y="1199880"/>
            <a:ext cx="7777080" cy="5405400"/>
          </a:xfrm>
          <a:prstGeom prst="rect">
            <a:avLst/>
          </a:prstGeom>
          <a:ln w="0">
            <a:noFill/>
          </a:ln>
        </p:spPr>
      </p:pic>
      <p:sp>
        <p:nvSpPr>
          <p:cNvPr id="261" name="مستطيل مستدير الزوايا 4"/>
          <p:cNvSpPr/>
          <p:nvPr/>
        </p:nvSpPr>
        <p:spPr>
          <a:xfrm>
            <a:off x="826920" y="1052640"/>
            <a:ext cx="6337440" cy="50472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مستطيل 4"/>
          <p:cNvSpPr/>
          <p:nvPr/>
        </p:nvSpPr>
        <p:spPr>
          <a:xfrm>
            <a:off x="324000" y="260280"/>
            <a:ext cx="7561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r" rtl="1">
              <a:lnSpc>
                <a:spcPts val="2874"/>
              </a:lnSpc>
              <a:buClr>
                <a:srgbClr val="b83d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Arial"/>
                <a:cs typeface="Mudir MT"/>
              </a:rPr>
              <a:t>القسم الثاني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رمز له ( ك )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Mudir MT"/>
              </a:rPr>
              <a:t>: وهو اختبار الإدارك المكاني ويعتمد على التفريق بين الأشكال السوية والمعكوسة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buClr>
                <a:srgbClr val="b83d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حتاج الطالب لفهم تعليماته من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خمس / سبع)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دقائق والزمن المخصص للإجابة عن أسئلته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 عشر دقائق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7850160" cy="4941720"/>
          </a:xfrm>
          <a:prstGeom prst="rect">
            <a:avLst/>
          </a:prstGeom>
          <a:ln w="0">
            <a:noFill/>
          </a:ln>
        </p:spPr>
      </p:pic>
      <p:sp>
        <p:nvSpPr>
          <p:cNvPr id="264" name="مستطيل 5"/>
          <p:cNvSpPr/>
          <p:nvPr/>
        </p:nvSpPr>
        <p:spPr>
          <a:xfrm>
            <a:off x="7093080" y="2708280"/>
            <a:ext cx="1295280" cy="50472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Tahoma"/>
              </a:rPr>
              <a:t>اتجاه يمي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مستطيل 6"/>
          <p:cNvSpPr/>
          <p:nvPr/>
        </p:nvSpPr>
        <p:spPr>
          <a:xfrm rot="19720200">
            <a:off x="5156280" y="3026880"/>
            <a:ext cx="83016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مستطيل 7"/>
          <p:cNvSpPr/>
          <p:nvPr/>
        </p:nvSpPr>
        <p:spPr>
          <a:xfrm>
            <a:off x="5003640" y="2205000"/>
            <a:ext cx="79236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مستطيل 8"/>
          <p:cNvSpPr/>
          <p:nvPr/>
        </p:nvSpPr>
        <p:spPr>
          <a:xfrm rot="15027000">
            <a:off x="4353480" y="3248280"/>
            <a:ext cx="83196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مستطيل 9"/>
          <p:cNvSpPr/>
          <p:nvPr/>
        </p:nvSpPr>
        <p:spPr>
          <a:xfrm>
            <a:off x="4211640" y="2205000"/>
            <a:ext cx="79200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مستطيل 10"/>
          <p:cNvSpPr/>
          <p:nvPr/>
        </p:nvSpPr>
        <p:spPr>
          <a:xfrm rot="6035400">
            <a:off x="3328560" y="3271680"/>
            <a:ext cx="83052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مستطيل 11"/>
          <p:cNvSpPr/>
          <p:nvPr/>
        </p:nvSpPr>
        <p:spPr>
          <a:xfrm>
            <a:off x="3348000" y="2276640"/>
            <a:ext cx="792360" cy="50472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مستطيل 12"/>
          <p:cNvSpPr/>
          <p:nvPr/>
        </p:nvSpPr>
        <p:spPr>
          <a:xfrm>
            <a:off x="7093080" y="4221000"/>
            <a:ext cx="129528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Tahoma"/>
              </a:rPr>
              <a:t>اتجاه يمي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4500720" y="260280"/>
            <a:ext cx="4643280" cy="63374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"/>
          <p:cNvPicPr/>
          <p:nvPr/>
        </p:nvPicPr>
        <p:blipFill>
          <a:blip r:embed="rId2"/>
          <a:stretch/>
        </p:blipFill>
        <p:spPr>
          <a:xfrm>
            <a:off x="0" y="189000"/>
            <a:ext cx="4859280" cy="6408720"/>
          </a:xfrm>
          <a:prstGeom prst="rect">
            <a:avLst/>
          </a:prstGeom>
          <a:ln w="0">
            <a:noFill/>
          </a:ln>
        </p:spPr>
      </p:pic>
      <p:sp>
        <p:nvSpPr>
          <p:cNvPr id="274" name="مستطيل 5"/>
          <p:cNvSpPr/>
          <p:nvPr/>
        </p:nvSpPr>
        <p:spPr>
          <a:xfrm>
            <a:off x="2771640" y="2205000"/>
            <a:ext cx="43200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مستطيل 6"/>
          <p:cNvSpPr/>
          <p:nvPr/>
        </p:nvSpPr>
        <p:spPr>
          <a:xfrm>
            <a:off x="2124000" y="2276640"/>
            <a:ext cx="576360" cy="50472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مستطيل 7"/>
          <p:cNvSpPr/>
          <p:nvPr/>
        </p:nvSpPr>
        <p:spPr>
          <a:xfrm>
            <a:off x="1187280" y="2205000"/>
            <a:ext cx="50508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عنوان 1" descr=""/>
          <p:cNvPicPr/>
          <p:nvPr/>
        </p:nvPicPr>
        <p:blipFill>
          <a:blip r:embed="rId1"/>
          <a:stretch/>
        </p:blipFill>
        <p:spPr>
          <a:xfrm>
            <a:off x="603360" y="182520"/>
            <a:ext cx="7254720" cy="6033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"/>
          <p:cNvPicPr/>
          <p:nvPr/>
        </p:nvPicPr>
        <p:blipFill>
          <a:blip r:embed="rId2"/>
          <a:stretch/>
        </p:blipFill>
        <p:spPr>
          <a:xfrm>
            <a:off x="0" y="919080"/>
            <a:ext cx="7956720" cy="5938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مستطيل 4"/>
          <p:cNvSpPr/>
          <p:nvPr/>
        </p:nvSpPr>
        <p:spPr>
          <a:xfrm>
            <a:off x="324000" y="260280"/>
            <a:ext cx="75610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874"/>
              </a:lnSpc>
              <a:buClr>
                <a:srgbClr val="b83d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Arial"/>
                <a:cs typeface="Mudir MT"/>
              </a:rPr>
              <a:t>القسم الثالث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رمز له ( ف )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Mudir MT"/>
              </a:rPr>
              <a:t>: وهو اختبار التفكير ويقيس القدرة على الاستدلال ومادته الحروف الهجائية وعلى الطالب أن يدرك نوع العلاقة الموجودة في كل سلس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buClr>
                <a:srgbClr val="b83d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حتاج الطالب لفهم تعليماته من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خمس / سبع)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دقائق والزمن المخصص للإجابة عن أسئلته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 عشر دقائق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cs typeface="Mudir MT"/>
              </a:rPr>
              <a:t>المثال الأول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Mudir MT"/>
              </a:rPr>
              <a:t>أب أب أب 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cs typeface="Mudir MT"/>
              </a:rPr>
              <a:t>المثال الثاني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Mudir MT"/>
              </a:rPr>
              <a:t>ت أ ث ج أ ح أ 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مستطيل 3"/>
          <p:cNvSpPr/>
          <p:nvPr/>
        </p:nvSpPr>
        <p:spPr>
          <a:xfrm>
            <a:off x="3276720" y="371628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cs typeface="Mudir MT"/>
              </a:rPr>
              <a:t>المثال الثالث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Mudir MT"/>
              </a:rPr>
              <a:t>أأأب ب ب ت ت ت ث ث 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Mudir MT"/>
              </a:rPr>
              <a:t>أ ب س ت ث س ج ح س خ د س 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4179960" cy="3960720"/>
          </a:xfrm>
          <a:prstGeom prst="rect">
            <a:avLst/>
          </a:prstGeom>
          <a:ln w="0">
            <a:noFill/>
          </a:ln>
        </p:spPr>
      </p:pic>
      <p:sp>
        <p:nvSpPr>
          <p:cNvPr id="282" name="مستطيل 6"/>
          <p:cNvSpPr/>
          <p:nvPr/>
        </p:nvSpPr>
        <p:spPr>
          <a:xfrm>
            <a:off x="1116000" y="3357720"/>
            <a:ext cx="576360" cy="50292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Tahoma"/>
              </a:rPr>
              <a:t>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مستطيل 7"/>
          <p:cNvSpPr/>
          <p:nvPr/>
        </p:nvSpPr>
        <p:spPr>
          <a:xfrm>
            <a:off x="1116000" y="3789360"/>
            <a:ext cx="57636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Tahoma"/>
              </a:rPr>
              <a:t>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مستطيل 8"/>
          <p:cNvSpPr/>
          <p:nvPr/>
        </p:nvSpPr>
        <p:spPr>
          <a:xfrm>
            <a:off x="1187280" y="4365720"/>
            <a:ext cx="57636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Tahoma"/>
              </a:rPr>
              <a:t>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مستطيل 9"/>
          <p:cNvSpPr/>
          <p:nvPr/>
        </p:nvSpPr>
        <p:spPr>
          <a:xfrm>
            <a:off x="1187280" y="4869000"/>
            <a:ext cx="576360" cy="50472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Tahoma"/>
              </a:rPr>
              <a:t>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عنوان 1" descr=""/>
          <p:cNvPicPr/>
          <p:nvPr/>
        </p:nvPicPr>
        <p:blipFill>
          <a:blip r:embed="rId1"/>
          <a:stretch/>
        </p:blipFill>
        <p:spPr>
          <a:xfrm>
            <a:off x="603360" y="182520"/>
            <a:ext cx="7254720" cy="603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"/>
          <p:cNvPicPr/>
          <p:nvPr/>
        </p:nvPicPr>
        <p:blipFill>
          <a:blip r:embed="rId2"/>
          <a:stretch/>
        </p:blipFill>
        <p:spPr>
          <a:xfrm>
            <a:off x="250920" y="814320"/>
            <a:ext cx="7561080" cy="5710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مستطيل 4"/>
          <p:cNvSpPr/>
          <p:nvPr/>
        </p:nvSpPr>
        <p:spPr>
          <a:xfrm>
            <a:off x="324000" y="260280"/>
            <a:ext cx="7561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874"/>
              </a:lnSpc>
              <a:buClr>
                <a:srgbClr val="b83d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Arial"/>
                <a:cs typeface="Mudir MT"/>
              </a:rPr>
              <a:t>القسم الرابع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رمز له ( ع)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Mudir MT"/>
              </a:rPr>
              <a:t>: وهو اختبار الجمع البسيط ويقيس القدرة العددي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buClr>
                <a:srgbClr val="b83d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حتاج الطالب لفهم تعليماته من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دقيقة / دقيقتين)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دقائق والزمن المخصص للإجابة عن أسئلته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 ستة دقائ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7993080" cy="5184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0" y="1413000"/>
            <a:ext cx="8748720" cy="5445000"/>
          </a:xfrm>
          <a:prstGeom prst="rect">
            <a:avLst/>
          </a:prstGeom>
          <a:ln w="0">
            <a:noFill/>
          </a:ln>
        </p:spPr>
      </p:pic>
      <p:pic>
        <p:nvPicPr>
          <p:cNvPr id="291" name="عنوان 1" descr=""/>
          <p:cNvPicPr/>
          <p:nvPr/>
        </p:nvPicPr>
        <p:blipFill>
          <a:blip r:embed="rId2"/>
          <a:stretch/>
        </p:blipFill>
        <p:spPr>
          <a:xfrm>
            <a:off x="384120" y="115920"/>
            <a:ext cx="7699320" cy="6699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57200" y="620640"/>
            <a:ext cx="72388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b83d68"/>
                </a:solidFill>
                <a:latin typeface="Trebuchet MS"/>
                <a:cs typeface="Mudir MT"/>
              </a:rPr>
              <a:t>طريقة التصحيح: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القسم الأول </a:t>
            </a:r>
            <a:r>
              <a:rPr b="0" lang="ar-SA" sz="3200" spc="-1" strike="noStrike">
                <a:solidFill>
                  <a:srgbClr val="000000"/>
                </a:solidFill>
                <a:latin typeface="Trebuchet MS"/>
                <a:ea typeface="Mudir MT"/>
              </a:rPr>
              <a:t>: بعد مراجعة مفتاح التصحيح الإجابة الصحيحة درجة والفقرات الخاطئة والمتروكة صفر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57200" y="620640"/>
            <a:ext cx="72388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b83d68"/>
                </a:solidFill>
                <a:latin typeface="Trebuchet MS"/>
                <a:cs typeface="Mudir MT"/>
              </a:rPr>
              <a:t>طريقة التصحيح: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القسم الثاني  </a:t>
            </a:r>
            <a:r>
              <a:rPr b="0" lang="ar-SA" sz="3200" spc="-1" strike="noStrike">
                <a:solidFill>
                  <a:srgbClr val="000000"/>
                </a:solidFill>
                <a:latin typeface="Trebuchet MS"/>
                <a:ea typeface="Mudir MT"/>
              </a:rPr>
              <a:t>: لابد أن ترسمين جدول وتحسبين الفقرات الصحيح والخاطئة والمتروك لا يحسب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ebuchet MS"/>
                <a:cs typeface="Mudir MT"/>
              </a:rPr>
              <a:t>مجموع الصح – مجموع الخطأ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187280" y="1989000"/>
          <a:ext cx="6096240" cy="1854360"/>
        </p:xfrm>
        <a:graphic>
          <a:graphicData uri="http://schemas.openxmlformats.org/drawingml/2006/table">
            <a:tbl>
              <a:tblPr/>
              <a:tblGrid>
                <a:gridCol w="2032200"/>
                <a:gridCol w="2655720"/>
                <a:gridCol w="14083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خط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ص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الرق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cs typeface="Tahoma"/>
                        </a:rPr>
                        <a:t>المجمو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187280" y="3933720"/>
          <a:ext cx="6096240" cy="111312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ه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الرق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عنوان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5a2c64"/>
                </a:solidFill>
                <a:latin typeface="Trebuchet MS"/>
                <a:cs typeface="Mudir MT"/>
              </a:rPr>
              <a:t>تناسب الأعمار من مستوى ( </a:t>
            </a:r>
            <a:r>
              <a:rPr b="0" lang="ar-SA" sz="1500" spc="-1" strike="noStrike">
                <a:solidFill>
                  <a:srgbClr val="5a2c64"/>
                </a:solidFill>
                <a:latin typeface="Trebuchet MS"/>
                <a:ea typeface="Mudir MT"/>
              </a:rPr>
              <a:t>13</a:t>
            </a:r>
            <a:r>
              <a:rPr b="0" lang="ar-SA" sz="1500" spc="-1" strike="noStrike">
                <a:solidFill>
                  <a:srgbClr val="5a2c64"/>
                </a:solidFill>
                <a:latin typeface="Trebuchet MS"/>
                <a:ea typeface="Mudir MT"/>
              </a:rPr>
              <a:t> – فأكثر  ” </a:t>
            </a:r>
            <a:r>
              <a:rPr b="0" lang="ar-SA" sz="1500" spc="-1" strike="noStrike">
                <a:solidFill>
                  <a:srgbClr val="5a2c64"/>
                </a:solidFill>
                <a:latin typeface="Trebuchet MS"/>
                <a:ea typeface="Mudir MT"/>
              </a:rPr>
              <a:t>18</a:t>
            </a:r>
            <a:r>
              <a:rPr b="0" lang="ar-SA" sz="1500" spc="-1" strike="noStrike">
                <a:solidFill>
                  <a:srgbClr val="5a2c64"/>
                </a:solidFill>
                <a:latin typeface="Trebuchet MS"/>
                <a:ea typeface="Mudir MT"/>
              </a:rPr>
              <a:t> ” )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5a2c64"/>
                </a:solidFill>
                <a:latin typeface="Trebuchet MS"/>
                <a:cs typeface="Mudir MT"/>
              </a:rPr>
              <a:t>لعالم النفس ثيرسون عدله د/ أحمد زكي صالح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b83d68"/>
                </a:solidFill>
                <a:latin typeface="Trebuchet MS"/>
                <a:cs typeface="Mudir MT"/>
              </a:rPr>
              <a:t>ما يقيسه الاختبار: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Trebuchet MS"/>
                <a:cs typeface="Mudir MT"/>
              </a:rPr>
              <a:t>يقيس الاختبار القدرات العقلية الأولية في النجاح الدراسي والنجاح المهني وهذا يلزم في التوجيه التعليمي والمهني للطلاب بالإضافة إلى أنه يعطي صورة عامة عن ذكاء الطالب.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ff0000"/>
                </a:solidFill>
                <a:latin typeface="Trebuchet MS"/>
                <a:cs typeface="Mudir MT"/>
              </a:rPr>
              <a:t>لابد من تحديد العمر الزمني بدقة .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b83d68"/>
                </a:solidFill>
                <a:latin typeface="Trebuchet MS"/>
                <a:ea typeface="Mudir MT"/>
              </a:rPr>
              <a:t>     أقسام الاختبار :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القسم الأول </a:t>
            </a:r>
            <a:r>
              <a:rPr b="0" lang="ar-SA" sz="1500" spc="-1" strike="noStrike">
                <a:solidFill>
                  <a:srgbClr val="ff0000"/>
                </a:solidFill>
                <a:latin typeface="Trebuchet MS"/>
                <a:cs typeface="Mudir MT"/>
              </a:rPr>
              <a:t>يرمز له ( ل ) </a:t>
            </a:r>
            <a:r>
              <a:rPr b="0" lang="ar-SA" sz="1500" spc="-1" strike="noStrike">
                <a:solidFill>
                  <a:srgbClr val="000000"/>
                </a:solidFill>
                <a:latin typeface="Trebuchet MS"/>
                <a:ea typeface="Mudir MT"/>
              </a:rPr>
              <a:t>: وهو اختبار معاني الكلمات ويقيس القدرة اللغوية وهو أكثر الاختبارات تشعباً فيها.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ff0000"/>
                </a:solidFill>
                <a:latin typeface="Trebuchet MS"/>
                <a:cs typeface="Mudir MT"/>
              </a:rPr>
              <a:t>يحتاج الطالب لفهم تعليماته من </a:t>
            </a:r>
            <a:r>
              <a:rPr b="0" lang="ar-SA" sz="15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دقيقة / دقيقتين)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ff0000"/>
                </a:solidFill>
                <a:latin typeface="Trebuchet MS"/>
                <a:cs typeface="Mudir MT"/>
              </a:rPr>
              <a:t>دقائق والزمن المخصص للإجابة عن أسئلته </a:t>
            </a:r>
            <a:r>
              <a:rPr b="0" lang="ar-SA" sz="15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 خمس دقائق)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57200" y="620640"/>
            <a:ext cx="72388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b83d68"/>
                </a:solidFill>
                <a:latin typeface="Trebuchet MS"/>
                <a:cs typeface="Mudir MT"/>
              </a:rPr>
              <a:t>طريقة التصحيح: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القسم الثالث </a:t>
            </a:r>
            <a:r>
              <a:rPr b="0" lang="ar-SA" sz="3200" spc="-1" strike="noStrike">
                <a:solidFill>
                  <a:srgbClr val="000000"/>
                </a:solidFill>
                <a:latin typeface="Trebuchet MS"/>
                <a:ea typeface="Mudir MT"/>
              </a:rPr>
              <a:t>: بعد مراجعة مفتاح التصحيح الإجابة الصحيحة درجة والفقرات الخاطئة والمتروكة صفر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457200" y="620640"/>
            <a:ext cx="72388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b83d68"/>
                </a:solidFill>
                <a:latin typeface="Trebuchet MS"/>
                <a:cs typeface="Mudir MT"/>
              </a:rPr>
              <a:t>طريقة التصحيح: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القسم الرابع </a:t>
            </a:r>
            <a:r>
              <a:rPr b="0" lang="ar-SA" sz="3200" spc="-1" strike="noStrike">
                <a:solidFill>
                  <a:srgbClr val="000000"/>
                </a:solidFill>
                <a:latin typeface="Trebuchet MS"/>
                <a:ea typeface="Mudir MT"/>
              </a:rPr>
              <a:t>: لابد أن ترسمين جدول وتحسبين الفقرات الصحيح والخاطئة والمتروك لا يحسب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ebuchet MS"/>
                <a:cs typeface="Mudir MT"/>
              </a:rPr>
              <a:t>مجموع الصح – مجموع الخطأ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258920" y="2708280"/>
          <a:ext cx="6095880" cy="1854360"/>
        </p:xfrm>
        <a:graphic>
          <a:graphicData uri="http://schemas.openxmlformats.org/drawingml/2006/table">
            <a:tbl>
              <a:tblPr/>
              <a:tblGrid>
                <a:gridCol w="2031840"/>
                <a:gridCol w="2219400"/>
                <a:gridCol w="18446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خط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ص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رقم المجموع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cs typeface="Tahoma"/>
                        </a:rPr>
                        <a:t>المجموعة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cs typeface="Tahoma"/>
                        </a:rPr>
                        <a:t>المجموعة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cs typeface="Tahoma"/>
                        </a:rPr>
                        <a:t>المجموعة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cs typeface="Tahoma"/>
                        </a:rPr>
                        <a:t>المجمو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p:transition spd="med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57200" y="620280"/>
            <a:ext cx="72388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b83d68"/>
                </a:solidFill>
                <a:latin typeface="Trebuchet MS"/>
                <a:cs typeface="Mudir MT"/>
              </a:rPr>
              <a:t>المجموع الكلي للمقياس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b83d68"/>
                </a:solidFill>
                <a:latin typeface="Trebuchet MS"/>
                <a:ea typeface="Mudir MT"/>
              </a:rPr>
              <a:t>                                       = </a:t>
            </a:r>
            <a:r>
              <a:rPr b="0" lang="ar-SA" sz="3200" spc="-1" strike="noStrike">
                <a:solidFill>
                  <a:srgbClr val="000000"/>
                </a:solidFill>
                <a:latin typeface="Trebuchet MS"/>
                <a:cs typeface="Mudir MT"/>
              </a:rPr>
              <a:t>ل + نصف ك + ف + ع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عنصر نائب للمحتوى 2"/>
          <p:cNvSpPr/>
          <p:nvPr/>
        </p:nvSpPr>
        <p:spPr>
          <a:xfrm>
            <a:off x="611280" y="2997360"/>
            <a:ext cx="72388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b83d68"/>
                </a:solidFill>
                <a:latin typeface="Trebuchet MS"/>
                <a:cs typeface="Mudir MT"/>
              </a:rPr>
              <a:t>مثال سارة عمرها 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14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 سنة حصلت في القدرة اللغوية على 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36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 درجة، وفي الإدراك المكاني 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29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 درجة ، وفي التفكير 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28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 ، وفي القدرة اللغوية 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42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 درجة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أوجدي المجموع الكلي للمقياس ؟؟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200160" y="189000"/>
            <a:ext cx="8743680" cy="6669000"/>
          </a:xfrm>
          <a:prstGeom prst="rect">
            <a:avLst/>
          </a:prstGeom>
          <a:ln w="0">
            <a:noFill/>
          </a:ln>
        </p:spPr>
      </p:pic>
      <p:sp>
        <p:nvSpPr>
          <p:cNvPr id="302" name="مستطيل مستدير الزوايا 5"/>
          <p:cNvSpPr/>
          <p:nvPr/>
        </p:nvSpPr>
        <p:spPr>
          <a:xfrm>
            <a:off x="5940360" y="0"/>
            <a:ext cx="1584360" cy="69228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مستطيل مستدير الزوايا 6"/>
          <p:cNvSpPr/>
          <p:nvPr/>
        </p:nvSpPr>
        <p:spPr>
          <a:xfrm>
            <a:off x="6948360" y="3284640"/>
            <a:ext cx="287640" cy="21564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مستطيل مستدير الزوايا 7"/>
          <p:cNvSpPr/>
          <p:nvPr/>
        </p:nvSpPr>
        <p:spPr>
          <a:xfrm>
            <a:off x="6875640" y="692280"/>
            <a:ext cx="288720" cy="21564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رابط كسهم مستقيم 9"/>
          <p:cNvCxnSpPr/>
          <p:nvPr/>
        </p:nvCxnSpPr>
        <p:spPr>
          <a:xfrm>
            <a:off x="7308720" y="3428640"/>
            <a:ext cx="216720" cy="108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</p:spTree>
  </p:cSld>
  <p:transition spd="med">
    <p:wedg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8744040" cy="6669000"/>
          </a:xfrm>
          <a:prstGeom prst="rect">
            <a:avLst/>
          </a:prstGeom>
          <a:ln w="0">
            <a:noFill/>
          </a:ln>
        </p:spPr>
      </p:pic>
      <p:sp>
        <p:nvSpPr>
          <p:cNvPr id="307" name="مستطيل مستدير الزوايا 5"/>
          <p:cNvSpPr/>
          <p:nvPr/>
        </p:nvSpPr>
        <p:spPr>
          <a:xfrm>
            <a:off x="4427640" y="0"/>
            <a:ext cx="1584360" cy="69228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مستطيل مستدير الزوايا 6"/>
          <p:cNvSpPr/>
          <p:nvPr/>
        </p:nvSpPr>
        <p:spPr>
          <a:xfrm>
            <a:off x="5364000" y="3284640"/>
            <a:ext cx="216000" cy="21564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مستطيل مستدير الزوايا 7"/>
          <p:cNvSpPr/>
          <p:nvPr/>
        </p:nvSpPr>
        <p:spPr>
          <a:xfrm>
            <a:off x="5219640" y="692280"/>
            <a:ext cx="289080" cy="21564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رابط كسهم مستقيم 9"/>
          <p:cNvCxnSpPr>
            <a:stCxn id="308" idx="2"/>
          </p:cNvCxnSpPr>
          <p:nvPr/>
        </p:nvCxnSpPr>
        <p:spPr>
          <a:xfrm flipV="1">
            <a:off x="5472000" y="3428640"/>
            <a:ext cx="2053080" cy="72000"/>
          </a:xfrm>
          <a:prstGeom prst="straightConnector1">
            <a:avLst/>
          </a:prstGeom>
          <a:ln w="57240">
            <a:solidFill>
              <a:srgbClr val="b83d68"/>
            </a:solidFill>
            <a:miter/>
            <a:tailEnd len="med" type="triangle" w="med"/>
          </a:ln>
        </p:spPr>
      </p:cxnSp>
    </p:spTree>
  </p:cSld>
  <p:transition spd="med">
    <p:wedg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8744040" cy="6669000"/>
          </a:xfrm>
          <a:prstGeom prst="rect">
            <a:avLst/>
          </a:prstGeom>
          <a:ln w="0">
            <a:noFill/>
          </a:ln>
        </p:spPr>
      </p:pic>
      <p:sp>
        <p:nvSpPr>
          <p:cNvPr id="312" name="مستطيل مستدير الزوايا 5"/>
          <p:cNvSpPr/>
          <p:nvPr/>
        </p:nvSpPr>
        <p:spPr>
          <a:xfrm>
            <a:off x="2987640" y="0"/>
            <a:ext cx="1584360" cy="69228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مستطيل مستدير الزوايا 6"/>
          <p:cNvSpPr/>
          <p:nvPr/>
        </p:nvSpPr>
        <p:spPr>
          <a:xfrm>
            <a:off x="3851280" y="1484280"/>
            <a:ext cx="216000" cy="21600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مستطيل مستدير الزوايا 7"/>
          <p:cNvSpPr/>
          <p:nvPr/>
        </p:nvSpPr>
        <p:spPr>
          <a:xfrm>
            <a:off x="3780000" y="692280"/>
            <a:ext cx="287280" cy="21564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5" name="رابط كسهم مستقيم 9"/>
          <p:cNvCxnSpPr>
            <a:stCxn id="313" idx="2"/>
          </p:cNvCxnSpPr>
          <p:nvPr/>
        </p:nvCxnSpPr>
        <p:spPr>
          <a:xfrm flipV="1">
            <a:off x="3958920" y="1627920"/>
            <a:ext cx="3421800" cy="72360"/>
          </a:xfrm>
          <a:prstGeom prst="straightConnector1">
            <a:avLst/>
          </a:prstGeom>
          <a:ln w="57240">
            <a:solidFill>
              <a:srgbClr val="b83d68"/>
            </a:solidFill>
            <a:miter/>
            <a:tailEnd len="med" type="triangle" w="med"/>
          </a:ln>
        </p:spPr>
      </p:cxnSp>
    </p:spTree>
  </p:cSld>
  <p:transition spd="med">
    <p:wedg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8744040" cy="6669000"/>
          </a:xfrm>
          <a:prstGeom prst="rect">
            <a:avLst/>
          </a:prstGeom>
          <a:ln w="0">
            <a:noFill/>
          </a:ln>
        </p:spPr>
      </p:pic>
      <p:sp>
        <p:nvSpPr>
          <p:cNvPr id="317" name="مستطيل مستدير الزوايا 5"/>
          <p:cNvSpPr/>
          <p:nvPr/>
        </p:nvSpPr>
        <p:spPr>
          <a:xfrm>
            <a:off x="1547640" y="260280"/>
            <a:ext cx="1584360" cy="50472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مستطيل مستدير الزوايا 6"/>
          <p:cNvSpPr/>
          <p:nvPr/>
        </p:nvSpPr>
        <p:spPr>
          <a:xfrm>
            <a:off x="2484360" y="1557360"/>
            <a:ext cx="216000" cy="21600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مستطيل مستدير الزوايا 7"/>
          <p:cNvSpPr/>
          <p:nvPr/>
        </p:nvSpPr>
        <p:spPr>
          <a:xfrm>
            <a:off x="2411280" y="765000"/>
            <a:ext cx="289080" cy="21600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رابط كسهم مستقيم 9"/>
          <p:cNvCxnSpPr>
            <a:stCxn id="318" idx="2"/>
          </p:cNvCxnSpPr>
          <p:nvPr/>
        </p:nvCxnSpPr>
        <p:spPr>
          <a:xfrm flipV="1">
            <a:off x="2592360" y="1699560"/>
            <a:ext cx="4788720" cy="73800"/>
          </a:xfrm>
          <a:prstGeom prst="straightConnector1">
            <a:avLst/>
          </a:prstGeom>
          <a:ln w="57240">
            <a:solidFill>
              <a:srgbClr val="b83d68"/>
            </a:solidFill>
            <a:miter/>
            <a:tailEnd len="med" type="triangle" w="med"/>
          </a:ln>
        </p:spPr>
      </p:cxnSp>
    </p:spTree>
  </p:cSld>
  <p:transition spd="med">
    <p:wedg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8744040" cy="6669000"/>
          </a:xfrm>
          <a:prstGeom prst="rect">
            <a:avLst/>
          </a:prstGeom>
          <a:ln w="0">
            <a:noFill/>
          </a:ln>
        </p:spPr>
      </p:pic>
      <p:sp>
        <p:nvSpPr>
          <p:cNvPr id="322" name="مستطيل مستدير الزوايا 5"/>
          <p:cNvSpPr/>
          <p:nvPr/>
        </p:nvSpPr>
        <p:spPr>
          <a:xfrm>
            <a:off x="179280" y="333360"/>
            <a:ext cx="1584360" cy="50328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مستطيل مستدير الزوايا 6"/>
          <p:cNvSpPr/>
          <p:nvPr/>
        </p:nvSpPr>
        <p:spPr>
          <a:xfrm>
            <a:off x="1116000" y="1773360"/>
            <a:ext cx="216000" cy="21564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مستطيل مستدير الزوايا 7"/>
          <p:cNvSpPr/>
          <p:nvPr/>
        </p:nvSpPr>
        <p:spPr>
          <a:xfrm>
            <a:off x="971640" y="836640"/>
            <a:ext cx="287280" cy="21600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رابط كسهم مستقيم 9"/>
          <p:cNvCxnSpPr>
            <a:stCxn id="323" idx="2"/>
          </p:cNvCxnSpPr>
          <p:nvPr/>
        </p:nvCxnSpPr>
        <p:spPr>
          <a:xfrm flipH="1">
            <a:off x="-360" y="1988640"/>
            <a:ext cx="1224720" cy="1080"/>
          </a:xfrm>
          <a:prstGeom prst="straightConnector1">
            <a:avLst/>
          </a:prstGeom>
          <a:ln w="57240">
            <a:solidFill>
              <a:srgbClr val="b83d68"/>
            </a:solidFill>
            <a:miter/>
            <a:tailEnd len="med" type="triangle" w="med"/>
          </a:ln>
        </p:spPr>
      </p:cxnSp>
    </p:spTree>
  </p:cSld>
  <p:transition spd="med">
    <p:wedg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620640"/>
            <a:ext cx="72388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b83d68"/>
                </a:solidFill>
                <a:latin typeface="Trebuchet MS"/>
                <a:cs typeface="Mudir MT"/>
              </a:rPr>
              <a:t>أقسام الاختبار :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القسم الثاني </a:t>
            </a: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يرمز له ( ك ) 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  <a:ea typeface="Mudir MT"/>
              </a:rPr>
              <a:t>: وهو اختبار الإدارك المكاني ويعتمد على التفريق بين الأشكال السوية والمعكوسة 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يحتاج الطالب لفهم تعليماته من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خمس / سبع)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دقائق والزمن المخصص للإجابة عن أسئلته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 عشر دقائق 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القسم الثالث </a:t>
            </a: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يرمز له ( ف ) 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  <a:ea typeface="Mudir MT"/>
              </a:rPr>
              <a:t>: وهو اختبار التفكير ويقيس القدرة على الاستدلال ومادته الحروف الهجائية وعلى الطالب أن يدرك نوع العلاقة الموجودة في كل سلسلة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يحتاج الطالب لفهم تعليماته من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خمس / سبع)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دقائق والزمن المخصص للإجابة عن أسئلته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 عشر دقائق 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القسم الرابع </a:t>
            </a: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يرمز له ( ع) 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  <a:ea typeface="Mudir MT"/>
              </a:rPr>
              <a:t>: وهو اختبار الجمع البسيط ويقيس القدرة العددية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يحتاج الطالب لفهم تعليماته من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دقيقة / دقيقتين)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دقائق والزمن المخصص للإجابة عن أسئلته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 ستة دقائق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620640"/>
            <a:ext cx="72388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b83d68"/>
                </a:solidFill>
                <a:latin typeface="Trebuchet MS"/>
                <a:cs typeface="Mudir MT"/>
              </a:rPr>
              <a:t>تعليمات عامة: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ebuchet MS"/>
                <a:cs typeface="Mudir MT"/>
              </a:rPr>
              <a:t>أن الغرض الأساسي من هذا الاختبار هو تقدير قدرتك على حل المشاكل المختلفة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ebuchet MS"/>
                <a:cs typeface="Mudir MT"/>
              </a:rPr>
              <a:t>قد تميل إلى بعض الأقسام، وقد تستسهل أقساماً .. ” </a:t>
            </a:r>
            <a:r>
              <a:rPr b="0" lang="ar-SA" sz="2000" spc="-1" strike="noStrike">
                <a:solidFill>
                  <a:srgbClr val="ff0000"/>
                </a:solidFill>
                <a:latin typeface="Trebuchet MS"/>
                <a:cs typeface="Mudir MT"/>
              </a:rPr>
              <a:t>يجب أن تهتم بكل الأقسام على حد سواء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ebuchet MS"/>
                <a:cs typeface="Mudir MT"/>
              </a:rPr>
              <a:t>نرجو ملاحظة أن هذه الكراسة سيستخدمها أفراد آخرين فلا تكتب عليها شيئاً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ebuchet MS"/>
                <a:cs typeface="Mudir MT"/>
              </a:rPr>
              <a:t>اقرأ تعليمات كل اختبار بعناية، ولا تترك منها شيئاً، وتأكد من فهمك لطبيعة السؤال في كل اختبار</a:t>
            </a:r>
            <a:r>
              <a:rPr b="0" lang="ar-SA" sz="2000" spc="-1" strike="noStrike">
                <a:solidFill>
                  <a:srgbClr val="ff0000"/>
                </a:solidFill>
                <a:latin typeface="Trebuchet MS"/>
                <a:cs typeface="Mudir MT"/>
              </a:rPr>
              <a:t>، لأنه لن يسمح لك بأي سؤال أثناء إجراء الاختبار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ebuchet MS"/>
                <a:cs typeface="Mudir MT"/>
              </a:rPr>
              <a:t>لن تستطيع أن تحل جميع المسائل أو تجيب عن جميع الأسئلة في الوقت المخصص لأن الاختبارات طويلة ، لذلك أجب على قدر استطاعتك متوخياً السرعة والدقة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ebuchet MS"/>
                <a:cs typeface="Mudir MT"/>
              </a:rPr>
              <a:t>لابد من  مراعاة  أن تكون الإجابة في الأماكن المخصصة لها في ورقة الإجابة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عنوان 1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7255080" cy="669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"/>
          <p:cNvPicPr/>
          <p:nvPr/>
        </p:nvPicPr>
        <p:blipFill>
          <a:blip r:embed="rId2"/>
          <a:stretch/>
        </p:blipFill>
        <p:spPr>
          <a:xfrm>
            <a:off x="0" y="981000"/>
            <a:ext cx="8820000" cy="5877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عنوان 1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7255080" cy="6699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1042920" y="1162080"/>
            <a:ext cx="6408720" cy="5695920"/>
          </a:xfrm>
          <a:prstGeom prst="rect">
            <a:avLst/>
          </a:prstGeom>
          <a:ln w="0">
            <a:noFill/>
          </a:ln>
        </p:spPr>
      </p:pic>
      <p:sp>
        <p:nvSpPr>
          <p:cNvPr id="236" name="مستطيل 4"/>
          <p:cNvSpPr/>
          <p:nvPr/>
        </p:nvSpPr>
        <p:spPr>
          <a:xfrm>
            <a:off x="3059280" y="2421000"/>
            <a:ext cx="28872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مستطيل 6"/>
          <p:cNvSpPr/>
          <p:nvPr/>
        </p:nvSpPr>
        <p:spPr>
          <a:xfrm>
            <a:off x="3132000" y="3213000"/>
            <a:ext cx="28764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مستطيل 7"/>
          <p:cNvSpPr/>
          <p:nvPr/>
        </p:nvSpPr>
        <p:spPr>
          <a:xfrm>
            <a:off x="3132000" y="3933720"/>
            <a:ext cx="28764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مستطيل 8"/>
          <p:cNvSpPr/>
          <p:nvPr/>
        </p:nvSpPr>
        <p:spPr>
          <a:xfrm>
            <a:off x="3132000" y="4653000"/>
            <a:ext cx="28764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مستطيل 9">
            <a:hlinkClick r:id="rId3" action="ppaction://hlinksldjump"/>
          </p:cNvPr>
          <p:cNvSpPr/>
          <p:nvPr/>
        </p:nvSpPr>
        <p:spPr>
          <a:xfrm>
            <a:off x="3203640" y="5516640"/>
            <a:ext cx="28872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مستطيل 10"/>
          <p:cNvSpPr/>
          <p:nvPr/>
        </p:nvSpPr>
        <p:spPr>
          <a:xfrm>
            <a:off x="2411280" y="2421000"/>
            <a:ext cx="28908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مستطيل 11"/>
          <p:cNvSpPr/>
          <p:nvPr/>
        </p:nvSpPr>
        <p:spPr>
          <a:xfrm>
            <a:off x="2484360" y="3213000"/>
            <a:ext cx="28728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مستطيل 12"/>
          <p:cNvSpPr/>
          <p:nvPr/>
        </p:nvSpPr>
        <p:spPr>
          <a:xfrm>
            <a:off x="2411280" y="3933720"/>
            <a:ext cx="505080" cy="2872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مستطيل 13"/>
          <p:cNvSpPr/>
          <p:nvPr/>
        </p:nvSpPr>
        <p:spPr>
          <a:xfrm>
            <a:off x="2484360" y="4653000"/>
            <a:ext cx="503280" cy="28872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مستطيل 14">
            <a:hlinkClick r:id="rId4" action="ppaction://hlinksldjump"/>
          </p:cNvPr>
          <p:cNvSpPr/>
          <p:nvPr/>
        </p:nvSpPr>
        <p:spPr>
          <a:xfrm>
            <a:off x="2484360" y="5445000"/>
            <a:ext cx="503280" cy="28764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264360" cy="5040360"/>
          </a:xfrm>
          <a:prstGeom prst="rect">
            <a:avLst/>
          </a:prstGeom>
          <a:ln w="0">
            <a:noFill/>
          </a:ln>
        </p:spPr>
      </p:pic>
      <p:pic>
        <p:nvPicPr>
          <p:cNvPr id="247" name="عنوان 1" descr=""/>
          <p:cNvPicPr/>
          <p:nvPr/>
        </p:nvPicPr>
        <p:blipFill>
          <a:blip r:embed="rId2"/>
          <a:stretch/>
        </p:blipFill>
        <p:spPr>
          <a:xfrm>
            <a:off x="450720" y="244440"/>
            <a:ext cx="7255080" cy="669960"/>
          </a:xfrm>
          <a:prstGeom prst="rect">
            <a:avLst/>
          </a:prstGeom>
          <a:ln w="0">
            <a:noFill/>
          </a:ln>
        </p:spPr>
      </p:pic>
      <p:sp>
        <p:nvSpPr>
          <p:cNvPr id="248" name="مستطيل 4"/>
          <p:cNvSpPr/>
          <p:nvPr/>
        </p:nvSpPr>
        <p:spPr>
          <a:xfrm>
            <a:off x="3276720" y="1844640"/>
            <a:ext cx="28728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مستطيل 6">
            <a:hlinkClick r:id="rId3" action="ppaction://hlinksldjump"/>
          </p:cNvPr>
          <p:cNvSpPr/>
          <p:nvPr/>
        </p:nvSpPr>
        <p:spPr>
          <a:xfrm>
            <a:off x="3132000" y="3213000"/>
            <a:ext cx="28764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مستطيل 10"/>
          <p:cNvSpPr/>
          <p:nvPr/>
        </p:nvSpPr>
        <p:spPr>
          <a:xfrm>
            <a:off x="2627280" y="1844640"/>
            <a:ext cx="504720" cy="2890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مستطيل 11"/>
          <p:cNvSpPr/>
          <p:nvPr/>
        </p:nvSpPr>
        <p:spPr>
          <a:xfrm>
            <a:off x="2627280" y="2852640"/>
            <a:ext cx="504720" cy="2890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مستطيل 4"/>
          <p:cNvSpPr/>
          <p:nvPr/>
        </p:nvSpPr>
        <p:spPr>
          <a:xfrm>
            <a:off x="324000" y="260280"/>
            <a:ext cx="7561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r" rtl="1">
              <a:lnSpc>
                <a:spcPts val="2874"/>
              </a:lnSpc>
              <a:buClr>
                <a:srgbClr val="b83d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Arial"/>
                <a:cs typeface="Mudir MT"/>
              </a:rPr>
              <a:t>القسم الأول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رمز له ( ل )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Mudir MT"/>
              </a:rPr>
              <a:t>: وهو اختبار معاني الكلمات ويقيس القدرة اللغوية وهو أكثر الاختبارات تشعباً فيها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buClr>
                <a:srgbClr val="b83d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حتاج الطالب لفهم تعليماته من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دقيقة / دقيقتين)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دقائق والزمن المخصص للإجابة عن أسئلته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 خمس دقائ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7489800" cy="4635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مستطيل 6"/>
          <p:cNvSpPr/>
          <p:nvPr/>
        </p:nvSpPr>
        <p:spPr>
          <a:xfrm>
            <a:off x="1835280" y="3213000"/>
            <a:ext cx="360360" cy="72072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مستطيل 7"/>
          <p:cNvSpPr/>
          <p:nvPr/>
        </p:nvSpPr>
        <p:spPr>
          <a:xfrm>
            <a:off x="2195640" y="4005360"/>
            <a:ext cx="360360" cy="71892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مستطيل 8"/>
          <p:cNvSpPr/>
          <p:nvPr/>
        </p:nvSpPr>
        <p:spPr>
          <a:xfrm>
            <a:off x="2627280" y="4797360"/>
            <a:ext cx="360360" cy="71928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7:02:06Z</dcterms:created>
  <dc:creator>Micro</dc:creator>
  <dc:description/>
  <dc:language>en-US</dc:language>
  <cp:lastModifiedBy>ABUMADA</cp:lastModifiedBy>
  <dcterms:modified xsi:type="dcterms:W3CDTF">2012-09-06T10:11:06Z</dcterms:modified>
  <cp:revision>16</cp:revision>
  <dc:subject/>
  <dc:title>مقياس العوامل الخمس الكبرى في الشخصية</dc:title>
</cp:coreProperties>
</file>