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1C00E-2128-4C18-A290-EE445769C71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06F0-F2F2-4534-AC0D-A6B73536A43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6BE0-11CF-4649-8717-16C1721D1D3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2282-7235-4B85-BDEB-7C2D250E6C7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F522-90AE-4442-8C43-0E4072CCE44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C721-CEF4-4A37-B988-E72A7C7548D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89B5-4D54-4E1A-B37E-843CEEE64F6C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851B-39BA-4BCB-BA36-A7162C6AB41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0A54-F27C-46D1-AFC2-E0FA36D6D7AF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321-9318-4CD1-AF9F-A4A38035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170-F870-4376-A16B-6B5487D00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B4C8-7990-4C8F-A0C4-352431EF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A4D3-1B65-41F4-AD60-0001D4B9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5537-916F-485F-9EB8-572D255A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41F15-C3BB-4493-B2EA-617DF427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6D9F-E8C5-49A5-9F45-591BD968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5531D-4476-48F4-A321-9E4B9158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746C-223B-4399-9EC6-198FF1CF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8539-C113-40F0-BE8D-B8435B25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571E-F8CC-44DB-B392-6C500F0C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3479-F8C8-459F-B629-DE52D7AF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C7EFF-0CCF-4227-B3A6-CF2B1234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90054-AB2C-4E20-91C6-0095B537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32CC5-C7C7-44CF-AB02-4F0C8B6F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265F-35C8-4FC1-B808-11748914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CF10-81A0-4334-AC3D-FA382EE8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5D0E0-D294-4A09-BEA0-D336F6FE1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C5175-78F4-481B-BD8B-467BAE45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4B90-7090-4319-A434-767C8C2A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28EC5-50A2-4B33-9937-5FB36B3E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E4B7B-0E53-419E-82D5-78D9AAD6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A9E9-65BC-4B9A-9FC8-4A92F7F7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8765-B268-463C-9AD5-6C71683F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16C0-729D-43F3-BA2A-FA88953A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F7B27-5D29-4A47-AF11-15C15B35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309F9-7861-4333-AB7B-590F3585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63514-3268-4955-B81E-44A79057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99F0E-3F49-4B64-8966-F016BA9D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0FAED-023F-499D-9375-98B256D15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FA4C3-9C73-47ED-A7E7-CA7F3526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43D66-8F38-4EA6-9FD8-323AEE6D7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68693-43F8-4632-A29F-5A234F10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0806-1033-482A-A103-268E839F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79B37-8BA3-4A00-866D-3B8E585D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36682-B0CE-444A-9364-301B3BDB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7A5B8-463B-485F-8A6E-5FC77DDC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0045C-575C-41BA-ACF7-8EA38C2A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E8DEB-23CF-4998-8EC3-43BDC2CB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54591-633B-452D-988E-AE03554E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E4D16-F924-435F-BA06-43B1AA75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2A67-EC09-4722-872E-21FC10484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B0155-31E4-41E0-8BD3-E4E2093F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CD9FA-3C04-40C5-B5EC-7D4246AC0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ABB0-F7ED-450B-B27D-8ECE6344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5FF22-1C41-4866-B3AE-D9B3A570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476D7-4274-49F1-845A-84477112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3CD56-D861-40DF-B13E-C4BF6251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8B14B-B0C1-4AFB-9B40-9752B00BF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79096-6A77-4B83-BC7C-69B277FB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C5ED5-8F14-49B7-972F-79AB595B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C64D4-1DAC-4C51-B06B-2CB0FCB5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0CA79-B0F4-42B1-8116-748C299E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89E09-9A52-49A0-96AF-B32A8103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6383C-0733-4D65-B948-E5BD6D98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23E-EF21-48DB-B31C-2CEA1ED7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2AF15-3D96-4FE3-B8F7-F1B491E3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B1A-3AB3-4F2F-8E14-15711219C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D5C2-5BF4-4F71-9E9E-8CC1DB6D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27C7-87D7-41B1-B9E9-6EE90029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9109-79D0-43D2-B6F1-BA67364B9A94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مستطيل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مستطيل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رابط مستقيم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B24E-6F14-4CA1-9566-AE1E297FC7A6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CDA7-3454-416F-90CB-709E1EF1B699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ستطيل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F3736-11CA-4EDA-9212-5B20A1A79151}" type="slidenum">
              <a:rPr b="0" lang="ar-SA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F0E6-76B8-4430-A4CA-2609C4CC01BA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عنوان 1" descr=""/>
          <p:cNvPicPr/>
          <p:nvPr/>
        </p:nvPicPr>
        <p:blipFill>
          <a:blip r:embed="rId1"/>
          <a:stretch/>
        </p:blipFill>
        <p:spPr>
          <a:xfrm>
            <a:off x="3413160" y="237960"/>
            <a:ext cx="5121360" cy="570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عنوان 1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7254720" cy="603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 rot="21369600">
            <a:off x="182520" y="1199880"/>
            <a:ext cx="7777080" cy="5405400"/>
          </a:xfrm>
          <a:prstGeom prst="rect">
            <a:avLst/>
          </a:prstGeom>
          <a:ln w="0">
            <a:noFill/>
          </a:ln>
        </p:spPr>
      </p:pic>
      <p:sp>
        <p:nvSpPr>
          <p:cNvPr id="261" name="مستطيل مستدير الزوايا 4"/>
          <p:cNvSpPr/>
          <p:nvPr/>
        </p:nvSpPr>
        <p:spPr>
          <a:xfrm>
            <a:off x="826920" y="1052640"/>
            <a:ext cx="6337440" cy="50472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7850160" cy="4941720"/>
          </a:xfrm>
          <a:prstGeom prst="rect">
            <a:avLst/>
          </a:prstGeom>
          <a:ln w="0">
            <a:noFill/>
          </a:ln>
        </p:spPr>
      </p:pic>
      <p:sp>
        <p:nvSpPr>
          <p:cNvPr id="264" name="مستطيل 5"/>
          <p:cNvSpPr/>
          <p:nvPr/>
        </p:nvSpPr>
        <p:spPr>
          <a:xfrm>
            <a:off x="7093080" y="2708280"/>
            <a:ext cx="129528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ستطيل 6"/>
          <p:cNvSpPr/>
          <p:nvPr/>
        </p:nvSpPr>
        <p:spPr>
          <a:xfrm rot="19720200">
            <a:off x="5156280" y="3026880"/>
            <a:ext cx="8301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7"/>
          <p:cNvSpPr/>
          <p:nvPr/>
        </p:nvSpPr>
        <p:spPr>
          <a:xfrm>
            <a:off x="5003640" y="2205000"/>
            <a:ext cx="792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ستطيل 8"/>
          <p:cNvSpPr/>
          <p:nvPr/>
        </p:nvSpPr>
        <p:spPr>
          <a:xfrm rot="15027000">
            <a:off x="4353480" y="3248280"/>
            <a:ext cx="8319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ستطيل 9"/>
          <p:cNvSpPr/>
          <p:nvPr/>
        </p:nvSpPr>
        <p:spPr>
          <a:xfrm>
            <a:off x="4211640" y="2205000"/>
            <a:ext cx="79200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مستطيل 10"/>
          <p:cNvSpPr/>
          <p:nvPr/>
        </p:nvSpPr>
        <p:spPr>
          <a:xfrm rot="6035400">
            <a:off x="3328560" y="3271680"/>
            <a:ext cx="83052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ستطيل 11"/>
          <p:cNvSpPr/>
          <p:nvPr/>
        </p:nvSpPr>
        <p:spPr>
          <a:xfrm>
            <a:off x="3348000" y="2276640"/>
            <a:ext cx="792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مستطيل 12"/>
          <p:cNvSpPr/>
          <p:nvPr/>
        </p:nvSpPr>
        <p:spPr>
          <a:xfrm>
            <a:off x="7093080" y="4221000"/>
            <a:ext cx="129528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643280" cy="6337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0" y="189000"/>
            <a:ext cx="4859280" cy="6408720"/>
          </a:xfrm>
          <a:prstGeom prst="rect">
            <a:avLst/>
          </a:prstGeom>
          <a:ln w="0">
            <a:noFill/>
          </a:ln>
        </p:spPr>
      </p:pic>
      <p:sp>
        <p:nvSpPr>
          <p:cNvPr id="274" name="مستطيل 5"/>
          <p:cNvSpPr/>
          <p:nvPr/>
        </p:nvSpPr>
        <p:spPr>
          <a:xfrm>
            <a:off x="2771640" y="2205000"/>
            <a:ext cx="43200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ستطيل 6"/>
          <p:cNvSpPr/>
          <p:nvPr/>
        </p:nvSpPr>
        <p:spPr>
          <a:xfrm>
            <a:off x="2124000" y="2276640"/>
            <a:ext cx="576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ستطيل 7"/>
          <p:cNvSpPr/>
          <p:nvPr/>
        </p:nvSpPr>
        <p:spPr>
          <a:xfrm>
            <a:off x="1187280" y="2205000"/>
            <a:ext cx="50508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عنوان 1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7254720" cy="603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0" y="919080"/>
            <a:ext cx="7956720" cy="593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مستطيل 4"/>
          <p:cNvSpPr/>
          <p:nvPr/>
        </p:nvSpPr>
        <p:spPr>
          <a:xfrm>
            <a:off x="324000" y="260280"/>
            <a:ext cx="7561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أول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ب أب أب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ن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ت أ ث ج أ ح أ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مستطيل 3"/>
          <p:cNvSpPr/>
          <p:nvPr/>
        </p:nvSpPr>
        <p:spPr>
          <a:xfrm>
            <a:off x="3276720" y="371628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لث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أأب ب ب ت ت ت ث ث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 ب س ت ث س ج ح س خ د س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179960" cy="3960720"/>
          </a:xfrm>
          <a:prstGeom prst="rect">
            <a:avLst/>
          </a:prstGeom>
          <a:ln w="0">
            <a:noFill/>
          </a:ln>
        </p:spPr>
      </p:pic>
      <p:sp>
        <p:nvSpPr>
          <p:cNvPr id="282" name="مستطيل 6"/>
          <p:cNvSpPr/>
          <p:nvPr/>
        </p:nvSpPr>
        <p:spPr>
          <a:xfrm>
            <a:off x="1116000" y="3357720"/>
            <a:ext cx="576360" cy="5029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مستطيل 7"/>
          <p:cNvSpPr/>
          <p:nvPr/>
        </p:nvSpPr>
        <p:spPr>
          <a:xfrm>
            <a:off x="1116000" y="3789360"/>
            <a:ext cx="576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مستطيل 8"/>
          <p:cNvSpPr/>
          <p:nvPr/>
        </p:nvSpPr>
        <p:spPr>
          <a:xfrm>
            <a:off x="1187280" y="4365720"/>
            <a:ext cx="576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مستطيل 9"/>
          <p:cNvSpPr/>
          <p:nvPr/>
        </p:nvSpPr>
        <p:spPr>
          <a:xfrm>
            <a:off x="1187280" y="4869000"/>
            <a:ext cx="576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عنوان 1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7254720" cy="60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250920" y="814320"/>
            <a:ext cx="7561080" cy="571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مستطيل 4"/>
          <p:cNvSpPr/>
          <p:nvPr/>
        </p:nvSpPr>
        <p:spPr>
          <a:xfrm>
            <a:off x="324000" y="26028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799308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8748720" cy="5445000"/>
          </a:xfrm>
          <a:prstGeom prst="rect">
            <a:avLst/>
          </a:prstGeom>
          <a:ln w="0">
            <a:noFill/>
          </a:ln>
        </p:spPr>
      </p:pic>
      <p:pic>
        <p:nvPicPr>
          <p:cNvPr id="291" name="عنوان 1" descr=""/>
          <p:cNvPicPr/>
          <p:nvPr/>
        </p:nvPicPr>
        <p:blipFill>
          <a:blip r:embed="rId2"/>
          <a:stretch/>
        </p:blipFill>
        <p:spPr>
          <a:xfrm>
            <a:off x="384120" y="115920"/>
            <a:ext cx="7699320" cy="669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ني 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87280" y="1989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655720"/>
                <a:gridCol w="14083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187280" y="3933720"/>
          <a:ext cx="6096240" cy="11131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ه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عنوان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5a2c64"/>
                </a:solidFill>
                <a:latin typeface="Trebuchet MS"/>
                <a:cs typeface="Mudir MT"/>
              </a:rPr>
              <a:t>تناسب الأعمار من مستوى ( 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13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 – فأكثر  ” 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18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 ” )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5a2c64"/>
                </a:solidFill>
                <a:latin typeface="Trebuchet MS"/>
                <a:cs typeface="Mudir MT"/>
              </a:rPr>
              <a:t>لعالم النفس ثيرسون عدله د/ أحمد زكي صالح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b83d68"/>
                </a:solidFill>
                <a:latin typeface="Trebuchet MS"/>
                <a:cs typeface="Mudir MT"/>
              </a:rPr>
              <a:t>ما يقيسه الاختبار: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Trebuchet MS"/>
                <a:cs typeface="Mudir MT"/>
              </a:rPr>
              <a:t>يقيس الاختبار القدرات العقلية الأولية في النجاح الدراسي والنجاح المهني وهذا يلزم في التوجيه التعليمي والمهني للطلاب بالإضافة إلى أنه يعطي صورة عامة عن ذكاء الطالب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لابد من تحديد العمر الزمني بدقة 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b83d68"/>
                </a:solidFill>
                <a:latin typeface="Trebuchet MS"/>
                <a:ea typeface="Mudir MT"/>
              </a:rPr>
              <a:t>     أقسام الاختبار :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ل ) </a:t>
            </a:r>
            <a:r>
              <a:rPr b="0" lang="ar-SA" sz="15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معاني الكلمات ويقيس القدرة اللغوية وهو أكثر الاختبارات تشعباً فيها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5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5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خمس دقائق)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58920" y="2708280"/>
          <a:ext cx="6095880" cy="1854360"/>
        </p:xfrm>
        <a:graphic>
          <a:graphicData uri="http://schemas.openxmlformats.org/drawingml/2006/table">
            <a:tbl>
              <a:tblPr/>
              <a:tblGrid>
                <a:gridCol w="2031840"/>
                <a:gridCol w="2219400"/>
                <a:gridCol w="1844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رقم المجموع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620280"/>
            <a:ext cx="7238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المجموع الكلي للمقياس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ea typeface="Mudir MT"/>
              </a:rPr>
              <a:t>                                       =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ل + نصف ك + ف + 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عنصر نائب للمحتوى 2"/>
          <p:cNvSpPr/>
          <p:nvPr/>
        </p:nvSpPr>
        <p:spPr>
          <a:xfrm>
            <a:off x="611280" y="2997360"/>
            <a:ext cx="7238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b83d68"/>
                </a:solidFill>
                <a:latin typeface="Trebuchet MS"/>
                <a:cs typeface="Mudir MT"/>
              </a:rPr>
              <a:t>مثال سارة عمرها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14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سنة حصلت في القدرة اللغوية على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36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، وفي الإدراك المكاني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29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 ، وفي التفكير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28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، وفي القدرة اللغوية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42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أوجدي المجموع الكلي للمقياس ؟؟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8743680" cy="6669000"/>
          </a:xfrm>
          <a:prstGeom prst="rect">
            <a:avLst/>
          </a:prstGeom>
          <a:ln w="0">
            <a:noFill/>
          </a:ln>
        </p:spPr>
      </p:pic>
      <p:sp>
        <p:nvSpPr>
          <p:cNvPr id="302" name="مستطيل مستدير الزوايا 5"/>
          <p:cNvSpPr/>
          <p:nvPr/>
        </p:nvSpPr>
        <p:spPr>
          <a:xfrm>
            <a:off x="594036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مستطيل مستدير الزوايا 6"/>
          <p:cNvSpPr/>
          <p:nvPr/>
        </p:nvSpPr>
        <p:spPr>
          <a:xfrm>
            <a:off x="6948360" y="3284640"/>
            <a:ext cx="28764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مستطيل مستدير الزوايا 7"/>
          <p:cNvSpPr/>
          <p:nvPr/>
        </p:nvSpPr>
        <p:spPr>
          <a:xfrm>
            <a:off x="6875640" y="692280"/>
            <a:ext cx="28872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رابط كسهم مستقيم 9"/>
          <p:cNvCxnSpPr/>
          <p:nvPr/>
        </p:nvCxnSpPr>
        <p:spPr>
          <a:xfrm>
            <a:off x="7308720" y="3428640"/>
            <a:ext cx="216720" cy="10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07" name="مستطيل مستدير الزوايا 5"/>
          <p:cNvSpPr/>
          <p:nvPr/>
        </p:nvSpPr>
        <p:spPr>
          <a:xfrm>
            <a:off x="442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مستدير الزوايا 6"/>
          <p:cNvSpPr/>
          <p:nvPr/>
        </p:nvSpPr>
        <p:spPr>
          <a:xfrm>
            <a:off x="5364000" y="3284640"/>
            <a:ext cx="21600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ستطيل مستدير الزوايا 7"/>
          <p:cNvSpPr/>
          <p:nvPr/>
        </p:nvSpPr>
        <p:spPr>
          <a:xfrm>
            <a:off x="5219640" y="692280"/>
            <a:ext cx="28908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رابط كسهم مستقيم 9"/>
          <p:cNvCxnSpPr>
            <a:stCxn id="308" idx="2"/>
          </p:cNvCxnSpPr>
          <p:nvPr/>
        </p:nvCxnSpPr>
        <p:spPr>
          <a:xfrm flipV="1">
            <a:off x="5472000" y="3428640"/>
            <a:ext cx="2053080" cy="720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2" name="مستطيل مستدير الزوايا 5"/>
          <p:cNvSpPr/>
          <p:nvPr/>
        </p:nvSpPr>
        <p:spPr>
          <a:xfrm>
            <a:off x="298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مستطيل مستدير الزوايا 6"/>
          <p:cNvSpPr/>
          <p:nvPr/>
        </p:nvSpPr>
        <p:spPr>
          <a:xfrm>
            <a:off x="3851280" y="1484280"/>
            <a:ext cx="21600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مستطيل مستدير الزوايا 7"/>
          <p:cNvSpPr/>
          <p:nvPr/>
        </p:nvSpPr>
        <p:spPr>
          <a:xfrm>
            <a:off x="3780000" y="692280"/>
            <a:ext cx="28728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رابط كسهم مستقيم 9"/>
          <p:cNvCxnSpPr>
            <a:stCxn id="313" idx="2"/>
          </p:cNvCxnSpPr>
          <p:nvPr/>
        </p:nvCxnSpPr>
        <p:spPr>
          <a:xfrm flipV="1">
            <a:off x="3958920" y="1627920"/>
            <a:ext cx="3421800" cy="723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7" name="مستطيل مستدير الزوايا 5"/>
          <p:cNvSpPr/>
          <p:nvPr/>
        </p:nvSpPr>
        <p:spPr>
          <a:xfrm>
            <a:off x="1547640" y="260280"/>
            <a:ext cx="1584360" cy="50472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مستطيل مستدير الزوايا 6"/>
          <p:cNvSpPr/>
          <p:nvPr/>
        </p:nvSpPr>
        <p:spPr>
          <a:xfrm>
            <a:off x="2484360" y="1557360"/>
            <a:ext cx="21600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مستطيل مستدير الزوايا 7"/>
          <p:cNvSpPr/>
          <p:nvPr/>
        </p:nvSpPr>
        <p:spPr>
          <a:xfrm>
            <a:off x="2411280" y="765000"/>
            <a:ext cx="28908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رابط كسهم مستقيم 9"/>
          <p:cNvCxnSpPr>
            <a:stCxn id="318" idx="2"/>
          </p:cNvCxnSpPr>
          <p:nvPr/>
        </p:nvCxnSpPr>
        <p:spPr>
          <a:xfrm flipV="1">
            <a:off x="2592360" y="1699560"/>
            <a:ext cx="4788720" cy="738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22" name="مستطيل مستدير الزوايا 5"/>
          <p:cNvSpPr/>
          <p:nvPr/>
        </p:nvSpPr>
        <p:spPr>
          <a:xfrm>
            <a:off x="179280" y="333360"/>
            <a:ext cx="1584360" cy="503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مستطيل مستدير الزوايا 6"/>
          <p:cNvSpPr/>
          <p:nvPr/>
        </p:nvSpPr>
        <p:spPr>
          <a:xfrm>
            <a:off x="1116000" y="1773360"/>
            <a:ext cx="21600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مستطيل مستدير الزوايا 7"/>
          <p:cNvSpPr/>
          <p:nvPr/>
        </p:nvSpPr>
        <p:spPr>
          <a:xfrm>
            <a:off x="971640" y="836640"/>
            <a:ext cx="28728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رابط كسهم مستقيم 9"/>
          <p:cNvCxnSpPr>
            <a:stCxn id="323" idx="2"/>
          </p:cNvCxnSpPr>
          <p:nvPr/>
        </p:nvCxnSpPr>
        <p:spPr>
          <a:xfrm flipH="1">
            <a:off x="-360" y="1988640"/>
            <a:ext cx="1224720" cy="108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b83d68"/>
                </a:solidFill>
                <a:latin typeface="Trebuchet MS"/>
                <a:cs typeface="Mudir MT"/>
              </a:rPr>
              <a:t>أقسام الاختبار 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b83d68"/>
                </a:solidFill>
                <a:latin typeface="Trebuchet MS"/>
                <a:cs typeface="Mudir MT"/>
              </a:rPr>
              <a:t>تعليمات عامة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أن الغرض الأساسي من هذا الاختبار هو تقدير قدرتك على حل المشاكل المختلف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قد تميل إلى بعض الأقسام، وقد تستسهل أقساماً .. ” </a:t>
            </a:r>
            <a:r>
              <a:rPr b="0" lang="ar-SA" sz="2000" spc="-1" strike="noStrike">
                <a:solidFill>
                  <a:srgbClr val="ff0000"/>
                </a:solidFill>
                <a:latin typeface="Trebuchet MS"/>
                <a:cs typeface="Mudir MT"/>
              </a:rPr>
              <a:t>يجب أن تهتم بكل الأقسام على حد سواء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نرجو ملاحظة أن هذه الكراسة سيستخدمها أفراد آخرين فلا تكتب عليها شيئا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اقرأ تعليمات كل اختبار بعناية، ولا تترك منها شيئاً، وتأكد من فهمك لطبيعة السؤال في كل اختبار</a:t>
            </a:r>
            <a:r>
              <a:rPr b="0" lang="ar-SA" sz="2000" spc="-1" strike="noStrike">
                <a:solidFill>
                  <a:srgbClr val="ff0000"/>
                </a:solidFill>
                <a:latin typeface="Trebuchet MS"/>
                <a:cs typeface="Mudir MT"/>
              </a:rPr>
              <a:t>، لأنه لن يسمح لك بأي سؤال أثناء إجراء الاختبار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لن تستطيع أن تحل جميع المسائل أو تجيب عن جميع الأسئلة في الوقت المخصص لأن الاختبارات طويلة ، لذلك أجب على قدر استطاعتك متوخياً السرعة والدق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لابد من  مراعاة  أن تكون الإجابة في الأماكن المخصصة لها في ورقة الإجاب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عنوان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7255080" cy="669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0" y="98100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عنوان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7255080" cy="669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042920" y="1162080"/>
            <a:ext cx="6408720" cy="5695920"/>
          </a:xfrm>
          <a:prstGeom prst="rect">
            <a:avLst/>
          </a:prstGeom>
          <a:ln w="0">
            <a:noFill/>
          </a:ln>
        </p:spPr>
      </p:pic>
      <p:sp>
        <p:nvSpPr>
          <p:cNvPr id="236" name="مستطيل 4"/>
          <p:cNvSpPr/>
          <p:nvPr/>
        </p:nvSpPr>
        <p:spPr>
          <a:xfrm>
            <a:off x="3059280" y="2421000"/>
            <a:ext cx="28872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6"/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7"/>
          <p:cNvSpPr/>
          <p:nvPr/>
        </p:nvSpPr>
        <p:spPr>
          <a:xfrm>
            <a:off x="3132000" y="393372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مستطيل 8"/>
          <p:cNvSpPr/>
          <p:nvPr/>
        </p:nvSpPr>
        <p:spPr>
          <a:xfrm>
            <a:off x="3132000" y="465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مستطيل 9">
            <a:hlinkClick r:id="rId3" action="ppaction://hlinksldjump"/>
          </p:cNvPr>
          <p:cNvSpPr/>
          <p:nvPr/>
        </p:nvSpPr>
        <p:spPr>
          <a:xfrm>
            <a:off x="3203640" y="5516640"/>
            <a:ext cx="28872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ستطيل 10"/>
          <p:cNvSpPr/>
          <p:nvPr/>
        </p:nvSpPr>
        <p:spPr>
          <a:xfrm>
            <a:off x="2411280" y="2421000"/>
            <a:ext cx="2890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ستطيل 11"/>
          <p:cNvSpPr/>
          <p:nvPr/>
        </p:nvSpPr>
        <p:spPr>
          <a:xfrm>
            <a:off x="2484360" y="3213000"/>
            <a:ext cx="2872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مستطيل 12"/>
          <p:cNvSpPr/>
          <p:nvPr/>
        </p:nvSpPr>
        <p:spPr>
          <a:xfrm>
            <a:off x="2411280" y="3933720"/>
            <a:ext cx="505080" cy="287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ستطيل 13"/>
          <p:cNvSpPr/>
          <p:nvPr/>
        </p:nvSpPr>
        <p:spPr>
          <a:xfrm>
            <a:off x="2484360" y="4653000"/>
            <a:ext cx="503280" cy="288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ستطيل 14">
            <a:hlinkClick r:id="rId4" action="ppaction://hlinksldjump"/>
          </p:cNvPr>
          <p:cNvSpPr/>
          <p:nvPr/>
        </p:nvSpPr>
        <p:spPr>
          <a:xfrm>
            <a:off x="2484360" y="5445000"/>
            <a:ext cx="503280" cy="28764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264360" cy="5040360"/>
          </a:xfrm>
          <a:prstGeom prst="rect">
            <a:avLst/>
          </a:prstGeom>
          <a:ln w="0">
            <a:noFill/>
          </a:ln>
        </p:spPr>
      </p:pic>
      <p:pic>
        <p:nvPicPr>
          <p:cNvPr id="247" name="عنوان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7255080" cy="669960"/>
          </a:xfrm>
          <a:prstGeom prst="rect">
            <a:avLst/>
          </a:prstGeom>
          <a:ln w="0">
            <a:noFill/>
          </a:ln>
        </p:spPr>
      </p:pic>
      <p:sp>
        <p:nvSpPr>
          <p:cNvPr id="248" name="مستطيل 4"/>
          <p:cNvSpPr/>
          <p:nvPr/>
        </p:nvSpPr>
        <p:spPr>
          <a:xfrm>
            <a:off x="3276720" y="1844640"/>
            <a:ext cx="2872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مستطيل 6">
            <a:hlinkClick r:id="rId3" action="ppaction://hlinksldjump"/>
          </p:cNvPr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مستطيل 10"/>
          <p:cNvSpPr/>
          <p:nvPr/>
        </p:nvSpPr>
        <p:spPr>
          <a:xfrm>
            <a:off x="2627280" y="1844640"/>
            <a:ext cx="504720" cy="2890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مستطيل 11"/>
          <p:cNvSpPr/>
          <p:nvPr/>
        </p:nvSpPr>
        <p:spPr>
          <a:xfrm>
            <a:off x="2627280" y="2852640"/>
            <a:ext cx="504720" cy="2890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أول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ل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معاني الكلمات ويقيس القدرة اللغوية وهو أكثر الاختبارات تشعباً في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خمس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7489800" cy="4635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مستطيل 6"/>
          <p:cNvSpPr/>
          <p:nvPr/>
        </p:nvSpPr>
        <p:spPr>
          <a:xfrm>
            <a:off x="1835280" y="3213000"/>
            <a:ext cx="360360" cy="720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مستطيل 7"/>
          <p:cNvSpPr/>
          <p:nvPr/>
        </p:nvSpPr>
        <p:spPr>
          <a:xfrm>
            <a:off x="2195640" y="4005360"/>
            <a:ext cx="360360" cy="7189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مستطيل 8"/>
          <p:cNvSpPr/>
          <p:nvPr/>
        </p:nvSpPr>
        <p:spPr>
          <a:xfrm>
            <a:off x="2627280" y="4797360"/>
            <a:ext cx="360360" cy="719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7:02:06Z</dcterms:created>
  <dc:creator>Micro</dc:creator>
  <dc:description/>
  <dc:language>en-US</dc:language>
  <cp:lastModifiedBy>ABUMADA</cp:lastModifiedBy>
  <dcterms:modified xsi:type="dcterms:W3CDTF">2012-09-06T10:11:06Z</dcterms:modified>
  <cp:revision>16</cp:revision>
  <dc:subject/>
  <dc:title>مقياس العوامل الخمس الكبرى في الشخصية</dc:title>
</cp:coreProperties>
</file>