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F01-7988-4207-9783-0B5A18B1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96A-664A-4C5B-AB6C-BDBE50F6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E61-235D-464F-9969-FE03AF01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644-B5B8-40CA-8F7C-0F20E39A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533-B819-47C6-B234-B8BE2E65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D5A-8CA4-479B-8A2B-1B00FA17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7E4-4543-4DED-A2C8-EABA93C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2DA-5632-43A7-997E-AF9EAE46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58A-CAA3-4D5D-8254-BA1B1535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F03-DAB8-456C-8A5E-E2929DE5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0A7-5953-44B4-A318-91CA0A9E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B5B-2D4E-4D25-BE0F-2B0A205B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3465-8847-4222-A874-AD517FD46DF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wahmemo.com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محاضرة الثان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</a:rPr>
              <a:t>مهارات الاتصا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5445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مفكرة الدعوي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dawahmemo.c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استقبال التغذية الخلف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سماع بحر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طرح اسئ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عتراف بالتغذية الخلف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عتراف بالنقاط الصحيح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تابعة الوقت لترتيب ما تم سم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دليل للانصات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تعداد للاستم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رخى و التناغم مع الكل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نتباه الكامل للمتحد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تما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لفهم أفض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حكم فى العاط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ود الاستماع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حد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فتراض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اط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قييم السر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فكير السر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عاملات الاستماع الناف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وقف عن التحد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خذ الدور فى التحد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طرح الاسئ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دم المقاطع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ظهار الج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ركيز فيما ي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حكم فى العاط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ستماع للذى لم يقا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رشادات الاتصال الفعا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ركيز على المعرفة الشخص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إحياء مثال التعاو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تماع للآخرين للف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حكم فى المرغوب للوصول الى الح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سؤال المستمعين للتأكد  من الف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ماية ذات الآخ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ود الاتصال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وج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و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وع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نصح دون الاسئ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دري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ود الاتصال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ح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طراء الخاطئ والمواف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وعود بالمكافئ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ذهو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انطوائية والاجتما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ين يفضل ان تركز اهتماماتك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30481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0481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3048120"/>
            <a:ext cx="685800" cy="533160"/>
          </a:xfrm>
          <a:prstGeom prst="leftArrow">
            <a:avLst>
              <a:gd name="adj1" fmla="val 50000"/>
              <a:gd name="adj2" fmla="val 3215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048120"/>
            <a:ext cx="685800" cy="533160"/>
          </a:xfrm>
          <a:prstGeom prst="leftArrow">
            <a:avLst>
              <a:gd name="adj1" fmla="val 50000"/>
              <a:gd name="adj2" fmla="val 3215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جتماع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نطوائ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381312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يفضل التركيز على العلم الخارجى والافك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كلمات الاساس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نشيط، اجتماعى، اشخاص، كثير، معب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844800"/>
            <a:ext cx="3657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يفضل العلم الداخلى فى التفكير والانطب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كلمات الاساس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نعكاس، داخلى، متحفظ، خاص، قليل، هادئ، عم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اجتماع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فاعل مع ما يحدث فى العالم الخارج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الاتصال شفهيا عن كتابت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تاج الى خبرة فى العال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ب التغير والاحدا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نى تعلم الأفضل عن طريق الفعل أولا ثم القراء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أنطوائ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ب الهدوء للتركي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اغب فى الأفكار وراء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رتاح فى التفكير فى صم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ريد فهم الحياة قبل الخب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كر دائما قبل الأد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التعلم عن طريق القراءة عن التحدث أو الخب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030280" y="3257640"/>
            <a:ext cx="1370520" cy="1065960"/>
            <a:chOff x="5030280" y="3257640"/>
            <a:chExt cx="1370520" cy="1065960"/>
          </a:xfrm>
        </p:grpSpPr>
        <p:grpSp>
          <p:nvGrpSpPr>
            <p:cNvPr id="45" name=""/>
            <p:cNvGrpSpPr/>
            <p:nvPr/>
          </p:nvGrpSpPr>
          <p:grpSpPr>
            <a:xfrm>
              <a:off x="5805360" y="3257640"/>
              <a:ext cx="595440" cy="241920"/>
              <a:chOff x="5805360" y="3257640"/>
              <a:chExt cx="595440" cy="241920"/>
            </a:xfrm>
          </p:grpSpPr>
          <p:sp>
            <p:nvSpPr>
              <p:cNvPr id="46" name=""/>
              <p:cNvSpPr/>
              <p:nvPr/>
            </p:nvSpPr>
            <p:spPr>
              <a:xfrm>
                <a:off x="6103440" y="325764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5805360" y="349956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5508000" y="3499920"/>
              <a:ext cx="595440" cy="241920"/>
              <a:chOff x="5508000" y="3499920"/>
              <a:chExt cx="595440" cy="241920"/>
            </a:xfrm>
          </p:grpSpPr>
          <p:sp>
            <p:nvSpPr>
              <p:cNvPr id="49" name=""/>
              <p:cNvSpPr/>
              <p:nvPr/>
            </p:nvSpPr>
            <p:spPr>
              <a:xfrm>
                <a:off x="5806080" y="349992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5508000" y="374184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5268600" y="3791520"/>
              <a:ext cx="595440" cy="241920"/>
              <a:chOff x="5268600" y="3791520"/>
              <a:chExt cx="595440" cy="241920"/>
            </a:xfrm>
          </p:grpSpPr>
          <p:sp>
            <p:nvSpPr>
              <p:cNvPr id="52" name=""/>
              <p:cNvSpPr/>
              <p:nvPr/>
            </p:nvSpPr>
            <p:spPr>
              <a:xfrm>
                <a:off x="5566680" y="379152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5268600" y="403344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030280" y="4081680"/>
              <a:ext cx="595440" cy="241920"/>
              <a:chOff x="5030280" y="4081680"/>
              <a:chExt cx="595440" cy="241920"/>
            </a:xfrm>
          </p:grpSpPr>
          <p:sp>
            <p:nvSpPr>
              <p:cNvPr id="55" name=""/>
              <p:cNvSpPr/>
              <p:nvPr/>
            </p:nvSpPr>
            <p:spPr>
              <a:xfrm>
                <a:off x="5328360" y="408168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5030280" y="432360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ربع عوامل اساسية للاتصال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828800" y="54100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04920" y="2743200"/>
            <a:ext cx="2971800" cy="431640"/>
            <a:chOff x="304920" y="2743200"/>
            <a:chExt cx="2971800" cy="431640"/>
          </a:xfrm>
        </p:grpSpPr>
        <p:sp>
          <p:nvSpPr>
            <p:cNvPr id="60" name=""/>
            <p:cNvSpPr/>
            <p:nvPr/>
          </p:nvSpPr>
          <p:spPr>
            <a:xfrm>
              <a:off x="304920" y="2743200"/>
              <a:ext cx="2971800" cy="42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Maiandra GD"/>
                  <a:cs typeface="Mudir MT"/>
                </a:rPr>
                <a:t>معنى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00200" y="27432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95600" y="297180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60036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رسا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638680" y="2743200"/>
            <a:ext cx="3353040" cy="825480"/>
            <a:chOff x="5638680" y="2743200"/>
            <a:chExt cx="3353040" cy="825480"/>
          </a:xfrm>
        </p:grpSpPr>
        <p:sp>
          <p:nvSpPr>
            <p:cNvPr id="65" name=""/>
            <p:cNvSpPr/>
            <p:nvPr/>
          </p:nvSpPr>
          <p:spPr>
            <a:xfrm>
              <a:off x="5638680" y="2743200"/>
              <a:ext cx="33530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Maiandra GD"/>
                  <a:ea typeface="Mudir MT"/>
                </a:rPr>
                <a:t>      معنى                 فك الشفر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01000" y="274320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29400" y="274320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6680" y="2967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038480" y="4100400"/>
            <a:ext cx="10670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ازعا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5172120"/>
            <a:ext cx="205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تغذية خل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8560" y="29973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323856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22596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راس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مستقب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720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قنا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90560" y="3219480"/>
            <a:ext cx="1446120" cy="1142280"/>
            <a:chOff x="2590560" y="3219480"/>
            <a:chExt cx="1446120" cy="1142280"/>
          </a:xfrm>
        </p:grpSpPr>
        <p:grpSp>
          <p:nvGrpSpPr>
            <p:cNvPr id="79" name=""/>
            <p:cNvGrpSpPr/>
            <p:nvPr/>
          </p:nvGrpSpPr>
          <p:grpSpPr>
            <a:xfrm>
              <a:off x="2590560" y="3219480"/>
              <a:ext cx="628200" cy="259560"/>
              <a:chOff x="2590560" y="3219480"/>
              <a:chExt cx="628200" cy="25956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2590560" y="321948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590920" y="347904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904480" y="3479400"/>
              <a:ext cx="628200" cy="259560"/>
              <a:chOff x="2904480" y="3479400"/>
              <a:chExt cx="628200" cy="259560"/>
            </a:xfrm>
          </p:grpSpPr>
          <p:sp>
            <p:nvSpPr>
              <p:cNvPr id="83" name=""/>
              <p:cNvSpPr/>
              <p:nvPr/>
            </p:nvSpPr>
            <p:spPr>
              <a:xfrm flipH="1">
                <a:off x="2904480" y="347940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904840" y="373896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156840" y="3791520"/>
              <a:ext cx="628200" cy="259560"/>
              <a:chOff x="3156840" y="3791520"/>
              <a:chExt cx="628200" cy="25956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3156840" y="379152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57200" y="405108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408480" y="4102200"/>
              <a:ext cx="628200" cy="259560"/>
              <a:chOff x="3408480" y="4102200"/>
              <a:chExt cx="628200" cy="259560"/>
            </a:xfrm>
          </p:grpSpPr>
          <p:sp>
            <p:nvSpPr>
              <p:cNvPr id="89" name=""/>
              <p:cNvSpPr/>
              <p:nvPr/>
            </p:nvSpPr>
            <p:spPr>
              <a:xfrm flipH="1">
                <a:off x="3408480" y="410220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408840" y="436176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2019240" y="2743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تشف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احساس / حدس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ية احراز ا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حساس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دس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124080"/>
            <a:ext cx="304776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يركز على الحاض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وعلى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فاصيل ؛ حاضر؛ داخلى؛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عدم الاحسا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عملى؛ حقائق؛ تتابع ؛ اتجاه؛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ع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276720"/>
            <a:ext cx="3048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ركز على المستقبل بنظرة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أمثلة والامكان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مثلة ؛ مستقبل؛ تخي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بتكر ؛ عشوائ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ندفع الى الأمام؛ مختلف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حدسى؛  متغ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احسا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ستخدم عينه وأذن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واقع الأمو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نى تقبل وعمل ما يعط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جيد فى تذكر وعمل مع الواق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نى أن يكون واقعى وعمل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حدس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نى النظر الى الصور الكبي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اول التمسك بالأمثلة الأساس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وسع خبرته عن طريق النظر الى امكانيات ج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خيلات قيمة والالها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احساس والتفك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 تأخذ القر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فكير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حس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3581280"/>
            <a:ext cx="28195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ساس الأفكار  على المنط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و التحليلات المستهدفة       رأس؛ أهداف؛برودة؛ عاد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جهول؛ نقدى؛ محلل؛       دقيق؛ أساس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581280"/>
            <a:ext cx="2819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ساس تقيم القرارات وتقيم موضوعى للأشخاص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قلب؛ موضوعى؛ ايقاع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حذر؛ مقدر؛ قي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تفكير والاحسا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50532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 u="sng">
                <a:solidFill>
                  <a:srgbClr val="000000"/>
                </a:solidFill>
                <a:uFillTx/>
                <a:latin typeface="Times New Roman"/>
              </a:rPr>
              <a:t>التفك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قرر بالاهداف والمنط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قرر بالتحليل وموازنة الاحدا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حب المعاملة مع الاشخا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عنى الافضل بتحليل الصواب والخط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905120"/>
            <a:ext cx="350532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Times New Roman"/>
                <a:cs typeface="Mudir MT"/>
              </a:rPr>
              <a:t>الاحس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udir MT"/>
              </a:rPr>
              <a:t>اساس قراراته على اهميتها او الاشخاص الآخر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udir MT"/>
              </a:rPr>
              <a:t>يقرر على اساس قيم النا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udir MT"/>
              </a:rPr>
              <a:t>يعنى ان يكون متجانس مقدر ولب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حكم والادرا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0" y="1981080"/>
            <a:ext cx="327672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 u="sng">
                <a:solidFill>
                  <a:srgbClr val="000000"/>
                </a:solidFill>
                <a:uFillTx/>
                <a:latin typeface="Times New Roman"/>
              </a:rPr>
              <a:t>الادراك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الين و عفو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الميل الى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ين , سريع , له خبره , فضولى , تلقائى , مكتشف , متفت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981080"/>
            <a:ext cx="342900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 u="sng">
                <a:solidFill>
                  <a:srgbClr val="000000"/>
                </a:solidFill>
                <a:uFillTx/>
                <a:latin typeface="Times New Roman"/>
                <a:cs typeface="Mudir MT"/>
              </a:rPr>
              <a:t>الحك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يفضل الخطط المنظمة لوضع الاشي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مرتب , تركيبى , متحكم , مدروس , مخطط , إنتاجى , منغل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حكم والادرا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358128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53753" dir="2700000" blurRad="0" rotWithShape="0">
              <a:srgbClr val="727272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000000"/>
                </a:solidFill>
                <a:uFillTx/>
                <a:latin typeface="Times New Roman"/>
              </a:rPr>
              <a:t>الادراك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ب العيش بتلقائ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صر على اخ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هم الموقف والتحكم ف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اخ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905120"/>
            <a:ext cx="358128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53753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000000"/>
                </a:solidFill>
                <a:uFillTx/>
                <a:latin typeface="Times New Roman"/>
                <a:cs typeface="Mudir MT"/>
              </a:rPr>
              <a:t>الحك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يحب تنظيم الحياة ومراقبت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انهاء اتخا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فهم الموقف والتحكم ف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ان يكون بناءاً و مستق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تفكير الحدسى: مهندس معمارى وخيا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رى الأبعاد والامكان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كمال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جب توضيح الامكان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مكن ان يكون متعرف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مكن ان حذر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س مع إحسا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رغب فى المعلوم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أخذ كل شىء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جب توصيل الافكار والمتعرف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خلق الاعتماد على النفس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1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حساس مع الحكم: التقالي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صريح , متكامل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جيد فى إدارة الاحداث اليو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اقعى مع الاخطار والقصي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داخل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عل الاشياء بنفس الطري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راسل والمستقب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وامل التى تؤثر على كيفية إجادة فهم الراسل والمستقبل للرسال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كلمات المستخدم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عانى المختل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سياق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إشارات بدء غير فع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حساس مع الادراك الحسى: حل العق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يش للافعال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ب الرد على النبض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مل جيداً فى النق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شعر بالملل سريع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راسل والمستقب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ب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صرف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قدر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درا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ليل الكلام الذى نسمع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سماع واعطاء تفسير لصدى الصو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فسير تعبيرات الوج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شارات الغير فعل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رسال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اعلية الرسالة هى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دد من خلال دقة المعلومات التى تحاول الحصول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فسيرات ذو علاقة بعمليات حسا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غذية الخلف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تصال بالاشخاص (بالفريق) ذو التأثير على الاشخاص الآخرين بتصرفاته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غذية خلفية بناء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سين الفاع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ساعد الفريق على تحقيق تقد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ناء الثقة بين اعضاء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رقية مناخ داع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منع تجاهل بعض البنود من جدول الاعمال ونشر الاشاع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دم إعطاء تغذية خلفية عند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دم معرفة المزيد عن سياف الكلام والتصرف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غذية الخلفية عن شئ لا يمكن للشخص ان يغير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ظهر بعض الاشخاص ضعفاء فى التقدير الشخص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هدف ليس بغرض التحس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ظروف المحيطة غير دقي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إعطاء تغذية خلف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كوين وصف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دم استخدام شعار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دم المبالغ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دث عن نفس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فى البداية تحدث عن نفسك وليس عن شخص آخ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صياغة الاسلوب وليس السؤ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قيد التغذية الخلفية لأشياء معين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ساعدة الاشخاص فى تقبل النقد عند إعطاء تغذية خلفية ايجا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8:01:48Z</dcterms:created>
  <dc:creator>Noha Gamiel</dc:creator>
  <dc:description/>
  <dc:language>en-US</dc:language>
  <cp:lastModifiedBy>Firas</cp:lastModifiedBy>
  <dcterms:modified xsi:type="dcterms:W3CDTF">2011-05-18T11:04:17Z</dcterms:modified>
  <cp:revision>66</cp:revision>
  <dc:subject/>
  <dc:title>المحاضرة الخامسة</dc:title>
</cp:coreProperties>
</file>