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5C0-5F20-4855-92AD-26C25BEF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C9E-AED3-4D1F-B5F7-34B56473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BA65-6752-4FB6-BD89-1CA0BF592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749-4C78-496D-8EC2-3A45C3D6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1A8-CEA7-41A1-AC0A-4CD42343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ED2-62AC-4C96-8B2F-99439E8B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918-C49B-422B-8289-60749341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6EEC-DAE2-415C-84A0-43E4DBAD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97B-4432-431D-BC39-349FD3E5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74A-5352-426F-A078-CE1EF605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19F-335F-4809-BA02-942F073B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306-C66F-4F18-BE8D-A06180F0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848F-F425-4D5C-A41C-715E90D0FE0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wahmemo.com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لمحاضرة الثان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</a:rPr>
              <a:t>مهارات الاتصا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5445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مفكرة الدعوي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dawahmemo.co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استقبال التغذية الخل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نف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سماع بحر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طرح اسئ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تراف بالتغذية الخلف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عتراف بالنقاط الصحيح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متابعة الوقت لترتيب ما تم سم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دليل للانصات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عداد للاستما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خى و التناغم مع الكل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نتباه الكامل للمتحد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ما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لفهم أفض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كم فى العاط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ود الاستماع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د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فتراض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اطف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قييم السر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فكير السر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عاملات الاستماع الناف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وقف عن التحد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خذ الدور فى التحد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طرح الاسئ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لمقاطع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ظهار الج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ركيز فيما يق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حكم فى العاط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ستماع للذى لم يقا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رشادات الاتصال الفعا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ركيز على المعرفة الشخص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حياء مثال التعاو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ستماع للآخرين للف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حكم فى المرغوب للوصول الى الح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سؤال المستمعين للتأكد  من الفه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ماية ذات الآخ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ود الاتصال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وج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و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وع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نصح دون الاسئ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دري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ود الاتصال الفع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حك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طراء الخاطئ والمواف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وعود بالمكافئ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ذهو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انطوائية والاجتماع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ين يفضل ان تركز اهتماماتك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30481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0481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3048120"/>
            <a:ext cx="685800" cy="533160"/>
          </a:xfrm>
          <a:prstGeom prst="leftArrow">
            <a:avLst>
              <a:gd name="adj1" fmla="val 50000"/>
              <a:gd name="adj2" fmla="val 3215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048120"/>
            <a:ext cx="685800" cy="533160"/>
          </a:xfrm>
          <a:prstGeom prst="leftArrow">
            <a:avLst>
              <a:gd name="adj1" fmla="val 50000"/>
              <a:gd name="adj2" fmla="val 3215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جتماع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2666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نطوائ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3813120"/>
            <a:ext cx="3657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يفضل التركيز على العلم الخارجى والافك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كلمات الاساس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نشيط، اجتماعى، اشخاص، كثير، معب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844800"/>
            <a:ext cx="3657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يفضل العلم الداخلى فى التفكير والانطبا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كلمات الاساسي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نعكاس، داخلى، متحفظ، خاص، قليل، هادئ، عمي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اجتماع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تفاعل مع ما يحدث فى العالم الخارج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لاتصال شفهيا عن كتابت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تاج الى خبرة فى العال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تغير والاحدا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تعلم الأفضل عن طريق الفعل أولا ثم القراء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أنطوائ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هدوء للترك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راغب فى الأفكار وراء العم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رتاح فى التفكير فى صم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ريد فهم الحياة قبل الخب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كر دائما قبل الأد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لتعلم عن طريق القراءة عن التحدث أو الخب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5030280" y="3257640"/>
            <a:ext cx="1370520" cy="1065960"/>
            <a:chOff x="5030280" y="3257640"/>
            <a:chExt cx="1370520" cy="1065960"/>
          </a:xfrm>
        </p:grpSpPr>
        <p:grpSp>
          <p:nvGrpSpPr>
            <p:cNvPr id="45" name=""/>
            <p:cNvGrpSpPr/>
            <p:nvPr/>
          </p:nvGrpSpPr>
          <p:grpSpPr>
            <a:xfrm>
              <a:off x="5805360" y="3257640"/>
              <a:ext cx="595440" cy="241920"/>
              <a:chOff x="5805360" y="3257640"/>
              <a:chExt cx="595440" cy="241920"/>
            </a:xfrm>
          </p:grpSpPr>
          <p:sp>
            <p:nvSpPr>
              <p:cNvPr id="46" name=""/>
              <p:cNvSpPr/>
              <p:nvPr/>
            </p:nvSpPr>
            <p:spPr>
              <a:xfrm>
                <a:off x="6103440" y="325764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5805360" y="349956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5508000" y="3499920"/>
              <a:ext cx="595440" cy="241920"/>
              <a:chOff x="5508000" y="3499920"/>
              <a:chExt cx="595440" cy="241920"/>
            </a:xfrm>
          </p:grpSpPr>
          <p:sp>
            <p:nvSpPr>
              <p:cNvPr id="49" name=""/>
              <p:cNvSpPr/>
              <p:nvPr/>
            </p:nvSpPr>
            <p:spPr>
              <a:xfrm>
                <a:off x="5806080" y="349992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>
                <a:off x="5508000" y="374184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5268600" y="3791520"/>
              <a:ext cx="595440" cy="241920"/>
              <a:chOff x="5268600" y="3791520"/>
              <a:chExt cx="595440" cy="241920"/>
            </a:xfrm>
          </p:grpSpPr>
          <p:sp>
            <p:nvSpPr>
              <p:cNvPr id="52" name=""/>
              <p:cNvSpPr/>
              <p:nvPr/>
            </p:nvSpPr>
            <p:spPr>
              <a:xfrm>
                <a:off x="5566680" y="379152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>
                <a:off x="5268600" y="403344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5030280" y="4081680"/>
              <a:ext cx="595440" cy="241920"/>
              <a:chOff x="5030280" y="4081680"/>
              <a:chExt cx="595440" cy="241920"/>
            </a:xfrm>
          </p:grpSpPr>
          <p:sp>
            <p:nvSpPr>
              <p:cNvPr id="55" name=""/>
              <p:cNvSpPr/>
              <p:nvPr/>
            </p:nvSpPr>
            <p:spPr>
              <a:xfrm>
                <a:off x="5328360" y="4081680"/>
                <a:ext cx="297360" cy="24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5030280" y="4323600"/>
                <a:ext cx="59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ربع عوامل اساسية للاتصال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828800" y="54100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04920" y="2743200"/>
            <a:ext cx="2971800" cy="431640"/>
            <a:chOff x="304920" y="2743200"/>
            <a:chExt cx="2971800" cy="431640"/>
          </a:xfrm>
        </p:grpSpPr>
        <p:sp>
          <p:nvSpPr>
            <p:cNvPr id="60" name=""/>
            <p:cNvSpPr/>
            <p:nvPr/>
          </p:nvSpPr>
          <p:spPr>
            <a:xfrm>
              <a:off x="304920" y="2743200"/>
              <a:ext cx="2971800" cy="4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Maiandra GD"/>
                  <a:cs typeface="Mudir MT"/>
                </a:rPr>
                <a:t>معنى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00200" y="27432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95600" y="297180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600360" y="2743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رسا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638680" y="2743200"/>
            <a:ext cx="3353040" cy="825480"/>
            <a:chOff x="5638680" y="2743200"/>
            <a:chExt cx="3353040" cy="825480"/>
          </a:xfrm>
        </p:grpSpPr>
        <p:sp>
          <p:nvSpPr>
            <p:cNvPr id="65" name=""/>
            <p:cNvSpPr/>
            <p:nvPr/>
          </p:nvSpPr>
          <p:spPr>
            <a:xfrm>
              <a:off x="5638680" y="2743200"/>
              <a:ext cx="33530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Maiandra GD"/>
                  <a:ea typeface="Mudir MT"/>
                </a:rPr>
                <a:t>      معنى                 فك الشفر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01000" y="274320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529400" y="2743200"/>
              <a:ext cx="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86680" y="2967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038480" y="4100400"/>
            <a:ext cx="10670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ازعا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5172120"/>
            <a:ext cx="205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تغذية خل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2971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08560" y="29973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15200" y="323856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22596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راس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مستقب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720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قنا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590560" y="3219480"/>
            <a:ext cx="1446120" cy="1142280"/>
            <a:chOff x="2590560" y="3219480"/>
            <a:chExt cx="1446120" cy="1142280"/>
          </a:xfrm>
        </p:grpSpPr>
        <p:grpSp>
          <p:nvGrpSpPr>
            <p:cNvPr id="79" name=""/>
            <p:cNvGrpSpPr/>
            <p:nvPr/>
          </p:nvGrpSpPr>
          <p:grpSpPr>
            <a:xfrm>
              <a:off x="2590560" y="3219480"/>
              <a:ext cx="628200" cy="259560"/>
              <a:chOff x="2590560" y="3219480"/>
              <a:chExt cx="628200" cy="25956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2590560" y="321948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590920" y="347904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904480" y="3479400"/>
              <a:ext cx="628200" cy="259560"/>
              <a:chOff x="2904480" y="3479400"/>
              <a:chExt cx="628200" cy="259560"/>
            </a:xfrm>
          </p:grpSpPr>
          <p:sp>
            <p:nvSpPr>
              <p:cNvPr id="83" name=""/>
              <p:cNvSpPr/>
              <p:nvPr/>
            </p:nvSpPr>
            <p:spPr>
              <a:xfrm flipH="1">
                <a:off x="2904480" y="347940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904840" y="373896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156840" y="3791520"/>
              <a:ext cx="628200" cy="259560"/>
              <a:chOff x="3156840" y="3791520"/>
              <a:chExt cx="628200" cy="25956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3156840" y="379152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57200" y="405108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408480" y="4102200"/>
              <a:ext cx="628200" cy="259560"/>
              <a:chOff x="3408480" y="4102200"/>
              <a:chExt cx="628200" cy="259560"/>
            </a:xfrm>
          </p:grpSpPr>
          <p:sp>
            <p:nvSpPr>
              <p:cNvPr id="89" name=""/>
              <p:cNvSpPr/>
              <p:nvPr/>
            </p:nvSpPr>
            <p:spPr>
              <a:xfrm flipH="1">
                <a:off x="3408480" y="4102200"/>
                <a:ext cx="313560" cy="25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408840" y="4361760"/>
                <a:ext cx="62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2019240" y="2743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Maiandra GD"/>
                <a:cs typeface="Mudir MT"/>
              </a:rPr>
              <a:t>التشف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احساس / حدس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ية احراز ا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حساس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حدس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124080"/>
            <a:ext cx="304776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يركز على الحاض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على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فاصيل ؛ حاضر؛ داخلى؛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عدم الاحسا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عملى؛ حقائق؛ تتابع ؛ اتجاه؛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ع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276720"/>
            <a:ext cx="3048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ركز على المستقبل بنظرة ع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لأمثلة والامكان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مثلة ؛ مستقبل؛ تخيل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بتكر ؛ عشوائ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ندفع الى الأمام؛ مختلف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حدسى؛  متغ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احسا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تخدم عينه وأذن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واقع الأم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تقبل وعمل ما يعط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يد فى تذكر وعمل مع الواق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أن يكون واقعى وعمل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صفات الحدس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نى النظر الى الصور الكبي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اول التمسك بالأمثلة الأساس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وسع خبرته عن طريق النظر الى امكانيات ج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خيلات قيمة والاله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احساس والتفك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كيف تأخذ القرا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فكير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حس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3581280"/>
            <a:ext cx="28195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ساس الأفكار  على المنط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 التحليلات المستهدفة       رأس؛ أهداف؛برودة؛ عاد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مجهول؛ نقدى؛ محلل؛       دقيق؛ أساسي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3581280"/>
            <a:ext cx="2819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أساس تقيم القرارات وتقيم موضوعى للأشخاص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قلب؛ موضوعى؛ ايقاع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حذر؛ مقدر؛ قي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تفكير والاحس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800240" y="1905120"/>
            <a:ext cx="350532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 u="sng">
                <a:solidFill>
                  <a:srgbClr val="000000"/>
                </a:solidFill>
                <a:uFillTx/>
                <a:latin typeface="Times New Roman"/>
              </a:rPr>
              <a:t>التفكي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رر بالاهداف والمنط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رر بالتحليل وموازنة الاحدا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حب المعاملة مع الاشخا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عنى الافضل بتحليل الصواب والخط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905120"/>
            <a:ext cx="350532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Times New Roman"/>
                <a:cs typeface="Mudir MT"/>
              </a:rPr>
              <a:t>الاحسا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udir MT"/>
              </a:rPr>
              <a:t>اساس قراراته على اهميتها او الاشخاص الآخر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udir MT"/>
              </a:rPr>
              <a:t>يقرر على اساس قيم النا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Mudir MT"/>
              </a:rPr>
              <a:t>يعنى ان يكون متجانس مقدر ولب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حكم والادرا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0" y="1981080"/>
            <a:ext cx="327672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 u="sng">
                <a:solidFill>
                  <a:srgbClr val="000000"/>
                </a:solidFill>
                <a:uFillTx/>
                <a:latin typeface="Times New Roman"/>
              </a:rPr>
              <a:t>الادراك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لين و عفو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الميل الى الحيا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لين , سريع , له خبره , فضولى , تلقائى , مكتشف , متفت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981080"/>
            <a:ext cx="342900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7819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 u="sng">
                <a:solidFill>
                  <a:srgbClr val="000000"/>
                </a:solidFill>
                <a:uFillTx/>
                <a:latin typeface="Times New Roman"/>
                <a:cs typeface="Mudir MT"/>
              </a:rPr>
              <a:t>الحك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يفضل الخطط المنظمة لوضع الاشيا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مرتب , تركيبى , متحكم , مدروس , مخطط , إنتاجى , منغل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بعاد الحكم والادرا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358128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53753" dir="2700000" blurRad="0" rotWithShape="0">
              <a:srgbClr val="727272"/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000000"/>
                </a:solidFill>
                <a:uFillTx/>
                <a:latin typeface="Times New Roman"/>
              </a:rPr>
              <a:t>الادراك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عيش بتلقائ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صر على اخ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هم الموقف والتحكم ف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فضل اخ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905120"/>
            <a:ext cx="3581280" cy="4114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  <a:effectLst>
            <a:outerShdw dist="153753" dir="2700000" blurRad="0" rotWithShape="0">
              <a:srgbClr val="72727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 u="sng">
                <a:solidFill>
                  <a:srgbClr val="000000"/>
                </a:solidFill>
                <a:uFillTx/>
                <a:latin typeface="Times New Roman"/>
                <a:cs typeface="Mudir MT"/>
              </a:rPr>
              <a:t>الحك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يحب تنظيم الحياة ومراقبت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انهاء اتخاذ القرا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فهم الموقف والتحكم في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Mudir MT"/>
              </a:rPr>
              <a:t>ان يكون بناءاً و مستق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تفكير الحدسى: مهندس معمارى وخيا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رى الأبعاد والامكان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كمالى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جب توضيح الامكان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مكن ان يكون متعرف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مكن ان حذر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دس مع إحسا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رغب فى المعلوم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أخذ كل شىء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يجب توصيل الافكار والمتعرف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Times New Roman"/>
              </a:rPr>
              <a:t>خلق الاعتماد على النفس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1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حساس مع الحكم: التقالي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صريح , متكامل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يد فى إدارة الاحداث اليو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اقعى مع الاخطار والقصير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داخل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عل الاشياء بنفس الطري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راسل والمستقب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عوامل التى تؤثر على كيفية إجادة فهم الراسل والمستقبل للرسال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كلمات المستخدم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معانى المختل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سياق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إشارات بدء غير ف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احساس مع الادراك الحسى: حل العق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يش للافعال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ب الرد على النبض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عمل جيداً فى النق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شعر بالملل سريعا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راسل والمستقب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خب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صرف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قدرا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درا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ليل الكلام الذى نسمع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سماع واعطاء تفسير لصدى الصو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فسير تعبيرات الوج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اشارات الغير فعل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رسال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اعلية الرسالة هى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حدد من خلال دقة المعلومات التى تحاول الحصول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فسيرات ذو علاقة بعمليات حسا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تغذية الخل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اتصال بالاشخاص (بالفريق) ذو التأثير على الاشخاص الآخرين بتصرفات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غذية خلفية بناء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حسين الفاع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ساعد الفريق على تحقيق تقد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ناء الثقة بين اعضاء الفري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رقية مناخ داع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منع تجاهل بعض البنود من جدول الاعمال ونشر الاشا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 rtl="1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عدم إعطاء تغذية خلفية عند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عدم معرفة المزيد عن سياف الكلام والتصرف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تغذية الخلفية عن شئ لا يمكن للشخص ان يغير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يظهر بعض الاشخاص ضعفاء فى التقدير الشخص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هدف ليس بغرض التحس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 rtl="1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ظروف المحيطة غير دقيق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efef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ية إعطاء تغذية خلف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كوين وصف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ستخدام شعار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دم المبالغ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حدث عن نفس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ى البداية تحدث عن نفسك وليس عن شخص آخ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صياغة الاسلوب وليس السؤ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قيد التغذية الخلفية لأشياء معين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ساعدة الاشخاص فى تقبل النقد عند إعطاء تغذية خلفية ايجا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08:01:48Z</dcterms:created>
  <dc:creator>Noha Gamiel</dc:creator>
  <dc:description/>
  <dc:language>en-US</dc:language>
  <cp:lastModifiedBy>Firas</cp:lastModifiedBy>
  <dcterms:modified xsi:type="dcterms:W3CDTF">2011-05-18T11:04:17Z</dcterms:modified>
  <cp:revision>66</cp:revision>
  <dc:subject/>
  <dc:title>المحاضرة الخامسة</dc:title>
</cp:coreProperties>
</file>