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D157A-9F5F-4D72-9C50-0852F2F58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2DC30-AECC-4A40-A432-AB5D67C74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DBC2F-E337-44A0-AB73-E3ED65B6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E9C13-0205-48E0-93CA-8A5C47778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63CEC-DADC-45B4-AED8-8D7E0ECB9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18153-BF39-4C68-A992-C8A1BE98F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587DC-628A-4E67-A576-55390A90D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1E196-DAB8-4D59-925E-4443CE914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FDA62-9E5C-4859-A2F4-A8AB30BB5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752FF-CCA8-412F-A9FD-69910F5FB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E2406-B01A-41D4-BC60-48F2A86A5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F6525-8662-42CE-A717-52750E2DA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B63A1-93EF-44A9-8DA2-C6BE2F974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B2F1A-3264-41FF-B107-EAAD1E769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C889E-2078-440D-AF50-ECADC10A4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06A94-1DAF-487F-B4D6-21D0FB32D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4E690-3E25-43C0-AC1A-668F6BED6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15C2F7-9A49-41FC-B56D-3B40FB4D31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2083C-A4EA-4853-A5A9-4984BAA05C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20DB1-7310-4085-8DC1-DBEE6F2B4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FC93DF-E115-45D9-B22B-EA64A21078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3F5F2-A93A-4D3F-9CE5-1EF7712B8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44A25-79B1-4B74-AE8D-9D25609F7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218C4-3F0D-44D4-97DF-67A111439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24F91-8B9B-443E-9739-4720D1E11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B0E92-F531-457B-A4C9-6C2841042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0B03B-D021-42B3-BF60-2912DF97F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34628-B2F6-41D3-A02E-40846AB060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456148-8B9F-453E-AA5C-E32A75C73C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6AC424-CDD1-4F37-AE35-C9883B33D5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D59892-E426-4190-8A80-21E6979DAD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B89C4-982D-45A5-87DA-1AD46380B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8D8BC-39FF-4533-93F4-6C4EFBEC94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44F37-F246-4A96-A8D0-E2B64AF11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9FA7A1-B1B6-4354-ADFD-D7F6D7CBBC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88F1B-7536-4C9A-8C68-118BB09CE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0B4D1-EEE4-4B37-8400-891D52DA1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971DB-5F72-4951-8935-D4DB3C8FC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012A4-93B2-4ABB-A8C9-00CF4A571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03AEA-2C7A-4D23-817B-B07297331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BE5762-C14B-4449-A936-28423023F9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CE4B9D-0A19-49DD-9D83-C3C6AC3DA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34C2B5-223F-4EAF-8D56-2E9E87BAF9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2D13-0410-43AC-95F9-8869DFDD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F45FC-3084-4215-9E29-AD9E36EB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D2F8-42FC-45C0-B675-00394FAFB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ECFE-4F16-4245-AE8E-B6D224492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154DC-82F4-4827-820A-688A13BD3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5102280"/>
            <a:ext cx="9156960" cy="1762200"/>
            <a:chOff x="-6480" y="5102280"/>
            <a:chExt cx="9156960" cy="1762200"/>
          </a:xfrm>
        </p:grpSpPr>
        <p:pic>
          <p:nvPicPr>
            <p:cNvPr id="1" name="Rectangle 6" descr=""/>
            <p:cNvPicPr/>
            <p:nvPr/>
          </p:nvPicPr>
          <p:blipFill>
            <a:blip r:embed="rId3"/>
            <a:stretch/>
          </p:blipFill>
          <p:spPr>
            <a:xfrm>
              <a:off x="-6480" y="5102280"/>
              <a:ext cx="9156960" cy="1762200"/>
            </a:xfrm>
            <a:prstGeom prst="rect">
              <a:avLst/>
            </a:prstGeom>
            <a:ln w="0">
              <a:noFill/>
            </a:ln>
          </p:spPr>
        </p:pic>
        <p:sp>
          <p:nvSpPr>
            <p:cNvPr id="2"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6480" y="-6480"/>
            <a:ext cx="9156960" cy="5121360"/>
            <a:chOff x="-6480" y="-6480"/>
            <a:chExt cx="9156960" cy="5121360"/>
          </a:xfrm>
        </p:grpSpPr>
        <p:pic>
          <p:nvPicPr>
            <p:cNvPr id="4" name="Rectangle 7" descr=""/>
            <p:cNvPicPr/>
            <p:nvPr/>
          </p:nvPicPr>
          <p:blipFill>
            <a:blip r:embed="rId4"/>
            <a:stretch/>
          </p:blipFill>
          <p:spPr>
            <a:xfrm>
              <a:off x="-6480" y="-6480"/>
              <a:ext cx="9156960" cy="512136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6480" y="1596960"/>
            <a:ext cx="9156960" cy="5114880"/>
            <a:chOff x="-6480" y="1596960"/>
            <a:chExt cx="9156960" cy="5114880"/>
          </a:xfrm>
        </p:grpSpPr>
        <p:pic>
          <p:nvPicPr>
            <p:cNvPr id="8" name="Oval 9" descr=""/>
            <p:cNvPicPr/>
            <p:nvPr/>
          </p:nvPicPr>
          <p:blipFill>
            <a:blip r:embed="rId5"/>
            <a:stretch/>
          </p:blipFill>
          <p:spPr>
            <a:xfrm>
              <a:off x="-6480" y="1596960"/>
              <a:ext cx="9156960" cy="51148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AE2F-0681-4DAB-8E6C-9DF6C41C1E90}" type="slidenum">
              <a:rPr b="1" lang="en-US"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6480" y="3859200"/>
            <a:ext cx="9156960" cy="3005280"/>
            <a:chOff x="-6480" y="3859200"/>
            <a:chExt cx="9156960" cy="3005280"/>
          </a:xfrm>
        </p:grpSpPr>
        <p:pic>
          <p:nvPicPr>
            <p:cNvPr id="52" name="Rectangle 10" descr=""/>
            <p:cNvPicPr/>
            <p:nvPr/>
          </p:nvPicPr>
          <p:blipFill>
            <a:blip r:embed="rId3"/>
            <a:stretch/>
          </p:blipFill>
          <p:spPr>
            <a:xfrm>
              <a:off x="-6480" y="3859200"/>
              <a:ext cx="9156960" cy="300528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6480" y="-6480"/>
            <a:ext cx="9156960" cy="3876840"/>
            <a:chOff x="-6480" y="-6480"/>
            <a:chExt cx="9156960" cy="3876840"/>
          </a:xfrm>
        </p:grpSpPr>
        <p:pic>
          <p:nvPicPr>
            <p:cNvPr id="55" name="Rectangle 11" descr=""/>
            <p:cNvPicPr/>
            <p:nvPr/>
          </p:nvPicPr>
          <p:blipFill>
            <a:blip r:embed="rId4"/>
            <a:stretch/>
          </p:blipFill>
          <p:spPr>
            <a:xfrm>
              <a:off x="-6480" y="-6480"/>
              <a:ext cx="9156960" cy="3876840"/>
            </a:xfrm>
            <a:prstGeom prst="rect">
              <a:avLst/>
            </a:prstGeom>
            <a:ln w="0">
              <a:noFill/>
            </a:ln>
          </p:spPr>
        </p:pic>
        <p:sp>
          <p:nvSpPr>
            <p:cNvPr id="56"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6480" y="1596960"/>
            <a:ext cx="9156960" cy="5114880"/>
            <a:chOff x="-6480" y="1596960"/>
            <a:chExt cx="9156960" cy="5114880"/>
          </a:xfrm>
        </p:grpSpPr>
        <p:pic>
          <p:nvPicPr>
            <p:cNvPr id="59" name="Oval 13" descr=""/>
            <p:cNvPicPr/>
            <p:nvPr/>
          </p:nvPicPr>
          <p:blipFill>
            <a:blip r:embed="rId5"/>
            <a:stretch/>
          </p:blipFill>
          <p:spPr>
            <a:xfrm>
              <a:off x="-6480" y="1596960"/>
              <a:ext cx="9156960" cy="51148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55F7-8A16-414C-9999-1F209DA5FD70}" type="slidenum">
              <a:rPr b="1" lang="en-US"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6480" y="5102280"/>
            <a:ext cx="9156960" cy="1762200"/>
            <a:chOff x="-6480" y="5102280"/>
            <a:chExt cx="9156960" cy="1762200"/>
          </a:xfrm>
        </p:grpSpPr>
        <p:pic>
          <p:nvPicPr>
            <p:cNvPr id="103" name="Rectangle 6" descr=""/>
            <p:cNvPicPr/>
            <p:nvPr/>
          </p:nvPicPr>
          <p:blipFill>
            <a:blip r:embed="rId3"/>
            <a:stretch/>
          </p:blipFill>
          <p:spPr>
            <a:xfrm>
              <a:off x="-6480" y="5102280"/>
              <a:ext cx="9156960" cy="1762200"/>
            </a:xfrm>
            <a:prstGeom prst="rect">
              <a:avLst/>
            </a:prstGeom>
            <a:ln w="0">
              <a:noFill/>
            </a:ln>
          </p:spPr>
        </p:pic>
        <p:sp>
          <p:nvSpPr>
            <p:cNvPr id="104"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6480" y="-6480"/>
            <a:ext cx="9156960" cy="5121360"/>
            <a:chOff x="-6480" y="-6480"/>
            <a:chExt cx="9156960" cy="5121360"/>
          </a:xfrm>
        </p:grpSpPr>
        <p:pic>
          <p:nvPicPr>
            <p:cNvPr id="106" name="Rectangle 7" descr=""/>
            <p:cNvPicPr/>
            <p:nvPr/>
          </p:nvPicPr>
          <p:blipFill>
            <a:blip r:embed="rId4"/>
            <a:stretch/>
          </p:blipFill>
          <p:spPr>
            <a:xfrm>
              <a:off x="-6480" y="-6480"/>
              <a:ext cx="9156960" cy="512136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6480" y="1596960"/>
            <a:ext cx="9156960" cy="5114880"/>
            <a:chOff x="-6480" y="1596960"/>
            <a:chExt cx="9156960" cy="5114880"/>
          </a:xfrm>
        </p:grpSpPr>
        <p:pic>
          <p:nvPicPr>
            <p:cNvPr id="110" name="Oval 9" descr=""/>
            <p:cNvPicPr/>
            <p:nvPr/>
          </p:nvPicPr>
          <p:blipFill>
            <a:blip r:embed="rId5"/>
            <a:stretch/>
          </p:blipFill>
          <p:spPr>
            <a:xfrm>
              <a:off x="-6480" y="1596960"/>
              <a:ext cx="9156960" cy="51148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10"/>
          <p:cNvGrpSpPr/>
          <p:nvPr/>
        </p:nvGrpSpPr>
        <p:grpSpPr>
          <a:xfrm>
            <a:off x="-6480" y="3859200"/>
            <a:ext cx="9156960" cy="3005280"/>
            <a:chOff x="-6480" y="3859200"/>
            <a:chExt cx="9156960" cy="3005280"/>
          </a:xfrm>
        </p:grpSpPr>
        <p:pic>
          <p:nvPicPr>
            <p:cNvPr id="113" name="Rectangle 10" descr=""/>
            <p:cNvPicPr/>
            <p:nvPr/>
          </p:nvPicPr>
          <p:blipFill>
            <a:blip r:embed="rId6"/>
            <a:stretch/>
          </p:blipFill>
          <p:spPr>
            <a:xfrm>
              <a:off x="-6480" y="3859200"/>
              <a:ext cx="9156960" cy="300528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11"/>
          <p:cNvGrpSpPr/>
          <p:nvPr/>
        </p:nvGrpSpPr>
        <p:grpSpPr>
          <a:xfrm>
            <a:off x="-6480" y="-6480"/>
            <a:ext cx="9156960" cy="3876840"/>
            <a:chOff x="-6480" y="-6480"/>
            <a:chExt cx="9156960" cy="3876840"/>
          </a:xfrm>
        </p:grpSpPr>
        <p:pic>
          <p:nvPicPr>
            <p:cNvPr id="116" name="Rectangle 11" descr=""/>
            <p:cNvPicPr/>
            <p:nvPr/>
          </p:nvPicPr>
          <p:blipFill>
            <a:blip r:embed="rId7"/>
            <a:stretch/>
          </p:blipFill>
          <p:spPr>
            <a:xfrm>
              <a:off x="-6480" y="-6480"/>
              <a:ext cx="9156960" cy="3876840"/>
            </a:xfrm>
            <a:prstGeom prst="rect">
              <a:avLst/>
            </a:prstGeom>
            <a:ln w="0">
              <a:noFill/>
            </a:ln>
          </p:spPr>
        </p:pic>
        <p:sp>
          <p:nvSpPr>
            <p:cNvPr id="117"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13"/>
          <p:cNvGrpSpPr/>
          <p:nvPr/>
        </p:nvGrpSpPr>
        <p:grpSpPr>
          <a:xfrm>
            <a:off x="-6480" y="1596960"/>
            <a:ext cx="9156960" cy="5114880"/>
            <a:chOff x="-6480" y="1596960"/>
            <a:chExt cx="9156960" cy="5114880"/>
          </a:xfrm>
        </p:grpSpPr>
        <p:pic>
          <p:nvPicPr>
            <p:cNvPr id="120" name="Oval 13" descr=""/>
            <p:cNvPicPr/>
            <p:nvPr/>
          </p:nvPicPr>
          <p:blipFill>
            <a:blip r:embed="rId8"/>
            <a:stretch/>
          </p:blipFill>
          <p:spPr>
            <a:xfrm>
              <a:off x="-6480" y="1596960"/>
              <a:ext cx="9156960" cy="51148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B853-3BBD-4F30-86F6-082289344E0F}" type="slidenum">
              <a:rPr b="1" lang="en-US"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6480" y="3859200"/>
            <a:ext cx="9156960" cy="3005280"/>
            <a:chOff x="-6480" y="3859200"/>
            <a:chExt cx="9156960" cy="3005280"/>
          </a:xfrm>
        </p:grpSpPr>
        <p:pic>
          <p:nvPicPr>
            <p:cNvPr id="164" name="Rectangle 10" descr=""/>
            <p:cNvPicPr/>
            <p:nvPr/>
          </p:nvPicPr>
          <p:blipFill>
            <a:blip r:embed="rId3"/>
            <a:stretch/>
          </p:blipFill>
          <p:spPr>
            <a:xfrm>
              <a:off x="-6480" y="3859200"/>
              <a:ext cx="9156960" cy="300528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11"/>
          <p:cNvGrpSpPr/>
          <p:nvPr/>
        </p:nvGrpSpPr>
        <p:grpSpPr>
          <a:xfrm>
            <a:off x="-6480" y="-6480"/>
            <a:ext cx="9156960" cy="3876840"/>
            <a:chOff x="-6480" y="-6480"/>
            <a:chExt cx="9156960" cy="3876840"/>
          </a:xfrm>
        </p:grpSpPr>
        <p:pic>
          <p:nvPicPr>
            <p:cNvPr id="167" name="Rectangle 11" descr=""/>
            <p:cNvPicPr/>
            <p:nvPr/>
          </p:nvPicPr>
          <p:blipFill>
            <a:blip r:embed="rId4"/>
            <a:stretch/>
          </p:blipFill>
          <p:spPr>
            <a:xfrm>
              <a:off x="-6480" y="-6480"/>
              <a:ext cx="9156960" cy="3876840"/>
            </a:xfrm>
            <a:prstGeom prst="rect">
              <a:avLst/>
            </a:prstGeom>
            <a:ln w="0">
              <a:noFill/>
            </a:ln>
          </p:spPr>
        </p:pic>
        <p:sp>
          <p:nvSpPr>
            <p:cNvPr id="168"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3"/>
          <p:cNvGrpSpPr/>
          <p:nvPr/>
        </p:nvGrpSpPr>
        <p:grpSpPr>
          <a:xfrm>
            <a:off x="-6480" y="1596960"/>
            <a:ext cx="9156960" cy="5114880"/>
            <a:chOff x="-6480" y="1596960"/>
            <a:chExt cx="9156960" cy="5114880"/>
          </a:xfrm>
        </p:grpSpPr>
        <p:pic>
          <p:nvPicPr>
            <p:cNvPr id="171" name="Oval 13" descr=""/>
            <p:cNvPicPr/>
            <p:nvPr/>
          </p:nvPicPr>
          <p:blipFill>
            <a:blip r:embed="rId5"/>
            <a:stretch/>
          </p:blipFill>
          <p:spPr>
            <a:xfrm>
              <a:off x="-6480" y="1596960"/>
              <a:ext cx="9156960" cy="51148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962E-060E-44C3-B650-4E7009FFE142}" type="slidenum">
              <a:rPr b="1" lang="en-US"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extBox 3" descr=""/>
          <p:cNvPicPr/>
          <p:nvPr/>
        </p:nvPicPr>
        <p:blipFill>
          <a:blip r:embed="rId1"/>
          <a:stretch/>
        </p:blipFill>
        <p:spPr>
          <a:xfrm>
            <a:off x="1566720" y="920880"/>
            <a:ext cx="6510600" cy="1577880"/>
          </a:xfrm>
          <a:prstGeom prst="rect">
            <a:avLst/>
          </a:prstGeom>
          <a:ln w="0">
            <a:noFill/>
          </a:ln>
        </p:spPr>
      </p:pic>
      <p:sp>
        <p:nvSpPr>
          <p:cNvPr id="215" name="TextBox 4"/>
          <p:cNvSpPr/>
          <p:nvPr/>
        </p:nvSpPr>
        <p:spPr>
          <a:xfrm>
            <a:off x="2928960" y="2643120"/>
            <a:ext cx="535788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أهمية المحاسبة عن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طرق تبويب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طرق تقدير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طرق تحصيل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قواعد وإجراءات تحصيل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المعالجة المحاسبية لإيرادات الميزانية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85480" y="571680"/>
            <a:ext cx="8286840" cy="6000480"/>
          </a:xfrm>
          <a:prstGeom prst="rect">
            <a:avLst/>
          </a:prstGeom>
          <a:noFill/>
          <a:ln w="0">
            <a:noFill/>
          </a:ln>
        </p:spPr>
        <p:txBody>
          <a:bodyPr anchor="t">
            <a:normAutofit/>
          </a:bodyPr>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٥</a:t>
            </a:r>
            <a:r>
              <a:rPr b="0" lang="ar-SA" sz="1800" spc="-1" strike="noStrike">
                <a:solidFill>
                  <a:srgbClr val="404040"/>
                </a:solidFill>
                <a:latin typeface="Arial"/>
                <a:ea typeface="Tahoma"/>
              </a:rPr>
              <a:t>) يمسك أمين الصندوق في مقار الجهات التي تمسك حساباتها بنفسها و في الفروع التي لا تمسك حساباتها بنفسها دفتر يومية الصندوق يقيد فيه –في جانب المقبوضات منه- (الجانب الأيمن)-جميع المبالغ التي يتم تحصيلها من واقع أوامر القبض </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٦</a:t>
            </a:r>
            <a:r>
              <a:rPr b="0" lang="ar-SA" sz="1800" spc="-1" strike="noStrike">
                <a:solidFill>
                  <a:srgbClr val="404040"/>
                </a:solidFill>
                <a:latin typeface="Arial"/>
                <a:ea typeface="Tahoma"/>
              </a:rPr>
              <a:t>) </a:t>
            </a:r>
            <a:r>
              <a:rPr b="0" lang="ar-SA" sz="1800" spc="-1" strike="noStrike">
                <a:solidFill>
                  <a:srgbClr val="404040"/>
                </a:solidFill>
                <a:latin typeface="Trebuchet MS"/>
                <a:cs typeface="Tahoma"/>
              </a:rPr>
              <a:t>على الإدارة المالية أو قلم الحسابات أن تقوم بمراجعه كشف المتحصلات ومرفقاته بمجرد تلقيه سواء من أمين الصندوق بالمركز الرئيسي أو من أمين صندوق الفرع وتحرير إذن تسوية لقيد قيمة المتحصلات على حساب الصندوق (طرف أمين الصندوق) أو على حساب الصندوق (طرف أمين صندوق الفرع) حسب الحاله.</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٧</a:t>
            </a:r>
            <a:r>
              <a:rPr b="0" lang="ar-SA" sz="1800" spc="-1" strike="noStrike">
                <a:solidFill>
                  <a:srgbClr val="404040"/>
                </a:solidFill>
                <a:latin typeface="Arial"/>
                <a:ea typeface="Tahoma"/>
              </a:rPr>
              <a:t>) يجب على المحصلين و أمناء الصناديق و إيداع المتحصلات النقدية و الشيكات في مؤسسة النقد العربي السعودي بالنسبة للإيداع بالعملة الأجنبية  و كذلك التقيد بالبيان </a:t>
            </a:r>
            <a:r>
              <a:rPr b="0" lang="en-US" sz="1800" spc="-1" strike="noStrike">
                <a:solidFill>
                  <a:srgbClr val="404040"/>
                </a:solidFill>
                <a:latin typeface="Arial"/>
              </a:rPr>
              <a:t>٥</a:t>
            </a:r>
            <a:r>
              <a:rPr b="0" lang="ar-SA" sz="1800" spc="-1" strike="noStrike">
                <a:solidFill>
                  <a:srgbClr val="404040"/>
                </a:solidFill>
                <a:latin typeface="Arial"/>
                <a:ea typeface="Tahoma"/>
              </a:rPr>
              <a:t> الخاص بأرقام فروع الجهات الحكومية و ذلك على النحو التالي :</a:t>
            </a:r>
            <a:endParaRPr b="0" lang="en-US" sz="1800" spc="-1" strike="noStrike">
              <a:solidFill>
                <a:srgbClr val="404040"/>
              </a:solidFill>
              <a:latin typeface="Trebuchet MS"/>
            </a:endParaRPr>
          </a:p>
          <a:p>
            <a:pPr marL="228600" indent="-182520" algn="r" rtl="1">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abic Typesetting"/>
                <a:ea typeface="Tahoma"/>
              </a:rPr>
              <a:t>      * تودع كافة إيرادات الصندوق في نهاية كل أسبوع مهما كانت حصيلته </a:t>
            </a:r>
            <a:endParaRPr b="0" lang="en-US" sz="1600" spc="-1" strike="noStrike">
              <a:solidFill>
                <a:srgbClr val="404040"/>
              </a:solidFill>
              <a:latin typeface="Trebuchet MS"/>
            </a:endParaRPr>
          </a:p>
          <a:p>
            <a:pPr marL="228600" indent="-182520" algn="r" rtl="1">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abic Typesetting"/>
                <a:ea typeface="Tahoma"/>
              </a:rPr>
              <a:t>      * إذا بلغت الإيرادات مائة ألف ريال أو مايعادلها بالعملات الأجنبية فتودع في اليوم التالي للتحصيل, إن لم يكن بالإمكان إيداعها في نفس اليوم</a:t>
            </a:r>
            <a:endParaRPr b="0" lang="en-US" sz="16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cs typeface="Arial"/>
              </a:rPr>
              <a:t>٨</a:t>
            </a:r>
            <a:r>
              <a:rPr b="0" lang="ar-SA" sz="1800" spc="-1" strike="noStrike">
                <a:solidFill>
                  <a:srgbClr val="404040"/>
                </a:solidFill>
                <a:latin typeface="Arial"/>
                <a:ea typeface="Arial"/>
              </a:rPr>
              <a:t>) </a:t>
            </a:r>
            <a:r>
              <a:rPr b="0" lang="ar-SA" sz="1800" spc="-1" strike="noStrike">
                <a:solidFill>
                  <a:srgbClr val="404040"/>
                </a:solidFill>
                <a:latin typeface="Trebuchet MS"/>
                <a:cs typeface="Tahoma"/>
              </a:rPr>
              <a:t>يجب عند إعداد خطابات الإيداع ملاحظة الدقة في تعبئتها و ألا تكون المبالغ المودعة خاصة بفترات متداخلة بين شهر وآخر بحيث يكون المبلغ المودع عائدا لكل شهر على حدى.</a:t>
            </a:r>
            <a:endParaRPr b="0" lang="en-US" sz="1800" spc="-1" strike="noStrike">
              <a:solidFill>
                <a:srgbClr val="404040"/>
              </a:solidFill>
              <a:latin typeface="Trebuchet MS"/>
            </a:endParaRPr>
          </a:p>
          <a:p>
            <a:pPr marL="228600" indent="-182520" algn="r" rtl="1">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571680" y="713880"/>
            <a:ext cx="8043840" cy="5072040"/>
          </a:xfrm>
          <a:prstGeom prst="rect">
            <a:avLst/>
          </a:prstGeom>
          <a:noFill/>
          <a:ln w="0">
            <a:noFill/>
          </a:ln>
        </p:spPr>
        <p:txBody>
          <a:bodyPr anchor="t">
            <a:normAutofit/>
          </a:bodyPr>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٩</a:t>
            </a:r>
            <a:r>
              <a:rPr b="0" lang="ar-SA" sz="2400" spc="-1" strike="noStrike">
                <a:solidFill>
                  <a:srgbClr val="404040"/>
                </a:solidFill>
                <a:latin typeface="Arial"/>
                <a:ea typeface="Arial"/>
              </a:rPr>
              <a:t>) </a:t>
            </a:r>
            <a:r>
              <a:rPr b="0" lang="ar-SA" sz="2400" spc="-1" strike="noStrike">
                <a:solidFill>
                  <a:srgbClr val="404040"/>
                </a:solidFill>
                <a:latin typeface="Arabic Typesetting"/>
                <a:cs typeface="Tahoma"/>
              </a:rPr>
              <a:t>يجب الحرص على الإيضاح المعلومات اللازمة في خطاب الإيداع </a:t>
            </a:r>
            <a:r>
              <a:rPr b="0" lang="ar-SA" sz="2400" spc="-1" strike="noStrike">
                <a:solidFill>
                  <a:srgbClr val="404040"/>
                </a:solidFill>
                <a:latin typeface="Trebuchet MS"/>
                <a:cs typeface="Tahoma"/>
              </a:rPr>
              <a:t>لكل مبلغ يتم إيداعه</a:t>
            </a:r>
            <a:r>
              <a:rPr b="0" lang="ar-SA" sz="2400" spc="-1" strike="noStrike">
                <a:solidFill>
                  <a:srgbClr val="404040"/>
                </a:solidFill>
                <a:latin typeface="Arabic Typesetting"/>
                <a:ea typeface="Tahoma"/>
              </a:rPr>
              <a:t>. </a:t>
            </a:r>
            <a:endParaRPr b="0" lang="en-US" sz="2400" spc="-1" strike="noStrike">
              <a:solidFill>
                <a:srgbClr val="404040"/>
              </a:solidFill>
              <a:latin typeface="Trebuchet MS"/>
            </a:endParaRPr>
          </a:p>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٠</a:t>
            </a:r>
            <a:r>
              <a:rPr b="0" lang="ar-SA" sz="2400" spc="-1" strike="noStrike">
                <a:solidFill>
                  <a:srgbClr val="404040"/>
                </a:solidFill>
                <a:latin typeface="Arial"/>
                <a:ea typeface="Arial"/>
              </a:rPr>
              <a:t>) </a:t>
            </a:r>
            <a:r>
              <a:rPr b="0" lang="ar-SA" sz="2400" spc="-1" strike="noStrike">
                <a:solidFill>
                  <a:srgbClr val="404040"/>
                </a:solidFill>
                <a:latin typeface="Arial"/>
                <a:cs typeface="Tahoma"/>
              </a:rPr>
              <a:t>المبالغ التي يتم إيداعها في مؤسسة النقد أو البنوك و لاتدخل ضمن إيرادات الميزانية العامة للدولة بل ينبغي أن يوضح امام كل مبلغ رقم الحساب الخاص به ورقم الفصل والفرعللوزاره أو المصلحه .</a:t>
            </a:r>
            <a:br>
              <a:rPr sz="2400"/>
            </a:br>
            <a:endParaRPr b="0" lang="en-US" sz="2400" spc="-1" strike="noStrike">
              <a:solidFill>
                <a:srgbClr val="404040"/>
              </a:solidFill>
              <a:latin typeface="Trebuchet MS"/>
            </a:endParaRPr>
          </a:p>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37" name="Table 3" descr=""/>
          <p:cNvPicPr/>
          <p:nvPr/>
        </p:nvPicPr>
        <p:blipFill>
          <a:blip r:embed="rId1"/>
          <a:stretch/>
        </p:blipFill>
        <p:spPr>
          <a:xfrm>
            <a:off x="1432080" y="3681360"/>
            <a:ext cx="6376680" cy="25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4"/>
          <p:cNvSpPr/>
          <p:nvPr/>
        </p:nvSpPr>
        <p:spPr>
          <a:xfrm>
            <a:off x="1000080" y="500040"/>
            <a:ext cx="75726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١</a:t>
            </a:r>
            <a:r>
              <a:rPr b="0" lang="ar-SA" sz="2400" spc="-1" strike="noStrike">
                <a:solidFill>
                  <a:srgbClr val="404040"/>
                </a:solidFill>
                <a:latin typeface="Arial"/>
                <a:ea typeface="Arial"/>
              </a:rPr>
              <a:t>) يتعين عند صرف مبالغ زيادة عن المستحق ويتم تحصيلها في نفس السنة المالية أن يتم استبعادها من جملة مصروفات البند المختص وتقيدها تحت حساب الإيداع الخاص بالزياده، أما المبالغ التي صرفت زياده عن المستحق وتم تحصيلها في سنه مالية لاحقة فتضاف لحساب الايرادات المختلفة.</a:t>
            </a:r>
            <a:endParaRPr b="0" lang="en-US" sz="24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٢</a:t>
            </a:r>
            <a:r>
              <a:rPr b="0" lang="ar-SA" sz="2400" spc="-1" strike="noStrike">
                <a:solidFill>
                  <a:srgbClr val="404040"/>
                </a:solidFill>
                <a:latin typeface="Arial"/>
                <a:ea typeface="Arial"/>
              </a:rPr>
              <a:t>) يجب على المحصلين وأمناء الصناديق عند إيداع الإيرادات الحكوميه لدى البنوك مراعاة ان يتم طلب اصدار الشيك بالإيرادات المودعه لامر مؤسسه النقد العربي السعودي. </a:t>
            </a:r>
            <a:endParaRPr b="0" lang="en-US" sz="24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٣</a:t>
            </a:r>
            <a:r>
              <a:rPr b="0" lang="ar-SA" sz="2400" spc="-1" strike="noStrike">
                <a:solidFill>
                  <a:srgbClr val="404040"/>
                </a:solidFill>
                <a:latin typeface="Arial"/>
                <a:ea typeface="Arial"/>
              </a:rPr>
              <a:t>) على الجهات الحكوميه- ذات الميزانيات المستقله – التي لديها إيرادات غير مباشره أو وفورات تعود للخزينه العامه للدوله  إيداعها مؤسسه النقد العربي السعودي لحساب جاري وزارة الماليه باستخدام خطاب الإيداع (نموذج رقم </a:t>
            </a:r>
            <a:r>
              <a:rPr b="0" lang="ar-SA" sz="2400" spc="-1" strike="noStrike">
                <a:solidFill>
                  <a:srgbClr val="404040"/>
                </a:solidFill>
                <a:latin typeface="Arial"/>
                <a:ea typeface="Arial"/>
              </a:rPr>
              <a:t>4</a:t>
            </a:r>
            <a:r>
              <a:rPr b="0" lang="ar-SA" sz="2400" spc="-1" strike="noStrike">
                <a:solidFill>
                  <a:srgbClr val="404040"/>
                </a:solidFill>
                <a:latin typeface="Arial"/>
                <a:cs typeface="Arial"/>
              </a:rPr>
              <a:t>أ) وخطاب الإيداع (نموذج رقم </a:t>
            </a:r>
            <a:r>
              <a:rPr b="0" lang="ar-SA" sz="2400" spc="-1" strike="noStrike">
                <a:solidFill>
                  <a:srgbClr val="404040"/>
                </a:solidFill>
                <a:latin typeface="Arial"/>
                <a:ea typeface="Arial"/>
              </a:rPr>
              <a:t>4</a:t>
            </a:r>
            <a:r>
              <a:rPr b="0" lang="ar-SA" sz="2400" spc="-1" strike="noStrike">
                <a:solidFill>
                  <a:srgbClr val="404040"/>
                </a:solidFill>
                <a:latin typeface="Arial"/>
                <a:cs typeface="Arial"/>
              </a:rPr>
              <a:t>ب).</a:t>
            </a:r>
            <a:endParaRPr b="0" lang="en-US" sz="24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a:t>
            </a:r>
            <a:r>
              <a:rPr b="0" lang="ar-SA" sz="2400" spc="-1" strike="noStrike">
                <a:solidFill>
                  <a:srgbClr val="404040"/>
                </a:solidFill>
                <a:latin typeface="Arial"/>
                <a:cs typeface="Arial"/>
              </a:rPr>
              <a:t>٤</a:t>
            </a:r>
            <a:r>
              <a:rPr b="0" lang="ar-SA" sz="2400" spc="-1" strike="noStrike">
                <a:solidFill>
                  <a:srgbClr val="404040"/>
                </a:solidFill>
                <a:latin typeface="Arial"/>
                <a:ea typeface="Arial"/>
              </a:rPr>
              <a:t>) تودع حسميات التقاعد في مؤسسة النقد العربي السعودي في الحساب الخاص بمصلحه معاشات التقاعد .</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71680" y="713880"/>
            <a:ext cx="8115120" cy="4929480"/>
          </a:xfrm>
          <a:prstGeom prst="rect">
            <a:avLst/>
          </a:prstGeom>
          <a:noFill/>
          <a:ln w="0">
            <a:noFill/>
          </a:ln>
        </p:spPr>
        <p:txBody>
          <a:bodyPr anchor="t">
            <a:normAutofit/>
          </a:bodyPr>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cs typeface="Arial"/>
              </a:rPr>
              <a:t>١٥</a:t>
            </a:r>
            <a:r>
              <a:rPr b="0" lang="ar-SA" sz="2000" spc="-1" strike="noStrike">
                <a:solidFill>
                  <a:srgbClr val="404040"/>
                </a:solidFill>
                <a:latin typeface="Arial"/>
                <a:ea typeface="Arial"/>
              </a:rPr>
              <a:t>) لا يحتفظ في الخزائن او الصناديق إلا بالأموال الحكوميه ويمنع منعاً باتاً الاحتفاظ بأية أموال أخرى ، سواء كانت شخصيه او خلافها .</a:t>
            </a: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cs typeface="Arial"/>
              </a:rPr>
              <a:t>١٦</a:t>
            </a:r>
            <a:r>
              <a:rPr b="0" lang="ar-SA" sz="2000" spc="-1" strike="noStrike">
                <a:solidFill>
                  <a:srgbClr val="404040"/>
                </a:solidFill>
                <a:latin typeface="Arial"/>
                <a:ea typeface="Arial"/>
              </a:rPr>
              <a:t>) يندب رئيس المصلحه وبشكل  مفاجئ من يقوم بجرد الصندوق مره على الاقل كل شهر،وإذا ماظهرت زياده فيجب توريدها فوراً للصندوق بمقتضى إيصال استلام وتحرير إذن تسوية لقيد هذه الزيادهفي حساب الصندوق مقابل إضافتها إلى حساب الإيرادات (إيرادات متنوعه ).</a:t>
            </a: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cs typeface="Arial"/>
              </a:rPr>
              <a:t>١٧</a:t>
            </a:r>
            <a:r>
              <a:rPr b="0" lang="ar-SA" sz="2000" spc="-1" strike="noStrike">
                <a:solidFill>
                  <a:srgbClr val="404040"/>
                </a:solidFill>
                <a:latin typeface="Arial"/>
                <a:ea typeface="Arial"/>
              </a:rPr>
              <a:t>) يتعين إعداد بيان شهري بالإيرادات التي تم قيدها لدى الجهه المختصه وإرسله للإداره العامه لمراقبة الإيرادات بوزاره الماليه خلال خمسة ايام على الاكثر من انتهاء الشهر .</a:t>
            </a: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cs typeface="Arial"/>
              </a:rPr>
              <a:t>١٨</a:t>
            </a:r>
            <a:r>
              <a:rPr b="0" lang="ar-SA" sz="2000" spc="-1" strike="noStrike">
                <a:solidFill>
                  <a:srgbClr val="404040"/>
                </a:solidFill>
                <a:latin typeface="Arial"/>
                <a:ea typeface="Arial"/>
              </a:rPr>
              <a:t>) يتعين على كل جهه حكوميه لها مستحقات تجاه الغير(شركات، مؤسسات ،فراد) مطالبتهم بتسديدها خلال ثلاثون  يوما، وإذا انقضت هذه المده ينذر بتسديدها خلال عشرين يوما وفي حالة عدم الاستجابه للتسديد يتم تطبيق الحجز على امواله المنقوله وغير المنصوص عليها في هذا النظام .</a:t>
            </a: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285920" y="1856880"/>
            <a:ext cx="7400880" cy="3475080"/>
          </a:xfrm>
          <a:prstGeom prst="rect">
            <a:avLst/>
          </a:prstGeom>
          <a:noFill/>
          <a:ln w="0">
            <a:noFill/>
          </a:ln>
        </p:spPr>
        <p:txBody>
          <a:bodyPr anchor="t">
            <a:normAutofit/>
          </a:bodyPr>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يتم إيداع الإيرادات فى مؤسسة النقد أو أحد فروعها أو البنوك الوطنية حسب المواعيد التي تحددها وزارة المالية فى" تعليمات جباية وإيداع الإيرادات" التي تصدرها كل سنة مع صدور الميزانية.</a:t>
            </a: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والمتحصلات بطبيعة الحال تشمل المبالغ التي تم تعليتها في حسابات الأمانات، والمبالغ اللازمة لتسوية حسابات العهد وكذلك المبالغ اللازمة لتسوية اعتمادات الميزانية وذلك بالاستبعاد من المصروفات.</a:t>
            </a: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241" name="Title 1" descr=""/>
          <p:cNvPicPr/>
          <p:nvPr/>
        </p:nvPicPr>
        <p:blipFill>
          <a:blip r:embed="rId1"/>
          <a:stretch/>
        </p:blipFill>
        <p:spPr>
          <a:xfrm>
            <a:off x="1066680" y="420840"/>
            <a:ext cx="7894800" cy="157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13880" y="357120"/>
            <a:ext cx="8001000" cy="6215040"/>
          </a:xfrm>
          <a:prstGeom prst="rect">
            <a:avLst/>
          </a:prstGeom>
          <a:noFill/>
          <a:ln w="0">
            <a:noFill/>
          </a:ln>
        </p:spPr>
        <p:txBody>
          <a:bodyPr anchor="t">
            <a:normAutofit/>
          </a:bodyPr>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عندما يتم تحصيل مبالغ عن مبالغ سبق صرفها دون وجه حق أو زيادة عن المستحق فيتم معالجتها وفق الحالات الثلاث التالية :</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١</a:t>
            </a:r>
            <a:r>
              <a:rPr b="0" lang="ar-SA" sz="1800" spc="-1" strike="noStrike">
                <a:solidFill>
                  <a:srgbClr val="404040"/>
                </a:solidFill>
                <a:latin typeface="Trebuchet MS"/>
                <a:ea typeface="Tahoma"/>
              </a:rPr>
              <a:t>) عند اكتشاف الخطأ في نفس السنه الماليه التي تم فيها صرف المبلغ دون وجه حق أو زياده عن المستحق فهذا يتطلب : </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تحديد قيمة الزيادة         مطالبة من صُرف له المبلغ بتسديده</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وعند التحصيل يجب استبعاد هذا المبلغ من جملة مصروفات المادة المختصه. واذا كان التحصيل نقداً يحرر إذن تسوية يكون القيد من واقعه:</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a:p>
            <a:pPr marL="228600" indent="-182520" algn="r" rtl="1">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إذا تعذر تحصيل كامل المبلغ أو بقي جزء منه، وجب تحرير إذن تسويه لقيد المبلغ المطلوب تحصيله من واقعه:</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cxnSp>
        <p:nvCxnSpPr>
          <p:cNvPr id="243" name="Straight Arrow Connector 4"/>
          <p:cNvCxnSpPr/>
          <p:nvPr/>
        </p:nvCxnSpPr>
        <p:spPr>
          <a:xfrm flipH="1" flipV="1">
            <a:off x="6285960" y="1856520"/>
            <a:ext cx="572040" cy="2520"/>
          </a:xfrm>
          <a:prstGeom prst="straightConnector1">
            <a:avLst/>
          </a:prstGeom>
          <a:ln w="28440">
            <a:solidFill>
              <a:srgbClr val="000000"/>
            </a:solidFill>
            <a:miter/>
            <a:tailEnd len="med" type="arrow" w="med"/>
          </a:ln>
        </p:spPr>
      </p:cxnSp>
      <p:graphicFrame>
        <p:nvGraphicFramePr>
          <p:cNvPr id="244" name=""/>
          <p:cNvGraphicFramePr/>
          <p:nvPr/>
        </p:nvGraphicFramePr>
        <p:xfrm>
          <a:off x="428760" y="2786040"/>
          <a:ext cx="8210520" cy="639720"/>
        </p:xfrm>
        <a:graphic>
          <a:graphicData uri="http://schemas.openxmlformats.org/drawingml/2006/table">
            <a:tbl>
              <a:tblPr/>
              <a:tblGrid>
                <a:gridCol w="4975200"/>
                <a:gridCol w="1617480"/>
                <a:gridCol w="1617840"/>
              </a:tblGrid>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a:t>
                      </a:r>
                      <a:r>
                        <a:rPr b="1" lang="ar-SA" sz="1800" spc="-1" strike="noStrike">
                          <a:solidFill>
                            <a:srgbClr val="ffffff"/>
                          </a:solidFill>
                          <a:latin typeface="Trebuchet MS"/>
                          <a:cs typeface="Tahoma"/>
                        </a:rPr>
                        <a:t>حـ/ المصروفات بالاستبعاد _ البند المختص</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graphicFrame>
        <p:nvGraphicFramePr>
          <p:cNvPr id="245" name=""/>
          <p:cNvGraphicFramePr/>
          <p:nvPr/>
        </p:nvGraphicFramePr>
        <p:xfrm>
          <a:off x="428760" y="4500720"/>
          <a:ext cx="8210520" cy="914400"/>
        </p:xfrm>
        <a:graphic>
          <a:graphicData uri="http://schemas.openxmlformats.org/drawingml/2006/table">
            <a:tbl>
              <a:tblPr/>
              <a:tblGrid>
                <a:gridCol w="4975200"/>
                <a:gridCol w="1617480"/>
                <a:gridCol w="1617840"/>
              </a:tblGrid>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عهد تحت التحصيل_ طرف من صرف له المبلغ بدون وجه حق أو بالزيادة.</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مصروفات بالاستبعاد _ البند المختص</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1142640" y="731520"/>
            <a:ext cx="7715160" cy="5483160"/>
          </a:xfrm>
          <a:prstGeom prst="rect">
            <a:avLst/>
          </a:prstGeom>
          <a:noFill/>
          <a:ln w="0">
            <a:noFill/>
          </a:ln>
        </p:spPr>
        <p:txBody>
          <a:bodyPr anchor="t">
            <a:normAutofit/>
          </a:bodyPr>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وعند التحصيل نقداً أو عن طريق الاستقطاع من حسابات أخرى يكون القيد على النحو التالي:</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Arial"/>
                <a:cs typeface="Arial"/>
              </a:rPr>
              <a:t>٢</a:t>
            </a:r>
            <a:r>
              <a:rPr b="0" lang="ar-SA" sz="2000" spc="-1" strike="noStrike">
                <a:solidFill>
                  <a:srgbClr val="404040"/>
                </a:solidFill>
                <a:latin typeface="Trebuchet MS"/>
                <a:ea typeface="Tahoma"/>
              </a:rPr>
              <a:t>) عند اكتشاف الخطأ في سنه ماليه تاليه للسنه الماليه التي صرف فيها المبلغ بدون وجه حق أو زياده على المستحق فعندئذ لا يجوز استبعاد المبلغ المصروف بالزيادة من حساب مصروفات الميزانية في السنة التي اكتشف فيها الخطأ وإنما تضاف إلى حساب الإيرادات عند التحصيل الفوري بموجب إذن تسوية ويكون القيد:</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graphicFrame>
        <p:nvGraphicFramePr>
          <p:cNvPr id="247" name=""/>
          <p:cNvGraphicFramePr/>
          <p:nvPr/>
        </p:nvGraphicFramePr>
        <p:xfrm>
          <a:off x="428760" y="1714680"/>
          <a:ext cx="8210520" cy="1463400"/>
        </p:xfrm>
        <a:graphic>
          <a:graphicData uri="http://schemas.openxmlformats.org/drawingml/2006/table">
            <a:tbl>
              <a:tblPr/>
              <a:tblGrid>
                <a:gridCol w="4975200"/>
                <a:gridCol w="1617480"/>
                <a:gridCol w="1617840"/>
              </a:tblGrid>
              <a:tr h="1465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من مذكورين</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 أو حـ/ المصروفات _ البند المختص أو حـ/ الأمانات</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إلى  حـ/ العهد تحت التحصيل_ طرف من صرف له المبلغ بدون وجه حق أو بالزيادة.</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graphicFrame>
        <p:nvGraphicFramePr>
          <p:cNvPr id="248" name=""/>
          <p:cNvGraphicFramePr/>
          <p:nvPr/>
        </p:nvGraphicFramePr>
        <p:xfrm>
          <a:off x="500040" y="5214960"/>
          <a:ext cx="8210520" cy="639720"/>
        </p:xfrm>
        <a:graphic>
          <a:graphicData uri="http://schemas.openxmlformats.org/drawingml/2006/table">
            <a:tbl>
              <a:tblPr/>
              <a:tblGrid>
                <a:gridCol w="4975200"/>
                <a:gridCol w="1617840"/>
                <a:gridCol w="1617480"/>
              </a:tblGrid>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إيرادات المتنوعة</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42600" y="571320"/>
            <a:ext cx="8001000" cy="4214520"/>
          </a:xfrm>
          <a:prstGeom prst="rect">
            <a:avLst/>
          </a:prstGeom>
          <a:noFill/>
          <a:ln w="0">
            <a:noFill/>
          </a:ln>
        </p:spPr>
        <p:txBody>
          <a:bodyPr anchor="t">
            <a:normAutofit/>
          </a:bodyPr>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أما إذا تعذر التحصيل الفوري فيجب تحرير إذن تسوية يكون القيد من واقعه:</a:t>
            </a: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وعند التحصيل يضاف المبلغ لحساب الإيرادات مع عكس قيد حساب المطلوبات مع العهد تحت التحصيل بنفس المبلغ المسدد وذلك بموجب إذن التسوية يكون القيد:</a:t>
            </a: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graphicFrame>
        <p:nvGraphicFramePr>
          <p:cNvPr id="250" name=""/>
          <p:cNvGraphicFramePr/>
          <p:nvPr/>
        </p:nvGraphicFramePr>
        <p:xfrm>
          <a:off x="571680" y="4357800"/>
          <a:ext cx="8210520" cy="2011320"/>
        </p:xfrm>
        <a:graphic>
          <a:graphicData uri="http://schemas.openxmlformats.org/drawingml/2006/table">
            <a:tbl>
              <a:tblPr/>
              <a:tblGrid>
                <a:gridCol w="4975200"/>
                <a:gridCol w="1617480"/>
                <a:gridCol w="1617840"/>
              </a:tblGrid>
              <a:tr h="2014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مذكورين</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 أو أي حساب آخر حسب الحال</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مطلوبات.</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مذكورين</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إيرادات المتنوعة.</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عهد تحت التحصيل_ طرف من صرف له المبلغ بدون وجه حق أو بالزيادة.</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graphicFrame>
        <p:nvGraphicFramePr>
          <p:cNvPr id="251" name=""/>
          <p:cNvGraphicFramePr/>
          <p:nvPr/>
        </p:nvGraphicFramePr>
        <p:xfrm>
          <a:off x="500040" y="1643040"/>
          <a:ext cx="8210520" cy="914400"/>
        </p:xfrm>
        <a:graphic>
          <a:graphicData uri="http://schemas.openxmlformats.org/drawingml/2006/table">
            <a:tbl>
              <a:tblPr/>
              <a:tblGrid>
                <a:gridCol w="4975200"/>
                <a:gridCol w="1617840"/>
                <a:gridCol w="1617480"/>
              </a:tblGrid>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عهد تحت التحصيل_ طرف من صرف له المبلغ بدون وجه حق أو بالزيادة.</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مطلوبات.</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60" y="285840"/>
            <a:ext cx="8715240" cy="1339920"/>
          </a:xfrm>
          <a:prstGeom prst="rect">
            <a:avLst/>
          </a:prstGeom>
          <a:noFill/>
          <a:ln w="0">
            <a:noFill/>
          </a:ln>
        </p:spPr>
        <p:txBody>
          <a:bodyPr anchor="t">
            <a:normAutofit/>
          </a:bodyPr>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وإذا كانت المبالغ المصروفه زياده  عن المستحق أو دون وجه حق نتيجة عدم إجراء الحسميات الخاصه بالإيرادات بصوره صحيحه ، فعند اكتشاف الخطأ يتم تحرير إذن تسوية القيد من واقعه :</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graphicFrame>
        <p:nvGraphicFramePr>
          <p:cNvPr id="253" name=""/>
          <p:cNvGraphicFramePr/>
          <p:nvPr/>
        </p:nvGraphicFramePr>
        <p:xfrm>
          <a:off x="500040" y="1214280"/>
          <a:ext cx="8210520" cy="640080"/>
        </p:xfrm>
        <a:graphic>
          <a:graphicData uri="http://schemas.openxmlformats.org/drawingml/2006/table">
            <a:tbl>
              <a:tblPr/>
              <a:tblGrid>
                <a:gridCol w="4975200"/>
                <a:gridCol w="1617840"/>
                <a:gridCol w="1617480"/>
              </a:tblGrid>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عهد تحت التحصيل – طرف صاحب الشأن</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r>
                        <a:rPr b="1" lang="ar-SA" sz="1800" spc="-1" strike="noStrike">
                          <a:solidFill>
                            <a:srgbClr val="ffffff"/>
                          </a:solidFill>
                          <a:latin typeface="Trebuchet MS"/>
                          <a:cs typeface="Tahoma"/>
                        </a:rPr>
                        <a:t>حـ/ الإيرادات – حسب نوع الإيراد </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
        <p:nvSpPr>
          <p:cNvPr id="254" name="TextBox 4"/>
          <p:cNvSpPr/>
          <p:nvPr/>
        </p:nvSpPr>
        <p:spPr>
          <a:xfrm>
            <a:off x="214200" y="2071800"/>
            <a:ext cx="8786880" cy="2898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 </a:t>
            </a:r>
            <a:r>
              <a:rPr b="0" lang="ar-SA" sz="1800" spc="-1" strike="noStrike">
                <a:solidFill>
                  <a:srgbClr val="c00000"/>
                </a:solidFill>
                <a:latin typeface="Trebuchet MS"/>
                <a:cs typeface="Tahoma"/>
              </a:rPr>
              <a:t>ويستثى من هذه القاعده الأعمال الجديده التي يتناول تنفسذها أكثر من سنة حيث تستبعد من مصروفاتها بدلا من إضافتها للإيرادات المتنوعه ،وذلك بغية إظهار التكاليف الكليه لكل مشروع على حقيقتها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وإذا اكتشف الخطأ في سنه ماليه تاليه للسنه الماليه التي بدأ فيها صرف المبلغ بالزياده،فهذا يتطلب حصرالمبلغ المصروف خطأ وتتم معالجته وفقا لإمكانيه السداد الفوري أو على اقساط،فإذا تم السداد الفوري يضاف المبلغ الذي تم صرفه خطأ في السابقه لحساب الايرادات المتنوعه ، أما المبلغ الذي تم صرفه خطأفي السنه الماليه التي اكتشف فيها الخطأ فيستبعد من حساب مصروفات الميزانيه (البنود المختصه )، وذلك بتحرير إذن تسويه يكون القيد من واقعه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aphicFrame>
        <p:nvGraphicFramePr>
          <p:cNvPr id="255" name=""/>
          <p:cNvGraphicFramePr/>
          <p:nvPr/>
        </p:nvGraphicFramePr>
        <p:xfrm>
          <a:off x="357120" y="4846680"/>
          <a:ext cx="8567640" cy="2011320"/>
        </p:xfrm>
        <a:graphic>
          <a:graphicData uri="http://schemas.openxmlformats.org/drawingml/2006/table">
            <a:tbl>
              <a:tblPr/>
              <a:tblGrid>
                <a:gridCol w="5192640"/>
                <a:gridCol w="1687680"/>
                <a:gridCol w="1687320"/>
              </a:tblGrid>
              <a:tr h="2014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مذكوري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إيرادات المتنوعه( المبالغ التي تخص السنه أو السنوات السابقه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a:t>
                      </a:r>
                      <a:r>
                        <a:rPr b="1" lang="ar-SA" sz="1800" spc="-1" strike="noStrike">
                          <a:solidFill>
                            <a:srgbClr val="ffffff"/>
                          </a:solidFill>
                          <a:latin typeface="Trebuchet MS"/>
                          <a:cs typeface="Tahoma"/>
                        </a:rPr>
                        <a:t>حـ/المصروفات بالاستبعاد – البند المختص (المبالغ التي   تخص السنه الماله التي اكتشف فيها الخطأ)</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285480"/>
            <a:ext cx="8143920" cy="3475080"/>
          </a:xfrm>
          <a:prstGeom prst="rect">
            <a:avLst/>
          </a:prstGeom>
          <a:noFill/>
          <a:ln w="0">
            <a:noFill/>
          </a:ln>
        </p:spPr>
        <p:txBody>
          <a:bodyPr anchor="t">
            <a:normAutofit/>
          </a:bodyPr>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أما إذا تعذر تحصيل المبلغ فورا ، وتقرر تحصيله فيما بعد – سواء كان التحصيل نقدا أوعن طريق الاستقطاع من الحسابات المختلفه – فهذا يتطلب تحرير إذن تسويه يكون القيد من واقعه :</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graphicFrame>
        <p:nvGraphicFramePr>
          <p:cNvPr id="257" name=""/>
          <p:cNvGraphicFramePr/>
          <p:nvPr/>
        </p:nvGraphicFramePr>
        <p:xfrm>
          <a:off x="214200" y="1285920"/>
          <a:ext cx="8568000" cy="2011320"/>
        </p:xfrm>
        <a:graphic>
          <a:graphicData uri="http://schemas.openxmlformats.org/drawingml/2006/table">
            <a:tbl>
              <a:tblPr/>
              <a:tblGrid>
                <a:gridCol w="5193000"/>
                <a:gridCol w="1687320"/>
                <a:gridCol w="1687680"/>
              </a:tblGrid>
              <a:tr h="2014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عهد تحت التحصيل –طرف صاحب الشأ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مذكوري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مصروفات بالاستبعاد – البند المختص (المبالغ التي تخص السنه الماليه التي اكتشف فيها الخطأ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مطلوبات (المبالغ التي تخص السنه أو السنوات السابقه) </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
        <p:nvSpPr>
          <p:cNvPr id="258" name="TextBox 4"/>
          <p:cNvSpPr/>
          <p:nvPr/>
        </p:nvSpPr>
        <p:spPr>
          <a:xfrm>
            <a:off x="214200" y="3357720"/>
            <a:ext cx="87868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ea typeface="Tahoma"/>
              </a:rPr>
              <a:t> </a:t>
            </a:r>
            <a:r>
              <a:rPr b="0" lang="ar-SA" sz="1800" spc="-1" strike="noStrike">
                <a:solidFill>
                  <a:srgbClr val="404040"/>
                </a:solidFill>
                <a:latin typeface="Trebuchet MS"/>
                <a:cs typeface="Tahoma"/>
              </a:rPr>
              <a:t>وعند التسديد تضاف المبالغ المسدده الخاصه بالمبالغ المصروفه خطأ في سنه أو سنوات التحصيل  ناليه سابقه الى حساب الإيرادات المتنوعه ، مع اجراء قيد عكسي لحساب المطلوبات مع العهد تحت التحصيل-طرف صاحب الشأن ،أما المبالغ الخاصه بالسنه التي اكتشف الخطأ فتسوى مباشره في حساب العهد تحت التحصيل، وعند التحصيل النقدي يحرر إذن تسويه يكون القيد من واقعه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aphicFrame>
        <p:nvGraphicFramePr>
          <p:cNvPr id="259" name=""/>
          <p:cNvGraphicFramePr/>
          <p:nvPr/>
        </p:nvGraphicFramePr>
        <p:xfrm>
          <a:off x="428760" y="4846680"/>
          <a:ext cx="8567640" cy="1736640"/>
        </p:xfrm>
        <a:graphic>
          <a:graphicData uri="http://schemas.openxmlformats.org/drawingml/2006/table">
            <a:tbl>
              <a:tblPr/>
              <a:tblGrid>
                <a:gridCol w="5192640"/>
                <a:gridCol w="1687320"/>
                <a:gridCol w="1687680"/>
              </a:tblGrid>
              <a:tr h="2014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مذكوري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مطلوبات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مذكوري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إيرادات المتنوعه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عهد تحت التحصيل – طرف صاحب الشأن </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1" descr=""/>
          <p:cNvPicPr/>
          <p:nvPr/>
        </p:nvPicPr>
        <p:blipFill>
          <a:blip r:embed="rId1"/>
          <a:stretch/>
        </p:blipFill>
        <p:spPr>
          <a:xfrm>
            <a:off x="1633680" y="628560"/>
            <a:ext cx="7102440" cy="1096920"/>
          </a:xfrm>
          <a:prstGeom prst="rect">
            <a:avLst/>
          </a:prstGeom>
          <a:ln w="0">
            <a:noFill/>
          </a:ln>
        </p:spPr>
      </p:pic>
      <p:sp>
        <p:nvSpPr>
          <p:cNvPr id="217" name=""/>
          <p:cNvSpPr txBox="1"/>
          <p:nvPr/>
        </p:nvSpPr>
        <p:spPr>
          <a:xfrm>
            <a:off x="2214720" y="1785600"/>
            <a:ext cx="6400800" cy="3475080"/>
          </a:xfrm>
          <a:prstGeom prst="rect">
            <a:avLst/>
          </a:prstGeom>
          <a:noFill/>
          <a:ln w="0">
            <a:noFill/>
          </a:ln>
        </p:spPr>
        <p:txBody>
          <a:bodyPr anchor="t">
            <a:normAutofit/>
          </a:bodyPr>
          <a:p>
            <a:pPr marL="228600" indent="-182520" algn="r" rtl="1">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rebuchet MS"/>
                <a:cs typeface="Tahoma"/>
              </a:rPr>
              <a:t>تعريف الإيرادات</a:t>
            </a:r>
            <a:r>
              <a:rPr b="0" lang="ar-SA" sz="2400" spc="-1" strike="noStrike">
                <a:solidFill>
                  <a:srgbClr val="404040"/>
                </a:solidFill>
                <a:latin typeface="Trebuchet MS"/>
                <a:ea typeface="Tahoma"/>
              </a:rPr>
              <a:t>: الزيادة في الموارد المالية بخلاف التحويلات الداخلية والمحصل من القروض. تظهر </a:t>
            </a:r>
            <a:r>
              <a:rPr b="1" lang="ar-SA" sz="2400" spc="-1" strike="noStrike">
                <a:solidFill>
                  <a:srgbClr val="404040"/>
                </a:solidFill>
                <a:latin typeface="Trebuchet MS"/>
                <a:cs typeface="Tahoma"/>
              </a:rPr>
              <a:t>أهمية الإيرادات</a:t>
            </a:r>
            <a:r>
              <a:rPr b="0" lang="ar-SA" sz="2400" spc="-1" strike="noStrike">
                <a:solidFill>
                  <a:srgbClr val="404040"/>
                </a:solidFill>
                <a:latin typeface="Trebuchet MS"/>
                <a:ea typeface="Tahoma"/>
              </a:rPr>
              <a:t> بأنها مصدر لتمويل النفقات، والقصور في عمليات التحصيل خلال العام .القصور في عملية التحصيل خلال العام قد يؤدي إلى تعطيل إنجاز الأموال نتيجة نقص النقدية اللازمة، وعلى العكس فإن فعالية عملية التحصيل تقلل من الاعتماد على القروض خلال العام.</a:t>
            </a:r>
            <a:endParaRPr b="0" lang="en-US" sz="2400" spc="-1" strike="noStrike">
              <a:solidFill>
                <a:srgbClr val="404040"/>
              </a:solidFill>
              <a:latin typeface="Trebuchet MS"/>
            </a:endParaRPr>
          </a:p>
          <a:p>
            <a:pPr marL="228600" indent="-182520" algn="r" rtl="1">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14200" y="571320"/>
            <a:ext cx="8429760" cy="5143320"/>
          </a:xfrm>
          <a:prstGeom prst="rect">
            <a:avLst/>
          </a:prstGeom>
          <a:noFill/>
          <a:ln w="0">
            <a:noFill/>
          </a:ln>
        </p:spPr>
        <p:txBody>
          <a:bodyPr anchor="t">
            <a:normAutofit/>
          </a:bodyPr>
          <a:p>
            <a:pPr marL="228600" indent="-182520" algn="r" rtl="1">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Trebuchet MS"/>
                <a:cs typeface="Tahoma"/>
              </a:rPr>
              <a:t>ويلاحظ أن :</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التدفق النقدي الداخل من مصادر الإيرادات لايتم بطريقة منتظمة على مدار العام لأنه يصعب السيطرة عليها لخضوها لمتغيرات بيئية أو موسمية.</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التدفق النقدي الخارج لأغراض النفقات من الممكن التحكم فيه ليتم بطريقة منتظمة لأنها تخضع لاعتبارات قابلة للرقابة ويمكن التحكم فيها بنص القانون.</a:t>
            </a:r>
            <a:endParaRPr b="0" lang="en-US" sz="2200" spc="-1" strike="noStrike">
              <a:solidFill>
                <a:srgbClr val="404040"/>
              </a:solidFill>
              <a:latin typeface="Trebuchet MS"/>
            </a:endParaRPr>
          </a:p>
          <a:p>
            <a:pPr marL="228600" indent="-182520" algn="r" rtl="1">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Trebuchet MS"/>
                <a:cs typeface="Tahoma"/>
              </a:rPr>
              <a:t>تتمثل أهم الوظائف المحاسبية عن ايرادات الأموال الحكومية في توفير</a:t>
            </a:r>
            <a:r>
              <a:rPr b="0" lang="ar-SA" sz="2200" spc="-1" strike="noStrike">
                <a:solidFill>
                  <a:srgbClr val="404040"/>
                </a:solidFill>
                <a:latin typeface="Trebuchet MS"/>
                <a:ea typeface="Tahoma"/>
              </a:rPr>
              <a:t>:</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ea typeface="Tahoma"/>
              </a:rPr>
              <a:t> الوسائل التي تحدد الايرادات المقدرة التي تم تحصيلها فعلا أم لا.</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ea typeface="Tahoma"/>
              </a:rPr>
              <a:t> المعلومات الملائمة التي تساعد في إعداد التقارير المالية.</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المعلومات التي تساعد في التخطيط  وإعداد الميزانيات في المستقبل.</a:t>
            </a:r>
            <a:endParaRPr b="0" lang="en-US" sz="2200" spc="-1" strike="noStrike">
              <a:solidFill>
                <a:srgbClr val="404040"/>
              </a:solidFill>
              <a:latin typeface="Trebuchet MS"/>
            </a:endParaRPr>
          </a:p>
          <a:p>
            <a:pPr marL="228600" indent="-182520" algn="r" rtl="1">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3206880" y="268200"/>
            <a:ext cx="5540400" cy="1103400"/>
          </a:xfrm>
          <a:prstGeom prst="rect">
            <a:avLst/>
          </a:prstGeom>
          <a:ln w="0">
            <a:noFill/>
          </a:ln>
        </p:spPr>
      </p:pic>
      <p:sp>
        <p:nvSpPr>
          <p:cNvPr id="220" name=""/>
          <p:cNvSpPr txBox="1"/>
          <p:nvPr/>
        </p:nvSpPr>
        <p:spPr>
          <a:xfrm>
            <a:off x="142920" y="1071360"/>
            <a:ext cx="8572320" cy="5786280"/>
          </a:xfrm>
          <a:prstGeom prst="rect">
            <a:avLst/>
          </a:prstGeom>
          <a:noFill/>
          <a:ln w="0">
            <a:noFill/>
          </a:ln>
        </p:spPr>
        <p:txBody>
          <a:bodyPr anchor="t">
            <a:normAutofit/>
          </a:bodyPr>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هناك عدة إعتبارات تحول دون وجود تبويب نمطي للإيرادات الحكومية منها :</a:t>
            </a:r>
            <a:endParaRPr b="0" lang="en-US" sz="2000" spc="-1" strike="noStrike">
              <a:solidFill>
                <a:srgbClr val="404040"/>
              </a:solidFill>
              <a:latin typeface="Trebuchet MS"/>
            </a:endParaRPr>
          </a:p>
          <a:p>
            <a:pPr marL="228600" indent="-182520" algn="r" rtl="1">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ea typeface="Tahoma"/>
              </a:rPr>
              <a:t> وجود بعض الإيرادات التي قد تتلاءم مع أكثر من تبويب.</a:t>
            </a:r>
            <a:endParaRPr b="0" lang="en-US" sz="2000" spc="-1" strike="noStrike">
              <a:solidFill>
                <a:srgbClr val="404040"/>
              </a:solidFill>
              <a:latin typeface="Trebuchet MS"/>
            </a:endParaRPr>
          </a:p>
          <a:p>
            <a:pPr marL="228600" indent="-182520" algn="r" rtl="1">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تعدد التبويبات الفرعية لكل نوع من أنواع الإيرادات.</a:t>
            </a:r>
            <a:endParaRPr b="0" lang="en-US" sz="2000" spc="-1" strike="noStrike">
              <a:solidFill>
                <a:srgbClr val="404040"/>
              </a:solidFill>
              <a:latin typeface="Trebuchet MS"/>
            </a:endParaRPr>
          </a:p>
          <a:p>
            <a:pPr marL="228600" indent="-182520" algn="r" rtl="1">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التباين في انواع الإيرادات التي تحصلها الوحدات الحكومية المختلفة.</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فضلاً عن ذلك </a:t>
            </a:r>
            <a:r>
              <a:rPr b="1" lang="ar-SA" sz="2000" spc="-1" strike="noStrike">
                <a:solidFill>
                  <a:srgbClr val="404040"/>
                </a:solidFill>
                <a:latin typeface="Trebuchet MS"/>
                <a:cs typeface="Tahoma"/>
              </a:rPr>
              <a:t>انعدام العلاقة السببية بين الإيرادات والنفقات الحكومية</a:t>
            </a:r>
            <a:r>
              <a:rPr b="0" lang="ar-SA" sz="2000" spc="-1" strike="noStrike">
                <a:solidFill>
                  <a:srgbClr val="404040"/>
                </a:solidFill>
                <a:latin typeface="Trebuchet MS"/>
                <a:ea typeface="Tahoma"/>
              </a:rPr>
              <a:t>  فالنفقات لا تساهم في توفير الإيرادات وإنما تحقق الإيرادات من مصادرسيادية بنص القانون ثم تستخدم في تمويل النفقات، فعند قيام الوحدات الحكومية بتحصيل الإيرادات فهي لا تحصلها لحسابها وإنما تحصلها لحساب المال العام ، كل ذلك كان سبباً في بساطة اسس تبويب الإيرادات.</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ومع ذلك يعتبر التبويب النوعي أو الموضوعي هو التبويب الشائع للإيرادات وذلك بتبويب الإيرادات وفقاً لمصادرها الرئيسية، ولكن لأغراض المتابعة واتخاذ القرارات ، سواءكانت تخطيطية أم رقابية، قد يستلزم الأمر إعادة تبويب كل نوع رئيسي إلى تبويبات فرعية. في المملكة العربية السعودية يتم تبويب إيرادات الميزانية وفقاً لمصادرها الأساسية والفرعية.</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3279600" y="414360"/>
            <a:ext cx="5748480" cy="1096920"/>
          </a:xfrm>
          <a:prstGeom prst="rect">
            <a:avLst/>
          </a:prstGeom>
          <a:ln w="0">
            <a:noFill/>
          </a:ln>
        </p:spPr>
      </p:pic>
      <p:sp>
        <p:nvSpPr>
          <p:cNvPr id="222" name=""/>
          <p:cNvSpPr txBox="1"/>
          <p:nvPr/>
        </p:nvSpPr>
        <p:spPr>
          <a:xfrm>
            <a:off x="1142640" y="1356840"/>
            <a:ext cx="7543800" cy="2357640"/>
          </a:xfrm>
          <a:prstGeom prst="rect">
            <a:avLst/>
          </a:prstGeom>
          <a:noFill/>
          <a:ln w="0">
            <a:noFill/>
          </a:ln>
        </p:spPr>
        <p:txBody>
          <a:bodyPr anchor="t">
            <a:normAutofit/>
          </a:bodyPr>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هناك عدة طرق يتم استخدامها لتقدير الإيرادات فقد يتم بــ :</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cs typeface="Tahoma"/>
              </a:rPr>
              <a:t>الطريقة الآلية </a:t>
            </a:r>
            <a:r>
              <a:rPr b="0" lang="ar-SA" sz="2000" spc="-1" strike="noStrike">
                <a:solidFill>
                  <a:srgbClr val="404040"/>
                </a:solidFill>
                <a:latin typeface="Trebuchet MS"/>
                <a:cs typeface="Tahoma"/>
              </a:rPr>
              <a:t>على ضوء الإيرادات الفعلية للسنة المالية الأخيرة .</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أو عن </a:t>
            </a:r>
            <a:r>
              <a:rPr b="0" lang="ar-SA" sz="2000" spc="-1" strike="noStrike">
                <a:solidFill>
                  <a:srgbClr val="c00000"/>
                </a:solidFill>
                <a:latin typeface="Trebuchet MS"/>
                <a:cs typeface="Tahoma"/>
              </a:rPr>
              <a:t>طريق المتوسطات </a:t>
            </a:r>
            <a:r>
              <a:rPr b="0" lang="ar-SA" sz="2000" spc="-1" strike="noStrike">
                <a:solidFill>
                  <a:srgbClr val="404040"/>
                </a:solidFill>
                <a:latin typeface="Trebuchet MS"/>
                <a:cs typeface="Tahoma"/>
              </a:rPr>
              <a:t>حيث يؤخذ متوسط ثلاث سنوات سابقة . </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أو بطريقة </a:t>
            </a:r>
            <a:r>
              <a:rPr b="0" lang="ar-SA" sz="2000" spc="-1" strike="noStrike">
                <a:solidFill>
                  <a:srgbClr val="c00000"/>
                </a:solidFill>
                <a:latin typeface="Trebuchet MS"/>
                <a:cs typeface="Tahoma"/>
              </a:rPr>
              <a:t>التقدير المباشر </a:t>
            </a:r>
            <a:r>
              <a:rPr b="0" lang="ar-SA" sz="2000" spc="-1" strike="noStrike">
                <a:solidFill>
                  <a:srgbClr val="404040"/>
                </a:solidFill>
                <a:latin typeface="Trebuchet MS"/>
                <a:cs typeface="Tahoma"/>
              </a:rPr>
              <a:t>حيث يقدر الإيراد وفقا لكل نوع على حده . </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grpSp>
        <p:nvGrpSpPr>
          <p:cNvPr id="223" name="Pentagon 3"/>
          <p:cNvGrpSpPr/>
          <p:nvPr/>
        </p:nvGrpSpPr>
        <p:grpSpPr>
          <a:xfrm>
            <a:off x="1359000" y="3316320"/>
            <a:ext cx="5919840" cy="1195200"/>
            <a:chOff x="1359000" y="3316320"/>
            <a:chExt cx="5919840" cy="1195200"/>
          </a:xfrm>
        </p:grpSpPr>
        <p:pic>
          <p:nvPicPr>
            <p:cNvPr id="224" name="Pentagon 3" descr=""/>
            <p:cNvPicPr/>
            <p:nvPr/>
          </p:nvPicPr>
          <p:blipFill>
            <a:blip r:embed="rId2"/>
            <a:stretch/>
          </p:blipFill>
          <p:spPr>
            <a:xfrm>
              <a:off x="1359000" y="3316320"/>
              <a:ext cx="5919840" cy="1195200"/>
            </a:xfrm>
            <a:prstGeom prst="rect">
              <a:avLst/>
            </a:prstGeom>
            <a:ln w="0">
              <a:noFill/>
            </a:ln>
          </p:spPr>
        </p:pic>
        <p:sp>
          <p:nvSpPr>
            <p:cNvPr id="225" name=""/>
            <p:cNvSpPr/>
            <p:nvPr/>
          </p:nvSpPr>
          <p:spPr>
            <a:xfrm>
              <a:off x="1428840" y="3357720"/>
              <a:ext cx="5518080" cy="107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226" name="TextBox 4"/>
          <p:cNvSpPr/>
          <p:nvPr/>
        </p:nvSpPr>
        <p:spPr>
          <a:xfrm>
            <a:off x="1428840" y="3357720"/>
            <a:ext cx="5214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و في المملكة العربية السعودية يراعى عند تقدير الإيرادات متوسط المحصل منها خلال السنوات الثلاث السابقة</a:t>
            </a:r>
            <a:r>
              <a:rPr b="0" lang="en-US" sz="1800" spc="-1" strike="noStrike">
                <a:solidFill>
                  <a:srgbClr val="000000"/>
                </a:solidFill>
                <a:latin typeface="Trebuchet MS"/>
              </a:rPr>
              <a:t>.</a:t>
            </a:r>
            <a:r>
              <a:rPr b="0" lang="ar-SA" sz="1800" spc="-1" strike="noStrike">
                <a:solidFill>
                  <a:srgbClr val="000000"/>
                </a:solidFill>
                <a:latin typeface="Trebuchet MS"/>
                <a:ea typeface="Tahoma"/>
              </a:rPr>
              <a:t> </a:t>
            </a:r>
            <a:endParaRPr b="0" lang="en-US" sz="1800" spc="-1" strike="noStrike">
              <a:solidFill>
                <a:srgbClr val="000000"/>
              </a:solidFill>
              <a:latin typeface="Trebuchet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7" name="TextBox 5"/>
          <p:cNvSpPr/>
          <p:nvPr/>
        </p:nvSpPr>
        <p:spPr>
          <a:xfrm>
            <a:off x="785880" y="4643280"/>
            <a:ext cx="8001000" cy="15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rebuchet MS"/>
                <a:cs typeface="Tahoma"/>
              </a:rPr>
              <a:t>غير أن الاسترشاد بمتوسط المحصل من الإيرادات خلال السنوات الثلاث السابقة </a:t>
            </a:r>
            <a:r>
              <a:rPr b="1" lang="ar-SA" sz="1900" spc="-1" strike="noStrike">
                <a:solidFill>
                  <a:srgbClr val="c00000"/>
                </a:solidFill>
                <a:latin typeface="Trebuchet MS"/>
                <a:cs typeface="Tahoma"/>
              </a:rPr>
              <a:t>لا يعتبر من المؤشرات المنطقية</a:t>
            </a:r>
            <a:r>
              <a:rPr b="0" lang="ar-SA" sz="1900" spc="-1" strike="noStrike">
                <a:solidFill>
                  <a:srgbClr val="c00000"/>
                </a:solidFill>
                <a:latin typeface="Trebuchet MS"/>
                <a:ea typeface="Tahoma"/>
              </a:rPr>
              <a:t> </a:t>
            </a:r>
            <a:r>
              <a:rPr b="0" lang="ar-SA" sz="1900" spc="-1" strike="noStrike">
                <a:solidFill>
                  <a:srgbClr val="000000"/>
                </a:solidFill>
                <a:latin typeface="Trebuchet MS"/>
                <a:cs typeface="Tahoma"/>
              </a:rPr>
              <a:t>في تقدير معظم بنود الإيرادات و إن كان يصلح في تقدير بعض البنود كالجزاءات و الغرامات المرورية فانه لا يصلح لتقدير الإيرادات من إنتاج الزيت و ضريبة الدخل و غيرها  و هذا يستلزم أن يتم تقدير الإيرادات  بطريقة مباشره بحيث تؤخذ متغيرات كل بند في الاعتبار.</a:t>
            </a:r>
            <a:endParaRPr b="0" lang="en-US" sz="1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1420920" y="414360"/>
            <a:ext cx="7607160" cy="1096920"/>
          </a:xfrm>
          <a:prstGeom prst="rect">
            <a:avLst/>
          </a:prstGeom>
          <a:ln w="0">
            <a:noFill/>
          </a:ln>
        </p:spPr>
      </p:pic>
      <p:sp>
        <p:nvSpPr>
          <p:cNvPr id="229" name="TextBox 5"/>
          <p:cNvSpPr/>
          <p:nvPr/>
        </p:nvSpPr>
        <p:spPr>
          <a:xfrm>
            <a:off x="714240" y="1428840"/>
            <a:ext cx="8215560" cy="25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المتحصلات بطبيعة الحال لا تقتصر على إيرادات الميزانية العامة للدولة باختلاف أنواعها و حساباتها الرئيسية و الفرعية بل تشمل :</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a:t>
            </a:r>
            <a:r>
              <a:rPr b="0" lang="ar-SA" sz="2000" spc="-1" strike="noStrike">
                <a:solidFill>
                  <a:srgbClr val="404040"/>
                </a:solidFill>
                <a:latin typeface="Trebuchet MS"/>
                <a:cs typeface="Tahoma"/>
              </a:rPr>
              <a:t>المبالغ التي تم تعليتها في حسابات الأمانات .</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a:t>
            </a:r>
            <a:r>
              <a:rPr b="0" lang="ar-SA" sz="2000" spc="-1" strike="noStrike">
                <a:solidFill>
                  <a:srgbClr val="404040"/>
                </a:solidFill>
                <a:latin typeface="Trebuchet MS"/>
                <a:cs typeface="Tahoma"/>
              </a:rPr>
              <a:t>المبالغ اللازمة لتسوية حسابات العهد. </a:t>
            </a:r>
            <a:endParaRPr b="0" lang="en-US" sz="2000" spc="-1" strike="noStrike">
              <a:solidFill>
                <a:srgbClr val="000000"/>
              </a:solidFill>
              <a:latin typeface="Trebuchet MS"/>
            </a:endParaRPr>
          </a:p>
          <a:p>
            <a:pPr algn="r" rtl="1">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ea typeface="Tahoma"/>
              </a:rPr>
              <a:t> المبالغ اللازمة لتسوية اعتمادات الميزانية و ذالك بالاستبعاد من المصروفات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0" name="TextBox 6"/>
          <p:cNvSpPr/>
          <p:nvPr/>
        </p:nvSpPr>
        <p:spPr>
          <a:xfrm>
            <a:off x="571680" y="3286080"/>
            <a:ext cx="828648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Trebuchet MS"/>
                <a:cs typeface="Tahoma"/>
              </a:rPr>
              <a:t>طرق تحصيل الإيرادات تتمثل في التالي:</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rebuchet MS"/>
                <a:cs typeface="Tahoma"/>
              </a:rPr>
              <a:t>التحصيل النقدي</a:t>
            </a:r>
            <a:r>
              <a:rPr b="1" lang="ar-SA" sz="1800" spc="-1" strike="noStrike">
                <a:solidFill>
                  <a:srgbClr val="000000"/>
                </a:solidFill>
                <a:latin typeface="Trebuchet MS"/>
                <a:ea typeface="Tahoma"/>
              </a:rPr>
              <a:t>:</a:t>
            </a:r>
            <a:r>
              <a:rPr b="0" lang="ar-SA" sz="1800" spc="-1" strike="noStrike">
                <a:solidFill>
                  <a:srgbClr val="000000"/>
                </a:solidFill>
                <a:latin typeface="Trebuchet MS"/>
                <a:ea typeface="Tahoma"/>
              </a:rPr>
              <a:t> يقوم بعملية التحصيل نقدا عدة أجهزة تتمثل في صناديق الجهات الحكومية وفروعها و المحصلين و الجباة و خزينة مؤسسة النقد العربي السعودي و فروعها ولا يتم إيداع أي مبالغ لأي جهة حكومية عن طريق الماليات مطلقا.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rebuchet MS"/>
                <a:cs typeface="Tahoma"/>
              </a:rPr>
              <a:t>التحصيل بشيكات مصدقة</a:t>
            </a:r>
            <a:r>
              <a:rPr b="1" lang="ar-SA" sz="1800" spc="-1" strike="noStrike">
                <a:solidFill>
                  <a:srgbClr val="000000"/>
                </a:solidFill>
                <a:latin typeface="Trebuchet MS"/>
                <a:ea typeface="Tahoma"/>
              </a:rPr>
              <a:t>:</a:t>
            </a:r>
            <a:r>
              <a:rPr b="0" lang="ar-SA" sz="1800" spc="-1" strike="noStrike">
                <a:solidFill>
                  <a:srgbClr val="000000"/>
                </a:solidFill>
                <a:latin typeface="Trebuchet MS"/>
                <a:ea typeface="Tahoma"/>
              </a:rPr>
              <a:t> يتم التحصيل بشيكات مصدقة مسحوبة على احد البنوك الوطنية أو فروعها بعد التحقق من استيفاء الشيكات لكافة التوقيعات اللازمة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rebuchet MS"/>
                <a:cs typeface="Tahoma"/>
              </a:rPr>
              <a:t>الاستقطاع من المنبع</a:t>
            </a:r>
            <a:r>
              <a:rPr b="1" lang="ar-SA" sz="1800" spc="-1" strike="noStrike">
                <a:solidFill>
                  <a:srgbClr val="000000"/>
                </a:solidFill>
                <a:latin typeface="Trebuchet MS"/>
                <a:ea typeface="Tahoma"/>
              </a:rPr>
              <a:t>:</a:t>
            </a:r>
            <a:r>
              <a:rPr b="0" lang="ar-SA" sz="1800" spc="-1" strike="noStrike">
                <a:solidFill>
                  <a:srgbClr val="000000"/>
                </a:solidFill>
                <a:latin typeface="Trebuchet MS"/>
                <a:ea typeface="Tahoma"/>
              </a:rPr>
              <a:t> هناك بعض بنود الإيرادات التي تيم تحصيلها عن طريق حجزها من المنبع باستقطاعها من بنود مصروفات الميزانية </a:t>
            </a:r>
            <a:r>
              <a:rPr b="0" lang="ar-SA" sz="1800" spc="-1" strike="noStrike" u="sng">
                <a:solidFill>
                  <a:srgbClr val="000000"/>
                </a:solidFill>
                <a:uFillTx/>
                <a:latin typeface="Trebuchet MS"/>
                <a:cs typeface="Tahoma"/>
              </a:rPr>
              <a:t>أو من بنود أخرى ومن ذلك:</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5"/>
          <p:cNvSpPr/>
          <p:nvPr/>
        </p:nvSpPr>
        <p:spPr>
          <a:xfrm>
            <a:off x="428760" y="571680"/>
            <a:ext cx="82152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a:t>
            </a:r>
            <a:r>
              <a:rPr b="0" lang="ar-SA" sz="2000" spc="-1" strike="noStrike">
                <a:solidFill>
                  <a:srgbClr val="000000"/>
                </a:solidFill>
                <a:latin typeface="Trebuchet MS"/>
                <a:cs typeface="Tahoma"/>
              </a:rPr>
              <a:t>المبالغ المستقطعة من مستحقات احد المتعهدين أو المقاولين مقابل </a:t>
            </a:r>
            <a:r>
              <a:rPr b="1" lang="ar-SA" sz="2000" spc="-1" strike="noStrike">
                <a:solidFill>
                  <a:srgbClr val="000000"/>
                </a:solidFill>
                <a:latin typeface="Trebuchet MS"/>
                <a:cs typeface="Tahoma"/>
              </a:rPr>
              <a:t>غرامات</a:t>
            </a:r>
            <a:r>
              <a:rPr b="0" lang="ar-SA" sz="2000" spc="-1" strike="noStrike">
                <a:solidFill>
                  <a:srgbClr val="000000"/>
                </a:solidFill>
                <a:latin typeface="Trebuchet MS"/>
                <a:ea typeface="Tahoma"/>
              </a:rPr>
              <a:t> التأخير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a:t>
            </a:r>
            <a:r>
              <a:rPr b="0" lang="ar-SA" sz="2000" spc="-1" strike="noStrike">
                <a:solidFill>
                  <a:srgbClr val="000000"/>
                </a:solidFill>
                <a:latin typeface="Trebuchet MS"/>
                <a:ea typeface="Tahoma"/>
              </a:rPr>
              <a:t> المبالغ المستقطعة من مستحقات الموظفين مقابل </a:t>
            </a:r>
            <a:r>
              <a:rPr b="1" lang="ar-SA" sz="2000" spc="-1" strike="noStrike">
                <a:solidFill>
                  <a:srgbClr val="000000"/>
                </a:solidFill>
                <a:latin typeface="Trebuchet MS"/>
                <a:cs typeface="Tahoma"/>
              </a:rPr>
              <a:t>الجزاءات</a:t>
            </a:r>
            <a:r>
              <a:rPr b="0" lang="ar-SA" sz="2000" spc="-1" strike="noStrike">
                <a:solidFill>
                  <a:srgbClr val="000000"/>
                </a:solidFill>
                <a:latin typeface="Trebuchet MS"/>
                <a:ea typeface="Tahoma"/>
              </a:rPr>
              <a:t> التي قد تفرض عليهم نتيجة لتغيبهم عن العمل.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a:t>
            </a:r>
            <a:r>
              <a:rPr b="0" lang="ar-SA" sz="2000" spc="-1" strike="noStrike">
                <a:solidFill>
                  <a:srgbClr val="000000"/>
                </a:solidFill>
                <a:latin typeface="Trebuchet MS"/>
                <a:ea typeface="Tahoma"/>
              </a:rPr>
              <a:t> المبالغ المستقطعة من مستحقات الموظفين مقابل </a:t>
            </a:r>
            <a:r>
              <a:rPr b="1" lang="ar-SA" sz="2000" spc="-1" strike="noStrike">
                <a:solidFill>
                  <a:srgbClr val="000000"/>
                </a:solidFill>
                <a:latin typeface="Trebuchet MS"/>
                <a:cs typeface="Tahoma"/>
              </a:rPr>
              <a:t>شراء الموظفين ممتلكات</a:t>
            </a:r>
            <a:r>
              <a:rPr b="0" lang="ar-SA" sz="2000" spc="-1" strike="noStrike">
                <a:solidFill>
                  <a:srgbClr val="000000"/>
                </a:solidFill>
                <a:latin typeface="Trebuchet MS"/>
                <a:ea typeface="Tahoma"/>
              </a:rPr>
              <a:t> من الجهة الحكومية و تعذر تحصيل قيمتها نقدا عند بيع تلك الممتلكات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a:t>
            </a:r>
            <a:r>
              <a:rPr b="0" lang="ar-SA" sz="2000" spc="-1" strike="noStrike">
                <a:solidFill>
                  <a:srgbClr val="000000"/>
                </a:solidFill>
                <a:latin typeface="Trebuchet MS"/>
                <a:ea typeface="Tahoma"/>
              </a:rPr>
              <a:t> المبالغ المستقطعة من مستحقات الموظفين عن مبالغ تم صرفها </a:t>
            </a:r>
            <a:r>
              <a:rPr b="1" lang="ar-SA" sz="2000" spc="-1" strike="noStrike">
                <a:solidFill>
                  <a:srgbClr val="000000"/>
                </a:solidFill>
                <a:latin typeface="Trebuchet MS"/>
                <a:cs typeface="Tahoma"/>
              </a:rPr>
              <a:t>دون وجه حق </a:t>
            </a:r>
            <a:r>
              <a:rPr b="0" lang="ar-SA" sz="2000" spc="-1" strike="noStrike">
                <a:solidFill>
                  <a:srgbClr val="000000"/>
                </a:solidFill>
                <a:latin typeface="Trebuchet MS"/>
                <a:cs typeface="Tahoma"/>
              </a:rPr>
              <a:t>أو زيادة عن المستحق ويتم اكتشافها في سنة مالية تالية للسنة المالية التي صرف فيها المبلغ.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a:t>
            </a:r>
            <a:r>
              <a:rPr b="0" lang="ar-SA" sz="2000" spc="-1" strike="noStrike">
                <a:solidFill>
                  <a:srgbClr val="000000"/>
                </a:solidFill>
                <a:latin typeface="Trebuchet MS"/>
                <a:cs typeface="Tahoma"/>
              </a:rPr>
              <a:t>المبالغ المقيدة في حساب </a:t>
            </a:r>
            <a:r>
              <a:rPr b="1" lang="ar-SA" sz="2000" spc="-1" strike="noStrike">
                <a:solidFill>
                  <a:srgbClr val="000000"/>
                </a:solidFill>
                <a:latin typeface="Trebuchet MS"/>
                <a:cs typeface="Tahoma"/>
              </a:rPr>
              <a:t>تسوية المستحقات العامة </a:t>
            </a:r>
            <a:r>
              <a:rPr b="0" lang="ar-SA" sz="2000" spc="-1" strike="noStrike">
                <a:solidFill>
                  <a:srgbClr val="000000"/>
                </a:solidFill>
                <a:latin typeface="Trebuchet MS"/>
                <a:cs typeface="Tahoma"/>
              </a:rPr>
              <a:t>مقابل الخدمات التي تؤديها كل وزارة أو مصلحة حكومية إلى وزارة أو مصلحة حكومية أخرى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rebuchet MS"/>
                <a:cs typeface="Tahoma"/>
              </a:rPr>
              <a:t>الإزالة من حسابات الأمانات مقابل الإضافة إلى حسابات الإيرادات المتنوعة وذلك في حالة :</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المبالغ المقيدة في حساب الأمانات (تأمينات نقدية).</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المبالغ المقيدة في حساب الأمانات (مرتجع رواتب).</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تكرار التعلية في حساب الأمانات المتنوعة واكتشاف الخطأ في سنة مالية تالية .</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المبالغ المصروفة على حسابات العهد (اعتمادات مستنديه).</a:t>
            </a:r>
            <a:endParaRPr b="0" lang="en-US" sz="20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566640" y="414360"/>
            <a:ext cx="8401320" cy="1238400"/>
          </a:xfrm>
          <a:prstGeom prst="rect">
            <a:avLst/>
          </a:prstGeom>
          <a:ln w="0">
            <a:noFill/>
          </a:ln>
        </p:spPr>
      </p:pic>
      <p:sp>
        <p:nvSpPr>
          <p:cNvPr id="233" name=""/>
          <p:cNvSpPr txBox="1"/>
          <p:nvPr/>
        </p:nvSpPr>
        <p:spPr>
          <a:xfrm>
            <a:off x="213840" y="1499760"/>
            <a:ext cx="8472600" cy="4643640"/>
          </a:xfrm>
          <a:prstGeom prst="rect">
            <a:avLst/>
          </a:prstGeom>
          <a:noFill/>
          <a:ln w="0">
            <a:noFill/>
          </a:ln>
        </p:spPr>
        <p:txBody>
          <a:bodyPr anchor="t">
            <a:normAutofit/>
          </a:bodyPr>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تحكم عميلة تحصيل الإيرادات والأموال الأخرى في المملكة مجموعه من القواعد والإجراءات المرتبطة بتنفيذ الميزانية العامة للدولة و هي التي تصدرها وزارة المالية تحت مسمى ”</a:t>
            </a:r>
            <a:r>
              <a:rPr b="0" lang="ar-SA" sz="2200" spc="-1" strike="noStrike">
                <a:solidFill>
                  <a:srgbClr val="c00000"/>
                </a:solidFill>
                <a:latin typeface="Trebuchet MS"/>
                <a:cs typeface="Tahoma"/>
              </a:rPr>
              <a:t>تعليمات جباية و إيداع الإيرادات</a:t>
            </a:r>
            <a:r>
              <a:rPr b="0" lang="ar-SA" sz="2200" spc="-1" strike="noStrike">
                <a:solidFill>
                  <a:srgbClr val="404040"/>
                </a:solidFill>
                <a:latin typeface="Trebuchet MS"/>
                <a:ea typeface="Tahoma"/>
              </a:rPr>
              <a:t>“  وتتمثل في الآتي:</a:t>
            </a:r>
            <a:endParaRPr b="0" lang="en-US" sz="22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cs typeface="Arial"/>
              </a:rPr>
              <a:t>١</a:t>
            </a:r>
            <a:r>
              <a:rPr b="0" lang="en-US" sz="1800" spc="-1" strike="noStrike">
                <a:solidFill>
                  <a:srgbClr val="404040"/>
                </a:solidFill>
                <a:latin typeface="Arial"/>
                <a:ea typeface="Arial"/>
              </a:rPr>
              <a:t>(</a:t>
            </a:r>
            <a:r>
              <a:rPr b="0" lang="ar-SA" sz="1800" spc="-1" strike="noStrike">
                <a:solidFill>
                  <a:srgbClr val="404040"/>
                </a:solidFill>
                <a:latin typeface="Trebuchet MS"/>
                <a:cs typeface="Tahoma"/>
              </a:rPr>
              <a:t>الالتزام بفتح سجلات و دفاتر جديدة لقيد إيرادات الميزانية العامة للدولة في كل سنة مالية بصورة منفصلة عن سابقتها</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Arial"/>
                <a:cs typeface="Arial"/>
              </a:rPr>
              <a:t>٢</a:t>
            </a:r>
            <a:r>
              <a:rPr b="0" lang="en-US" sz="1800" spc="-1" strike="noStrike">
                <a:solidFill>
                  <a:srgbClr val="404040"/>
                </a:solidFill>
                <a:latin typeface="Arial"/>
                <a:ea typeface="Arial"/>
              </a:rPr>
              <a:t>(</a:t>
            </a:r>
            <a:r>
              <a:rPr b="0" lang="ar-SA" sz="1800" spc="-1" strike="noStrike">
                <a:solidFill>
                  <a:srgbClr val="404040"/>
                </a:solidFill>
                <a:latin typeface="Trebuchet MS"/>
                <a:cs typeface="Tahoma"/>
              </a:rPr>
              <a:t>يتم توريد النقود و مافي حكمها مثل الشيكات المصدقة و الشيكات السياحية إلي الخزائن و الصناديق بموجب أمر قبض تحرره الإدارة المالية</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Arial"/>
                <a:cs typeface="Arial"/>
              </a:rPr>
              <a:t>٣</a:t>
            </a:r>
            <a:r>
              <a:rPr b="0" lang="en-US" sz="1800" spc="-1" strike="noStrike">
                <a:solidFill>
                  <a:srgbClr val="404040"/>
                </a:solidFill>
                <a:latin typeface="Arial"/>
                <a:ea typeface="Arial"/>
              </a:rPr>
              <a:t>(</a:t>
            </a:r>
            <a:r>
              <a:rPr b="0" lang="ar-SA" sz="1800" spc="-1" strike="noStrike">
                <a:solidFill>
                  <a:srgbClr val="404040"/>
                </a:solidFill>
                <a:latin typeface="Trebuchet MS"/>
                <a:cs typeface="Tahoma"/>
              </a:rPr>
              <a:t>باستثناء أقيام الأوراق المالية ذات القيمة التي تحصل دون الحاجة لتحير إيصالات استلام بها يتم إثبات استلام النقود و مافي حكمها (نقدا أو بموجب شيكات مصدقة)بموجب إيصال إيصال الاستلام , حسب جهة الاستلام</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Arial"/>
                <a:cs typeface="Arial"/>
              </a:rPr>
              <a:t>٤</a:t>
            </a:r>
            <a:r>
              <a:rPr b="0" lang="en-US" sz="1800" spc="-1" strike="noStrike">
                <a:solidFill>
                  <a:srgbClr val="404040"/>
                </a:solidFill>
                <a:latin typeface="Arial"/>
                <a:ea typeface="Arial"/>
              </a:rPr>
              <a:t>(</a:t>
            </a:r>
            <a:r>
              <a:rPr b="0" lang="ar-SA" sz="1800" spc="-1" strike="noStrike">
                <a:solidFill>
                  <a:srgbClr val="404040"/>
                </a:solidFill>
                <a:latin typeface="Trebuchet MS"/>
                <a:cs typeface="Tahoma"/>
              </a:rPr>
              <a:t>يجب على المحصلين الالتزام بإعداد كشف بالمتحصلات التي يتم إيداعها لدى أمين الصندوق بالمقر الرئيسي بالجهة الحكومية وفقا للقواعد التالية</a:t>
            </a:r>
            <a:endParaRPr b="0" lang="en-US" sz="1800" spc="-1" strike="noStrike">
              <a:solidFill>
                <a:srgbClr val="404040"/>
              </a:solidFill>
              <a:latin typeface="Trebuchet MS"/>
            </a:endParaRPr>
          </a:p>
          <a:p>
            <a:pPr marL="228600" indent="-182520" algn="r" rtl="1">
              <a:spcBef>
                <a:spcPts val="45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Diagram 4" descr=""/>
          <p:cNvPicPr/>
          <p:nvPr/>
        </p:nvPicPr>
        <p:blipFill>
          <a:blip r:embed="rId1"/>
          <a:stretch/>
        </p:blipFill>
        <p:spPr>
          <a:xfrm>
            <a:off x="1311120" y="1390680"/>
            <a:ext cx="6510600" cy="695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16:54:34Z</dcterms:created>
  <dc:creator>amjad</dc:creator>
  <dc:description/>
  <dc:language>en-US</dc:language>
  <cp:lastModifiedBy>lamia</cp:lastModifiedBy>
  <dcterms:modified xsi:type="dcterms:W3CDTF">2012-03-14T07:13:03Z</dcterms:modified>
  <cp:revision>83</cp:revision>
  <dc:subject/>
  <dc:title>قواعد و إجراءات تحصيل الإيرادات</dc:title>
</cp:coreProperties>
</file>