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6E6-BE01-4BFE-AD9A-4CA2435E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336-7451-4E23-A88A-7782C0B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4F8-EEC7-4F6A-A186-529FAAC5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A25-8782-434A-9E5B-0AE09B86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43F3-02EF-4312-AAF4-4510E11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E873-E1EF-4FDA-8DD8-7B3F8B16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6931-46E4-43A8-B0CE-FA25689E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4451-82BF-4552-992F-36F5A28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4706-E415-4A11-B5CA-EC8B383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D0D-194E-4841-B82F-C7F82BF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672E-1A13-4D89-98F1-9CC70E4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FCA-258B-43D8-9D32-E3AAE4F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9E54-858E-4FD2-91B3-C7BAAA2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B221-0C34-4587-ABB1-5ADAD0F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7D8-B084-46D0-A003-73B991B6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50EF-8D33-4AAD-A73E-D04D2CB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EC8B-606F-47B0-9CF2-0828130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0BF-DF60-4DDE-9E46-17717BA1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B27-1D49-489D-A527-A6F71652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46E-9F2C-4127-A259-7E6E7B8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822-7322-4E0D-B432-B7F4101E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197-F4AF-4446-9146-770C574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CCB-0D97-42DB-A19B-6DAA7F3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EED-6AA7-4564-9845-FD0A58B0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DDDF-D604-4C75-87DF-9C7D0A314AD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0442-BA17-4004-85A1-FF9DE11F9A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963-864B-4FF6-9052-86777DADA85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السلام عليكم   مرحبا مع عالم البرامج و التطبيق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زهرة 6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947-ADA8-4595-8ECB-101382864A2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نواع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نواع حس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تكرار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جرائية اللغ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لمنتف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استقل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95B8-9F8B-4AB8-9834-08058BA793B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ستخدام نظم دعم القرار محاسبي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ام التخطيط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محفظة الاستثم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عم قرارات التسع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محاسبة التكا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وازنة الرأس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انحرا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15E-E4A4-45EF-BF1C-82D7B675F6B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ام التخطيط المال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كونات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 مجالات الاستخدا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Diagram 6"/>
          <p:cNvGrpSpPr/>
          <p:nvPr/>
        </p:nvGrpSpPr>
        <p:grpSpPr>
          <a:xfrm>
            <a:off x="586080" y="1562040"/>
            <a:ext cx="2027880" cy="3528720"/>
            <a:chOff x="586080" y="1562040"/>
            <a:chExt cx="2027880" cy="3528720"/>
          </a:xfrm>
        </p:grpSpPr>
        <p:sp>
          <p:nvSpPr>
            <p:cNvPr id="148" name="_s1028"/>
            <p:cNvSpPr/>
            <p:nvPr/>
          </p:nvSpPr>
          <p:spPr>
            <a:xfrm flipH="1">
              <a:off x="1111680" y="4003560"/>
              <a:ext cx="24300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>
              <a:off x="586080" y="400500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عزيز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>
              <a:off x="1843920" y="4005000"/>
              <a:ext cx="2440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>
              <a:off x="2050200" y="400356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طالبت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 flipV="1">
              <a:off x="1600200" y="26478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1318320" y="156204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1318320" y="319068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لق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49C8-3888-4E77-A851-EBDB7194ED2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C:\Documents and Settings\1ksu\My Documents\My Pictures\ضبط حياتك.jpg"/>
          <p:cNvPicPr/>
          <p:nvPr/>
        </p:nvPicPr>
        <p:blipFill>
          <a:blip r:embed="rId1"/>
          <a:stretch/>
        </p:blipFill>
        <p:spPr>
          <a:xfrm>
            <a:off x="4343400" y="1447920"/>
            <a:ext cx="423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27A-A9BB-4A03-9B16-747F2C7FE34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نظم الفصل 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دعم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Suppo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4B98-7244-4485-AF0F-BD9D21FB5C9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تساعد الادارة في صنع القرار و تستخدم بشكل واسع لإغراض التخطيط الادا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رارات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ولة ال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ة او حذف خط 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عدلات طلب العمل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2C7-B7FD-4D31-9424-82E2FCF3E75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جزاء نظام دعم القرا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ستخدم – اكثر من قاعدة بيانات – نظام تحاوري ( لغة التخطيط )-    نموذج مثل الانحدار الخطي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62120" y="2438280"/>
            <a:ext cx="1904760" cy="2057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480060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267080" y="327672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010280" y="3048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819520" y="2743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14600" y="37335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743200" y="40381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2"/>
          <p:cNvSpPr/>
          <p:nvPr/>
        </p:nvSpPr>
        <p:spPr>
          <a:xfrm flipH="1" flipV="1">
            <a:off x="836640" y="3429000"/>
            <a:ext cx="1938240" cy="76320"/>
          </a:xfrm>
          <a:custGeom>
            <a:avLst/>
            <a:gdLst>
              <a:gd name="textAreaLeft" fmla="*/ 360 w 1938240"/>
              <a:gd name="textAreaRight" fmla="*/ 1938960 w 19382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</a:path>
              <a:path stroke="0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  <a:lnTo>
                  <a:pt x="228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971800" y="5181480"/>
            <a:ext cx="19051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387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ستخد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621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 نظام ال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609480" y="281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648320" y="349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ظام تحا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716292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7010280" y="32767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7913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- sas-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5410080" y="4114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FA26-CC92-4E2A-A608-7039899CB4F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فهوم نظم دعم القرار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 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72F7-6992-4EC5-82B5-31C2F99B84A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صائص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علي الحاس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حل للمشاكل النمطية و غير النمطيى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الدعم لمتخ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 علي التعلم و 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اج لتطوير و الت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برنامج الحوار بناء نماذج ج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ضمن اسلوب للاستكشاف و المحاو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5A5F-C79C-4514-809D-A6D2246B7D7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لمزايا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ين جودة المعلوم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رعة الاستج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 التك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ح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0A6-E345-492D-BA99-1BB382B8742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بيا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اربعة عنا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قاعدة (البيانات)– نظام الادارة (مجموعة برامج ) – وسيلة للاستفسار (برنامج )  - دليل (قائمة عناصر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نماذ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ثلاثة ا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و انواع النماذج – نظام ادارة– دليل نماذ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لاتص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مستخدم و النظام يتكون من ثلاثة عناصر عملية الحوار – نماذج الحوار – ادارة الن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عنصر البش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يتكون من المصممون و المستخدم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A4E0-3FFC-404C-8048-522ABC650FC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 اجهزة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شبكات المشاركة الزم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 الاجزاء الالية  ( الحاس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08:29Z</dcterms:created>
  <dc:creator>HOME</dc:creator>
  <dc:description/>
  <dc:language>en-US</dc:language>
  <cp:lastModifiedBy>ksu</cp:lastModifiedBy>
  <dcterms:modified xsi:type="dcterms:W3CDTF">2012-11-26T04:59:44Z</dcterms:modified>
  <cp:revision>5</cp:revision>
  <dc:subject/>
  <dc:title>نظم الفصل 9</dc:title>
</cp:coreProperties>
</file>