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679-1DCA-402A-9E9C-29C81C2E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DEB-4F18-4224-A480-F7363F31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2CC-B56D-4DB3-8354-827D8074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4B-2E6E-419F-A733-DB0BCA15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0E5-0F9B-469A-9168-D6FB18D7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56DF-750B-4909-9E4E-050A7A7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5742-BA60-4168-A8E1-72BE094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235-C97E-4C47-9B6C-81FA03A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8ACA-AC78-43A6-AFA0-8631EE8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631D-AE58-4CAF-A7FB-70E83DCC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2BF0-42E8-43CD-A3D4-A8755737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9BF-D70D-472B-A140-7A6C5516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E50-3D0E-4B35-A71E-F89CFE3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029F-57CF-436A-8326-B2E7AC6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60A-A040-4A35-A1A2-2D9977A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66D4-DB45-4E58-9AFE-ECD7DE84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590-8551-44E8-B036-4585BCA6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428-852A-430B-8F0F-E1B8ED1F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392-0FEE-4CEE-AD54-414EA51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3FD-9FBF-4BC9-9EC0-5E36502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039-2216-48CE-955B-EACBDA17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BB9-C0C9-4C7F-9FBA-3402C623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C42-3FDA-4EB9-B102-699D13C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8D8-8C57-4756-B632-FF32518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720A-2545-46C8-8EBB-633A6702405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40B1-22B9-42DC-9286-525F29CBA33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40F-BBAB-474B-BFA3-581434061CD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السلام عليكم   مرحبا مع عالم البرامج و التطبيق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زهرة 6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C06-D579-477A-BE1B-B426F021219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نواع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نواع حس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تكرار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جرائية اللغ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 المنتف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ة الاستقل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AEFE-109D-4CC7-B45C-9EBA3EC1920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ستخدام نظم دعم القرار محاسبي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ام التخطيط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دارة محفظة الاستثم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عم قرارات التسع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محاسبة التكا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وازنة الرأسم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انحرا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76E-9DCE-418F-9A46-9F6BA9DE0F0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10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نظام التخطيط المال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كونات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هم مجالات الاستخدام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تاما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Diagram 6"/>
          <p:cNvGrpSpPr/>
          <p:nvPr/>
        </p:nvGrpSpPr>
        <p:grpSpPr>
          <a:xfrm>
            <a:off x="586080" y="1562040"/>
            <a:ext cx="2027880" cy="3528720"/>
            <a:chOff x="586080" y="1562040"/>
            <a:chExt cx="2027880" cy="3528720"/>
          </a:xfrm>
        </p:grpSpPr>
        <p:sp>
          <p:nvSpPr>
            <p:cNvPr id="148" name="_s1028"/>
            <p:cNvSpPr/>
            <p:nvPr/>
          </p:nvSpPr>
          <p:spPr>
            <a:xfrm flipH="1">
              <a:off x="1111680" y="4003560"/>
              <a:ext cx="24300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29"/>
            <p:cNvSpPr/>
            <p:nvPr/>
          </p:nvSpPr>
          <p:spPr>
            <a:xfrm>
              <a:off x="586080" y="400500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عزيز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0"/>
            <p:cNvSpPr/>
            <p:nvPr/>
          </p:nvSpPr>
          <p:spPr>
            <a:xfrm>
              <a:off x="1843920" y="4005000"/>
              <a:ext cx="2440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1"/>
            <p:cNvSpPr/>
            <p:nvPr/>
          </p:nvSpPr>
          <p:spPr>
            <a:xfrm>
              <a:off x="2050200" y="400356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طالبت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2"/>
            <p:cNvSpPr/>
            <p:nvPr/>
          </p:nvSpPr>
          <p:spPr>
            <a:xfrm flipV="1">
              <a:off x="1600200" y="26478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3"/>
            <p:cNvSpPr/>
            <p:nvPr/>
          </p:nvSpPr>
          <p:spPr>
            <a:xfrm>
              <a:off x="1318320" y="156204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4"/>
            <p:cNvSpPr/>
            <p:nvPr/>
          </p:nvSpPr>
          <p:spPr>
            <a:xfrm>
              <a:off x="1318320" y="3190680"/>
              <a:ext cx="563760" cy="1085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</a:rPr>
                <a:t>اللقا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CA9-3957-497E-8105-E381021E452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C:\Documents and Settings\1ksu\My Documents\My Pictures\ضبط حياتك.jpg"/>
          <p:cNvPicPr/>
          <p:nvPr/>
        </p:nvPicPr>
        <p:blipFill>
          <a:blip r:embed="rId1"/>
          <a:stretch/>
        </p:blipFill>
        <p:spPr>
          <a:xfrm>
            <a:off x="4343400" y="1447920"/>
            <a:ext cx="4235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7F5B-73F8-4585-9D46-DE878FD852A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نظم الفصل </a:t>
            </a: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دعم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Suppo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8077-EE4D-455E-B78D-7573A2236AD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مفهوم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ظم تساعد الادارة في صنع القرار و تستخدم بشكل واسع لإغراض التخطيط الادا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رارات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دولة ال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ضافة او حذف خط انتا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عدلات طلب العمل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FDF8-4910-4F01-8574-0F8EE9CFE3F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جزاء نظام دعم القرار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ستخدم – اكثر من قاعدة بيانات – نظام تحاوري ( لغة التخطيط )-    نموذج مثل الانحدار الخطي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62120" y="2438280"/>
            <a:ext cx="1904760" cy="2057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480060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267080" y="327672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010280" y="304812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60199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819520" y="27432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2514600" y="37335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2743200" y="403812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2"/>
          <p:cNvSpPr/>
          <p:nvPr/>
        </p:nvSpPr>
        <p:spPr>
          <a:xfrm flipH="1" flipV="1">
            <a:off x="836640" y="3429000"/>
            <a:ext cx="1938240" cy="76320"/>
          </a:xfrm>
          <a:custGeom>
            <a:avLst/>
            <a:gdLst>
              <a:gd name="textAreaLeft" fmla="*/ 360 w 1938240"/>
              <a:gd name="textAreaRight" fmla="*/ 1938960 w 19382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fill="none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</a:path>
              <a:path stroke="0" w="23882" h="21600">
                <a:moveTo>
                  <a:pt x="-1" y="120"/>
                </a:moveTo>
                <a:cubicBezTo>
                  <a:pt x="757" y="40"/>
                  <a:pt x="1519" y="-1"/>
                  <a:pt x="2282" y="0"/>
                </a:cubicBezTo>
                <a:cubicBezTo>
                  <a:pt x="14211" y="0"/>
                  <a:pt x="23882" y="9670"/>
                  <a:pt x="23882" y="21600"/>
                </a:cubicBezTo>
                <a:lnTo>
                  <a:pt x="2282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971800" y="5181480"/>
            <a:ext cx="19051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762120" y="3878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ستخد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6212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نموذج نظام الق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609480" y="2811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قاعدة بيانات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4648320" y="349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ظام تحا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7162920" y="3429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خد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7010280" y="32767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579132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- sas-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5410080" y="41148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9E2E-5885-4612-AE34-5B7DC825336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مفهوم نظم دعم القرار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لاث 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2704-97AC-4958-8CD0-72E152A930C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خصائص نظم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علي الحاس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حل للمشاكل النمطية و غير النمطيى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ر الدعم لمتخ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 علي التعلم و التد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تاج لتطوير و التحدي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برنامج الحوار بناء نماذج جد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ضمن اسلوب للاستكشاف و المحاو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11C5-C1C9-4E14-842F-EF2F8088B19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- المزايا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ين جودة المعلوم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3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رعة الاستج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 التكل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ليل الحسا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8A9A-863B-4AFD-B116-07EC1AF95B6F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م دعم القرارات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بيان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اربعة عناص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قاعدة (البيانات)– نظام الادارة (مجموعة برامج ) – وسيلة للاستفسار (برنامج )  - دليل (قائمة عناصر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إدارة النماذ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تكون من ثلاثة اجز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و انواع النماذج – نظام ادارة– دليل نماذ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نظام الفرعي للاتص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ين المستخدم و النظام يتكون من ثلاثة عناصر عملية الحوار – نماذج الحوار – ادارة الن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عنصر البش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يتكون من المصممون و المستخدم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488-9C31-48F1-AE43-3CCD9D3556B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– اجهزة دعم القر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نظم شبكات المشاركة الزم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 الاجزاء الالية  ( الحاس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08:29Z</dcterms:created>
  <dc:creator>HOME</dc:creator>
  <dc:description/>
  <dc:language>en-US</dc:language>
  <cp:lastModifiedBy>ksu</cp:lastModifiedBy>
  <dcterms:modified xsi:type="dcterms:W3CDTF">2012-11-26T04:59:44Z</dcterms:modified>
  <cp:revision>5</cp:revision>
  <dc:subject/>
  <dc:title>نظم الفصل 9</dc:title>
</cp:coreProperties>
</file>