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A68E-3E9F-4224-90C2-673696E47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BB1D-0BFC-4816-9F1E-A62DAEBD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07E0-ACED-4CAA-AEE7-2151EA191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CB46-9919-4A86-B61E-D90D2308A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ED38-3A5F-4AC9-84A0-CF4531A38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90F0-4501-4658-ACB5-EC6CAC45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90B1-8921-4AD4-8BF0-7874758D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6B55-7BF3-453B-AFDC-BE98D9C3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7780-603F-434A-902F-E2748ECF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A773-1027-4ED0-8AD3-A8C2A9A5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AC91-B4B4-4F1B-8C4B-D403672D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B5D0-A0AC-4DAA-A3A1-3892EA63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2A8A-1C3B-4175-99C0-AC1254F9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C14C-D514-4289-A7EF-1D4E604E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1E8B-BE66-4752-A0DE-C556AA38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EC96-A1DE-431C-B9A2-008036B57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3135-EED9-4D4F-AF4D-EFC5BC14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F0F7-81FF-4EE0-8DC4-C37410AD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E0E3-A15D-4BC5-B848-E0C778D0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94D8-0F38-499D-88EC-734DC2EC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0AB1-6D70-4F8E-9352-577F0570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CCDE-59E8-4829-A033-85AB58AF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E70D-59E5-43AA-9F35-B972803B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E4C3-7664-4AB5-AFF5-6C0FF0F9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E6DF-4A51-468E-9DAE-0E94DD27E4CD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C31F-3CFD-44E3-9BD5-CD1AEEF662B1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C0C4-5B18-4B52-B949-EEBC4B1E58E2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800" spc="-1" strike="noStrike">
                <a:solidFill>
                  <a:srgbClr val="ffffff"/>
                </a:solidFill>
                <a:latin typeface="Arial"/>
              </a:rPr>
              <a:t>السلام عليكم   مرحبا مع عالم البرامج و التطبيقات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زهرة 6"/>
          <p:cNvPicPr/>
          <p:nvPr/>
        </p:nvPicPr>
        <p:blipFill>
          <a:blip r:embed="rId1"/>
          <a:stretch/>
        </p:blipFill>
        <p:spPr>
          <a:xfrm>
            <a:off x="457200" y="1371600"/>
            <a:ext cx="8153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2C72-E079-461C-84F8-CC4B56B31415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- انواع نظم دعم القرارات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نواع حسب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رجة تكرار القر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رجة اجرائية اللغ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دد المنتفعي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رجة الاستقلال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69BE-9625-4852-B611-5C6B363EDFD8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- استخدام نظم دعم القرار محاسبيا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ظام التخطيط الما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دارة محفظة الاستثما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عم قرارات التسع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ظم محاسبة التكالي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وازنة الرأسمال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حليل الانحراف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00CC-F352-4155-9ACE-17AB9BCAA925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10-1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نظام التخطيط المالي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هدف ص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كونات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هم مجالات الاستخدام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ختاما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Diagram 6"/>
          <p:cNvGrpSpPr/>
          <p:nvPr/>
        </p:nvGrpSpPr>
        <p:grpSpPr>
          <a:xfrm>
            <a:off x="586080" y="1562040"/>
            <a:ext cx="2027880" cy="3528720"/>
            <a:chOff x="586080" y="1562040"/>
            <a:chExt cx="2027880" cy="3528720"/>
          </a:xfrm>
        </p:grpSpPr>
        <p:sp>
          <p:nvSpPr>
            <p:cNvPr id="148" name="_s1028"/>
            <p:cNvSpPr/>
            <p:nvPr/>
          </p:nvSpPr>
          <p:spPr>
            <a:xfrm flipH="1">
              <a:off x="1111680" y="4003560"/>
              <a:ext cx="243000" cy="27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1029"/>
            <p:cNvSpPr/>
            <p:nvPr/>
          </p:nvSpPr>
          <p:spPr>
            <a:xfrm>
              <a:off x="586080" y="4005000"/>
              <a:ext cx="563760" cy="10857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-1" strike="noStrike">
                  <a:solidFill>
                    <a:srgbClr val="000000"/>
                  </a:solidFill>
                  <a:latin typeface="Arial"/>
                </a:rPr>
                <a:t>العزيز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030"/>
            <p:cNvSpPr/>
            <p:nvPr/>
          </p:nvSpPr>
          <p:spPr>
            <a:xfrm>
              <a:off x="1843920" y="4005000"/>
              <a:ext cx="24408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031"/>
            <p:cNvSpPr/>
            <p:nvPr/>
          </p:nvSpPr>
          <p:spPr>
            <a:xfrm>
              <a:off x="2050200" y="4003560"/>
              <a:ext cx="563760" cy="10857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-1" strike="noStrike">
                  <a:solidFill>
                    <a:srgbClr val="000000"/>
                  </a:solidFill>
                  <a:latin typeface="Arial"/>
                </a:rPr>
                <a:t>طالبتي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032"/>
            <p:cNvSpPr/>
            <p:nvPr/>
          </p:nvSpPr>
          <p:spPr>
            <a:xfrm flipV="1">
              <a:off x="1600200" y="2647800"/>
              <a:ext cx="0" cy="5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033"/>
            <p:cNvSpPr/>
            <p:nvPr/>
          </p:nvSpPr>
          <p:spPr>
            <a:xfrm>
              <a:off x="1318320" y="1562040"/>
              <a:ext cx="563760" cy="10857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-1" strike="noStrike">
                  <a:solidFill>
                    <a:srgbClr val="000000"/>
                  </a:solidFill>
                  <a:latin typeface="Arial"/>
                </a:rPr>
                <a:t>الي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034"/>
            <p:cNvSpPr/>
            <p:nvPr/>
          </p:nvSpPr>
          <p:spPr>
            <a:xfrm>
              <a:off x="1318320" y="3190680"/>
              <a:ext cx="563760" cy="10857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-1" strike="noStrike">
                  <a:solidFill>
                    <a:srgbClr val="000000"/>
                  </a:solidFill>
                  <a:latin typeface="Arial"/>
                </a:rPr>
                <a:t>اللقا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C11A-762A-4021-9B0D-55C786B37981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6" descr="C:\Documents and Settings\1ksu\My Documents\My Pictures\ضبط حياتك.jpg"/>
          <p:cNvPicPr/>
          <p:nvPr/>
        </p:nvPicPr>
        <p:blipFill>
          <a:blip r:embed="rId1"/>
          <a:stretch/>
        </p:blipFill>
        <p:spPr>
          <a:xfrm>
            <a:off x="4343400" y="1447920"/>
            <a:ext cx="4235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DAD3-E0C3-41F6-B2B3-F27F37CCEA6C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ffffff"/>
                </a:solidFill>
                <a:latin typeface="Arial"/>
              </a:rPr>
              <a:t>نظم الفصل </a:t>
            </a:r>
            <a:r>
              <a:rPr b="0" lang="ar-SA" sz="4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ظم دعم القر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 Suppor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4204-CCBF-4B40-B1B4-DBAEF06B4D98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مفهوم نظم دعم القرار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ظم تساعد الادارة في صنع القرار و تستخدم بشكل واسع لإغراض التخطيط الادار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قرارات مثل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جدولة الانتاج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ضافة او حذف خط انتاج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نبؤ بمعدلات طلب العملا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3435-87B1-433B-A8FF-834E00D8F223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اجزاء نظام دعم القرار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ستخدم – اكثر من قاعدة بيانات – نظام تحاوري ( لغة التخطيط )-    نموذج مثل الانحدار الخطي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762120" y="2438280"/>
            <a:ext cx="1904760" cy="20574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1066680" y="4800600"/>
            <a:ext cx="1600200" cy="10666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4267080" y="3276720"/>
            <a:ext cx="152424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7"/>
          <p:cNvSpPr/>
          <p:nvPr/>
        </p:nvSpPr>
        <p:spPr>
          <a:xfrm>
            <a:off x="7010280" y="304812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 flipH="1">
            <a:off x="6019920" y="3505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2819520" y="2743200"/>
            <a:ext cx="137160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0"/>
          <p:cNvSpPr/>
          <p:nvPr/>
        </p:nvSpPr>
        <p:spPr>
          <a:xfrm flipV="1">
            <a:off x="2514600" y="3733560"/>
            <a:ext cx="1600200" cy="75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1"/>
          <p:cNvSpPr/>
          <p:nvPr/>
        </p:nvSpPr>
        <p:spPr>
          <a:xfrm flipV="1">
            <a:off x="2743200" y="4038120"/>
            <a:ext cx="1295280" cy="121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rc 12"/>
          <p:cNvSpPr/>
          <p:nvPr/>
        </p:nvSpPr>
        <p:spPr>
          <a:xfrm flipH="1" flipV="1">
            <a:off x="836640" y="3429000"/>
            <a:ext cx="1938240" cy="76320"/>
          </a:xfrm>
          <a:custGeom>
            <a:avLst/>
            <a:gdLst>
              <a:gd name="textAreaLeft" fmla="*/ 360 w 1938240"/>
              <a:gd name="textAreaRight" fmla="*/ 1938960 w 1938240"/>
              <a:gd name="textAreaTop" fmla="*/ 0 h 76320"/>
              <a:gd name="textAreaBottom" fmla="*/ 76320 h 76320"/>
            </a:gdLst>
            <a:ahLst/>
            <a:rect l="textAreaLeft" t="textAreaTop" r="textAreaRight" b="textAreaBottom"/>
            <a:pathLst>
              <a:path fill="none" w="23882" h="21600">
                <a:moveTo>
                  <a:pt x="-1" y="120"/>
                </a:moveTo>
                <a:cubicBezTo>
                  <a:pt x="757" y="40"/>
                  <a:pt x="1519" y="-1"/>
                  <a:pt x="2282" y="0"/>
                </a:cubicBezTo>
                <a:cubicBezTo>
                  <a:pt x="14211" y="0"/>
                  <a:pt x="23882" y="9670"/>
                  <a:pt x="23882" y="21600"/>
                </a:cubicBezTo>
              </a:path>
              <a:path stroke="0" w="23882" h="21600">
                <a:moveTo>
                  <a:pt x="-1" y="120"/>
                </a:moveTo>
                <a:cubicBezTo>
                  <a:pt x="757" y="40"/>
                  <a:pt x="1519" y="-1"/>
                  <a:pt x="2282" y="0"/>
                </a:cubicBezTo>
                <a:cubicBezTo>
                  <a:pt x="14211" y="0"/>
                  <a:pt x="23882" y="9670"/>
                  <a:pt x="23882" y="21600"/>
                </a:cubicBezTo>
                <a:lnTo>
                  <a:pt x="2282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971800" y="5181480"/>
            <a:ext cx="190512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قاعدة نموذ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762120" y="387828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قاعدة بيانات المستخد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762120" y="5410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قاعدة نموذج نظام القرا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0"/>
          <p:cNvSpPr/>
          <p:nvPr/>
        </p:nvSpPr>
        <p:spPr>
          <a:xfrm>
            <a:off x="609480" y="28116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قاعدة بيانات المنظم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4"/>
          <p:cNvSpPr/>
          <p:nvPr/>
        </p:nvSpPr>
        <p:spPr>
          <a:xfrm>
            <a:off x="4648320" y="34974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نظام تحاو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5"/>
          <p:cNvSpPr/>
          <p:nvPr/>
        </p:nvSpPr>
        <p:spPr>
          <a:xfrm>
            <a:off x="7162920" y="3429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مستخد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8"/>
          <p:cNvSpPr/>
          <p:nvPr/>
        </p:nvSpPr>
        <p:spPr>
          <a:xfrm>
            <a:off x="7010280" y="3276720"/>
            <a:ext cx="99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9"/>
          <p:cNvSpPr/>
          <p:nvPr/>
        </p:nvSpPr>
        <p:spPr>
          <a:xfrm>
            <a:off x="5791320" y="4343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ss- sas- 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0"/>
          <p:cNvSpPr/>
          <p:nvPr/>
        </p:nvSpPr>
        <p:spPr>
          <a:xfrm>
            <a:off x="5410080" y="411480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EC57-D0DE-4A63-B7BA-D105FCB8A507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- مفهوم نظم دعم القرارات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ثلاث مفاهي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ص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2BBE-FBF4-4B5B-BBD0-9D8B236C5CE3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- خصائص نظم دعم القرار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تمد علي الحاسب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وفر حل للمشاكل النمطية و غير النمطيى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وفر الدعم لمتخذ القر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ساعد علي التعلم و التدري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حتاج لتطوير و التحدي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ن طريق برنامج الحوار بناء نماذج جدي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تضمن اسلوب للاستكشاف و المحاو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BB6F-CB63-4B47-BF8D-604A50D657C4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- المزايا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حسين جودة المعلومات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3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سرعة الاستجاب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وفير الوقت و التكلف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حليل الحساس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0F66-9EFA-41F7-99EE-C88EBD125AF2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- مكونات نظم دعم القرارات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النظام الفرعي لإدارة البيانا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يتكون من اربعة عناص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قاعدة (البيانات)– نظام الادارة (مجموعة برامج ) – وسيلة للاستفسار (برنامج )  - دليل (قائمة عناصر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النظام الفرعي لإدارة النماذج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يتكون من ثلاثة اجز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قاعدة و انواع النماذج – نظام ادارة– دليل نماذ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النظام الفرعي للاتصال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بين المستخدم و النظام يتكون من ثلاثة عناصر عملية الحوار – نماذج الحوار – ادارة النظا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العنصر البشري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يتكون من المصممون و المستخدمو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09D6-E5C2-4B57-9913-524507EA70E8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– اجهزة دعم القرار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نظم شبكات المشاركة الزمن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 الاجزاء الالية  ( الحاسبات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18:08:29Z</dcterms:created>
  <dc:creator>HOME</dc:creator>
  <dc:description/>
  <dc:language>en-US</dc:language>
  <cp:lastModifiedBy>ksu</cp:lastModifiedBy>
  <dcterms:modified xsi:type="dcterms:W3CDTF">2012-11-26T04:59:44Z</dcterms:modified>
  <cp:revision>5</cp:revision>
  <dc:subject/>
  <dc:title>نظم الفصل 9</dc:title>
</cp:coreProperties>
</file>