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7B8D-9F04-4626-A82B-3E69DBC0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15EB-3705-42B7-8836-9BCD0B6B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532D-1DC6-423F-8387-E0C9D1094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7BFC-2053-4B1A-A3E6-676DFACE0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41BE-1F17-4F4B-8DD6-3F61B05A4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0918-5301-473D-8CBB-87938741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5265-08B7-4E07-8A41-F278B8B8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8B71-BA5B-4584-8C93-4873A07F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CA33-BD8E-4573-825A-CF1540B2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4B88-68B5-46FE-9EDA-EC0BAEBA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9CAB-0044-426D-B2ED-9B43B41D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FBC5-D15E-45B8-A713-F545A2B4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39EE-EEC4-4FBB-8979-55CD57A3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2F4C-6793-4A1A-A02E-F2848618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5E1B-7723-4322-A976-D70C8D1A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15CC-7B85-4CEB-AE19-2078EA504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7ACB-A4A9-4221-8F4E-D0F5EB8AD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BB1C-8141-4AD5-A74F-DAC264C6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3FA8-4D3F-4668-80E5-C768B929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41C7-1F43-4728-B22F-A461D3FF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F5C1-60B5-4374-8B52-E8B73670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3254-8383-42DC-B2F1-08E0BD08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F5D5-68E2-4115-A0DE-49F9BCA5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01D2-0D20-4FB4-B801-5F8F39E6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8B84-640A-480A-95B9-F14B054CACDD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4AD6-B184-48B5-B6EF-81BE9D6EB70C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51FE-50E4-4639-A5A2-30E2A9421935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800" spc="-1" strike="noStrike">
                <a:solidFill>
                  <a:srgbClr val="ffffff"/>
                </a:solidFill>
                <a:latin typeface="Arial"/>
              </a:rPr>
              <a:t>السلام عليكم   مرحبا مع عالم البرامج و التطبيقات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زهرة 6"/>
          <p:cNvPicPr/>
          <p:nvPr/>
        </p:nvPicPr>
        <p:blipFill>
          <a:blip r:embed="rId1"/>
          <a:stretch/>
        </p:blipFill>
        <p:spPr>
          <a:xfrm>
            <a:off x="457200" y="1371600"/>
            <a:ext cx="8153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3D66-1908-4982-832A-C64FC4DB908D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- انواع نظم دعم القرارات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نواع حسب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رجة تكرار القر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رجة اجرائية اللغ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دد المنتفعي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رجة الاستقلال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4FDE-819D-45BA-967D-2A979426CA59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- استخدام نظم دعم القرار محاسبيا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ظام التخطيط الما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دارة محفظة الاستثما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عم قرارات التسع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ظم محاسبة التكالي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وازنة الرأسمال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حليل الانحراف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DDB5-FDE2-400A-882A-A40F72EE82F4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10-1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نظام التخطيط المالي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هدف ص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كونات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هم مجالات الاستخدام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ختاما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Diagram 6"/>
          <p:cNvGrpSpPr/>
          <p:nvPr/>
        </p:nvGrpSpPr>
        <p:grpSpPr>
          <a:xfrm>
            <a:off x="586080" y="1562040"/>
            <a:ext cx="2027880" cy="3528720"/>
            <a:chOff x="586080" y="1562040"/>
            <a:chExt cx="2027880" cy="3528720"/>
          </a:xfrm>
        </p:grpSpPr>
        <p:sp>
          <p:nvSpPr>
            <p:cNvPr id="148" name="_s1028"/>
            <p:cNvSpPr/>
            <p:nvPr/>
          </p:nvSpPr>
          <p:spPr>
            <a:xfrm flipH="1">
              <a:off x="1111680" y="4003560"/>
              <a:ext cx="243000" cy="27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1029"/>
            <p:cNvSpPr/>
            <p:nvPr/>
          </p:nvSpPr>
          <p:spPr>
            <a:xfrm>
              <a:off x="586080" y="4005000"/>
              <a:ext cx="563760" cy="10857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-1" strike="noStrike">
                  <a:solidFill>
                    <a:srgbClr val="000000"/>
                  </a:solidFill>
                  <a:latin typeface="Arial"/>
                </a:rPr>
                <a:t>العزيز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030"/>
            <p:cNvSpPr/>
            <p:nvPr/>
          </p:nvSpPr>
          <p:spPr>
            <a:xfrm>
              <a:off x="1843920" y="4005000"/>
              <a:ext cx="24408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031"/>
            <p:cNvSpPr/>
            <p:nvPr/>
          </p:nvSpPr>
          <p:spPr>
            <a:xfrm>
              <a:off x="2050200" y="4003560"/>
              <a:ext cx="563760" cy="10857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-1" strike="noStrike">
                  <a:solidFill>
                    <a:srgbClr val="000000"/>
                  </a:solidFill>
                  <a:latin typeface="Arial"/>
                </a:rPr>
                <a:t>طالبتي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032"/>
            <p:cNvSpPr/>
            <p:nvPr/>
          </p:nvSpPr>
          <p:spPr>
            <a:xfrm flipV="1">
              <a:off x="1600200" y="2647800"/>
              <a:ext cx="0" cy="5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033"/>
            <p:cNvSpPr/>
            <p:nvPr/>
          </p:nvSpPr>
          <p:spPr>
            <a:xfrm>
              <a:off x="1318320" y="1562040"/>
              <a:ext cx="563760" cy="10857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-1" strike="noStrike">
                  <a:solidFill>
                    <a:srgbClr val="000000"/>
                  </a:solidFill>
                  <a:latin typeface="Arial"/>
                </a:rPr>
                <a:t>الي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034"/>
            <p:cNvSpPr/>
            <p:nvPr/>
          </p:nvSpPr>
          <p:spPr>
            <a:xfrm>
              <a:off x="1318320" y="3190680"/>
              <a:ext cx="563760" cy="10857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-1" strike="noStrike">
                  <a:solidFill>
                    <a:srgbClr val="000000"/>
                  </a:solidFill>
                  <a:latin typeface="Arial"/>
                </a:rPr>
                <a:t>اللقا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CD6C-C134-48EC-BB1B-56C9D3EC7A61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6" descr="C:\Documents and Settings\1ksu\My Documents\My Pictures\ضبط حياتك.jpg"/>
          <p:cNvPicPr/>
          <p:nvPr/>
        </p:nvPicPr>
        <p:blipFill>
          <a:blip r:embed="rId1"/>
          <a:stretch/>
        </p:blipFill>
        <p:spPr>
          <a:xfrm>
            <a:off x="4343400" y="1447920"/>
            <a:ext cx="4235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D975-9EC7-4634-A06F-01B63E8CC7AD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ffffff"/>
                </a:solidFill>
                <a:latin typeface="Arial"/>
              </a:rPr>
              <a:t>نظم الفصل </a:t>
            </a:r>
            <a:r>
              <a:rPr b="0" lang="ar-SA" sz="4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ظم دعم القر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 Suppor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1BB0-DFAA-46B1-AD33-DA178BFAD35B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مفهوم نظم دعم القرار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ظم تساعد الادارة في صنع القرار و تستخدم بشكل واسع لإغراض التخطيط الادار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قرارات مثل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جدولة الانتاج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ضافة او حذف خط انتاج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نبؤ بمعدلات طلب العملا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AAF0-16B6-4A7E-B50B-6FA9BF3A3D63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اجزاء نظام دعم القرار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ستخدم – اكثر من قاعدة بيانات – نظام تحاوري ( لغة التخطيط )-    نموذج مثل الانحدار الخطي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762120" y="2438280"/>
            <a:ext cx="1904760" cy="20574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1066680" y="4800600"/>
            <a:ext cx="1600200" cy="10666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4267080" y="3276720"/>
            <a:ext cx="152424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7"/>
          <p:cNvSpPr/>
          <p:nvPr/>
        </p:nvSpPr>
        <p:spPr>
          <a:xfrm>
            <a:off x="7010280" y="304812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 flipH="1">
            <a:off x="6019920" y="3505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2819520" y="2743200"/>
            <a:ext cx="137160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0"/>
          <p:cNvSpPr/>
          <p:nvPr/>
        </p:nvSpPr>
        <p:spPr>
          <a:xfrm flipV="1">
            <a:off x="2514600" y="3733560"/>
            <a:ext cx="1600200" cy="75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1"/>
          <p:cNvSpPr/>
          <p:nvPr/>
        </p:nvSpPr>
        <p:spPr>
          <a:xfrm flipV="1">
            <a:off x="2743200" y="4038120"/>
            <a:ext cx="1295280" cy="121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rc 12"/>
          <p:cNvSpPr/>
          <p:nvPr/>
        </p:nvSpPr>
        <p:spPr>
          <a:xfrm flipH="1" flipV="1">
            <a:off x="836640" y="3429000"/>
            <a:ext cx="1938240" cy="76320"/>
          </a:xfrm>
          <a:custGeom>
            <a:avLst/>
            <a:gdLst>
              <a:gd name="textAreaLeft" fmla="*/ 360 w 1938240"/>
              <a:gd name="textAreaRight" fmla="*/ 1938960 w 1938240"/>
              <a:gd name="textAreaTop" fmla="*/ 0 h 76320"/>
              <a:gd name="textAreaBottom" fmla="*/ 76320 h 76320"/>
            </a:gdLst>
            <a:ahLst/>
            <a:rect l="textAreaLeft" t="textAreaTop" r="textAreaRight" b="textAreaBottom"/>
            <a:pathLst>
              <a:path fill="none" w="23882" h="21600">
                <a:moveTo>
                  <a:pt x="-1" y="120"/>
                </a:moveTo>
                <a:cubicBezTo>
                  <a:pt x="757" y="40"/>
                  <a:pt x="1519" y="-1"/>
                  <a:pt x="2282" y="0"/>
                </a:cubicBezTo>
                <a:cubicBezTo>
                  <a:pt x="14211" y="0"/>
                  <a:pt x="23882" y="9670"/>
                  <a:pt x="23882" y="21600"/>
                </a:cubicBezTo>
              </a:path>
              <a:path stroke="0" w="23882" h="21600">
                <a:moveTo>
                  <a:pt x="-1" y="120"/>
                </a:moveTo>
                <a:cubicBezTo>
                  <a:pt x="757" y="40"/>
                  <a:pt x="1519" y="-1"/>
                  <a:pt x="2282" y="0"/>
                </a:cubicBezTo>
                <a:cubicBezTo>
                  <a:pt x="14211" y="0"/>
                  <a:pt x="23882" y="9670"/>
                  <a:pt x="23882" y="21600"/>
                </a:cubicBezTo>
                <a:lnTo>
                  <a:pt x="2282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971800" y="5181480"/>
            <a:ext cx="190512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قاعدة نموذ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762120" y="387828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قاعدة بيانات المستخد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762120" y="5410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قاعدة نموذج نظام القرا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0"/>
          <p:cNvSpPr/>
          <p:nvPr/>
        </p:nvSpPr>
        <p:spPr>
          <a:xfrm>
            <a:off x="609480" y="28116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قاعدة بيانات المنظم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4"/>
          <p:cNvSpPr/>
          <p:nvPr/>
        </p:nvSpPr>
        <p:spPr>
          <a:xfrm>
            <a:off x="4648320" y="34974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نظام تحاو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5"/>
          <p:cNvSpPr/>
          <p:nvPr/>
        </p:nvSpPr>
        <p:spPr>
          <a:xfrm>
            <a:off x="7162920" y="3429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مستخد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8"/>
          <p:cNvSpPr/>
          <p:nvPr/>
        </p:nvSpPr>
        <p:spPr>
          <a:xfrm>
            <a:off x="7010280" y="3276720"/>
            <a:ext cx="99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9"/>
          <p:cNvSpPr/>
          <p:nvPr/>
        </p:nvSpPr>
        <p:spPr>
          <a:xfrm>
            <a:off x="5791320" y="4343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ss- sas- 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0"/>
          <p:cNvSpPr/>
          <p:nvPr/>
        </p:nvSpPr>
        <p:spPr>
          <a:xfrm>
            <a:off x="5410080" y="411480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7034-8E57-4E7D-8CEE-ED38656DB821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- مفهوم نظم دعم القرارات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ثلاث مفاهي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ص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BEEB-9A10-4C76-9D82-4336B22DA20A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- خصائص نظم دعم القرار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تمد علي الحاسب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وفر حل للمشاكل النمطية و غير النمطيى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وفر الدعم لمتخذ القر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ساعد علي التعلم و التدري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حتاج لتطوير و التحدي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ن طريق برنامج الحوار بناء نماذج جدي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تضمن اسلوب للاستكشاف و المحاو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232A-E041-420A-8AED-10C3F5793A20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- المزايا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حسين جودة المعلومات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3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سرعة الاستجاب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وفير الوقت و التكلف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حليل الحساس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963B-E95F-41C8-9105-EC5C05A4D86F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- مكونات نظم دعم القرارات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النظام الفرعي لإدارة البيانا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يتكون من اربعة عناص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قاعدة (البيانات)– نظام الادارة (مجموعة برامج ) – وسيلة للاستفسار (برنامج )  - دليل (قائمة عناصر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النظام الفرعي لإدارة النماذج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يتكون من ثلاثة اجز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قاعدة و انواع النماذج – نظام ادارة– دليل نماذ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النظام الفرعي للاتصال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بين المستخدم و النظام يتكون من ثلاثة عناصر عملية الحوار – نماذج الحوار – ادارة النظا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العنصر البشري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يتكون من المصممون و المستخدمو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FCB3-6491-43E4-A04E-69979626C970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– اجهزة دعم القرار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نظم شبكات المشاركة الزمن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 الاجزاء الالية  ( الحاسبات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18:08:29Z</dcterms:created>
  <dc:creator>HOME</dc:creator>
  <dc:description/>
  <dc:language>en-US</dc:language>
  <cp:lastModifiedBy>ksu</cp:lastModifiedBy>
  <dcterms:modified xsi:type="dcterms:W3CDTF">2012-11-26T04:59:44Z</dcterms:modified>
  <cp:revision>5</cp:revision>
  <dc:subject/>
  <dc:title>نظم الفصل 9</dc:title>
</cp:coreProperties>
</file>