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9934-8BA9-4D98-8CDE-7CAB63F21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4BC4-F168-4E15-AFA7-66D792CC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BF02-37EF-4089-8FDF-3C6B9607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4DCA-3F23-4ABA-AE08-BAD182B9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4E2D-91E6-462C-A6E7-D48C788B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9ED1-817B-4FB3-9B90-FAEBB9BD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EE3A-2CA9-4E35-9EFB-770B1384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13AB-0096-4FD7-A9D9-568B9FFE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CC2B-BD6F-4080-B475-26DEB06C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5F5D-4CE6-44DA-8935-FE79509B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CBD7-2522-4B34-85C3-7552716F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7E5A-6356-4E84-A7CD-893F6A58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9044-788F-44F2-8B4A-0FC3BB18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562A-1699-4CA0-9724-BEDBCC85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7A6E-7938-4189-8CCA-03D66C92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513B-E379-4116-99FE-F7CDE4CD9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CB2A-15D4-430C-BE84-B10F4CD5F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53139-6D61-4FF7-BA42-94FB20A3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7330D-4105-451B-9797-79BEA1C9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DFCFC-B9BF-49F2-AB43-C7E9AE0F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5905E-B6D2-4C19-A169-3D16D1DB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D07C0-098C-4A70-ACF7-3818CE54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D4F8-B3F2-4C36-9695-46E4D3B6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7FFF0-DAF1-4E9F-B5A9-11927823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746D4-2D0B-4B10-B20A-D7441317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15FEC-1448-4C44-A108-C8A3A8A9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E9D8A-C967-4C2C-9842-8332FDA8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546CE-76AA-4EFA-AC95-B9E22376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16D3B-64D9-49B7-87AF-511F0772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8D7FD-44DD-43B0-9E0E-1D07F83F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3812E-93C6-4306-B436-4B8ED4034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35D4E-0D8D-46D8-89BA-87F7D304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B6FB9-BF58-41C7-A6A0-4786F1A7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99D7-7D77-4AA2-9B5E-48C14E98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6A848-BF3C-4D92-829C-0E6AB4DC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FC6FF-E2CD-46BD-A6F4-30798C8F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A37AE-CCB0-461E-BB4B-530CBE11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9E3E1-FCFF-43AF-B3A1-93411FF1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2A9EE-068D-4D32-B59D-6DA1862A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17315-1223-46E0-89BB-89092487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74C61-F07D-4292-BADE-2723A296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62912-F078-4AC3-AA7A-8720F2FB9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A4514-6088-4389-AE1F-263F4F6F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6018-11E3-4142-9EEA-2D66DF94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C658-8D95-4209-A306-9B0CA7CE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C0D1-27F3-4C84-9EA1-972321CE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DAB9-B156-482B-A473-A9B48D5E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77EC-9A60-473E-A031-A9E32A1F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18DA-313D-4A1E-8EC2-EB8C29EEFB6D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BF10-36CB-4568-9001-68F142905469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5A9E-F606-4729-B56C-C2C9B70C6A0D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E5FF-0396-4AEB-82DC-E9A63A36B681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268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مخاطر القرض العقاري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معايير الاقراض تشمل سلامة القرض و ربحيته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سلامة القرض تعتمد اعتماد كبير على السيوله و قابليه الاستعاد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هنا يبرز مفهوم المخاطرة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المخاطره: درجه تعرض استرداد القروض و الفوائد المكتسبة فيها للتقلبات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القرض العقاري غالبا هو قرض طويل الاجل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انوع المخاطر</a:t>
            </a: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خسائر ناشئه عن التقلبات العشوائيه من القروض الممنوحة (عوامل لا يمكن التبوء بها) تحصل بأي ضروف اقتصادي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r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كوراث عائليه – طلاق , موت,مرض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r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فقدان الوظيف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r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فقدان العقار لقيمته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الخسائر الناتجة عن عدم التحليل السليم للجدارة الائتماني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تعتمد على احتمال وجود ظروف غير مواتية للمقترض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هي مسؤولية متطلبات و معايير الجوده لدى المصرف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3.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الخسائر الناشئة عن تغيير الظروف الاقتصادية العامة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تشمل جميع القطاعات و تنعكس على الدخل ,الاسعار ,قيمة العقار,الفوائد و تكاليف البناء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04617b"/>
                </a:solidFill>
                <a:latin typeface="Calibri"/>
              </a:rPr>
              <a:t>تكاليف الديون العقارية المتعثرة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 algn="r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تكاليف تحصيل الديون المتعثرة وصولا لمرحلة حجز العقار المرهون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تكاليف تصفية العقار</a:t>
            </a: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تكاليف بيع العقار</a:t>
            </a: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فقدان الفؤائد الدوري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Title 1" descr=""/>
          <p:cNvPicPr/>
          <p:nvPr/>
        </p:nvPicPr>
        <p:blipFill>
          <a:blip r:embed="rId1"/>
          <a:stretch/>
        </p:blipFill>
        <p:spPr>
          <a:xfrm>
            <a:off x="682560" y="328680"/>
            <a:ext cx="8223480" cy="14396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10920" y="1916280"/>
            <a:ext cx="7993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600" spc="-1" strike="noStrike">
                <a:solidFill>
                  <a:srgbClr val="ffffff"/>
                </a:solidFill>
                <a:latin typeface="Constantia"/>
              </a:rPr>
              <a:t>تبوب الى ثلاث مجموعات</a:t>
            </a:r>
            <a:r>
              <a:rPr b="0" lang="ar-JO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600" spc="-1" strike="noStrike">
                <a:solidFill>
                  <a:srgbClr val="ffffff"/>
                </a:solidFill>
                <a:latin typeface="Constantia"/>
              </a:rPr>
              <a:t>خصاص القرض</a:t>
            </a:r>
            <a:r>
              <a:rPr b="0" lang="ar-JO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600" spc="-1" strike="noStrike">
                <a:solidFill>
                  <a:srgbClr val="ffffff"/>
                </a:solidFill>
                <a:latin typeface="Constantia"/>
              </a:rPr>
              <a:t>اجل القرض والمتبقي منة و توقيت منحة</a:t>
            </a:r>
            <a:r>
              <a:rPr b="0" lang="ar-JO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600" spc="-1" strike="noStrike">
                <a:solidFill>
                  <a:srgbClr val="ffffff"/>
                </a:solidFill>
                <a:latin typeface="Constantia"/>
              </a:rPr>
              <a:t>شروط القرض ,--- شروط التقسيط, نسبة القرض الى قيمة الضمان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600" spc="-1" strike="noStrike">
                <a:solidFill>
                  <a:srgbClr val="ffffff"/>
                </a:solidFill>
                <a:latin typeface="Constantia"/>
              </a:rPr>
              <a:t>سعر الفائدة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600" spc="-1" strike="noStrike">
                <a:solidFill>
                  <a:srgbClr val="ffffff"/>
                </a:solidFill>
                <a:latin typeface="Constantia"/>
              </a:rPr>
              <a:t>نوع القرض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04617b"/>
                </a:solidFill>
                <a:latin typeface="Calibri"/>
              </a:rPr>
              <a:t>العوامل المؤثره في مخاطر المقترض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خصائص المقترض</a:t>
            </a: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الملكية و اشغال العقار</a:t>
            </a: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دخل الفترض ---- نسبة الايراد الى المصروفات, الوظيفة,الالتزامات العائليه الاخرى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الصعوبات العائلية</a:t>
            </a: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تبدل ملكية العقار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04617b"/>
                </a:solidFill>
                <a:latin typeface="Calibri"/>
              </a:rPr>
              <a:t>العوامل المؤثره في مخاطر المقترض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3. </a:t>
            </a: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خصائص العقار</a:t>
            </a: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النو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السعر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التصمي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العمر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الموق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1:29:37Z</dcterms:created>
  <dc:creator>Administrator</dc:creator>
  <dc:description/>
  <dc:language>en-US</dc:language>
  <cp:lastModifiedBy>Administrator</cp:lastModifiedBy>
  <dcterms:modified xsi:type="dcterms:W3CDTF">2010-11-27T12:04:22Z</dcterms:modified>
  <cp:revision>7</cp:revision>
  <dc:subject/>
  <dc:title>مخاطر البنك العقاري </dc:title>
</cp:coreProperties>
</file>