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D911-FDE1-4149-8FB4-7A5AB2FA5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85CA-93E1-4E56-B2D1-04671A19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74B9-1EEF-4B4D-BDD5-A026471A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3C8E-A945-4753-A244-4E788723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D1E6-7AB0-4C9F-9AE7-C7E0EF38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D6D4-048F-4C18-AD5F-5E8EFB55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34D8-1502-47A0-9A92-5382565B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0F68-013C-49FE-9577-50FE4085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D825-C243-4A6D-BBF6-77324478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9A01-5522-481D-BBA1-76EE3195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C8B6-01A6-42F0-9438-673BAE8F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2E58-BFDB-47ED-8225-DEF8F6C0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8025B-5257-4314-B3E2-A828B332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2116-1541-4395-B32F-BD792406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BF1C-B322-4276-92D4-53B8783F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21CD1-0CB7-4893-BFFD-24AE5DC7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8E2C-C828-4447-9D38-4E27CF395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3EE88-565E-4459-9807-2E001E016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3F183-4F5F-45D4-9E98-CB2BA2C1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03ECB-D863-45F8-BA02-DAFBCF9B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7DE38-21E2-4965-B655-4E129856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8918E-C205-4982-BDA1-53DBE91A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8D64-922A-4BA4-B23E-EDC76CEE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DC4A4-BB22-42C1-B890-C5713DE8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A706B-0745-4FFF-9574-50190DD9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CE171-6EA1-4BE7-958E-8664ADE8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3CC8B-0A88-4CDF-883E-8387C10E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E929C-48F3-4A01-9443-2F57327D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D160D-1250-473D-A033-3CD187B3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3675A-E860-4FDC-B012-B438606B5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60D74-C5A4-4E72-A05F-45120E70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EE42F-7656-4314-AFD4-174AA5B0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A7027-6ACF-4E98-A220-D84F6FA9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D79E-20A2-4F50-B1F9-46BF1CBA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E8150-8619-4B78-98CF-8CA8370C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3B48E-9A5B-4E54-8A1A-080538F7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B0EE1-5F29-479F-B115-9E103FFC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FEC6C-413E-4C77-BB97-DBB20858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645F0-6CD1-4926-BBFC-E85B0C06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902BB-8E0C-4E15-B03A-C7597575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892CB-EDFA-4FE6-8E22-FB496654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FBFA8-EA67-4364-9D66-C653C53F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0D576-29FF-4953-B072-ED8A4A00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D0C-DDEB-4DB7-BB66-44B88755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9A9F-76F1-41C4-B0E5-FF1A2918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0BD7-1080-4D80-BF95-03DC0F4D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58E8-787E-4045-B35E-E02E8154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26E-F549-45F7-AB95-41902F68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C4CF-BB63-4488-85C7-FB5C279BCB74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60BA-010E-4FBD-BC7D-2F72251D88FA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CC8F-6B54-47F3-B88C-F89490824950}" type="slidenum">
              <a:rPr b="0" lang="ar-SA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D8A9-A7B3-4CD4-B671-F5FFF61D2DB3}" type="slidenum">
              <a:rPr b="0" lang="ar-SA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268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مخاطر القرض العقاري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معايير الاقراض تشمل سلامة القرض و ربحيت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سلامة القرض تعتمد اعتماد كبير على السيوله و قابليه الاستعاد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هنا يبرز مفهوم المخاطرة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مخاطره: درجه تعرض استرداد القروض و الفوائد المكتسبة فيها للتقلبات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قرض العقاري غالبا هو قرض طويل الاجل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انوع المخاطر</a:t>
            </a:r>
            <a:r>
              <a:rPr b="0" lang="ar-SA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خسائر ناشئه عن التقلبات العشوائيه من القروض الممنوحة (عوامل لا يمكن التبوء بها) تحصل بأي ضروف اقتصادي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كوراث عائليه – طلاق , موت,مرض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فقدان الوظيف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فقدان العقار لقيمته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خسائر الناتجة عن عدم التحليل السليم للجدارة الائتماني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تعتمد على احتمال وجود ظروف غير مواتية للمقترض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هي مسؤولية متطلبات و معايير الجوده لدى المصر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الخسائر الناشئة عن تغيير الظروف الاقتصادية العامة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تشمل جميع القطاعات و تنعكس على الدخل ,الاسعار ,قيمة العقار,الفوائد و تكاليف البناء</a:t>
            </a:r>
            <a:r>
              <a:rPr b="0" lang="ar-S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04617b"/>
                </a:solidFill>
                <a:latin typeface="Calibri"/>
              </a:rPr>
              <a:t>تكاليف الديون العقارية المتعثرة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تكاليف تحصيل الديون المتعثرة وصولا لمرحلة حجز العقار المرهون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تكاليف تصفية العقار</a:t>
            </a: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تكاليف بيع العقار</a:t>
            </a: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فقدان الفؤائد الدوري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Title 1" descr=""/>
          <p:cNvPicPr/>
          <p:nvPr/>
        </p:nvPicPr>
        <p:blipFill>
          <a:blip r:embed="rId1"/>
          <a:stretch/>
        </p:blipFill>
        <p:spPr>
          <a:xfrm>
            <a:off x="682560" y="328680"/>
            <a:ext cx="8223480" cy="14396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10920" y="1916280"/>
            <a:ext cx="7993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ffffff"/>
                </a:solidFill>
                <a:latin typeface="Constantia"/>
              </a:rPr>
              <a:t>تبوب الى ثلاث مجموعات</a:t>
            </a:r>
            <a:r>
              <a:rPr b="0" lang="ar-JO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ffffff"/>
                </a:solidFill>
                <a:latin typeface="Constantia"/>
              </a:rPr>
              <a:t>خصاص القرض</a:t>
            </a:r>
            <a:r>
              <a:rPr b="0" lang="ar-JO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ffffff"/>
                </a:solidFill>
                <a:latin typeface="Constantia"/>
              </a:rPr>
              <a:t>اجل القرض والمتبقي منة و توقيت منحة</a:t>
            </a:r>
            <a:r>
              <a:rPr b="0" lang="ar-JO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ffffff"/>
                </a:solidFill>
                <a:latin typeface="Constantia"/>
              </a:rPr>
              <a:t>شروط القرض ,--- شروط التقسيط, نسبة القرض الى قيمة الضمان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ffffff"/>
                </a:solidFill>
                <a:latin typeface="Constantia"/>
              </a:rPr>
              <a:t>سعر الفائدة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ffffff"/>
                </a:solidFill>
                <a:latin typeface="Constantia"/>
              </a:rPr>
              <a:t>نوع القرض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04617b"/>
                </a:solidFill>
                <a:latin typeface="Calibri"/>
              </a:rPr>
              <a:t>العوامل المؤثره في مخاطر المقترض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خصائص المقترض</a:t>
            </a: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الملكية و اشغال العقار</a:t>
            </a: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دخل الفترض ---- نسبة الايراد الى المصروفات, الوظيفة,الالتزامات العائليه الاخرى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الصعوبات العائلية</a:t>
            </a: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تبدل ملكية العقا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5000" spc="-1" strike="noStrike">
                <a:solidFill>
                  <a:srgbClr val="04617b"/>
                </a:solidFill>
                <a:latin typeface="Calibri"/>
              </a:rPr>
              <a:t>العوامل المؤثره في مخاطر المقترض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خصائص العقار</a:t>
            </a: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النو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السع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التصمي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العمر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600" spc="-1" strike="noStrike">
                <a:solidFill>
                  <a:srgbClr val="000000"/>
                </a:solidFill>
                <a:latin typeface="Constantia"/>
              </a:rPr>
              <a:t>الموق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1:29:37Z</dcterms:created>
  <dc:creator>Administrator</dc:creator>
  <dc:description/>
  <dc:language>en-US</dc:language>
  <cp:lastModifiedBy>Administrator</cp:lastModifiedBy>
  <dcterms:modified xsi:type="dcterms:W3CDTF">2010-11-27T12:04:22Z</dcterms:modified>
  <cp:revision>7</cp:revision>
  <dc:subject/>
  <dc:title>مخاطر البنك العقاري </dc:title>
</cp:coreProperties>
</file>