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EFE9-26F3-4A2B-977E-26C7741B8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D9AE-9B99-4183-AC68-79CAA246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E26C-4D99-4339-9143-CB49567E9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AEAF-A918-4602-A8C1-CA20555C2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CC880-D7CC-442B-9AE1-2EDABA8B2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83CA5-8C75-4D4E-A77E-6F66A0096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0320F-5803-4EAD-AE19-825145571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3AF7B-DD6F-4DC5-8841-693AAED02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87D10-B4C4-4048-976A-9FAC60B4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3C224-087F-4E56-95FB-3358BB08B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18FD-C443-4ADD-ACEF-33D8599F5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296A-5CDC-453C-B024-67D13C40C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34804-227D-4642-BAD0-3DC3F5D80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2449-2A32-461E-93EB-B9E95B091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9BFBB-0A35-462B-B673-4F89E424B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BFF91-05C0-4FDC-95FF-FD961FB55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68053-6C77-4513-AFFD-44BB475B7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DACFB-3136-41C8-B977-54FFF9C9D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BBC58-BFB9-486B-B3D3-ABEFD221F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76B01-3020-4E69-9426-1612BE08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EA68E-92BF-46FF-B28F-C6ED5E11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885C-E0E7-4AD4-A679-C14487E2F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BFDE-D465-437D-84BB-F74D2412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6BFF-6F0D-4389-9D4B-05143D70C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0D27-6742-4C9B-850A-14B8A432ED2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A7EF-8B1C-4171-838C-A682420235A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الزمن </a:t>
            </a:r>
            <a:endParaRPr b="0" lang="en-US" sz="3600" spc="-1" strike="noStrike">
              <a:solidFill>
                <a:srgbClr val="8c0039"/>
              </a:solidFill>
              <a:latin typeface="Arial"/>
            </a:endParaRPr>
          </a:p>
        </p:txBody>
      </p:sp>
      <p:sp>
        <p:nvSpPr>
          <p:cNvPr id="99" name="PlaceHolder 2"/>
          <p:cNvSpPr>
            <a:spLocks noGrp="1"/>
          </p:cNvSpPr>
          <p:nvPr>
            <p:ph/>
          </p:nvPr>
        </p:nvSpPr>
        <p:spPr>
          <a:xfrm>
            <a:off x="2195640" y="1484280"/>
            <a:ext cx="6400800" cy="4495680"/>
          </a:xfrm>
          <a:prstGeom prst="rect">
            <a:avLst/>
          </a:prstGeom>
          <a:noFill/>
          <a:ln w="0">
            <a:noFill/>
          </a:ln>
        </p:spPr>
        <p:txBody>
          <a:bodyPr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438280" y="1600200"/>
            <a:ext cx="6400800" cy="4495680"/>
          </a:xfrm>
          <a:prstGeom prst="rect">
            <a:avLst/>
          </a:prstGeom>
          <a:noFill/>
          <a:ln w="0">
            <a:noFill/>
          </a:ln>
        </p:spPr>
        <p:txBody>
          <a:bodyPr anchor="t">
            <a:normAutofit fontScale="88000"/>
          </a:bodyPr>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أولى: مرحلة اللعب وتبدأ من مرحلة الميلاد وتمتد من المرحلة الحس حركية الى مرحلة ما قبل العمليات. ،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 ويحب الطعام ساخناً وهكذا.</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رحلة الثانية: تتضمن هذه المرحلة القيام بإجراء مقارنات،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حياتية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ثالثة: تبدأ في نهاية مرحلة ما قبل العمليات(</a:t>
            </a:r>
            <a:r>
              <a:rPr b="1" lang="ar-SA" sz="2800" spc="-1" strike="noStrike">
                <a:solidFill>
                  <a:srgbClr val="000000"/>
                </a:solidFill>
                <a:latin typeface="Arial"/>
              </a:rPr>
              <a:t>4</a:t>
            </a:r>
            <a:r>
              <a:rPr b="1" lang="ar-SA" sz="2800" spc="-1" strike="noStrike">
                <a:solidFill>
                  <a:srgbClr val="000000"/>
                </a:solidFill>
                <a:latin typeface="Arial"/>
              </a:rPr>
              <a:t>-</a:t>
            </a:r>
            <a:r>
              <a:rPr b="1" lang="ar-SA" sz="2800" spc="-1" strike="noStrike">
                <a:solidFill>
                  <a:srgbClr val="000000"/>
                </a:solidFill>
                <a:latin typeface="Arial"/>
              </a:rPr>
              <a:t>7</a:t>
            </a:r>
            <a:r>
              <a:rPr b="1" lang="ar-SA" sz="2800" spc="-1" strike="noStrike">
                <a:solidFill>
                  <a:srgbClr val="000000"/>
                </a:solidFill>
                <a:latin typeface="Arial"/>
              </a:rPr>
              <a:t>) وفي بداية مرحلة العمليات المحسوسة(</a:t>
            </a:r>
            <a:r>
              <a:rPr b="1" lang="ar-SA" sz="2800" spc="-1" strike="noStrike">
                <a:solidFill>
                  <a:srgbClr val="000000"/>
                </a:solidFill>
                <a:latin typeface="Arial"/>
              </a:rPr>
              <a:t>7</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وفيها يتعلم الطفل استخدام وحدات القياس غير المقننة بمعنى شيء يمتكله الطفل ويمكن ان يستخدم كوحدة قياس ، مثل ان يحاول الطفل ايجاد كم عدد فناجين الرمل التي تملأ علبة حليب فارغة ، كم فرشة اسنان 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رحلة الرابعة: عندما يدخل الطفل مرحلة العمليات الحسية تبدأ الحاجة لديه باستخدام وحدات قياس مقننة.....بعد الروضة.</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438280" y="1600200"/>
            <a:ext cx="6400800" cy="449568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 ولا يستطيعون الاحتفاظ بالصورة في مخيلتهم ، وبذلك لا يستطيعون الاحتفاظ بثبات الكم ،،، 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anchor="t">
            <a:normAutofit fontScale="89000"/>
          </a:bodyPr>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مثلا: اطلب من الطفل تمرين الكرة الكبيرة او التقاط المربع الصغير وتمييز الأحجام باللمس.</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مل ديدان طولية وقصيرة باستخدام المكعبات او الكور، مثلا الدودة الكبيرة --- مكعب ، والصغيرة---- مكعب.</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لآن فارغ- سميك نحيف-  </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شاط الطبخ.</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ياس الاطوال بوحدات غير مقننة.مثلا: ( كم دبوس طول هذه الملعقة).</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قارنة الاوزان بواسطة كفتي الميزان. كم نضيف من مكعب او كتاب حتى تتوازن كفتي الميزان.</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fontScale="87000"/>
          </a:bodyPr>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النوم –الاستيقاظ –الاغتسال -ارتداء الملابس –تناول الطعام )</a:t>
            </a:r>
            <a:endParaRPr b="0" lang="en-US" sz="3200" spc="-1" strike="noStrike">
              <a:solidFill>
                <a:srgbClr val="000000"/>
              </a:solidFill>
              <a:latin typeface="Arial"/>
            </a:endParaRPr>
          </a:p>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 ما قبل المفاهيم يدرك ان الاسبوع أطول من اليوم ولكن لايدرك مداه </a:t>
            </a:r>
            <a:endParaRPr b="0" lang="en-US" sz="3200" spc="-1" strike="noStrike">
              <a:solidFill>
                <a:srgbClr val="000000"/>
              </a:solidFill>
              <a:latin typeface="Arial"/>
            </a:endParaRPr>
          </a:p>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بق وعي الطفل بالتتابع الزمني وعيه بالمدى الزمني .</a:t>
            </a: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SONY</cp:lastModifiedBy>
  <dcterms:modified xsi:type="dcterms:W3CDTF">2012-12-01T04:55:05Z</dcterms:modified>
  <cp:revision>12</cp:revision>
  <dc:subject/>
  <dc:title>مفهوم القياس</dc:title>
</cp:coreProperties>
</file>