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4A5B4-029B-48AD-9172-1B487D34E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AE874-D029-4DAE-A5D4-582B50683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361D3-A83B-4DAB-8919-0B38BC957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79E2A-10A5-4B91-BCA9-5F07E9D45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88D1C-23B4-49CA-BA3E-7CC132217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9D104-7466-45C1-939D-02F584FC4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9DE0E-E983-48BD-8081-3ADB4E028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5CEB6-2191-4DCC-9B36-AD6621564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1CB71-96B4-4B55-9D2C-63F9832EF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830E9-7DFF-49BD-B965-AEA7D5D6E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46C9A-A3A4-4260-BE93-EB834339D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BF79A-C0DF-427C-9AFD-E258768C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4F68F-ADEA-423B-ACB4-4E8A632A9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E523A-9063-4471-BBAF-59FABBF4A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63ADD-19BC-424E-9588-CDF41DF1C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1C5BE-6220-4FF7-A4DF-5623BA93F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19316-1C20-4BF8-83E2-0596E7FAF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C3008-0547-4390-9165-A37EED487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9C628-5093-47CF-BA02-397A8EA23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92015-DFD5-4D77-A3AE-FC8639B97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3E308-DDB6-4F24-B9AE-4F232705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02C1-54BD-46D1-B560-652365F57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C005E-DC64-4842-8D0A-8648B4EA3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5494F-AE36-4700-BD89-A7677B9A6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2BE7-E8DA-4C29-870B-528AE85B269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9911-3CEC-47A7-8350-D354E1CE395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341360"/>
            <a:ext cx="8569440" cy="34560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Arial"/>
              </a:rPr>
              <a:t>مفهوم القياس</a:t>
            </a:r>
            <a:br>
              <a:rPr sz="6600"/>
            </a:br>
            <a:r>
              <a:rPr b="1" lang="ar-SA" sz="6600" spc="-1" strike="noStrike" u="sng">
                <a:solidFill>
                  <a:srgbClr val="000000"/>
                </a:solidFill>
                <a:uFillTx/>
                <a:latin typeface="Arial"/>
              </a:rPr>
              <a:t>مفهوم الزمن </a:t>
            </a:r>
            <a:endParaRPr b="0" lang="en-US" sz="66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تابع الزمن </a:t>
            </a:r>
            <a:endParaRPr b="0" lang="en-US" sz="3600" spc="-1" strike="noStrike">
              <a:solidFill>
                <a:srgbClr val="8c0039"/>
              </a:solidFill>
              <a:latin typeface="Arial"/>
            </a:endParaRPr>
          </a:p>
        </p:txBody>
      </p:sp>
      <p:sp>
        <p:nvSpPr>
          <p:cNvPr id="99" name="PlaceHolder 2"/>
          <p:cNvSpPr>
            <a:spLocks noGrp="1"/>
          </p:cNvSpPr>
          <p:nvPr>
            <p:ph/>
          </p:nvPr>
        </p:nvSpPr>
        <p:spPr>
          <a:xfrm>
            <a:off x="2195640" y="1484280"/>
            <a:ext cx="6400800" cy="4495680"/>
          </a:xfrm>
          <a:prstGeom prst="rect">
            <a:avLst/>
          </a:prstGeom>
          <a:noFill/>
          <a:ln w="0">
            <a:noFill/>
          </a:ln>
        </p:spPr>
        <p:txBody>
          <a:bodyPr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فل بين </a:t>
            </a:r>
            <a:r>
              <a:rPr b="0" lang="ar-SA" sz="3200" spc="-1" strike="noStrike">
                <a:solidFill>
                  <a:srgbClr val="000000"/>
                </a:solidFill>
                <a:latin typeface="Arial"/>
              </a:rPr>
              <a:t>4</a:t>
            </a:r>
            <a:r>
              <a:rPr b="0" lang="ar-SA" sz="3200" spc="-1" strike="noStrike">
                <a:solidFill>
                  <a:srgbClr val="000000"/>
                </a:solidFill>
                <a:latin typeface="Arial"/>
              </a:rPr>
              <a:t>-</a:t>
            </a:r>
            <a:r>
              <a:rPr b="0" lang="ar-SA" sz="3200" spc="-1" strike="noStrike">
                <a:solidFill>
                  <a:srgbClr val="000000"/>
                </a:solidFill>
                <a:latin typeface="Arial"/>
              </a:rPr>
              <a:t>7</a:t>
            </a:r>
            <a:r>
              <a:rPr b="0" lang="ar-SA" sz="3200" spc="-1" strike="noStrike">
                <a:solidFill>
                  <a:srgbClr val="000000"/>
                </a:solidFill>
                <a:latin typeface="Arial"/>
              </a:rPr>
              <a:t>سنوات يستطيع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امة تسلسل لأحداث يقوم بها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تيب صور مجالات نمو النبات والحيوانات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لاحظة حالة الطقس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نشطة يقوم بها الطفل من الصباح وحتى المساء .</a:t>
            </a:r>
            <a:endParaRPr b="0" lang="en-US" sz="3200" spc="-1" strike="noStrike">
              <a:solidFill>
                <a:srgbClr val="000000"/>
              </a:solidFill>
              <a:latin typeface="Arial"/>
            </a:endParaRPr>
          </a:p>
          <a:p>
            <a:pPr marL="339480" indent="-3394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ام مصطلحات الزمن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438280" y="1600200"/>
            <a:ext cx="6400800" cy="4495680"/>
          </a:xfrm>
          <a:prstGeom prst="rect">
            <a:avLst/>
          </a:prstGeom>
          <a:noFill/>
          <a:ln w="0">
            <a:noFill/>
          </a:ln>
        </p:spPr>
        <p:txBody>
          <a:bodyPr anchor="t">
            <a:normAutofit fontScale="88000"/>
          </a:bodyPr>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د القياس من أكثر المهارات الرياضية نفعاً وتوظيفاً في حياتنا اليومية</a:t>
            </a:r>
            <a:endParaRPr b="0" lang="en-US" sz="3200" spc="-1" strike="noStrike">
              <a:solidFill>
                <a:srgbClr val="000000"/>
              </a:solidFill>
              <a:latin typeface="Arial"/>
            </a:endParaRPr>
          </a:p>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فل يتعامل مع مهارات القياس في الحياة اليومية مثل يشرب كوب حليب مساء، يشاهد امه تشتري كيلو جرام من الدقيق، يقيس الطفل وزنه أو طوله في العيادة، وتقاس له درجة الحرارة... الخ.</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مراحل نمو مفاهيم القياس:</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fontScale="86000"/>
          </a:bodyPr>
          <a:p>
            <a:pPr marL="294840" indent="-294840" algn="r" rtl="1">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حلة الأولى: مرحلة اللعب وتبدأ من مرحلة الميلاد وتمتد من المرحلة الحس حركية الى مرحلة ما قبل العمليات. ، وفيها يقلد الطفل الأطفال الاكبر سنا والبالغين، فيلعب بمسطرة القياس،  ويقوم بالقياس بالأكواب او الميزان مثلما يشاهد الآخرين، حيث يقوم بسكب الرمل  والحبوب من وعاء الى آخر مستكشفاً خواص الحجم، ويرفع الأشياء مستكشفاً خواص الوزن، كما أنه يلاحظ ان ذراعه قصيرة لا يمكن ان تصل الى مكان معين وان اخيه الأكبر ذراعه أطول، كما يبدأ باستيعاب مفهوم  الحرارة فهو يحب الاستحمام بالماء البارد ، ويحب الطعام ساخناً وهكذا.</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رحلة الثانية: تتضمن هذه المرحلة القيام بإجراء مقارنات، حيث يدرك الطفل عادة مفاهيم المقارنة مثل، أكبر من / اقل من / اثقل من / اخف من / اطول من / اقصر من / اكثر حرارة / اكثر برودة...... وهكذا يستطيع الطفل توظيف علاقات المقارنة في مواقف حياتية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438280" y="1600200"/>
            <a:ext cx="6400800" cy="4495680"/>
          </a:xfrm>
          <a:prstGeom prst="rect">
            <a:avLst/>
          </a:prstGeom>
          <a:noFill/>
          <a:ln w="0">
            <a:noFill/>
          </a:ln>
        </p:spPr>
        <p:txBody>
          <a:bodyPr anchor="t">
            <a:normAutofit fontScale="84000"/>
          </a:bodyPr>
          <a:p>
            <a:pPr marL="288000" indent="-2880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حلة الثالثة: تبدأ في نهاية مرحلة ما قبل العمليات(</a:t>
            </a:r>
            <a:r>
              <a:rPr b="1" lang="ar-SA" sz="2800" spc="-1" strike="noStrike">
                <a:solidFill>
                  <a:srgbClr val="000000"/>
                </a:solidFill>
                <a:latin typeface="Arial"/>
              </a:rPr>
              <a:t>4</a:t>
            </a:r>
            <a:r>
              <a:rPr b="1" lang="ar-SA" sz="2800" spc="-1" strike="noStrike">
                <a:solidFill>
                  <a:srgbClr val="000000"/>
                </a:solidFill>
                <a:latin typeface="Arial"/>
              </a:rPr>
              <a:t>-</a:t>
            </a:r>
            <a:r>
              <a:rPr b="1" lang="ar-SA" sz="2800" spc="-1" strike="noStrike">
                <a:solidFill>
                  <a:srgbClr val="000000"/>
                </a:solidFill>
                <a:latin typeface="Arial"/>
              </a:rPr>
              <a:t>7</a:t>
            </a:r>
            <a:r>
              <a:rPr b="1" lang="ar-SA" sz="2800" spc="-1" strike="noStrike">
                <a:solidFill>
                  <a:srgbClr val="000000"/>
                </a:solidFill>
                <a:latin typeface="Arial"/>
              </a:rPr>
              <a:t>) وفي بداية مرحلة العمليات المحسوسة(</a:t>
            </a:r>
            <a:r>
              <a:rPr b="1" lang="ar-SA" sz="2800" spc="-1" strike="noStrike">
                <a:solidFill>
                  <a:srgbClr val="000000"/>
                </a:solidFill>
                <a:latin typeface="Arial"/>
              </a:rPr>
              <a:t>7</a:t>
            </a:r>
            <a:r>
              <a:rPr b="1" lang="ar-SA" sz="2800" spc="-1" strike="noStrike">
                <a:solidFill>
                  <a:srgbClr val="000000"/>
                </a:solidFill>
                <a:latin typeface="Arial"/>
              </a:rPr>
              <a:t>- </a:t>
            </a:r>
            <a:r>
              <a:rPr b="1" lang="ar-SA" sz="2800" spc="-1" strike="noStrike">
                <a:solidFill>
                  <a:srgbClr val="000000"/>
                </a:solidFill>
                <a:latin typeface="Arial"/>
              </a:rPr>
              <a:t>11</a:t>
            </a:r>
            <a:r>
              <a:rPr b="1" lang="ar-SA" sz="2800" spc="-1" strike="noStrike">
                <a:solidFill>
                  <a:srgbClr val="000000"/>
                </a:solidFill>
                <a:latin typeface="Arial"/>
              </a:rPr>
              <a:t>)، وفيها يتعلم الطفل استخدام وحدات القياس غير المقننة بمعنى شيء يمتكله الطفل ويمكن ان يستخدم كوحدة قياس ، مثل ان يحاول الطفل ايجاد كم عدد فناجين الرمل التي تملأ علبة حليب فارغة ، كم فرشة اسنان مثل طول قدمه،  وبنمو استخدام الطفل للوحدات غير المقننة يتعلم مفاهيم وعلاقات جديدة يحتاج فهمها الى استخدام الطفل وحدات القياس المقننة.</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رحلة الرابعة: عندما يدخل الطفل مرحلة العمليات الحسية تبدأ الحاجة لديه باستخدام وحدات قياس مقننة.....بعد الروضة.</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438280" y="1600200"/>
            <a:ext cx="6400800" cy="4495680"/>
          </a:xfrm>
          <a:prstGeom prst="rect">
            <a:avLst/>
          </a:prstGeom>
          <a:noFill/>
          <a:ln w="0">
            <a:noFill/>
          </a:ln>
        </p:spPr>
        <p:txBody>
          <a:bodyPr anchor="t">
            <a:normAutofit fontScale="82000"/>
          </a:bodyPr>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جارب بياجية مثل تجربة أوعية الماء تثبت ان الأطفال لا زال تفكيرهم حدسي ، ولا يستطيعون الاحتفاظ بالصورة في مخيلتهم ، وبذلك لا يستطيعون الاحتفاظ بثبات الكم ،،، والأطفال تفكيرهم حدسي مثلا لو احضرت كرتين كرة مطاط وكرة تنس وسألت الطفل ايهما اثقل فالطفل سيتأثر بالحجم فسيختار الكرة ذات الحجم الاكبر ويقول انها اثقل بغض النظر عن الوزن.</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نشطة:</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anchor="t">
            <a:normAutofit fontScale="89000"/>
          </a:bodyPr>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شطة المقارنات: اكبر اصغر- اخف اثقل- مثلا: اطلب من الطفل تمرين الكرة الكبيرة او التقاط المربع الصغير وتمييز الأحجام باللمس.</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عمل ديدان طولية وقصيرة باستخدام المكعبات او الكور، مثلا الدودة الكبيرة --- مكعب ، والصغيرة---- مكعب.</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لآن فارغ- سميك نحيف-  </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شاط الطبخ.</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ياس الاطوال بوحدات غير مقننة.مثلا: ( كم دبوس طول هذه الملعقة).</a:t>
            </a:r>
            <a:endParaRPr b="0" lang="en-US" sz="2400" spc="-1" strike="noStrike">
              <a:solidFill>
                <a:srgbClr val="000000"/>
              </a:solidFill>
              <a:latin typeface="Arial"/>
            </a:endParaRPr>
          </a:p>
          <a:p>
            <a:pPr marL="305280" indent="-305280" algn="r" rtl="1">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قارنة الاوزان بواسطة كفتي الميزان. كم نضيف من مكعب او كتاب حتى تتوازن كفتي الميزان.</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fontScale="87000"/>
          </a:bodyPr>
          <a:p>
            <a:pPr marL="298440" indent="-2984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مرحلة الاولى :لا يستطيع الطفل اقامة تسلسل للأحداث المتتابعة عبر الزمن ولكن يلاحظ ان تسلسل الاحداث اليومية تساعده على وعي الزمن.(النوم –الاستيقاظ –الاغتسال -ارتداء الملابس –تناول الطعام )</a:t>
            </a:r>
            <a:endParaRPr b="0" lang="en-US" sz="3200" spc="-1" strike="noStrike">
              <a:solidFill>
                <a:srgbClr val="000000"/>
              </a:solidFill>
              <a:latin typeface="Arial"/>
            </a:endParaRPr>
          </a:p>
          <a:p>
            <a:pPr marL="298440" indent="-2984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رحلة الثانية : ما قبل المفاهيم يدرك ان الاسبوع أطول من اليوم ولكن لايدرك مداه </a:t>
            </a:r>
            <a:endParaRPr b="0" lang="en-US" sz="3200" spc="-1" strike="noStrike">
              <a:solidFill>
                <a:srgbClr val="000000"/>
              </a:solidFill>
              <a:latin typeface="Arial"/>
            </a:endParaRPr>
          </a:p>
          <a:p>
            <a:pPr marL="298440" indent="-2984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بق وعي الطفل بالتتابع الزمني وعيه بالمدى الزمني .</a:t>
            </a:r>
            <a:endParaRPr b="0" lang="en-US" sz="3200" spc="-1" strike="noStrike">
              <a:solidFill>
                <a:srgbClr val="000000"/>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0:46:36Z</dcterms:created>
  <dc:creator>Hala</dc:creator>
  <dc:description/>
  <dc:language>en-US</dc:language>
  <cp:lastModifiedBy>SONY</cp:lastModifiedBy>
  <dcterms:modified xsi:type="dcterms:W3CDTF">2012-12-01T04:55:05Z</dcterms:modified>
  <cp:revision>12</cp:revision>
  <dc:subject/>
  <dc:title>مفهوم القياس</dc:title>
</cp:coreProperties>
</file>