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A0A-2222-4F48-AF45-8B241D44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E57-6A4B-4F19-B1D2-B9DC0DD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E67-0A14-4FD8-B717-2FBCD875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C9A-3EE4-4F57-A9A5-304EF77F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F92-9605-4EF1-9D2B-8B26F10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54-1635-4B56-80DF-E37F1A9C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715-DBED-420E-9F57-6596A5EA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2CE-F2CF-48EB-B426-A3FED80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6ED-1805-4176-9EBA-ED1DA0F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B02-2C7B-4F2D-A99D-18550D3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0C7-F21E-4EDC-897B-3F56AE16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95E-969F-4070-8E7C-DE2D1CD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C9B-FCF1-4EA1-A4C2-38B8F7E994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+ دليل الربحي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شروعين يتطلب كل منهما استثمارا اوليل مقدارة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دينار , استخدم البيانات التالية للاجابة عما يل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صافي القيمة الح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ي المشروعين افضل و 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ان بان معدل العائد المطلوب ه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أول :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1523880"/>
          <a:ext cx="807696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صافى القيمة الحال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ثر المقاييس وضوحا وهو ناتج طرح إجمالى القيمة الحالية للتكاليف من إجمالى القيمة الحالية لعوائد المشروع بعد خصمها ب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صافى القيمة الحالية ع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–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يكون المشروع مجدى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كان صافى القيمة الحالية موجب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تكون صافي التدفقات النقدية كما ي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طريقة صافي القيمة الح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م بالمفاضلة بين المشروعين التاليين بإستخدام طريقة صافي القيمة الحالية مع العلم بأن معدل الخصم يساو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800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شروع الا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يا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تثمار المبدئ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صافي القيمة الحالية (ص ق ح)= مجموع القيمة الحالية للتدفقات النقدية (ق ح) – القيمة الحالية للاستثمار المبدئي (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حتى يتم حساب ص ق ح ي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ب حساب قيمة التدفقات النقدية الحالية للمشرو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قيمة التدفقات النقدية الحالية لمشروع الاول =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27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956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04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إذن ص ق ح للمشروع الأول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قيمة التدفقات النقدية الحالية لمشروع الثاني =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25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098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105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القيمة الحالية للاستثمار المبدئي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72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65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إذن ص ق ح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صافي القيمة الحالية أ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لى دليل الرب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فرض استخدام نفس بيانات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مري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سابق فأن دليل الربحية للمشروع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دليل الربحية أع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نسبة بين المنافع والتكالي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 / cost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نسبة التى يحصل عليها من قسمة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على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سبة المنافع إلى التكاليف عند سعر الخصم المناسب =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غير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ثال : استخدم الجدول التالي في الاجابة عما يلي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6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