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FC10-F59B-4513-B6C3-74A9EDB7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A72-25A0-490A-9A15-483D579E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F32-8472-49CA-915A-7C9AA61BB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9026-2932-4EAC-93C0-18F5AB402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8E40-0E94-4F79-B1FB-EA524A0F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2352-C958-446A-90CB-049FA2ED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FFD7-6E59-44AD-8560-F4888D59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033F-BBEB-402C-8EE0-A5D6B9CB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076F-83A1-4720-8E4F-D641DA60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A41-9D98-4088-BA5A-7DD7374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3937-EFC4-480D-8738-121FEBEC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3B5-1DC0-44CB-9C52-86E82AC2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4C62-EEE2-4416-9EC8-54131E48161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+ دليل الربحية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ادة الك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شروعين يتطلب كل منهما استثمارا اوليل مقدارة 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دينار , استخدم البيانات التالية للاجابة عما يلي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 الأو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النقدي للمشروع الثان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53038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ف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جمو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صافي القيمة الحال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وجد دليل الربحي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ي المشروعين افضل و لماذا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علمان بان معدل العائد المطلوب هو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%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أول :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:نجد مجموع القيم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.79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ا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372.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37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شروع الثاني :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لا نجد مجموع القيم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09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636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26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1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502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3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39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35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20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2173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للمشروع الثاني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768.7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 اكبر من صافي القيمة الحالية للمشروع الأول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 لذلك يكون المشروع الثاني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372.4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17687/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.7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اكبر من دليل الربحية للمشروع الأول لذلك يكون المشروع الأول افض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تقييم النهائ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2120" y="1523880"/>
          <a:ext cx="8076960" cy="2711520"/>
        </p:xfrm>
        <a:graphic>
          <a:graphicData uri="http://schemas.openxmlformats.org/drawingml/2006/table">
            <a:tbl>
              <a:tblPr/>
              <a:tblGrid>
                <a:gridCol w="1523880"/>
                <a:gridCol w="1828800"/>
                <a:gridCol w="1676520"/>
                <a:gridCol w="30477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تفضي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أول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8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2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قيمة الحال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ثان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دليل الربحي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صافى القيمة الحالي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t present val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كثر المقاييس وضوحا وهو ناتج طرح إجمالى القيمة الحالية للتكاليف من إجمالى القيمة الحالية لعوائد المشروع بعد خصمها ب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صافى القيمة الحالية ع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–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يكون المشروع مجدى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إذا كان صافى القيمة الحالية موجب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تمرين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وي إحدى الشركات الاستثمار بمشروع كلفتة الرأسمال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, و تستعمل الشركة طريقة القسط الثابت في الاستهلاك , و تدفع ضرائب على الأرباح نسبته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, علما بأنه لا يوجد للمشروع اية قيمة للخردة بعد الاستهلاك , كما ان معدل العائد المطلوب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و من المتوقع ان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ن تكون صافي التدفقات النقدية كما يل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تدفق للمشرو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600200"/>
          <a:ext cx="8229600" cy="475128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120"/>
                <a:gridCol w="1273320"/>
                <a:gridCol w="1077840"/>
                <a:gridCol w="1174680"/>
                <a:gridCol w="1176480"/>
              </a:tblGrid>
              <a:tr h="16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مطلوب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ل تنصح المنشاة بقبول لمشروع اذا تم تقييمه على اساس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ماذا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نحسب صافي القيمة الح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69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696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56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561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5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187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25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571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7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لقيمة الحالية للمبلغ الخامس = 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17500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*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0.4972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=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87010</a:t>
            </a: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ريا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جموع القيم الحالية =                                 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03242.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0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-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757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صافي القيمة الحالية سالب اذا المشروع مرفو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03242.5/50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.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قل م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اذا المشروع مرفو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تمرين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على طريقة صافي القيمة الحالي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قم بالمفاضلة بين المشروعين التاليين بإستخدام طريقة صافي القيمة الحالية مع العلم بأن معدل الخصم يساوي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908000" y="1989000"/>
          <a:ext cx="6095880" cy="406404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988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شروع الثان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مشروع الا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بيان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قيم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سنو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استثمار المبدئي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تدفقات النقد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الحل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صافي القيمة الحالية (ص ق ح)= مجموع القيمة الحالية للتدفقات النقدية (ق ح) – القيمة الحالية للاستثمار المبدئي (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حتى يتم حساب ص ق ح ي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ج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ب حساب قيمة التدفقات النقدية الحالية للمشروع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قيمة التدفقات النقدية الحالية لمشروع الاول =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8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727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4956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3004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إذن ص ق ح للمشروع الأول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2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قيمة التدفقات النقدية الحالية لمشروع الثاني =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25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098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105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القيمة الحالية للاستثمار المبدئي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+ [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/(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00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727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652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إذن ص ق ح للمشروع الثاني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0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صافي القيمة الحالية أعل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404640"/>
            <a:ext cx="914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260280"/>
            <a:ext cx="8496000" cy="61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60280"/>
            <a:ext cx="889308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تمرين رقم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على دليل الربح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فرض استخدام نفس بيانات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التمري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السابق فأن دليل الربحية للمشروعين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أول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523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000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دليل الربحية للمشروع الثاني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2460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9379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=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أذن يتم اختيار المشروع الأول لان دليل الربحية أعل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نسبة بين المنافع والتكالي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 / cost rat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النسبة التى يحصل عليها من قسمة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على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ع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د سعر الخصم المناس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سبة المنافع إلى التكاليف عند سعر الخصم المناسب = 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لصافي التدفقات النقدية المتوقع الحصول عليه في المستقب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إجمالى القيمة الحالية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للاستثمار الاولي في بداية المشرو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شروع غير 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مقبو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حمد لله رب العال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مثال : استخدم الجدول التالي في الاجابة عما يلي</a:t>
            </a: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1600200"/>
          <a:ext cx="8381880" cy="4708440"/>
        </p:xfrm>
        <a:graphic>
          <a:graphicData uri="http://schemas.openxmlformats.org/drawingml/2006/table">
            <a:tbl>
              <a:tblPr/>
              <a:tblGrid>
                <a:gridCol w="1600200"/>
                <a:gridCol w="1218960"/>
                <a:gridCol w="1143000"/>
                <a:gridCol w="1067040"/>
                <a:gridCol w="1306440"/>
                <a:gridCol w="1022400"/>
                <a:gridCol w="102384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تدفق النقدي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 بعد 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ضريب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بعد 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استهلا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ربح قبل الاستهلاك و الضريب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سن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00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ن الجدول الساب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اذا كان معدل ال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صافي القيمة الحالية عند معدل خصم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 u="sng">
                <a:solidFill>
                  <a:srgbClr val="000000"/>
                </a:solidFill>
                <a:uFillTx/>
                <a:latin typeface="Arial"/>
              </a:rPr>
              <a:t>اولا نجد القيمة الحالية للتدفقات النقدية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أول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9259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ني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6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857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ثالث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9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938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رابع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735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حالية للمبلغ الخامس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2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.6806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ثانيا نجد مجموع القيم الحالية للتدفقا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مجموع القيم الحالية للتدفقات النقدية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9999.7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230.0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144.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73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900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نطبق قانون صافي القيمة الحال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= مجموع القيم الحالية – الاستثمار الاو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صافي القيمة الحال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007.3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قيمة موجبة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دليل الربح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= مجموع القيم الحالية / الاستثمار الاو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(عند معدل خص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)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6007.32/3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.2002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دليل الربحية اكبر من واحد صحيح المشروع مقبو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3-23T06:5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