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109-B4A7-48A7-84BA-1AFC9754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3913-3DC7-4954-84F1-937FD44F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F332-1C39-4B5D-AD13-63C4D13C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09F-E3A3-4A2B-B71F-4C54ACE1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7B05-CC99-45FC-A910-A715207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5F9F-5C60-4E36-AD5D-86C1B84C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ED9-0152-4E1A-8C5A-22238E9E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8A30-851A-4F12-BA65-C5CBF501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764D-8FBF-4655-AFA8-05B5509F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1F02-9504-4181-B5C2-AC42313C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16D-A0B6-4FC2-BB4C-80DBFD7C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558-E8FC-4B18-B651-F24CD4AE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AB8D-6BCE-4510-9EAA-7F23801C28B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+ دليل الربحي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شروعين يتطلب كل منهما استثمارا اوليل مقدارة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دينار , استخدم البيانات التالية للاجابة عما يل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صافي القيمة الح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دليل الرب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ي المشروعين افضل و لماذ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ان بان معدل العائد المطلوب ه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أول :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:نجد مجموع القيم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ثاني 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نجد مجموع القيم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 اكبر من صافي القيمة الحالية للمشروع الأول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 لذلك يكون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7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اكبر من دليل الربحية للمشروع الأول لذلك يكون المشروع الأول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قي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2120" y="1523880"/>
          <a:ext cx="8076960" cy="271152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6765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ض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أو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ليل الربح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صافى القيمة الحال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ثر المقاييس وضوحا وهو ناتج طرح إجمالى القيمة الحالية للتكاليف من إجمالى القيمة الحالية لعوائد المشروع بعد خصمها ب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صافى القيمة الحالية ع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–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يكون المشروع مجدى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كان صافى القيمة الحالية موجب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تكون صافي التدفقات النقدية كما يل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ماذ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طريقة صافي القيمة الح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م بالمفاضلة بين المشروعين التاليين بإستخدام طريقة صافي القيمة الحالية مع العلم بأن معدل الخصم يساو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8000" y="19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9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شروع الا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يا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تثمار المبدئ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صافي القيمة الحالية (ص ق ح)= مجموع القيمة الحالية للتدفقات النقدية (ق ح) – القيمة الحالية للاستثمار المبدئي (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حتى يتم حساب ص ق ح ي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ب حساب قيمة التدفقات النقدية الحالية للمشرو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قيمة التدفقات النقدية الحالية لمشروع الاول =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27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956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04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إذن ص ق ح للمشروع الأول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قيمة التدفقات النقدية الحالية لمشروع الثاني =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25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098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105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القيمة الحالية للاستثمار المبدئي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72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65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إذن ص ق ح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صافي القيمة الحالية أع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لى دليل الرب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فرض استخدام نفس بيانات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مري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سابق فأن دليل الربحية للمشروع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دليل الربحية أع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نسبة بين المنافع والتكالي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 / cost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نسبة التى يحصل عليها من قسمة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على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سبة المنافع إلى التكاليف عند سعر الخصم المناسب =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غير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ثال : استخدم الجدول التالي في الاجابة عما يلي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عند معدل خص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ولا نجد القيمة الحالية للتدفقات النقدي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25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57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93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35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0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ثانيا نجد مجموع القيم الحالية للتدفق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النقد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صافي القيمة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مجموع القيم الحالية – الاستثمار الاو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يمة موجبة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= مجموع القيم الحالية / الاستثمار الاو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/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.200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اكبر من واحد صحيح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6:5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