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D3F-7180-4EF0-8A60-7CE8CFDD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D1D-B73E-431B-95B0-E7C8326D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37C-9078-4775-8CE9-6D409B0D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533-2180-4380-9F19-7474BE86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94E-A2A8-40F1-8386-485304E6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F10-A334-493E-9BE4-03BB2998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775-4BEA-41C6-B355-147D36E4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C08-C8BC-4C29-A465-B74D2EA9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896-7C96-4286-A94A-49D81DA4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2A6-27D8-48EB-A464-84C1062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A5A-C6AB-4AC1-B905-F2C2F1E7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962-C52F-4086-B4DD-E4A5BFF8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A6E1-8E8B-445B-BC5D-1CEB9ECF78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افي القيمة الحالية + دليل الربحية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ادة الك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مشروعين يتطلب كل منهما استثمارا اوليل مقدارة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دينار , استخدم البيانات التالية للاجابة عما يلي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وجد صافي القيمة الحا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وجد دليل الرب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ي المشروعين افضل و لماذ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ان بان معدل العائد المطلوب ه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شروع الأول :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لا :نجد مجموع القيم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مجموع القيم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79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شروع الثاني 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لا نجد مجموع القيم الح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909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3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826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ثالث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751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0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رابع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68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39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خامس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6209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17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768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ث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09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63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264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1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50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83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39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خامس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209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17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.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76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ثاني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768.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 اكبر من صافي القيمة الحالية للمشروع الأول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372.4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 لذلك يكون المشروع الثاني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372.4/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7/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.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اكبر من دليل الربحية للمشروع الأول لذلك يكون المشروع الأول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قييم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62120" y="1523880"/>
          <a:ext cx="8076960" cy="271152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1676520"/>
                <a:gridCol w="3047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فض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أو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قيمة الحال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ليل الربح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صافى القيمة الحال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كثر المقاييس وضوحا وهو ناتج طرح إجمالى القيمة الحالية للتكاليف من إجمالى القيمة الحالية لعوائد المشروع بعد خصمها بسعر الخصم المناس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صافى القيمة الحالية عند سعر الخصم المناس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لصافي التدفقات النقدية المتوقع الحصول عليه في المستقب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– 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للاستثمار الاولي في بداية المشرو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يكون المشروع مجدى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قبو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ذا كان صافى القيمة الحالية موجب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ثابت في الاستهلاك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علما بأنه لا يوجد للمشروع اية قيمة للخردة بعد الاستهلاك , كما ان معدل العائد المطلوب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من المتوقع ا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تكون صافي التدفقات النقدية كما يل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ل تنصح المنشاة بقبول لمشروع اذا تم تقييمه على اساس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ماذا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حسب 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69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696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6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561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5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187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571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لقيمة الحالية للمبلغ الخامس = 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17500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0.4972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8701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ريا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                                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75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سالب اذا المشروع مرف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3242.5/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قل م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ذا المشروع مرفو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تمري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على طريقة صافي القيمة الحا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م بالمفاضلة بين المشروعين التاليين بإستخدام طريقة صافي القيمة الحالية مع العلم بأن معدل الخصم يساو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908000" y="1989000"/>
          <a:ext cx="6095880" cy="40640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988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شروع الا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يان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قي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قي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ستثمار المبدئ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دفقات النق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الح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صافي القيمة الحالية (ص ق ح)= مجموع القيمة الحالية للتدفقات النقدية (ق ح) – القيمة الحالية للاستثمار المبدئي (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حتى يتم حساب ص ق ح ي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ج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ب حساب قيمة التدفقات النقدية الحالية للمشروع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قيمة التدفقات النقدية الحالية لمشروع الاول = [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272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956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004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52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إذن ص ق ح للمشروع الأول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5232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2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قيمة التدفقات النقدية الحالية لمشروع الثاني =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257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098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105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24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القيمة الحالية للاستثمار المبدئي للمشروع الثاني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727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652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937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إذن ص ق ح للمشروع الثاني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246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9379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0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أذن يتم اختيار المشروع الأول لان صافي القيمة الحالية أع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على دليل الربح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فرض استخدام نفس بيانات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تمري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سابق فأن دليل الربحية للمشروعي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ليل الربحية للمشروع الأول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23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46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9379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ذن يتم اختيار المشروع الأول لان دليل الربحية أعل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نسبة بين المنافع والتكالي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 / cost ra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نسبة التى يحصل عليها من قسمة 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لصافي التدفقات النقدية المتوقع الحصول عليه في المستقبل على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للاستثمار الاولي في بداية المشرو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ع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 سعر الخصم المناس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سبة المنافع إلى التكاليف عند سعر الخصم المناسب = 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لصافي التدفقات النقدية المتوقع الحصول عليه في المستقب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للاستثمار الاولي في بداية المشرو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روع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قبو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روع غير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قبو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مد لله رب العا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مثال : استخدم الجدول التالي في الاجابة عما يلي</a:t>
            </a: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600200"/>
          <a:ext cx="838188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143000"/>
                <a:gridCol w="1067040"/>
                <a:gridCol w="1306440"/>
                <a:gridCol w="1022400"/>
                <a:gridCol w="10238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ن الجدول الساب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اذا كان معدل ال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عند معدل خص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ولا نجد القيمة الحالية للتدفقات النقدية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259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57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30.0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93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4.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8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35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خامس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2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80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900.3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ثانيا نجد مجموع القيم الحالية للتدفق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للتدفقات النقد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230.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7144.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900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قانون صافي القيمة الح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= مجموع القيم الحالية – الاستثمار الاو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(عند معدل 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يمة موجبة المشروع مقب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= مجموع القيم الحالية / الاستثمار الاو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(عند معدل 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)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/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.200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اكبر من واحد صحيح المشروع مقب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3-23T06:56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