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9.png" ContentType="image/png"/>
  <Override PartName="/ppt/media/image26.jpeg" ContentType="image/jpeg"/>
  <Override PartName="/ppt/media/image20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gif" ContentType="image/gif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E76-6B6A-4796-A2DF-B3E5F9C9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FF7-54D7-41F1-AB85-AAC26C46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3D2-B7D1-437C-847A-38FD79B4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845-6AEE-4A9E-8A5E-1588F4F2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2567-C752-4784-A963-0EBFA2A5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0DE2-0ED3-4EAC-839A-7B04AE38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E520-2DF9-4B50-A7C1-F64293B8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29A4-2BFC-4A87-A60A-64E04477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7524-D3F0-496F-94A0-FAC585A2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FD5F-C7DD-4089-ABD6-376C0C0C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E6FF-B344-4892-B1AB-58172F66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5DB-2B2A-4386-8630-3CA1ED77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5865-DDE3-48A1-8144-6E6E474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51E2-8C27-4E2A-937E-D8704732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E7FF-20D5-4FBE-9C09-EF8752C6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653C-A341-44F3-898E-B38F880C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4A5B-6860-4085-9064-DB8E2C2E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E55-771E-4DEC-81D9-851AC561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FFA-D588-43AD-ADEC-B4815A2C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77A-B40B-49BC-BA4D-F5A4E230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111-9CBE-48E3-875C-1C48BE3E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41C-FEDE-463D-8D5B-46C1434C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C52-A6DB-463D-A3BA-BF6B04BE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E4B-1620-4335-B117-18012F4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7156-2022-4BC1-8BA6-C0BA9D078E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5716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A1B1-9D21-430B-8CCB-ECF1D992B0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57160" cy="80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Master%20Gardener/Master%20Gardener%20Course%20Materials/Animations/ClickMe.html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ynamicearth.co.uk/education/images/wave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Water and Irrigation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 Schal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 Agent, AN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Arizona Cooperative Ex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avapai Cou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57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rface Ten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tween hydrogen bonding and the earth’s gravitational pu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3581280" cy="3278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0" t="0" r="65986" b="0"/>
          <a:stretch/>
        </p:blipFill>
        <p:spPr>
          <a:xfrm>
            <a:off x="5562720" y="2819520"/>
            <a:ext cx="222552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pillary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ttable” surfaces cause a film of water to partially pull away from other water molecules and cling to the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llary action is important in soil and plant/water rel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36559" b="0"/>
          <a:stretch/>
        </p:blipFill>
        <p:spPr>
          <a:xfrm>
            <a:off x="5562720" y="4019400"/>
            <a:ext cx="335268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Useful Constants/Convers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: 62.416 pounds per cubic foot at 32°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: 8.33 pounds/gallon, 0.036 pounds/cubic in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nsity: 1 gram per cubic centimeter (cc) at 39.2°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gallon = 4 quarts = 8 pints = 128 ounces = 231 cubic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liter = 0.2642 gallons = 1.0568 quart = 61.02 cubic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Acre-Foot = 325,851 gallons = 43,560 cubic fe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ff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ndency of substances to move from areas of high concentration to areas of low concen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equilibrium, they remain as far apart as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diffusion"/>
          <p:cNvPicPr/>
          <p:nvPr/>
        </p:nvPicPr>
        <p:blipFill>
          <a:blip r:embed="rId1"/>
          <a:srcRect l="0" t="13818" r="11390" b="21861"/>
          <a:stretch/>
        </p:blipFill>
        <p:spPr>
          <a:xfrm>
            <a:off x="457200" y="4038480"/>
            <a:ext cx="4371840" cy="2438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sm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mosis is the net movement of water across a selectively permeable membrane driven by a difference in solute concentrations on the two sides of th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ter moves from the area of higher solute concentration to the area of lower solute concentration until equilibrium is reac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sm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53637" b="0"/>
          <a:stretch/>
        </p:blipFill>
        <p:spPr>
          <a:xfrm>
            <a:off x="380880" y="1371600"/>
            <a:ext cx="3886200" cy="529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3822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: Alkalinity/Acid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easurement of the H+ ions found in that particular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cale goes from 0 to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7 is acid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ve 7 is alkaline (or basi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pH unit represents a ten-fold change in H+ concen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pH Sca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576440"/>
            <a:ext cx="81532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638680" y="1752480"/>
            <a:ext cx="35053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lant/Water Rel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iration is the water vapor given off 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poration is the water vapor lost from the s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potranspiration is the sum of both (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13128" t="0" r="10004" b="0"/>
          <a:stretch/>
        </p:blipFill>
        <p:spPr>
          <a:xfrm>
            <a:off x="6019920" y="1905120"/>
            <a:ext cx="3124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vapotranspiration (Et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-849240" y="3246480"/>
            <a:ext cx="108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croptechnology.unl.edu/animationOut.cgi?anim_name=transpiration.swf&amp;width=0&amp;height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849240" y="3246480"/>
            <a:ext cx="108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croptechnology.unl.edu/animationOut.cgi?anim_name=transpiration.swf&amp;width=0&amp;height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hat do we hope to learn about water and irrigation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etter Understa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ater interacts with our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plants utilize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, when, and where to irrigate pla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anspiration Anim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St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t Predi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ive humid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ar rad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cipi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 dire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4800600" cy="432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105520" y="5334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ZMET 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 and Science of providing to proper quantity of water to plant roots when it i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 and irrigation techniques should be suited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mate (macro and mic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pogra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water (quality and quant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7144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hrub and Tree Root Syste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arid southwest, tree roots can extend horizontally 3 to 5 times the height of the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Root Spread"/>
          <p:cNvPicPr/>
          <p:nvPr/>
        </p:nvPicPr>
        <p:blipFill>
          <a:blip r:embed="rId1"/>
          <a:srcRect l="0" t="6700" r="0" b="3951"/>
          <a:stretch/>
        </p:blipFill>
        <p:spPr>
          <a:xfrm>
            <a:off x="914400" y="3657600"/>
            <a:ext cx="7543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rry Mikel’s Law of Pizz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9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” pizza = 79 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” pizza = 113 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” pizza = 314 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the radius of the root system doubles, the area of the root system increases by four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838520" cy="66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81680" y="1828800"/>
            <a:ext cx="91440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05720" y="3048120"/>
            <a:ext cx="1066680" cy="10666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343400"/>
            <a:ext cx="1905120" cy="19051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5105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eight of water on/in soi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e is 3’ x 6’ (36 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inch of water on that table weigh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7 l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inches of water = 1,122 l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 compaction can occur during flood irri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 also displaces air potentially leading to plant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ysimeters are used to measure actual water u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238640" cy="3181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1907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does water behave in soil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vity moves it in (infiltr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vity + Capillary Action moves it down and horizontally (percol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poration and transpiration removes water from s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llary action moves it upw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urnal effec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y - d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ght - equilib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inch of water wil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 12” deep in a sand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-10” deep in a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-6” deep in a cla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irrigate each soil to a three foot depth, you need to app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” on a sand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” on a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” on a cla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828800" y="3733920"/>
          <a:ext cx="6024600" cy="27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733920"/>
                    <a:ext cx="602460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re Irrigation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allon of water will irrigate roughly 1 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s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733920"/>
            <a:ext cx="0" cy="45720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733920"/>
            <a:ext cx="0" cy="53316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3733920"/>
            <a:ext cx="0" cy="53316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ndy Lo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5181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y Lo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5486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oxygen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symmetr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spend more time near the oxygen and less near the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molecule is p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152880" cy="2319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lecular Structure of Wat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1371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5029200"/>
            <a:ext cx="1295280" cy="3049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5029200"/>
            <a:ext cx="2286000" cy="60948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5029200"/>
            <a:ext cx="4191120" cy="9907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8288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igate plants to the proper depth and check with a pr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 fo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8288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igate plants to the proper depth and check with a pr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5029200"/>
            <a:ext cx="1295280" cy="3049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5029200"/>
            <a:ext cx="2286000" cy="60948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5029200"/>
            <a:ext cx="4191120" cy="9907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67652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plants to utilize the water until the soil surface dries to a depth of (early morning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 i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5029200"/>
            <a:ext cx="129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5029200"/>
            <a:ext cx="22860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5029200"/>
            <a:ext cx="4191120" cy="0"/>
          </a:xfrm>
          <a:prstGeom prst="line">
            <a:avLst/>
          </a:prstGeom>
          <a:ln w="1144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V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5029200"/>
            <a:ext cx="1295280" cy="3049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5029200"/>
            <a:ext cx="2286000" cy="60948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5029200"/>
            <a:ext cx="4191120" cy="9907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16765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irrigation frequency for that soil at that time of ye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Dri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y to install, but does not keep up with growth on large woody 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use multiport heads for these sit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think of it as a “disposable system” which works for some natives (i.e. by the time the system disintegrates, natives may be able to survive on natural precipit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Spray hea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llent for turf and ground co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s good for trees and shr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a good design (consider hiring a professional to design the syste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need repair and mainte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mix and match incompatible nozzles and head types or br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Bubbl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for shrubs and trees in bas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have level ground and a b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put on same station (valve) as turf or dr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Automatic Tim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t times for different times of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system periodically to make sure it is working cor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off after r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Oth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aker hoses work great for trees, shrubs, vegetables, and annu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cillating sprinklers can work well for those on a budget, but there will be dry sp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, old fashioned hose spraying works well for natives that only need periodic watering during dr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Wrap-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overwater or fertilize native and/or drought tolerant plants and cause them to grow too mu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assume that just because a plant is native and/or drought tolerant that it does not need irri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 need some water in winter, evergreens also need adequate water in win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ydrogen Bond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ttracted t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is bonded to its nearest neigh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410080" cy="47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ysical Sta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57800" y="0"/>
            <a:ext cx="1814400" cy="1816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315200" y="4572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458200" y="3124080"/>
            <a:ext cx="511200" cy="561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696080" y="2743200"/>
            <a:ext cx="433440" cy="523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05920" y="2286000"/>
            <a:ext cx="468360" cy="566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81680" y="1219320"/>
            <a:ext cx="1447920" cy="1218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1371600"/>
            <a:ext cx="1066680" cy="129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1371600"/>
            <a:ext cx="167652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23699E-006 C -0.00312 -0.00139 -0.00642 -0.00277 -0.00954 -0.00416 C -0.0111 -0.00485 -0.0144 -0.00624 -0.0144 -0.00624 C 0.00227 -0.00855 0.00122 -0.00208 -0.00155 -0.01688 C -0.0019 -0.01896 0.00157 -0.01595 0.00313 -0.0148 C 0.00539 -0.01364 0.00747 -0.01225 0.00956 -0.01064 C 0.01129 -0.00925 0.01424 -0.00879 0.01424 -0.00624 C 0.01424 -0.00416 0.01112 -0.0074 0.00956 -0.00832 C 0.0073 -0.00971 0.00522 -0.01133 0.00313 -0.01272 C 0.0047 -0.0141 0.00591 -0.01665 0.00782 -0.01688 C 0.01008 -0.01734 0.01424 -0.01202 0.01424 -0.0148 C 0.01424 -0.01595 -0.00763 -0.03422 0.00626 -0.02104 C 0.00765 -0.02682 0.0132 -0.04046 0.01737 -0.04231 C 0.02206 -0.04439 0.02709 -0.04439 0.03178 -0.04647 C 0.02831 -0.05595 0.02327 -0.05919 0.01893 -0.06751 C 0.0165 -0.07769 0.0165 -0.07075 0.02067 -0.07815 C 0.02293 -0.08231 0.02692 -0.0911 0.02692 -0.0911 C 0.02431 -0.10127 0.02588 -0.10289 0.03334 -0.10798 C 0.03438 -0.11006 0.03768 -0.11214 0.03647 -0.11422 C 0.03438 -0.11769 0.03004 -0.11699 0.02692 -0.11838 C 0.02536 -0.11907 0.02223 -0.12046 0.02223 -0.12046 C 0.02588 -0.12786 0.02935 -0.12832 0.0349 -0.13318 C 0.03733 -0.14312 0.03404 -0.14312 0.03178 -0.15214 C 0.03508 -0.16347 0.03803 -0.16948 0.04445 -0.17757 C 0.04185 -0.18798 0.04341 -0.19306 0.04914 -0.20069 C 0.0481 -0.20416 0.04793 -0.20832 0.04602 -0.21133 C 0.04497 -0.21318 0.04254 -0.21225 0.04115 -0.21341 C 0.03421 -0.21896 0.03178 -0.22335 0.02379 -0.22636 C 0.02327 -0.22844 0.02136 -0.23052 0.02223 -0.2326 C 0.02588 -0.24139 0.03473 -0.243 0.04115 -0.24509 C 0.0448 -0.24786 0.04914 -0.24855 0.05227 -0.25156 C 0.05608 -0.25549 0.05973 -0.26497 0.06181 -0.27052 C 0.06233 -0.2874 0.06233 -0.30451 0.06338 -0.32139 C 0.06355 -0.32393 0.06511 -0.32532 0.06511 -0.32763 C 0.06511 -0.33549 0.05713 -0.34867 0.05713 -0.34867 C 0.05661 -0.35098 0.05556 -0.35283 0.05556 -0.35537 C 0.05556 -0.36485 0.07501 -0.38289 0.08091 -0.38682 C 0.08039 -0.38959 0.08074 -0.39329 0.07935 -0.39537 C 0.07588 -0.40046 0.06668 -0.40786 0.06668 -0.40786 C 0.0672 -0.40994 0.06702 -0.41295 0.06824 -0.41433 C 0.07275 -0.41965 0.08282 -0.4252 0.0889 -0.42705 C 0.09671 -0.43329 0.10383 -0.43907 0.11268 -0.44185 C 0.11789 -0.44601 0.12327 -0.4504 0.12848 -0.45457 C 0.13404 -0.45896 0.13768 -0.46659 0.14289 -0.47144 C 0.14393 -0.47353 0.14515 -0.47537 0.14602 -0.47769 C 0.14671 -0.47977 0.14758 -0.48416 0.14758 -0.48416 E">
                                      <p:cBhvr>
                                        <p:cTn id="11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13873E-006 C -0.00104 -0.00209 -0.00139 -0.00532 -0.00313 -0.00625 C -0.00469 -0.00717 -0.00799 -0.00648 -0.00799 -0.00417 C -0.00799 -0.00185 -0.00469 -0.00278 -0.00313 -0.00209 C -0.00417 2.13873000000017E-006 -0.00677 0.00185 -0.00625 0.00439 C -0.0059 0.00647 -0.00278 0.00809 -0.00156 0.00647 C 0.00156 0.00208 -0.00764 -0.00393 -0.00799 -0.00417 C -0.02379 -0.0007 -0.01615 -0.00162 -0.00799 0.00231 C -0.00365 0.0178 -0.00313 2.13873000000017E-006 -0.00156 -0.00625 C -0.00313 -0.00694 -0.00504 -0.00995 -0.00625 -0.00833 C -0.01007 -0.00324 0.00191 0.00161 -0.00156 0.00231 C -0.00573 0.00323 -0.01007 0.00069 -0.01424 2.13873E-006 C -0.01215 -0.00139 -0.0099 -0.00255 -0.00799 -0.00417 C -0.00399 -0.00763 -0.00365 -0.01272 -0.00625 -0.00209 C -0.00833 -0.00278 -0.01198 -0.00139 -0.01267 -0.00417 C -0.01337 -0.00648 -0.00868 -0.00602 -0.00799 -0.00833 C -0.00608 -0.01503 -0.01181 -0.01573 -0.01424 -0.01688 C -0.01267 -0.01827 -0.00903 -0.01873 -0.00955 -0.02104 C -0.01059 -0.02521 -0.01476 -0.02659 -0.01736 -0.0296 C -0.02483 -0.03815 -0.03264 -0.04555 -0.03958 -0.0548 C -0.04045 -0.05827 -0.04323 -0.06405 -0.03958 -0.06752 C -0.03681 -0.07006 -0.03021 -0.07168 -0.03021 -0.07168 C -0.02917 -0.07307 -0.02656 -0.07399 -0.02691 -0.07607 C -0.02726 -0.07908 -0.03038 -0.08 -0.03177 -0.08232 C -0.03299 -0.0844 -0.03385 -0.08671 -0.0349 -0.08879 C -0.03299 -0.10405 -0.03212 -0.10474 -0.0349 -0.12255 C -0.03611 -0.13087 -0.04445 -0.14359 -0.04445 -0.14359 C -0.04149 -0.15561 -0.03993 -0.16024 -0.03333 -0.16902 C -0.03229 -0.17318 -0.03125 -0.17758 -0.03021 -0.18174 C -0.03004 -0.18266 -0.04879 -0.19815 -0.05243 -0.2007 C -0.05399 -0.20162 -0.05556 -0.20232 -0.05712 -0.20278 C -0.07083 -0.21503 -0.06545 -0.20648 -0.07135 -0.23029 C -0.07222 -0.23399 -0.0757 -0.23446 -0.07778 -0.23677 C -0.09427 -0.25596 -0.07413 -0.23492 -0.09045 -0.25156 C -0.09097 -0.25365 -0.09288 -0.25596 -0.09201 -0.25781 C -0.0908 -0.26081 -0.08785 -0.26035 -0.08576 -0.26197 C -0.08403 -0.26336 -0.08247 -0.26498 -0.0809 -0.26636 C -0.08038 -0.26844 -0.07865 -0.27099 -0.07934 -0.27261 C -0.08195 -0.27931 -0.09115 -0.28787 -0.09514 -0.29596 C -0.09462 -0.29873 -0.09497 -0.3022 -0.09358 -0.30428 C -0.09097 -0.30821 -0.08403 -0.31284 -0.08403 -0.31284 C -0.08299 -0.31492 -0.08056 -0.31654 -0.0809 -0.31908 C -0.08333 -0.33318 -0.08663 -0.32925 -0.09201 -0.33596 C -0.10052 -0.34659 -0.10538 -0.35561 -0.11424 -0.36347 C -0.11736 -0.38035 -0.11892 -0.39237 -0.11111 -0.40787 C -0.10938 -0.42498 -0.11024 -0.44024 -0.11424 -0.45642 C -0.11528 -0.46752 -0.11441 -0.48 -0.12066 -0.48833 C -0.12413 -0.50197 -0.13247 -0.51284 -0.14132 -0.52 C -0.14844 -0.53873 -0.14445 -0.55654 -0.14445 -0.57711 E">
                                      <p:cBhvr>
                                        <p:cTn id="12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78035E-007 C -0.01233 0.00417 -0.00486 -5.78034999999637E-007 -0.00157 0.00463 C -0.00035 0.00602 -0.00052 0.00856 4.44444E-006 0.01064 C 0.00104 0.00856 0.00312 0.00717 0.00312 0.00463 C 0.00312 0.00255 4.44444E-006 -5.78035E-007 4.44444E-006 -5.78035E-007 C 0.00104 0.00209 0.00139 0.00578 0.00312 0.00671 C 0.00468 0.0074 0.00746 0.00671 0.00798 0.00463 C 0.0085 0.00185 0.00642 -0.00023 0.00486 -0.00208 C 0.00347 -0.00346 4.44444E-006 -0.00647 4.44444E-006 -0.00393 C 4.44444E-006 -0.00069 0.01441 0.00324 -0.00157 -0.00208 C 4.44443999999991E-006 -0.00277 0.00312 -0.00208 0.00312 -0.00393 C 0.00312 -0.00786 -0.00747 -0.00994 -0.00799 -0.01017 C -0.01719 -0.02335 -0.00591 -0.00462 -0.00799 -0.0208 C -0.00834 -0.02404 -0.01077 -0.02589 -0.01268 -0.02728 C -0.02032 -0.03398 -0.02327 -0.03468 -0.03021 -0.03791 C -0.02466 -0.04138 -0.02014 -0.04601 -0.01424 -0.04855 C -0.03073 -0.06936 -0.00938 -0.04393 -0.02379 -0.05687 C -0.02552 -0.05872 -0.02674 -0.06127 -0.02848 -0.06335 C -0.03004 -0.06474 -0.03177 -0.06589 -0.03334 -0.06728 C -0.03091 -0.07722 -0.02865 -0.07445 -0.02223 -0.08 C -0.02275 -0.08346 -0.0224 -0.08739 -0.02379 -0.09063 C -0.02466 -0.09271 -0.02726 -0.09317 -0.02848 -0.09479 C -0.02952 -0.09664 -0.02969 -0.09919 -0.03021 -0.10127 C -0.02604 -0.10659 -0.02275 -0.10936 -0.01736 -0.1119 C -0.01841 -0.11537 -0.01875 -0.1193 -0.02066 -0.12254 C -0.0217 -0.12393 -0.02396 -0.12323 -0.02535 -0.12462 C -0.03125 -0.12924 -0.03785 -0.13526 -0.04288 -0.14127 C -0.04341 -0.14335 -0.04514 -0.14589 -0.04445 -0.14797 C -0.04288 -0.1526 -0.03368 -0.15329 -0.03177 -0.15398 C -0.02639 -0.15653 -0.02118 -0.16 -0.0158 -0.16254 C -0.01111 -0.16531 -0.00157 -0.16878 -0.00157 -0.16878 C -0.00052 -0.17179 0.00156 -0.1741 0.00156 -0.17734 C 0.00156 -0.18797 -0.00764 -0.19052 -0.01268 -0.19445 C -0.02118 -0.20046 -0.02049 -0.20046 -0.02535 -0.20716 C -0.02882 -0.2208 -0.02049 -0.21872 -0.02535 -0.23653 C -0.02691 -0.24254 -0.03525 -0.25248 -0.03802 -0.2578 C -0.03854 -0.25988 -0.03854 -0.26242 -0.03959 -0.26427 C -0.0408 -0.26635 -0.0441 -0.26589 -0.04445 -0.26843 C -0.04723 -0.29109 -0.03959 -0.30034 -0.02535 -0.30635 C -0.02431 -0.30774 -0.02344 -0.30959 -0.02223 -0.31052 C -0.02084 -0.31167 -0.01771 -0.31052 -0.01736 -0.31283 C -0.01632 -0.31884 -0.02778 -0.323 -0.02848 -0.32323 C -0.03073 -0.32508 -0.03247 -0.32832 -0.0349 -0.32971 C -0.0408 -0.33294 -0.04913 -0.33433 -0.05556 -0.33572 C -0.05816 -0.3378 -0.06077 -0.34034 -0.06354 -0.34242 C -0.06771 -0.3452 -0.07622 -0.35052 -0.07622 -0.35052 C -0.07205 -0.3563 -0.06719 -0.35791 -0.06181 -0.36115 C -0.05851 -0.37479 -0.06407 -0.37988 -0.06823 -0.39075 C -0.06163 -0.40416 -0.04948 -0.4104 -0.03802 -0.4141 C -0.03455 -0.43283 -0.04236 -0.43838 -0.054 -0.44578 C -0.05556 -0.44786 -0.05695 -0.45017 -0.05868 -0.45202 C -0.06025 -0.45387 -0.06285 -0.4541 -0.06354 -0.45641 C -0.06528 -0.46312 -0.05851 -0.46913 -0.05556 -0.47144 C -0.04931 -0.47583 -0.0415 -0.48046 -0.0349 -0.4837 C -0.03368 -0.48601 -0.02691 -0.49734 -0.02691 -0.5008 C -0.02691 -0.52161 -0.03924 -0.53479 -0.04601 -0.55144 C -0.05018 -0.56185 -0.0533 -0.57133 -0.05868 -0.58104 C -0.06042 -0.5956 -0.06233 -0.60855 -0.06354 -0.62335 C -0.06146 -0.63375 -0.06059 -0.64323 -0.05712 -0.65294 C -0.05556 -0.66497 -0.0533 -0.67375 -0.04913 -0.68462 C -0.04861 -0.69086 -0.04757 -0.69734 -0.04757 -0.70358 C -0.04757 -0.70728 -0.04913 -0.71422 -0.04913 -0.71422 E">
                                      <p:cBhvr>
                                        <p:cTn id="13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lvent Proper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s with other polar comp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repelled by non-polar comp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size allows it to saturate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onvey other substances in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odium Chloride in Solu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055520"/>
            <a:ext cx="9144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52531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he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water to itself – H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he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of water to other surfaces/substa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2354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6:28:45Z</dcterms:created>
  <dc:creator>Jeff Schalau</dc:creator>
  <dc:description/>
  <dc:language>en-US</dc:language>
  <cp:lastModifiedBy>Jeff Schalau</cp:lastModifiedBy>
  <dcterms:modified xsi:type="dcterms:W3CDTF">2006-05-23T14:56:13Z</dcterms:modified>
  <cp:revision>39</cp:revision>
  <dc:subject/>
  <dc:title>Physical and Chemical Properties of Wa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