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image11.jpeg" ContentType="image/jpeg"/>
  <Override PartName="/ppt/media/image23.wmf" ContentType="image/x-wmf"/>
  <Override PartName="/ppt/media/image8.png" ContentType="image/png"/>
  <Override PartName="/ppt/media/image14.jpeg" ContentType="image/jpeg"/>
  <Override PartName="/ppt/media/image7.png" ContentType="image/png"/>
  <Override PartName="/ppt/media/image6.wmf" ContentType="image/x-wmf"/>
  <Override PartName="/ppt/media/image19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28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9.png" ContentType="image/png"/>
  <Override PartName="/ppt/media/image26.jpeg" ContentType="image/jpeg"/>
  <Override PartName="/ppt/media/image20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gif" ContentType="image/gif"/>
  <Override PartName="/ppt/media/image22.png" ContentType="image/png"/>
  <Override PartName="/ppt/media/image21.jpeg" ContentType="image/jpeg"/>
  <Override PartName="/ppt/media/image16.png" ContentType="image/png"/>
  <Override PartName="/ppt/media/image15.png" ContentType="image/png"/>
  <Override PartName="/ppt/media/image2.jpeg" ContentType="image/jpeg"/>
  <Override PartName="/ppt/media/image2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6DB7-6D72-4C4B-94EA-AF7D79EEF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1264-8707-4698-B740-4EEBA43F3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B72C-869D-46DF-9024-520F3171E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830B-51AF-4D38-9A85-C372F3A84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BC197-1AA0-4F10-A052-CA0598009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47C3C-918B-4BAE-82BA-00C14F376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1913A-6898-45F0-8B5B-15455E446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5EB68-707B-4671-BB94-FBA1D9E1C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B476F-FD46-4009-A8E6-249029B69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05EAB-2AF7-4E86-B4A7-538744FF7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6099F-060D-4392-914F-D9304ED4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0401-1909-48E0-AC52-2C4AC77EB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52477-38D8-448D-BD1F-0AFCCFE3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FE923-38A1-40EC-8469-0647AB54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31089-4AD4-42C4-88E0-2975DB880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DC1A3-3DDB-45EB-8C48-5265D5761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C1F14-47B7-44B8-9890-DA31F59E3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300F-2499-4795-9C2B-A8EA83AFE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FCB5-B4DA-42E7-813B-4364F8A5D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4964-39E7-4A8E-80FE-2F6C73AA5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25AD-C385-4866-8377-357082B8F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6C94-5087-4560-AA53-651E1F83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1909-19B8-4EAF-99C4-7883527B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C9C1-D576-4603-920E-549ACCD2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3212F-D5F2-4B15-AFF9-171A591CDD8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" name="" descr=""/>
          <p:cNvPicPr/>
          <p:nvPr/>
        </p:nvPicPr>
        <p:blipFill>
          <a:blip r:embed="rId2"/>
          <a:stretch/>
        </p:blipFill>
        <p:spPr>
          <a:xfrm>
            <a:off x="8077320" y="5867280"/>
            <a:ext cx="857160" cy="80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D27A3-ACD4-411D-B348-1ED82B84B5B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8077320" y="5867280"/>
            <a:ext cx="857160" cy="8096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../Master%20Gardener/Master%20Gardener%20Course%20Materials/Animations/ClickMe.html" TargetMode="Externa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dynamicearth.co.uk/education/images/waves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Tahoma"/>
              </a:rPr>
              <a:t>Water and Irrigation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7467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ff Schal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ociate Agent, AN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versity of Arizona Cooperative Exten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avapai Coun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077320" y="5867280"/>
            <a:ext cx="85716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urface Tens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4419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action between hydrogen bonding and the earth’s gravitational pul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143000" y="3429000"/>
            <a:ext cx="3581280" cy="32781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rcRect l="0" t="0" r="65986" b="0"/>
          <a:stretch/>
        </p:blipFill>
        <p:spPr>
          <a:xfrm>
            <a:off x="5562720" y="2819520"/>
            <a:ext cx="2225520" cy="38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apillary Ac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ttable” surfaces cause a film of water to partially pull away from other water molecules and cling to the surfa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pillary action is important in soil and plant/water rela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rcRect l="0" t="0" r="36559" b="0"/>
          <a:stretch/>
        </p:blipFill>
        <p:spPr>
          <a:xfrm>
            <a:off x="5562720" y="4019400"/>
            <a:ext cx="3352680" cy="25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Useful Constants/Conversion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ight: 62.416 pounds per cubic foot at 32°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ight: 8.33 pounds/gallon, 0.036 pounds/cubic in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nsity: 1 gram per cubic centimeter (cc) at 39.2°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 gallon = 4 quarts = 8 pints = 128 ounces = 231 cubic inch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 liter = 0.2642 gallons = 1.0568 quart = 61.02 cubic inch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 Acre-Foot = 325,851 gallons = 43,560 cubic fe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iffus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tendency of substances to move from areas of high concentration to areas of low concentr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 equilibrium, they remain as far apart as possi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" descr="diffusion"/>
          <p:cNvPicPr/>
          <p:nvPr/>
        </p:nvPicPr>
        <p:blipFill>
          <a:blip r:embed="rId1"/>
          <a:srcRect l="0" t="13818" r="11390" b="21861"/>
          <a:stretch/>
        </p:blipFill>
        <p:spPr>
          <a:xfrm>
            <a:off x="457200" y="4038480"/>
            <a:ext cx="4371840" cy="24386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38680" y="373392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Osmosi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smosis is the net movement of water across a selectively permeable membrane driven by a difference in solute concentrations on the two sides of the membra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water moves from the area of higher solute concentration to the area of lower solute concentration until equilibrium is reach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Osmosi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rcRect l="0" t="0" r="53637" b="0"/>
          <a:stretch/>
        </p:blipFill>
        <p:spPr>
          <a:xfrm>
            <a:off x="380880" y="1371600"/>
            <a:ext cx="3886200" cy="52992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380880" y="1371600"/>
            <a:ext cx="8382240" cy="52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H: Alkalinity/Acidit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easurement of the H+ ions found in that particular subst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cale goes from 0 to 1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 is neutr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low 7 is acid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ove 7 is alkaline (or basic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e pH unit represents a ten-fold change in H+ concent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e pH Scal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33520" y="1576440"/>
            <a:ext cx="8153280" cy="46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5638680" y="1752480"/>
            <a:ext cx="35053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lant/Water Relat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nspiration is the water vapor given off pla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aporation is the water vapor lost from the soi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apotranspiration is the sum of both (E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13128" t="0" r="10004" b="0"/>
          <a:stretch/>
        </p:blipFill>
        <p:spPr>
          <a:xfrm>
            <a:off x="6019920" y="1905120"/>
            <a:ext cx="312408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vapotranspiration (Et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-849240" y="3246480"/>
            <a:ext cx="108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croptechnology.unl.edu/animationOut.cgi?anim_name=transpiration.swf&amp;width=0&amp;height=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-849240" y="3246480"/>
            <a:ext cx="108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croptechnology.unl.edu/animationOut.cgi?anim_name=transpiration.swf&amp;width=0&amp;height=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What do we hope to learn about water and irrigation?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Better Understan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water interacts with our environ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plants utilize w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, when, and where to irrigate plant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ranspiration Anima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St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t Predic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ir tempera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lative humid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il tempera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lar radi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cipi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nd spe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nd direc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191120" y="1447920"/>
            <a:ext cx="4800600" cy="43290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105520" y="533412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ZMET S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rriga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t and Science of providing to proper quantity of water to plant roots when it is need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nts and irrigation techniques should be suited t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mate (macro and micr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pograph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i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vailable water (quality and quantit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791320" y="228600"/>
            <a:ext cx="2714400" cy="17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hrub and Tree Root System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e arid southwest, tree roots can extend horizontally 3 to 5 times the height of the tre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" descr="Root Spread"/>
          <p:cNvPicPr/>
          <p:nvPr/>
        </p:nvPicPr>
        <p:blipFill>
          <a:blip r:embed="rId1"/>
          <a:srcRect l="0" t="6700" r="0" b="3951"/>
          <a:stretch/>
        </p:blipFill>
        <p:spPr>
          <a:xfrm>
            <a:off x="914400" y="3657600"/>
            <a:ext cx="754380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erry Mikel’s Law of Pizz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49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=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0” pizza = 79 in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2” pizza = 113 in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” pizza = 314 in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 the radius of the root system doubles, the area of the root system increases by four ti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809880" y="1447920"/>
            <a:ext cx="1838520" cy="6649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6781680" y="1828800"/>
            <a:ext cx="914400" cy="9144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05720" y="3048120"/>
            <a:ext cx="1066680" cy="10666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24480" y="4343400"/>
            <a:ext cx="1905120" cy="19051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010280" y="2133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0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010280" y="3352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2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010280" y="51055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0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8487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eight of water on/in soil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ble is 3’ x 6’ (36 ft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inch of water on that table weighs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7 lb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 inches of water = 1,122 lb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il compaction can occur during flood irrig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ter also displaces air potentially leading to plant str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ysimeters are used to measure actual water us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724280" y="2209680"/>
            <a:ext cx="4238640" cy="3181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419076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How does water behave in soil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vity moves it in (infiltratio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vity + Capillary Action moves it down and horizontally (percolatio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aporation and transpiration removes water from soi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pillary action moves it upwar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urnal effec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y - dr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ight - equilibra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rrigation Principl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inch of water will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 12” deep in a sandy lo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-10” deep in a lo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-6” deep in a clay lo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irrigate each soil to a three foot depth, you need to appl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” on a sandy lo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” on a lo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” on a clay lo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1828800" y="3733920"/>
          <a:ext cx="6024600" cy="272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733920"/>
                    <a:ext cx="6024600" cy="27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ore Irrigation Principl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gallon of water will irrigate roughly 1 ft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3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 soi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2743200" y="3733920"/>
            <a:ext cx="0" cy="457200"/>
          </a:xfrm>
          <a:prstGeom prst="line">
            <a:avLst/>
          </a:prstGeom>
          <a:ln w="7632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0" y="3733920"/>
            <a:ext cx="0" cy="533160"/>
          </a:xfrm>
          <a:prstGeom prst="line">
            <a:avLst/>
          </a:prstGeom>
          <a:ln w="7632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477120" y="3733920"/>
            <a:ext cx="0" cy="533160"/>
          </a:xfrm>
          <a:prstGeom prst="line">
            <a:avLst/>
          </a:prstGeom>
          <a:ln w="7632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81080" y="5943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andy Lo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67280" y="51814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ay Lo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114800" y="54864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e oxygen at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wo hydrogen ato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symmetric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ctrons spend more time near the oxygen and less near the hydrog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ter molecule is po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486400" y="1523880"/>
            <a:ext cx="3152880" cy="23194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olecular Structure of Water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6705720" y="2057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315200" y="2666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72200" y="2666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772400" y="3124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1320" y="3124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553080" y="13716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One, Two, Three Rule - 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rcRect l="53753" t="12829" r="22641" b="54734"/>
          <a:stretch/>
        </p:blipFill>
        <p:spPr>
          <a:xfrm>
            <a:off x="685800" y="1752480"/>
            <a:ext cx="8077320" cy="4572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762120" y="50292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62120" y="533412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62120" y="563868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62120" y="59436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3429000"/>
            <a:ext cx="12193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nual 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renn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666880" y="3352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r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32448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One, Two, Three Rule - I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rcRect l="53753" t="12829" r="22641" b="54734"/>
          <a:stretch/>
        </p:blipFill>
        <p:spPr>
          <a:xfrm>
            <a:off x="685800" y="1752480"/>
            <a:ext cx="8077320" cy="45720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762120" y="50292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62120" y="533412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563868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62120" y="59436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38080" y="3429000"/>
            <a:ext cx="12193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nual 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renn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666880" y="3352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r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502920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343400" y="502920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62120" y="5029200"/>
            <a:ext cx="1295280" cy="304920"/>
          </a:xfrm>
          <a:prstGeom prst="rect">
            <a:avLst/>
          </a:prstGeom>
          <a:solidFill>
            <a:srgbClr val="66ccff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7400" y="5029200"/>
            <a:ext cx="2286000" cy="609480"/>
          </a:xfrm>
          <a:prstGeom prst="rect">
            <a:avLst/>
          </a:prstGeom>
          <a:solidFill>
            <a:srgbClr val="66ccff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343400" y="5029200"/>
            <a:ext cx="4191120" cy="990720"/>
          </a:xfrm>
          <a:prstGeom prst="rect">
            <a:avLst/>
          </a:prstGeom>
          <a:solidFill>
            <a:srgbClr val="66ccff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14400" y="1828800"/>
            <a:ext cx="3505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rigate plants to the proper depth and check with a pro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50292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 fo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590920" y="50292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 fe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943600" y="5029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fe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38080" y="3429000"/>
            <a:ext cx="12193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nual 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renn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666880" y="3352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r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32448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1828800"/>
            <a:ext cx="3505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rigate plants to the proper depth and check with a pro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One, Two, Three Rule - II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rcRect l="53753" t="12829" r="22641" b="54734"/>
          <a:stretch/>
        </p:blipFill>
        <p:spPr>
          <a:xfrm>
            <a:off x="685800" y="1752480"/>
            <a:ext cx="8077320" cy="457200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sp>
        <p:nvSpPr>
          <p:cNvPr id="253" name=""/>
          <p:cNvSpPr/>
          <p:nvPr/>
        </p:nvSpPr>
        <p:spPr>
          <a:xfrm>
            <a:off x="762120" y="50292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62120" y="533412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62120" y="563868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62120" y="59436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38080" y="3429000"/>
            <a:ext cx="12193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nual 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renn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666880" y="3352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r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057400" y="502920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343400" y="502920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62120" y="5029200"/>
            <a:ext cx="1295280" cy="304920"/>
          </a:xfrm>
          <a:prstGeom prst="rect">
            <a:avLst/>
          </a:prstGeom>
          <a:solidFill>
            <a:srgbClr val="66ccff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057400" y="5029200"/>
            <a:ext cx="2286000" cy="609480"/>
          </a:xfrm>
          <a:prstGeom prst="rect">
            <a:avLst/>
          </a:prstGeom>
          <a:solidFill>
            <a:srgbClr val="66ccff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343400" y="5029200"/>
            <a:ext cx="4191120" cy="990720"/>
          </a:xfrm>
          <a:prstGeom prst="rect">
            <a:avLst/>
          </a:prstGeom>
          <a:solidFill>
            <a:srgbClr val="66ccff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85800" y="1676520"/>
            <a:ext cx="4343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plants to utilize the water until the soil surface dries to a depth of (early morning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62120" y="50292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 in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90920" y="50292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 inch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943600" y="5029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inch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38080" y="3429000"/>
            <a:ext cx="12193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nual 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renn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66880" y="3352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r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32448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5029200"/>
            <a:ext cx="129528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7400" y="5029200"/>
            <a:ext cx="2286000" cy="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343400" y="5029200"/>
            <a:ext cx="4191120" cy="0"/>
          </a:xfrm>
          <a:prstGeom prst="line">
            <a:avLst/>
          </a:prstGeom>
          <a:ln w="1144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One, Two, Three Rule - IV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rcRect l="53753" t="12829" r="22641" b="54734"/>
          <a:stretch/>
        </p:blipFill>
        <p:spPr>
          <a:xfrm>
            <a:off x="685800" y="1752480"/>
            <a:ext cx="8077320" cy="457200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sp>
        <p:nvSpPr>
          <p:cNvPr id="277" name=""/>
          <p:cNvSpPr/>
          <p:nvPr/>
        </p:nvSpPr>
        <p:spPr>
          <a:xfrm>
            <a:off x="762120" y="50292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533412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62120" y="563868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62120" y="59436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38080" y="3429000"/>
            <a:ext cx="12193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nual 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renn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666880" y="3352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r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32448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057400" y="502920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343400" y="502920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62120" y="5029200"/>
            <a:ext cx="1295280" cy="304920"/>
          </a:xfrm>
          <a:prstGeom prst="rect">
            <a:avLst/>
          </a:prstGeom>
          <a:solidFill>
            <a:srgbClr val="66ccff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5029200"/>
            <a:ext cx="2286000" cy="609480"/>
          </a:xfrm>
          <a:prstGeom prst="rect">
            <a:avLst/>
          </a:prstGeom>
          <a:solidFill>
            <a:srgbClr val="66ccff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343400" y="5029200"/>
            <a:ext cx="4191120" cy="990720"/>
          </a:xfrm>
          <a:prstGeom prst="rect">
            <a:avLst/>
          </a:prstGeom>
          <a:solidFill>
            <a:srgbClr val="66ccff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" y="1676520"/>
            <a:ext cx="434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irrigation frequency for that soil at that time of yea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38080" y="3429000"/>
            <a:ext cx="12193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nual 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renn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666880" y="3352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r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32448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rrigation Methods-Drip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sy to install, but does not keep up with growth on large woody pla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can use multiport heads for these situ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think of it as a “disposable system” which works for some natives (i.e. by the time the system disintegrates, natives may be able to survive on natural precipit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rrigation Methods-Spray head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cellent for turf and ground cov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 as good for trees and shrub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ed a good design (consider hiring a professional to design the system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ill need repair and mainten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 not mix and match incompatible nozzles and head types or brand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rrigation Methods-Bubbler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eat for shrubs and trees in basi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ed to have level ground and a ber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 not put on same station (valve) as turf or dri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rrigation Methods-Automatic Timer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et times for different times of ye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eck system periodically to make sure it is working correct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urn off after rai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rrigation Methods-Other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aker hoses work great for trees, shrubs, vegetables, and annu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scillating sprinklers can work well for those on a budget, but there will be dry spo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od, old fashioned hose spraying works well for natives that only need periodic watering during drou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rrigation Wrap-Up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 not overwater or fertilize native and/or drought tolerant plants and cause them to grow too mu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 not assume that just because a plant is native and/or drought tolerant that it does not need irrig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nts need some water in winter, evergreens also need adequate water in winte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Hydrogen Bonding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ttracted to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–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ch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 is bonded to its nearest neighb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505320" y="1523880"/>
            <a:ext cx="5410080" cy="477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hysical Stat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1500120"/>
            <a:ext cx="9144000" cy="5357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257800" y="0"/>
            <a:ext cx="1814400" cy="18162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315200" y="457200"/>
            <a:ext cx="142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Vap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8458200" y="3124080"/>
            <a:ext cx="511200" cy="5619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696080" y="2743200"/>
            <a:ext cx="433440" cy="523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05920" y="2286000"/>
            <a:ext cx="468360" cy="5666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781680" y="1219320"/>
            <a:ext cx="1447920" cy="12189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29400" y="1371600"/>
            <a:ext cx="1066680" cy="1295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781680" y="1371600"/>
            <a:ext cx="1676520" cy="17524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3.23699E-006 C -0.00312 -0.00139 -0.00642 -0.00277 -0.00954 -0.00416 C -0.0111 -0.00485 -0.0144 -0.00624 -0.0144 -0.00624 C 0.00227 -0.00855 0.00122 -0.00208 -0.00155 -0.01688 C -0.0019 -0.01896 0.00157 -0.01595 0.00313 -0.0148 C 0.00539 -0.01364 0.00747 -0.01225 0.00956 -0.01064 C 0.01129 -0.00925 0.01424 -0.00879 0.01424 -0.00624 C 0.01424 -0.00416 0.01112 -0.0074 0.00956 -0.00832 C 0.0073 -0.00971 0.00522 -0.01133 0.00313 -0.01272 C 0.0047 -0.0141 0.00591 -0.01665 0.00782 -0.01688 C 0.01008 -0.01734 0.01424 -0.01202 0.01424 -0.0148 C 0.01424 -0.01595 -0.00763 -0.03422 0.00626 -0.02104 C 0.00765 -0.02682 0.0132 -0.04046 0.01737 -0.04231 C 0.02206 -0.04439 0.02709 -0.04439 0.03178 -0.04647 C 0.02831 -0.05595 0.02327 -0.05919 0.01893 -0.06751 C 0.0165 -0.07769 0.0165 -0.07075 0.02067 -0.07815 C 0.02293 -0.08231 0.02692 -0.0911 0.02692 -0.0911 C 0.02431 -0.10127 0.02588 -0.10289 0.03334 -0.10798 C 0.03438 -0.11006 0.03768 -0.11214 0.03647 -0.11422 C 0.03438 -0.11769 0.03004 -0.11699 0.02692 -0.11838 C 0.02536 -0.11907 0.02223 -0.12046 0.02223 -0.12046 C 0.02588 -0.12786 0.02935 -0.12832 0.0349 -0.13318 C 0.03733 -0.14312 0.03404 -0.14312 0.03178 -0.15214 C 0.03508 -0.16347 0.03803 -0.16948 0.04445 -0.17757 C 0.04185 -0.18798 0.04341 -0.19306 0.04914 -0.20069 C 0.0481 -0.20416 0.04793 -0.20832 0.04602 -0.21133 C 0.04497 -0.21318 0.04254 -0.21225 0.04115 -0.21341 C 0.03421 -0.21896 0.03178 -0.22335 0.02379 -0.22636 C 0.02327 -0.22844 0.02136 -0.23052 0.02223 -0.2326 C 0.02588 -0.24139 0.03473 -0.243 0.04115 -0.24509 C 0.0448 -0.24786 0.04914 -0.24855 0.05227 -0.25156 C 0.05608 -0.25549 0.05973 -0.26497 0.06181 -0.27052 C 0.06233 -0.2874 0.06233 -0.30451 0.06338 -0.32139 C 0.06355 -0.32393 0.06511 -0.32532 0.06511 -0.32763 C 0.06511 -0.33549 0.05713 -0.34867 0.05713 -0.34867 C 0.05661 -0.35098 0.05556 -0.35283 0.05556 -0.35537 C 0.05556 -0.36485 0.07501 -0.38289 0.08091 -0.38682 C 0.08039 -0.38959 0.08074 -0.39329 0.07935 -0.39537 C 0.07588 -0.40046 0.06668 -0.40786 0.06668 -0.40786 C 0.0672 -0.40994 0.06702 -0.41295 0.06824 -0.41433 C 0.07275 -0.41965 0.08282 -0.4252 0.0889 -0.42705 C 0.09671 -0.43329 0.10383 -0.43907 0.11268 -0.44185 C 0.11789 -0.44601 0.12327 -0.4504 0.12848 -0.45457 C 0.13404 -0.45896 0.13768 -0.46659 0.14289 -0.47144 C 0.14393 -0.47353 0.14515 -0.47537 0.14602 -0.47769 C 0.14671 -0.47977 0.14758 -0.48416 0.14758 -0.48416 E">
                                      <p:cBhvr>
                                        <p:cTn id="115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13873E-006 C -0.00104 -0.00209 -0.00139 -0.00532 -0.00313 -0.00625 C -0.00469 -0.00717 -0.00799 -0.00648 -0.00799 -0.00417 C -0.00799 -0.00185 -0.00469 -0.00278 -0.00313 -0.00209 C -0.00417 2.13873000000017E-006 -0.00677 0.00185 -0.00625 0.00439 C -0.0059 0.00647 -0.00278 0.00809 -0.00156 0.00647 C 0.00156 0.00208 -0.00764 -0.00393 -0.00799 -0.00417 C -0.02379 -0.0007 -0.01615 -0.00162 -0.00799 0.00231 C -0.00365 0.0178 -0.00313 2.13873000000017E-006 -0.00156 -0.00625 C -0.00313 -0.00694 -0.00504 -0.00995 -0.00625 -0.00833 C -0.01007 -0.00324 0.00191 0.00161 -0.00156 0.00231 C -0.00573 0.00323 -0.01007 0.00069 -0.01424 2.13873E-006 C -0.01215 -0.00139 -0.0099 -0.00255 -0.00799 -0.00417 C -0.00399 -0.00763 -0.00365 -0.01272 -0.00625 -0.00209 C -0.00833 -0.00278 -0.01198 -0.00139 -0.01267 -0.00417 C -0.01337 -0.00648 -0.00868 -0.00602 -0.00799 -0.00833 C -0.00608 -0.01503 -0.01181 -0.01573 -0.01424 -0.01688 C -0.01267 -0.01827 -0.00903 -0.01873 -0.00955 -0.02104 C -0.01059 -0.02521 -0.01476 -0.02659 -0.01736 -0.0296 C -0.02483 -0.03815 -0.03264 -0.04555 -0.03958 -0.0548 C -0.04045 -0.05827 -0.04323 -0.06405 -0.03958 -0.06752 C -0.03681 -0.07006 -0.03021 -0.07168 -0.03021 -0.07168 C -0.02917 -0.07307 -0.02656 -0.07399 -0.02691 -0.07607 C -0.02726 -0.07908 -0.03038 -0.08 -0.03177 -0.08232 C -0.03299 -0.0844 -0.03385 -0.08671 -0.0349 -0.08879 C -0.03299 -0.10405 -0.03212 -0.10474 -0.0349 -0.12255 C -0.03611 -0.13087 -0.04445 -0.14359 -0.04445 -0.14359 C -0.04149 -0.15561 -0.03993 -0.16024 -0.03333 -0.16902 C -0.03229 -0.17318 -0.03125 -0.17758 -0.03021 -0.18174 C -0.03004 -0.18266 -0.04879 -0.19815 -0.05243 -0.2007 C -0.05399 -0.20162 -0.05556 -0.20232 -0.05712 -0.20278 C -0.07083 -0.21503 -0.06545 -0.20648 -0.07135 -0.23029 C -0.07222 -0.23399 -0.0757 -0.23446 -0.07778 -0.23677 C -0.09427 -0.25596 -0.07413 -0.23492 -0.09045 -0.25156 C -0.09097 -0.25365 -0.09288 -0.25596 -0.09201 -0.25781 C -0.0908 -0.26081 -0.08785 -0.26035 -0.08576 -0.26197 C -0.08403 -0.26336 -0.08247 -0.26498 -0.0809 -0.26636 C -0.08038 -0.26844 -0.07865 -0.27099 -0.07934 -0.27261 C -0.08195 -0.27931 -0.09115 -0.28787 -0.09514 -0.29596 C -0.09462 -0.29873 -0.09497 -0.3022 -0.09358 -0.30428 C -0.09097 -0.30821 -0.08403 -0.31284 -0.08403 -0.31284 C -0.08299 -0.31492 -0.08056 -0.31654 -0.0809 -0.31908 C -0.08333 -0.33318 -0.08663 -0.32925 -0.09201 -0.33596 C -0.10052 -0.34659 -0.10538 -0.35561 -0.11424 -0.36347 C -0.11736 -0.38035 -0.11892 -0.39237 -0.11111 -0.40787 C -0.10938 -0.42498 -0.11024 -0.44024 -0.11424 -0.45642 C -0.11528 -0.46752 -0.11441 -0.48 -0.12066 -0.48833 C -0.12413 -0.50197 -0.13247 -0.51284 -0.14132 -0.52 C -0.14844 -0.53873 -0.14445 -0.55654 -0.14445 -0.57711 E">
                                      <p:cBhvr>
                                        <p:cTn id="125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5.78035E-007 C -0.01233 0.00417 -0.00486 -5.78034999999637E-007 -0.00157 0.00463 C -0.00035 0.00602 -0.00052 0.00856 4.44444E-006 0.01064 C 0.00104 0.00856 0.00312 0.00717 0.00312 0.00463 C 0.00312 0.00255 4.44444E-006 -5.78035E-007 4.44444E-006 -5.78035E-007 C 0.00104 0.00209 0.00139 0.00578 0.00312 0.00671 C 0.00468 0.0074 0.00746 0.00671 0.00798 0.00463 C 0.0085 0.00185 0.00642 -0.00023 0.00486 -0.00208 C 0.00347 -0.00346 4.44444E-006 -0.00647 4.44444E-006 -0.00393 C 4.44444E-006 -0.00069 0.01441 0.00324 -0.00157 -0.00208 C 4.44443999999991E-006 -0.00277 0.00312 -0.00208 0.00312 -0.00393 C 0.00312 -0.00786 -0.00747 -0.00994 -0.00799 -0.01017 C -0.01719 -0.02335 -0.00591 -0.00462 -0.00799 -0.0208 C -0.00834 -0.02404 -0.01077 -0.02589 -0.01268 -0.02728 C -0.02032 -0.03398 -0.02327 -0.03468 -0.03021 -0.03791 C -0.02466 -0.04138 -0.02014 -0.04601 -0.01424 -0.04855 C -0.03073 -0.06936 -0.00938 -0.04393 -0.02379 -0.05687 C -0.02552 -0.05872 -0.02674 -0.06127 -0.02848 -0.06335 C -0.03004 -0.06474 -0.03177 -0.06589 -0.03334 -0.06728 C -0.03091 -0.07722 -0.02865 -0.07445 -0.02223 -0.08 C -0.02275 -0.08346 -0.0224 -0.08739 -0.02379 -0.09063 C -0.02466 -0.09271 -0.02726 -0.09317 -0.02848 -0.09479 C -0.02952 -0.09664 -0.02969 -0.09919 -0.03021 -0.10127 C -0.02604 -0.10659 -0.02275 -0.10936 -0.01736 -0.1119 C -0.01841 -0.11537 -0.01875 -0.1193 -0.02066 -0.12254 C -0.0217 -0.12393 -0.02396 -0.12323 -0.02535 -0.12462 C -0.03125 -0.12924 -0.03785 -0.13526 -0.04288 -0.14127 C -0.04341 -0.14335 -0.04514 -0.14589 -0.04445 -0.14797 C -0.04288 -0.1526 -0.03368 -0.15329 -0.03177 -0.15398 C -0.02639 -0.15653 -0.02118 -0.16 -0.0158 -0.16254 C -0.01111 -0.16531 -0.00157 -0.16878 -0.00157 -0.16878 C -0.00052 -0.17179 0.00156 -0.1741 0.00156 -0.17734 C 0.00156 -0.18797 -0.00764 -0.19052 -0.01268 -0.19445 C -0.02118 -0.20046 -0.02049 -0.20046 -0.02535 -0.20716 C -0.02882 -0.2208 -0.02049 -0.21872 -0.02535 -0.23653 C -0.02691 -0.24254 -0.03525 -0.25248 -0.03802 -0.2578 C -0.03854 -0.25988 -0.03854 -0.26242 -0.03959 -0.26427 C -0.0408 -0.26635 -0.0441 -0.26589 -0.04445 -0.26843 C -0.04723 -0.29109 -0.03959 -0.30034 -0.02535 -0.30635 C -0.02431 -0.30774 -0.02344 -0.30959 -0.02223 -0.31052 C -0.02084 -0.31167 -0.01771 -0.31052 -0.01736 -0.31283 C -0.01632 -0.31884 -0.02778 -0.323 -0.02848 -0.32323 C -0.03073 -0.32508 -0.03247 -0.32832 -0.0349 -0.32971 C -0.0408 -0.33294 -0.04913 -0.33433 -0.05556 -0.33572 C -0.05816 -0.3378 -0.06077 -0.34034 -0.06354 -0.34242 C -0.06771 -0.3452 -0.07622 -0.35052 -0.07622 -0.35052 C -0.07205 -0.3563 -0.06719 -0.35791 -0.06181 -0.36115 C -0.05851 -0.37479 -0.06407 -0.37988 -0.06823 -0.39075 C -0.06163 -0.40416 -0.04948 -0.4104 -0.03802 -0.4141 C -0.03455 -0.43283 -0.04236 -0.43838 -0.054 -0.44578 C -0.05556 -0.44786 -0.05695 -0.45017 -0.05868 -0.45202 C -0.06025 -0.45387 -0.06285 -0.4541 -0.06354 -0.45641 C -0.06528 -0.46312 -0.05851 -0.46913 -0.05556 -0.47144 C -0.04931 -0.47583 -0.0415 -0.48046 -0.0349 -0.4837 C -0.03368 -0.48601 -0.02691 -0.49734 -0.02691 -0.5008 C -0.02691 -0.52161 -0.03924 -0.53479 -0.04601 -0.55144 C -0.05018 -0.56185 -0.0533 -0.57133 -0.05868 -0.58104 C -0.06042 -0.5956 -0.06233 -0.60855 -0.06354 -0.62335 C -0.06146 -0.63375 -0.06059 -0.64323 -0.05712 -0.65294 C -0.05556 -0.66497 -0.0533 -0.67375 -0.04913 -0.68462 C -0.04861 -0.69086 -0.04757 -0.69734 -0.04757 -0.70358 C -0.04757 -0.70728 -0.04913 -0.71422 -0.04913 -0.71422 E">
                                      <p:cBhvr>
                                        <p:cTn id="135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olvent Properti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acts with other polar compoun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repelled by non-polar compoun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mall size allows it to saturate are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convey other substances in solu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Sodium Chloride in Solution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1055520"/>
            <a:ext cx="9144000" cy="58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371600"/>
            <a:ext cx="8077320" cy="525312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ohes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ttraction water to itself – H bo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dhes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ttraction of water to other surfaces/substan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572000" y="1371600"/>
            <a:ext cx="423540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4T16:28:45Z</dcterms:created>
  <dc:creator>Jeff Schalau</dc:creator>
  <dc:description/>
  <dc:language>en-US</dc:language>
  <cp:lastModifiedBy>Jeff Schalau</cp:lastModifiedBy>
  <dcterms:modified xsi:type="dcterms:W3CDTF">2006-05-23T14:56:13Z</dcterms:modified>
  <cp:revision>39</cp:revision>
  <dc:subject/>
  <dc:title>Physical and Chemical Properties of Wat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