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8EE-04E5-4ED4-9361-4F576512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33C-9B7B-451B-B919-A5A23522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DDE-0710-4467-8DE4-8BD12BE8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3F3-9B36-4A5F-A572-DD7BAFB5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0158-C2BF-4B71-990F-71AAC492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1095-1D74-44E2-89D7-B32B3494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E02D-2CF0-45D7-9BA6-17AD5B23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8C73-1717-4122-8DD4-C9C703FA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C324-A2BF-467F-8177-83F725F2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C033-6421-4B67-B586-B28D646D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5BF3-E06C-4E4A-A806-896EBA9D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94F-EA28-448F-82C6-9186B60D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7CDE-6150-4E04-BEAA-F00B300E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065F-2508-47BD-B78D-C1600092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C5B4-32EC-4CB7-ADF5-7480EBB1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088E-2D35-4FC0-97C7-D646B0D9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9F86-829B-4953-86F9-50CA104A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50F1B-1344-4E7E-A77B-E8D04E1E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E0D6C-F089-4D47-AE36-71C64628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A4E33-80F5-4030-A9D3-42D2DCDE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DFB18-8DA8-414F-86FE-1633E835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DB0B0-3D8D-46B4-A5E4-50D03BD8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CFA-7D4C-4244-B608-D48452B4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2048B-911A-4CC6-A2A5-E0DBED5E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9C2B1-586A-4146-90AB-9B0BDF0B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8D10A-528C-4BF0-BF21-6AB0E5D7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A527D-6E56-4C16-9EEB-C8A89A3B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E193A-9773-4324-8778-2794E7B1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881C0-D5A5-462D-90AD-D6A2CE41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4D315-F8A1-4491-ADAF-B250CEDA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8BDA2-08FE-49DB-BCE9-AC59DF2A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486D4-034D-4D9A-AF31-2C0ABF04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7D43E-AF3C-43CA-9EE0-518FC9F1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DF6-613A-4AF5-9691-AEAFC0BB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5F014-75BF-4048-B745-78B799B0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33D6C-6BF7-4F38-85D6-EB41CED6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E289A-1B1F-4540-84AA-CA854A91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56B09-750A-4814-A5EB-3255B750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B0FA7-3386-4C30-BB7C-B847D577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FD6A5-6FBB-4375-B77A-6230D05C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B1DA8-4D0B-4DBD-A0AF-CCDDBA80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535F1-9628-416E-A736-E244BEF4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1CFCB-2B1F-4B5E-87B7-5AAB8628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F07-CCCC-4185-8B9F-EBEA1CA7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D58-EB6A-469C-B835-03F1F8E2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705-6789-41EF-A28F-CEB2C801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E49-BD88-47EC-B01A-AF052875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A57-AAB2-4E91-BC4D-CDE9888A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A63E-9FFD-48B5-86CE-2312301B9A59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29BA-EA93-4D36-8002-1D5B620AF155}" type="slidenum"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D2FB-11FD-4BFD-A6B3-5B7177E12184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C826-CA3E-4FCB-8FC6-8A7DC80AF90D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65530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Century Gothic"/>
              </a:rPr>
              <a:t>الإدارة المالية 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Picture 4" descr="money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337" name="Footer Placeholder 1"/>
          <p:cNvSpPr/>
          <p:nvPr/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رابعا : قرارات توزيع الأرباح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42560" y="1484280"/>
            <a:ext cx="6777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عند توزيع الأرباح ، يواجه المدير المالي  مشكلة التوفيق بين مطلبين هما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توزيع الارباح على أصحابها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حاجة المنظمة إلى هذه الارباح لإعادة استثمارها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6" name="Picture 4" descr="money"/>
          <p:cNvPicPr/>
          <p:nvPr/>
        </p:nvPicPr>
        <p:blipFill>
          <a:blip r:embed="rId1"/>
          <a:stretch/>
        </p:blipFill>
        <p:spPr>
          <a:xfrm>
            <a:off x="468360" y="3645000"/>
            <a:ext cx="8280360" cy="2879640"/>
          </a:xfrm>
          <a:prstGeom prst="rect">
            <a:avLst/>
          </a:prstGeom>
          <a:ln w="0">
            <a:noFill/>
          </a:ln>
        </p:spPr>
      </p:pic>
      <p:sp>
        <p:nvSpPr>
          <p:cNvPr id="387" name="Footer Placeholder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4c600"/>
                </a:solidFill>
                <a:latin typeface="Century Gothic"/>
              </a:rPr>
              <a:t>المحتويات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مفهوم الإدارة المالية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الأنشطة الإدارية التي تمارسها الإدارة المالية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القرارات المال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0" name="Picture 4" descr="C:\Users\General\AppData\Local\Microsoft\Windows\Temporary Internet Files\Content.IE5\CQYLE2UM\MP900390095[1].jpg"/>
          <p:cNvPicPr/>
          <p:nvPr/>
        </p:nvPicPr>
        <p:blipFill>
          <a:blip r:embed="rId1"/>
          <a:stretch/>
        </p:blipFill>
        <p:spPr>
          <a:xfrm>
            <a:off x="539640" y="4292640"/>
            <a:ext cx="8136000" cy="2249280"/>
          </a:xfrm>
          <a:prstGeom prst="rect">
            <a:avLst/>
          </a:prstGeom>
          <a:ln w="0">
            <a:noFill/>
          </a:ln>
        </p:spPr>
      </p:pic>
      <p:sp>
        <p:nvSpPr>
          <p:cNvPr id="341" name="Footer Placeholder 2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4a510"/>
                </a:solidFill>
                <a:latin typeface="Century Gothic"/>
              </a:rPr>
              <a:t>مفهوم الإدارة المال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Picture 4" descr="money-management"/>
          <p:cNvPicPr/>
          <p:nvPr/>
        </p:nvPicPr>
        <p:blipFill>
          <a:blip r:embed="rId1"/>
          <a:stretch/>
        </p:blipFill>
        <p:spPr>
          <a:xfrm>
            <a:off x="2627280" y="4159080"/>
            <a:ext cx="3898800" cy="2698920"/>
          </a:xfrm>
          <a:prstGeom prst="rect">
            <a:avLst/>
          </a:prstGeom>
          <a:ln w="0">
            <a:noFill/>
          </a:ln>
        </p:spPr>
      </p:pic>
      <p:sp>
        <p:nvSpPr>
          <p:cNvPr id="345" name="شكل بيضاوي 1"/>
          <p:cNvSpPr/>
          <p:nvPr/>
        </p:nvSpPr>
        <p:spPr>
          <a:xfrm>
            <a:off x="1116000" y="1773360"/>
            <a:ext cx="7056360" cy="1922400"/>
          </a:xfrm>
          <a:prstGeom prst="ellipse">
            <a:avLst/>
          </a:prstGeom>
          <a:gradFill rotWithShape="0">
            <a:gsLst>
              <a:gs pos="0">
                <a:srgbClr val="eee5e0"/>
              </a:gs>
              <a:gs pos="100000">
                <a:srgbClr val="996b3f"/>
              </a:gs>
            </a:gsLst>
            <a:lin ang="5040000"/>
          </a:gradFill>
          <a:ln w="9360">
            <a:solidFill>
              <a:srgbClr val="956b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 ذلك النشاط الذهني الذي يختص بالتخطيط والتنظيم والمتابعة لحركتي الدخول والخروج للأموال الحالية والمرتقبة من والى المنظم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4c600"/>
                </a:solidFill>
                <a:latin typeface="Century Gothic"/>
              </a:rPr>
              <a:t>الأنشطة الإدارية التي تمارسها الإدارة المالية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9" name="Picture 4" descr="money_tree"/>
          <p:cNvPicPr/>
          <p:nvPr/>
        </p:nvPicPr>
        <p:blipFill>
          <a:blip r:embed="rId1"/>
          <a:stretch/>
        </p:blipFill>
        <p:spPr>
          <a:xfrm>
            <a:off x="2411280" y="3141720"/>
            <a:ext cx="4216680" cy="3273480"/>
          </a:xfrm>
          <a:prstGeom prst="rect">
            <a:avLst/>
          </a:prstGeom>
          <a:ln w="0">
            <a:noFill/>
          </a:ln>
        </p:spPr>
      </p:pic>
      <p:sp>
        <p:nvSpPr>
          <p:cNvPr id="350" name="شكل بيضاوي 1"/>
          <p:cNvSpPr/>
          <p:nvPr/>
        </p:nvSpPr>
        <p:spPr>
          <a:xfrm>
            <a:off x="739800" y="3500280"/>
            <a:ext cx="1873080" cy="11304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الرقابة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2"/>
          <a:stretch/>
        </p:blipFill>
        <p:spPr>
          <a:xfrm>
            <a:off x="6443640" y="3625920"/>
            <a:ext cx="1895400" cy="1152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"/>
          <p:cNvPicPr/>
          <p:nvPr/>
        </p:nvPicPr>
        <p:blipFill>
          <a:blip r:embed="rId3"/>
          <a:stretch/>
        </p:blipFill>
        <p:spPr>
          <a:xfrm>
            <a:off x="3673440" y="2144880"/>
            <a:ext cx="1895400" cy="1152360"/>
          </a:xfrm>
          <a:prstGeom prst="rect">
            <a:avLst/>
          </a:prstGeom>
          <a:ln w="0">
            <a:noFill/>
          </a:ln>
        </p:spPr>
      </p:pic>
      <p:sp>
        <p:nvSpPr>
          <p:cNvPr id="353" name="مستطيل 6"/>
          <p:cNvSpPr/>
          <p:nvPr/>
        </p:nvSpPr>
        <p:spPr>
          <a:xfrm>
            <a:off x="3673440" y="246528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تنظيم الما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0246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القرارات المالية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6" name="Picture 4" descr="572"/>
          <p:cNvPicPr/>
          <p:nvPr/>
        </p:nvPicPr>
        <p:blipFill>
          <a:blip r:embed="rId1"/>
          <a:stretch/>
        </p:blipFill>
        <p:spPr>
          <a:xfrm>
            <a:off x="3300480" y="2522520"/>
            <a:ext cx="3047760" cy="2529000"/>
          </a:xfrm>
          <a:prstGeom prst="rect">
            <a:avLst/>
          </a:prstGeom>
          <a:ln w="0">
            <a:noFill/>
          </a:ln>
        </p:spPr>
      </p:pic>
      <p:sp>
        <p:nvSpPr>
          <p:cNvPr id="357" name="شكل بيضاوي 2"/>
          <p:cNvSpPr/>
          <p:nvPr/>
        </p:nvSpPr>
        <p:spPr>
          <a:xfrm>
            <a:off x="3780000" y="1397160"/>
            <a:ext cx="2087280" cy="9144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قرارات التمو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2"/>
          <a:stretch/>
        </p:blipFill>
        <p:spPr>
          <a:xfrm>
            <a:off x="3990960" y="5373720"/>
            <a:ext cx="1876320" cy="1008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"/>
          <p:cNvPicPr/>
          <p:nvPr/>
        </p:nvPicPr>
        <p:blipFill>
          <a:blip r:embed="rId3"/>
          <a:stretch/>
        </p:blipFill>
        <p:spPr>
          <a:xfrm>
            <a:off x="1092240" y="3357720"/>
            <a:ext cx="2111400" cy="933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"/>
          <p:cNvPicPr/>
          <p:nvPr/>
        </p:nvPicPr>
        <p:blipFill>
          <a:blip r:embed="rId4"/>
          <a:stretch/>
        </p:blipFill>
        <p:spPr>
          <a:xfrm>
            <a:off x="6611760" y="3357720"/>
            <a:ext cx="1920960" cy="1079280"/>
          </a:xfrm>
          <a:prstGeom prst="rect">
            <a:avLst/>
          </a:prstGeom>
          <a:ln w="0">
            <a:noFill/>
          </a:ln>
        </p:spPr>
      </p:pic>
      <p:sp>
        <p:nvSpPr>
          <p:cNvPr id="361" name="مستطيل 3"/>
          <p:cNvSpPr/>
          <p:nvPr/>
        </p:nvSpPr>
        <p:spPr>
          <a:xfrm>
            <a:off x="6419880" y="3639960"/>
            <a:ext cx="211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قرارات الاستثم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مستطيل 6"/>
          <p:cNvSpPr/>
          <p:nvPr/>
        </p:nvSpPr>
        <p:spPr>
          <a:xfrm>
            <a:off x="976320" y="3670200"/>
            <a:ext cx="21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إدارة العمليات الج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مستطيل 8"/>
          <p:cNvSpPr/>
          <p:nvPr/>
        </p:nvSpPr>
        <p:spPr>
          <a:xfrm>
            <a:off x="3508560" y="571644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رارات توزيع الأربا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ooter Placeholder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836640"/>
            <a:ext cx="7024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أولا: القرارات الاستثمارية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560" y="2781000"/>
            <a:ext cx="720108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هناك نوعين من المجالات الاستثمارية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مجالات استثمارية قصيرة الأجل مثل: شراء المواد الخام  (أصول متداولة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مجالات استثمارية طويلة الأجل مثل: شراء الآلات (أصول ثابتة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7" name="Picture 4" descr="money-market-1"/>
          <p:cNvPicPr/>
          <p:nvPr/>
        </p:nvPicPr>
        <p:blipFill>
          <a:blip r:embed="rId1"/>
          <a:stretch/>
        </p:blipFill>
        <p:spPr>
          <a:xfrm>
            <a:off x="468360" y="5373720"/>
            <a:ext cx="8280360" cy="1295280"/>
          </a:xfrm>
          <a:prstGeom prst="rect">
            <a:avLst/>
          </a:prstGeom>
          <a:ln w="0">
            <a:noFill/>
          </a:ln>
        </p:spPr>
      </p:pic>
      <p:sp>
        <p:nvSpPr>
          <p:cNvPr id="368" name="شكل بيضاوي 1"/>
          <p:cNvSpPr/>
          <p:nvPr/>
        </p:nvSpPr>
        <p:spPr>
          <a:xfrm>
            <a:off x="1042920" y="1700280"/>
            <a:ext cx="7058160" cy="12240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و الاستخدام المربح للأموال التي يتم توفيرها للمنظ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ثانيا: قرارات التمويل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entury Gothic"/>
              </a:rPr>
              <a:t>اكملي</a:t>
            </a: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يترتب على القرارات الاستثمارية ....... الأموال من المنظمة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يترتب على القرارات التمويلية ....... الأموال إلى المنظمة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2" name="Picture 4" descr="time-management-tips-for-freelancers3---calendar-2_s600x600"/>
          <p:cNvPicPr/>
          <p:nvPr/>
        </p:nvPicPr>
        <p:blipFill>
          <a:blip r:embed="rId1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373" name="شكل بيضاوي 1"/>
          <p:cNvSpPr/>
          <p:nvPr/>
        </p:nvSpPr>
        <p:spPr>
          <a:xfrm>
            <a:off x="1116000" y="1844640"/>
            <a:ext cx="7201080" cy="172872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هو القرار الذي يختص بكيفية تدبير احتياجات المنظمة من الأموال بالكم والنوع المطلوبين ، وكذا بالتكلفة والوقت المناسب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ooter Placeholder 2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مصادر الأموال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23640" y="1483920"/>
            <a:ext cx="81327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cs typeface="Arial"/>
              </a:rPr>
              <a:t>التمويل بالملكية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 أموال الملاك(حملة الأسهم) والأرباح المحتجزة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«تسمى التمويل الذاتي»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Arial"/>
                <a:cs typeface="Arial"/>
              </a:rPr>
              <a:t>التمويل بالمديوني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Arial"/>
              </a:rPr>
              <a:t>متى يلجأ إليه ؟؟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(عدم كفاية رأس المال المملوك ، الحالات الطارئة ، المواسم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Arial"/>
              </a:rPr>
              <a:t>ويتم عن طريق الاستدانة من الغير ومن مصادرها 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1</a:t>
            </a:r>
            <a:r>
              <a:rPr b="1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.مصادر استدانة قصيرة الأجل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(يجب سدادها خلال سنة كحد أقصى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2</a:t>
            </a:r>
            <a:r>
              <a:rPr b="1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.مصادر استدانة طويلة الأجل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(يجب سدادها خلال مدة أطول من السن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7" name="Picture 4" descr="forex-image"/>
          <p:cNvPicPr/>
          <p:nvPr/>
        </p:nvPicPr>
        <p:blipFill>
          <a:blip r:embed="rId1"/>
          <a:stretch/>
        </p:blipFill>
        <p:spPr>
          <a:xfrm>
            <a:off x="468360" y="4437000"/>
            <a:ext cx="2916360" cy="1987560"/>
          </a:xfrm>
          <a:prstGeom prst="rect">
            <a:avLst/>
          </a:prstGeom>
          <a:ln w="0">
            <a:noFill/>
          </a:ln>
        </p:spPr>
      </p:pic>
      <p:sp>
        <p:nvSpPr>
          <p:cNvPr id="378" name="Footer Placeholder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0246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ثالثا: قرارات إدارة العمليات الجارية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182600" y="1700280"/>
            <a:ext cx="67788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Arial"/>
                <a:cs typeface="Arial"/>
              </a:rPr>
              <a:t>تسمى «إدارة رأس المال العامل»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1" name="Picture 6" descr="d5f46beff42e60d2279d7d60acdd7267_342802701"/>
          <p:cNvPicPr/>
          <p:nvPr/>
        </p:nvPicPr>
        <p:blipFill>
          <a:blip r:embed="rId1"/>
          <a:stretch/>
        </p:blipFill>
        <p:spPr>
          <a:xfrm>
            <a:off x="468360" y="4548240"/>
            <a:ext cx="8280360" cy="2120760"/>
          </a:xfrm>
          <a:prstGeom prst="rect">
            <a:avLst/>
          </a:prstGeom>
          <a:ln w="0">
            <a:noFill/>
          </a:ln>
        </p:spPr>
      </p:pic>
      <p:sp>
        <p:nvSpPr>
          <p:cNvPr id="382" name="شكل بيضاوي 1"/>
          <p:cNvSpPr/>
          <p:nvPr/>
        </p:nvSpPr>
        <p:spPr>
          <a:xfrm>
            <a:off x="1403280" y="2220840"/>
            <a:ext cx="6769080" cy="12240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لعمليات الجارية هي دورة النقدية المرهونة بكل من دورتي الانتاج والتسوي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ooter Placeholder 2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24:58Z</dcterms:created>
  <dc:creator/>
  <dc:description/>
  <dc:language>en-US</dc:language>
  <cp:lastModifiedBy/>
  <dcterms:modified xsi:type="dcterms:W3CDTF">2012-05-07T09:57:53Z</dcterms:modified>
  <cp:revision>7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