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C09-BAAF-4153-BAC3-7C898484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A6F-047F-4F5C-AB61-3EB8B32B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6F2-997D-45D7-9822-C41C4856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2F4-9223-46A3-B0E7-3A3E73F6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FCBC-AE32-4F84-8CA4-6CC55185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C795-DF6F-4692-80B2-A2F97A5B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3F03-AD86-449B-B8D5-68748BA3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2AB2-1AD4-4E6E-989C-ABAFC455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7F2D-438E-4AA4-BD35-919CDFAA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20C6-37CD-490A-B927-1A7B2B3E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81A1-0578-4845-8948-5D9F0674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63C-2BB6-4B94-8FA7-6E718AB0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BEBA-A9B1-41BD-BD91-2D17B390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08EC-6E7F-4359-A990-5F2398A9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DD07-F2C0-41B7-AF13-8A3339C2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FFA6-6EFE-4397-AB5D-53465437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5C93-B818-43D3-8203-A79EA04B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F7E93-57CC-477D-9853-5BA6EC9C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2A0BD-24F7-4142-B620-0831E8E5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6309D-65EE-414F-8004-6CCFDD8D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07328-6A04-48F5-9FF0-401B70B7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B4E55-2276-4837-A28C-8DCBDC42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6D5-ADD4-480E-8478-29228395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6A9A1-7332-42D6-917B-38C0FF90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14215-5C91-464D-9F34-D68DAA07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C8DD2-FB2E-4846-803D-78EAC294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84DE66-2185-430D-B628-12F9C80B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21D58-EB04-420B-A9E7-3BA675DF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67B58-38F8-4145-AE10-B873D0D9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65E30-A6FC-4358-AA46-00CE4FAD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A488D-D713-40EC-99B2-C0B6AF62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476A1-7385-489A-A278-BC33625C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4B21A-616F-442A-99C3-F6BB04B8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D20-88C4-411D-87B8-E0B85415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0417C-1070-4999-89EF-143A9300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57AFF-3AED-4B28-A1FD-B7C79D16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81428-FC01-4EBC-AF53-46505A7E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933B9-05B0-4F46-8DD6-69590B7F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72CC8-0340-4C05-BF42-5407FD6C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682C6-3067-4FE5-9D3E-F353C871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F967A-F0E8-490B-8915-B86D7AA5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08995-EF85-481A-9EB1-15633876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2275D-9EB8-459E-AF16-5EF109B0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75D-82E2-4714-A5E2-5A37A21A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021-8321-4C65-BE8A-76E79980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413-C6F3-4B57-A396-2FF2EE18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A9A-B9DA-4907-A43B-EFDA5899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6BE-3CBA-4339-8B1D-DD7C730D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C5F6-AC39-4594-B039-740EB806590C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43A7-F4B6-449D-83D0-CDD5C4F97E7B}" type="slidenum"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70C3-31A0-40F8-8CA5-DD50F89CB132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0B46-2661-4160-B523-0FCAA2F47853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65530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Century Gothic"/>
              </a:rPr>
              <a:t>الإدارة المالية 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Picture 4" descr="money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337" name="Footer Placeholder 1"/>
          <p:cNvSpPr/>
          <p:nvPr/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رابعا : قرارات توزيع الأرباح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42560" y="1484280"/>
            <a:ext cx="6777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عند توزيع الأرباح ، يواجه المدير المالي  مشكلة التوفيق بين مطلبين هما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توزيع الارباح على أصحابها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حاجة المنظمة إلى هذه الارباح لإعادة استثمارها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6" name="Picture 4" descr="money"/>
          <p:cNvPicPr/>
          <p:nvPr/>
        </p:nvPicPr>
        <p:blipFill>
          <a:blip r:embed="rId1"/>
          <a:stretch/>
        </p:blipFill>
        <p:spPr>
          <a:xfrm>
            <a:off x="468360" y="3645000"/>
            <a:ext cx="8280360" cy="2879640"/>
          </a:xfrm>
          <a:prstGeom prst="rect">
            <a:avLst/>
          </a:prstGeom>
          <a:ln w="0">
            <a:noFill/>
          </a:ln>
        </p:spPr>
      </p:pic>
      <p:sp>
        <p:nvSpPr>
          <p:cNvPr id="387" name="Footer Placeholder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4c600"/>
                </a:solidFill>
                <a:latin typeface="Century Gothic"/>
              </a:rPr>
              <a:t>المحتويات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مفهوم الإدارة المالية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الأنشطة الإدارية التي تمارسها الإدارة المالية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القرارات المال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0" name="Picture 4" descr="C:\Users\General\AppData\Local\Microsoft\Windows\Temporary Internet Files\Content.IE5\CQYLE2UM\MP900390095[1].jpg"/>
          <p:cNvPicPr/>
          <p:nvPr/>
        </p:nvPicPr>
        <p:blipFill>
          <a:blip r:embed="rId1"/>
          <a:stretch/>
        </p:blipFill>
        <p:spPr>
          <a:xfrm>
            <a:off x="539640" y="4292640"/>
            <a:ext cx="8136000" cy="2249280"/>
          </a:xfrm>
          <a:prstGeom prst="rect">
            <a:avLst/>
          </a:prstGeom>
          <a:ln w="0">
            <a:noFill/>
          </a:ln>
        </p:spPr>
      </p:pic>
      <p:sp>
        <p:nvSpPr>
          <p:cNvPr id="341" name="Footer Placeholder 2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4a510"/>
                </a:solidFill>
                <a:latin typeface="Century Gothic"/>
              </a:rPr>
              <a:t>مفهوم الإدارة المال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Picture 4" descr="money-management"/>
          <p:cNvPicPr/>
          <p:nvPr/>
        </p:nvPicPr>
        <p:blipFill>
          <a:blip r:embed="rId1"/>
          <a:stretch/>
        </p:blipFill>
        <p:spPr>
          <a:xfrm>
            <a:off x="2627280" y="4159080"/>
            <a:ext cx="3898800" cy="2698920"/>
          </a:xfrm>
          <a:prstGeom prst="rect">
            <a:avLst/>
          </a:prstGeom>
          <a:ln w="0">
            <a:noFill/>
          </a:ln>
        </p:spPr>
      </p:pic>
      <p:sp>
        <p:nvSpPr>
          <p:cNvPr id="345" name="شكل بيضاوي 1"/>
          <p:cNvSpPr/>
          <p:nvPr/>
        </p:nvSpPr>
        <p:spPr>
          <a:xfrm>
            <a:off x="1116000" y="1773360"/>
            <a:ext cx="7056360" cy="1922400"/>
          </a:xfrm>
          <a:prstGeom prst="ellipse">
            <a:avLst/>
          </a:prstGeom>
          <a:gradFill rotWithShape="0">
            <a:gsLst>
              <a:gs pos="0">
                <a:srgbClr val="eee5e0"/>
              </a:gs>
              <a:gs pos="100000">
                <a:srgbClr val="996b3f"/>
              </a:gs>
            </a:gsLst>
            <a:lin ang="5040000"/>
          </a:gradFill>
          <a:ln w="9360">
            <a:solidFill>
              <a:srgbClr val="956b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 ذلك النشاط الذهني الذي يختص بالتخطيط والتنظيم والمتابعة لحركتي الدخول والخروج للأموال الحالية والمرتقبة من والى المنظم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4c600"/>
                </a:solidFill>
                <a:latin typeface="Century Gothic"/>
              </a:rPr>
              <a:t>الأنشطة الإدارية التي تمارسها الإدارة المالية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9" name="Picture 4" descr="money_tree"/>
          <p:cNvPicPr/>
          <p:nvPr/>
        </p:nvPicPr>
        <p:blipFill>
          <a:blip r:embed="rId1"/>
          <a:stretch/>
        </p:blipFill>
        <p:spPr>
          <a:xfrm>
            <a:off x="2411280" y="3141720"/>
            <a:ext cx="4216680" cy="3273480"/>
          </a:xfrm>
          <a:prstGeom prst="rect">
            <a:avLst/>
          </a:prstGeom>
          <a:ln w="0">
            <a:noFill/>
          </a:ln>
        </p:spPr>
      </p:pic>
      <p:sp>
        <p:nvSpPr>
          <p:cNvPr id="350" name="شكل بيضاوي 1"/>
          <p:cNvSpPr/>
          <p:nvPr/>
        </p:nvSpPr>
        <p:spPr>
          <a:xfrm>
            <a:off x="739800" y="3500280"/>
            <a:ext cx="1873080" cy="11304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الرقابة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2"/>
          <a:stretch/>
        </p:blipFill>
        <p:spPr>
          <a:xfrm>
            <a:off x="6443640" y="3625920"/>
            <a:ext cx="1895400" cy="1152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"/>
          <p:cNvPicPr/>
          <p:nvPr/>
        </p:nvPicPr>
        <p:blipFill>
          <a:blip r:embed="rId3"/>
          <a:stretch/>
        </p:blipFill>
        <p:spPr>
          <a:xfrm>
            <a:off x="3673440" y="2144880"/>
            <a:ext cx="1895400" cy="1152360"/>
          </a:xfrm>
          <a:prstGeom prst="rect">
            <a:avLst/>
          </a:prstGeom>
          <a:ln w="0">
            <a:noFill/>
          </a:ln>
        </p:spPr>
      </p:pic>
      <p:sp>
        <p:nvSpPr>
          <p:cNvPr id="353" name="مستطيل 6"/>
          <p:cNvSpPr/>
          <p:nvPr/>
        </p:nvSpPr>
        <p:spPr>
          <a:xfrm>
            <a:off x="3673440" y="2465280"/>
            <a:ext cx="18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تنظيم الما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0246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القرارات المالية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6" name="Picture 4" descr="572"/>
          <p:cNvPicPr/>
          <p:nvPr/>
        </p:nvPicPr>
        <p:blipFill>
          <a:blip r:embed="rId1"/>
          <a:stretch/>
        </p:blipFill>
        <p:spPr>
          <a:xfrm>
            <a:off x="3300480" y="2522520"/>
            <a:ext cx="3047760" cy="2529000"/>
          </a:xfrm>
          <a:prstGeom prst="rect">
            <a:avLst/>
          </a:prstGeom>
          <a:ln w="0">
            <a:noFill/>
          </a:ln>
        </p:spPr>
      </p:pic>
      <p:sp>
        <p:nvSpPr>
          <p:cNvPr id="357" name="شكل بيضاوي 2"/>
          <p:cNvSpPr/>
          <p:nvPr/>
        </p:nvSpPr>
        <p:spPr>
          <a:xfrm>
            <a:off x="3780000" y="1397160"/>
            <a:ext cx="2087280" cy="9144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قرارات التمو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2"/>
          <a:stretch/>
        </p:blipFill>
        <p:spPr>
          <a:xfrm>
            <a:off x="3990960" y="5373720"/>
            <a:ext cx="1876320" cy="1008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"/>
          <p:cNvPicPr/>
          <p:nvPr/>
        </p:nvPicPr>
        <p:blipFill>
          <a:blip r:embed="rId3"/>
          <a:stretch/>
        </p:blipFill>
        <p:spPr>
          <a:xfrm>
            <a:off x="1092240" y="3357720"/>
            <a:ext cx="2111400" cy="933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"/>
          <p:cNvPicPr/>
          <p:nvPr/>
        </p:nvPicPr>
        <p:blipFill>
          <a:blip r:embed="rId4"/>
          <a:stretch/>
        </p:blipFill>
        <p:spPr>
          <a:xfrm>
            <a:off x="6611760" y="3357720"/>
            <a:ext cx="1920960" cy="1079280"/>
          </a:xfrm>
          <a:prstGeom prst="rect">
            <a:avLst/>
          </a:prstGeom>
          <a:ln w="0">
            <a:noFill/>
          </a:ln>
        </p:spPr>
      </p:pic>
      <p:sp>
        <p:nvSpPr>
          <p:cNvPr id="361" name="مستطيل 3"/>
          <p:cNvSpPr/>
          <p:nvPr/>
        </p:nvSpPr>
        <p:spPr>
          <a:xfrm>
            <a:off x="6419880" y="3639960"/>
            <a:ext cx="211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قرارات الاستثم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مستطيل 6"/>
          <p:cNvSpPr/>
          <p:nvPr/>
        </p:nvSpPr>
        <p:spPr>
          <a:xfrm>
            <a:off x="976320" y="3670200"/>
            <a:ext cx="21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إدارة العمليات الج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مستطيل 8"/>
          <p:cNvSpPr/>
          <p:nvPr/>
        </p:nvSpPr>
        <p:spPr>
          <a:xfrm>
            <a:off x="3508560" y="571644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رارات توزيع الأربا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ooter Placeholder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836640"/>
            <a:ext cx="70246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أولا: القرارات الاستثمارية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560" y="2781000"/>
            <a:ext cx="720108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هناك نوعين من المجالات الاستثمارية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مجالات استثمارية قصيرة الأجل مثل: شراء المواد الخام  (أصول متداولة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مجالات استثمارية طويلة الأجل مثل: شراء الآلات (أصول ثابتة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7" name="Picture 4" descr="money-market-1"/>
          <p:cNvPicPr/>
          <p:nvPr/>
        </p:nvPicPr>
        <p:blipFill>
          <a:blip r:embed="rId1"/>
          <a:stretch/>
        </p:blipFill>
        <p:spPr>
          <a:xfrm>
            <a:off x="468360" y="5373720"/>
            <a:ext cx="8280360" cy="1295280"/>
          </a:xfrm>
          <a:prstGeom prst="rect">
            <a:avLst/>
          </a:prstGeom>
          <a:ln w="0">
            <a:noFill/>
          </a:ln>
        </p:spPr>
      </p:pic>
      <p:sp>
        <p:nvSpPr>
          <p:cNvPr id="368" name="شكل بيضاوي 1"/>
          <p:cNvSpPr/>
          <p:nvPr/>
        </p:nvSpPr>
        <p:spPr>
          <a:xfrm>
            <a:off x="1042920" y="1700280"/>
            <a:ext cx="7058160" cy="12240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و الاستخدام المربح للأموال التي يتم توفيرها للمنظ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ثانيا: قرارات التمويل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entury Gothic"/>
              </a:rPr>
              <a:t>اكملي</a:t>
            </a: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يترتب على القرارات الاستثمارية ....... الأموال من المنظمة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يترتب على القرارات التمويلية ....... الأموال إلى المنظمة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2" name="Picture 4" descr="time-management-tips-for-freelancers3---calendar-2_s600x600"/>
          <p:cNvPicPr/>
          <p:nvPr/>
        </p:nvPicPr>
        <p:blipFill>
          <a:blip r:embed="rId1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373" name="شكل بيضاوي 1"/>
          <p:cNvSpPr/>
          <p:nvPr/>
        </p:nvSpPr>
        <p:spPr>
          <a:xfrm>
            <a:off x="1116000" y="1844640"/>
            <a:ext cx="7201080" cy="172872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هو القرار الذي يختص بكيفية تدبير احتياجات المنظمة من الأموال بالكم والنوع المطلوبين ، وكذا بالتكلفة والوقت المناسب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ooter Placeholder 2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مصادر الأموال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23640" y="1483920"/>
            <a:ext cx="81327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cs typeface="Arial"/>
              </a:rPr>
              <a:t>التمويل بالملكية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 أموال الملاك(حملة الأسهم) والأرباح المحتجزة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«تسمى التمويل الذاتي»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Arial"/>
                <a:cs typeface="Arial"/>
              </a:rPr>
              <a:t>التمويل بالمديوني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Arial"/>
              </a:rPr>
              <a:t>متى يلجأ إليه ؟؟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(عدم كفاية رأس المال المملوك ، الحالات الطارئة ، المواسم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Arial"/>
              </a:rPr>
              <a:t>ويتم عن طريق الاستدانة من الغير ومن مصادرها 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1</a:t>
            </a:r>
            <a:r>
              <a:rPr b="1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.مصادر استدانة قصيرة الأجل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(يجب سدادها خلال سنة كحد أقصى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2</a:t>
            </a:r>
            <a:r>
              <a:rPr b="1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.مصادر استدانة طويلة الأجل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(يجب سدادها خلال مدة أطول من السن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7" name="Picture 4" descr="forex-image"/>
          <p:cNvPicPr/>
          <p:nvPr/>
        </p:nvPicPr>
        <p:blipFill>
          <a:blip r:embed="rId1"/>
          <a:stretch/>
        </p:blipFill>
        <p:spPr>
          <a:xfrm>
            <a:off x="468360" y="4437000"/>
            <a:ext cx="2916360" cy="1987560"/>
          </a:xfrm>
          <a:prstGeom prst="rect">
            <a:avLst/>
          </a:prstGeom>
          <a:ln w="0">
            <a:noFill/>
          </a:ln>
        </p:spPr>
      </p:pic>
      <p:sp>
        <p:nvSpPr>
          <p:cNvPr id="378" name="Footer Placeholder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0246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ثالثا: قرارات إدارة العمليات الجارية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182600" y="1700280"/>
            <a:ext cx="67788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Arial"/>
                <a:cs typeface="Arial"/>
              </a:rPr>
              <a:t>تسمى «إدارة رأس المال العامل»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1" name="Picture 6" descr="d5f46beff42e60d2279d7d60acdd7267_342802701"/>
          <p:cNvPicPr/>
          <p:nvPr/>
        </p:nvPicPr>
        <p:blipFill>
          <a:blip r:embed="rId1"/>
          <a:stretch/>
        </p:blipFill>
        <p:spPr>
          <a:xfrm>
            <a:off x="468360" y="4548240"/>
            <a:ext cx="8280360" cy="2120760"/>
          </a:xfrm>
          <a:prstGeom prst="rect">
            <a:avLst/>
          </a:prstGeom>
          <a:ln w="0">
            <a:noFill/>
          </a:ln>
        </p:spPr>
      </p:pic>
      <p:sp>
        <p:nvSpPr>
          <p:cNvPr id="382" name="شكل بيضاوي 1"/>
          <p:cNvSpPr/>
          <p:nvPr/>
        </p:nvSpPr>
        <p:spPr>
          <a:xfrm>
            <a:off x="1403280" y="2220840"/>
            <a:ext cx="6769080" cy="12240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لعمليات الجارية هي دورة النقدية المرهونة بكل من دورتي الانتاج والتسوي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ooter Placeholder 2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اعداد / أ.دنيا العثيم ، أ. غادة الرشي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24:58Z</dcterms:created>
  <dc:creator/>
  <dc:description/>
  <dc:language>en-US</dc:language>
  <cp:lastModifiedBy/>
  <dcterms:modified xsi:type="dcterms:W3CDTF">2012-05-07T09:57:53Z</dcterms:modified>
  <cp:revision>7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