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184-5FCB-4D6A-BE02-709688F7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9A6-E7C9-49E9-8AF9-F9BA4ECD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ED4-C9A8-4DDB-A89C-56259356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023D-83C5-4ECB-B976-31AF4805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6CEC-D587-4655-ABE2-03DF806F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7DC4-7BE2-4E91-9484-0F676393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4D34-D7DC-44DA-9A0F-6925BB68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2DAA-BC9F-4A13-8EFC-7BA39234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FC80-F105-444D-8146-CBA4609A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0A8F-908C-4D85-8881-76429F81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5070-9761-482C-8A9A-E617D517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BA6-CC82-4921-A66C-37CB30B5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0DFD-C364-4A4A-82F1-CEC177A2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1DE4-435C-4F8A-9BD6-37736211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891F-7783-40A1-B967-C23DF1D9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651F-03E4-4A3F-9F1B-BD5FC0BC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0CD7-2091-47DA-B22F-7B7D6F58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6C080-94E9-42AC-93CB-4BB3C62E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954BA-1067-433E-B272-F10BB3F0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6C85D-C0E7-443D-BBC3-7C0B853F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AE705-05A4-4275-8D46-D73C8C39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61EC0-9559-44BF-A40E-42DF28FE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8C8-03A9-43D6-941C-B077A204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64237-C972-4876-B3E5-8C2467C7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6A85-4046-4616-B2C6-8872B3CA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EF1D-101A-4A53-B07E-8B245E78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93568-D546-4F69-B627-379A6F0B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8B245-6015-4F58-85D7-71111B73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81BC9-E9ED-4781-860F-9BCB0F15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493DE-652C-4B83-8E72-FE202595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A6D35-9688-4968-B810-D33FEC66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CFB77-48DC-45D9-81EC-E62904FD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75896-A97D-475D-B5F7-03C2993F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2CA-784E-480A-9CA3-81518CDF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14EB2-1FBA-4BAC-A8EC-0C848FC1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7720B-F5C3-4D46-BCD2-1170A36A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21CCC-34B8-4373-8343-8F099689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46A61-5436-405C-8099-77252B89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2F14-A738-4103-9316-5B4FDE7C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DC876-2808-44D8-8C80-341F0F2E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F859C-C1E0-4D13-8EDB-FA339B4C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7118E-F4A3-4656-97DA-D9F5C5FA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F9B37-E57B-4838-8CE6-D49788C7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1448B-BA60-46B3-91BE-35043A0D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F78-A8F4-4DF6-9197-96BA6292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FFD7E-E125-408C-89FB-A027998B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4481A-2810-4B12-A76E-EB4CC022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2EDAF-38E7-4B75-B589-DA7D87E8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0F3BB-0F5B-4135-BD1A-B64DF5FF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E3EE7-AA74-42A2-B723-47A5FEF3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9BE0-5821-476A-BA35-5FD35F81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0C632-57D1-4498-8953-5024E228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E946A-8C55-457A-B1CA-1C3DC1D5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E1961-DE55-4922-8B2B-473A2E26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457A7-D00C-40C9-BEB3-CA25EC34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794-737E-42A5-8A1E-1631FFD6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5F1DB-2E4B-47AB-A8DE-ECFDC94B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B1F1F-00C9-4C97-9687-17180543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12761-27DA-48E3-BEF2-E855774A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06664-4DBC-4026-A28D-335A895F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8F175-F094-4D13-B30F-16239115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9AEBB-8534-47F9-8F1C-E37A6D6F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38BBB-2A6B-49AD-AAA7-640B992D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4BE72-24CB-4FB3-AB0A-8402AE1E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FE780-E2EF-4559-96CC-CF529192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59729-4650-400B-889D-97C987AB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387-6CFC-47D1-BE0B-49B5B534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3E86B-5A77-447F-95AD-9DDB0A37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92ABB-7649-411F-B948-302718C9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6CBA4-BBDC-4C17-B7E1-511DF47E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C44BE-FC33-482B-A658-C21D2867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0A8E3-B18A-4707-8DB2-7193E3A0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8A693-D501-4F3A-BFC5-7884939E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96CBB-037C-4A21-8CB2-1FC24641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FF1C0-5542-4C06-826A-A53A07B0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AA616-8A70-420D-A5E8-73E098F9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E6903-D98D-4C7E-B696-4D179F92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1C8-1C5C-4292-BA91-D6EEB10A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072D2-6D72-4E07-A4E9-8E7A45C3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08B18-86DB-443A-9210-740E4091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9352D-9A09-4C31-83AD-1299DF3F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5540E-A22F-4A11-9303-FE41650A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48FA9-3A8E-4184-954C-933BF8F0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4B5-F558-4CAB-885B-7F8498A4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Times New Roman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8061-3589-4626-85EC-EB8C479F2C48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مستطيل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Times New Roman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0E05-5489-442F-8E43-410FC2F97901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شكل حر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شكل حر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شكل حر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شكل حر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شكل حر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شكل حر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شكل حر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شكل حر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شكل حر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شكل حر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شكل حر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شكل حر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شكل حر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شكل حر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شكل حر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مستطيل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مستطيل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مستطيل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مستطيل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مستطيل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Times New Roman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DA0C-2431-4231-B140-63B5C0CB68A0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Times New Roman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F209-3DAF-4BA0-972D-7F7E8A9AB7B6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مستطيل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مستطيل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مستطيل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مستطيل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مستطيل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مستطيل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مستطيل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مستطيل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مستطيل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مستطيل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Times New Roman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0546-684C-4D3E-883B-75D5C6FD42E2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Times New Roman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E6AC-CD0B-4700-8B0D-F6C4E365060C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مستطيل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رابط مستقيم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مجموعة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رابط مستقيم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رابط مستقيم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رابط مستقيم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مجموعة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رابط مستقيم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رابط مستقيم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رابط مستقيم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مجموعة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رابط مستقيم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رابط مستقيم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رابط مستقيم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Times New Roman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D8F4-9B3A-406D-AF60-8A94A2B4196A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506520" y="1542960"/>
            <a:ext cx="8216640" cy="25653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rbel"/>
                <a:ea typeface="Akhbar MT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Comic Sans MS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8"/>
          <p:cNvSpPr/>
          <p:nvPr/>
        </p:nvSpPr>
        <p:spPr>
          <a:xfrm>
            <a:off x="257040" y="291960"/>
            <a:ext cx="841860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شكل بيضاوي 1"/>
          <p:cNvSpPr/>
          <p:nvPr/>
        </p:nvSpPr>
        <p:spPr>
          <a:xfrm>
            <a:off x="684360" y="2001960"/>
            <a:ext cx="7704000" cy="17874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بيان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متطلبات او المعطيات المجردة التي لها صفة الوصف او صفة القياس(الارقام ، الزمن ، الطول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شكل بيضاوي 2"/>
          <p:cNvSpPr/>
          <p:nvPr/>
        </p:nvSpPr>
        <p:spPr>
          <a:xfrm>
            <a:off x="900000" y="4076640"/>
            <a:ext cx="7488360" cy="19447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معلومات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بيانات التي اصبح لها معنى مفهوم واضح بعد معالجتها او تشغيلها مما يكسبها صفة صلاحية امكانية استخدامها لخدمة صانع القرا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Comic Sans MS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0"/>
            <a:ext cx="85010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شكل بيضاوي 2"/>
          <p:cNvSpPr/>
          <p:nvPr/>
        </p:nvSpPr>
        <p:spPr>
          <a:xfrm>
            <a:off x="1042920" y="1916280"/>
            <a:ext cx="7345440" cy="31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ذلك النظام الذي يكفل توفير المعلومات التاريخية والحالية والمستقبلية المطلوبة لصانعي القرار بمصداقية من خلال قنوات الاتصال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Comic Sans MS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"/>
          <p:cNvSpPr/>
          <p:nvPr/>
        </p:nvSpPr>
        <p:spPr>
          <a:xfrm>
            <a:off x="357120" y="642960"/>
            <a:ext cx="828684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أهمية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هم لعملية اتخاذ القرارات وسلامة القرارات والأوام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عمل على تنسيق العلاقة الداخلية بين الادارات الداخلية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نظم العلاقة بين المنظمة مع البيئة الخارجية 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ذلك التقنية تلعب دورا كبيرا وايجابيا للبيانات والمعلومات الادارية فهي تكفل السرعة والدقة اللازمة وهي جزأ لا يتجزأ من نظام المعلومات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Footer Placeholder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d6ecff"/>
                </a:solidFill>
                <a:latin typeface="Comic Sans MS"/>
              </a:rPr>
              <a:t>اعداد / أ. غادة الرشيد &amp; أ.دنيا العثيم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Abdulaziz</cp:lastModifiedBy>
  <dcterms:modified xsi:type="dcterms:W3CDTF">2012-05-07T09:55:30Z</dcterms:modified>
  <cp:revision>55</cp:revision>
  <dc:subject/>
  <dc:title>التسويق..</dc:title>
</cp:coreProperties>
</file>