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796-6756-442F-B8DB-CAFE9C29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574-BFB3-49F5-A168-994FD321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708-BE4B-472B-B341-8C19101D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4BE-1F3A-4F85-B583-A7DC4D72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6E48-BE38-410C-9282-F4634842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A248-5852-4AB6-939B-8D85C4E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AAAE-26E1-416F-A22F-AAE9539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B711-F346-498E-9E2F-6C9095B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0C6-CA9B-4718-981B-3E8A456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7FC8-6821-4B6D-A730-AB8F4D1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A35-CA8B-44DC-BE73-261B5FD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1C0-6673-41C5-926B-6A648E0F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030-176B-44CF-8FFE-93DDBD4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298-208D-4F9A-B0EC-D854A9C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98B-8D7A-4F63-BDE7-5A92F5F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AEB5-3B63-4BB7-8903-D50E0DF2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225D-F743-492C-9103-AD0F226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D90D-342D-4B79-9D37-463A6E96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A5E8-FC71-4DC1-9BD1-70547232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D99E-0DD6-47FF-8717-AE7B807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D22E-E682-4C6A-BDAC-F2BF8C8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42E8-FE6B-4568-8C4E-8F52B101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35F-E0FB-4C33-80E1-02E537F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416A-68B4-45B1-8E2F-E64A902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93E6-859F-4C09-B3FE-854CB39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8EA4-DB02-466C-BE1D-F0FED722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1453-B234-4629-9ED3-51EF324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63FC-C449-4E26-A0F3-AFBF45F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616B-F5D9-45AB-813A-E4A84670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5230-8820-40ED-8520-36047852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9114-60CE-476C-9408-A9E8DB9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B2FD-6164-4A47-B6AE-F9E762D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7ADD-AFD5-478E-9529-ECE6EC2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393-0CFB-4E25-BE16-99C539FB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3CB1-01FD-42D8-A279-83DCE8AD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87D8-7B55-4B3A-88C0-BC89A83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7EC66-0DD4-417B-88D9-7A8FB7A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B516-D7F4-4A8D-85F9-061E851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9879-6F58-49A9-8934-A6F0AB9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9199-777A-4DD9-A2DB-BF30857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31D0-17D8-4098-8D29-4574DC48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4E81-9E68-4D53-AA5A-3582EC23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2A2A-96BE-47CA-9D35-230EC1E5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A8CD-8438-4B80-99DC-CB90D07F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A9B-0B38-4D13-83C0-4576B804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9F356-2C1C-4866-923C-549F378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B3A4-7FB1-456A-9564-C1A4FDB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7DA2-108C-4D66-8CAF-B22A039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9AF6-FEEC-485A-8CC6-1572FED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0AF9-03C3-440C-AFAE-18310BD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28DA-C078-45CB-8C7C-C82908A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AB85-431E-4FDD-9CCC-E0BD3F3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8108-95C1-4E04-96EB-00A50A1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E626-3114-417B-B3D7-25191A2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D1F4-F0E3-4888-A002-0E752DFA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464-EC4D-4468-A8B1-2A53B7EE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A9AD-A99A-4966-A2AA-AD69FE8C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E327-9B7F-42DA-AE0A-5F6801A4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267C2-2CB1-4B15-B613-FCAA50E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D902-A542-40AA-85B9-C901F322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2A62B-ED3E-4981-8E40-9C40F30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2C65-0DC5-48A9-8B03-2594D7B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4A24-A67A-452D-86F4-3E9BFE7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132F-AE9B-423E-938E-3EFE1BD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6798-1982-482B-B9D8-F0234AD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52A1-8A7C-450F-B903-24B81FB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2C3-3FA5-4B61-AAF7-6030E2B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1F54-13CB-4B6A-83E7-E0E7BCCE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809E-2164-4D13-A4CA-DB2111E5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2263-DE32-4EE5-B0B4-500C40A4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4FE6-45FA-4C47-81A7-1729270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0F35-C834-4BE2-ACBF-0B5F0250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0084C-A46D-4731-A185-7DFA3D2E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72971-DB05-493B-ADF8-C404A41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E906-4844-4AF3-B018-4435315D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FEA2-2DC4-4019-996E-60A8807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ED85-D4FF-4AED-A7E6-AE5EFF1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EE1-177B-43C8-8D4C-B76468E9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154F-6E6B-4464-8B07-F8EBE67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00C1-29EF-45E4-82E6-6D3B495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755C-74BE-49A9-A52F-46D1056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5B076-E315-48A5-96D8-A09DB770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E273-A589-4D36-8E93-E3DB088A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F19-BD45-49B1-997C-5259D99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748-AD58-4947-BB85-20955588035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E14E-3510-41DB-828D-B3FDFB6A612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EDB-89B9-44ED-B656-AF1BEAAC67C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1833-0E2D-4FF1-8B09-B85CA62567D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D6B2-C74D-4138-A63C-1406EAEC67A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04B1-FB18-4DB3-BFBA-987D977F292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FB6C-DD0A-43B8-9C31-53D420A4128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506520" y="1542960"/>
            <a:ext cx="8216640" cy="2565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Footer Placeholder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Abdulaziz</cp:lastModifiedBy>
  <dcterms:modified xsi:type="dcterms:W3CDTF">2012-05-07T09:55:30Z</dcterms:modified>
  <cp:revision>55</cp:revision>
  <dc:subject/>
  <dc:title>التسويق..</dc:title>
</cp:coreProperties>
</file>